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08EA0-39FD-4CF1-BF32-7E908B50E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27" name="PlaceHolder 2"/>
          <p:cNvSpPr>
            <a:spLocks noGrp="1"/>
          </p:cNvSpPr>
          <p:nvPr>
            <p:ph/>
          </p:nvPr>
        </p:nvSpPr>
        <p:spPr>
          <a:xfrm>
            <a:off x="419040" y="125748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28" name="PlaceHolder 3"/>
          <p:cNvSpPr>
            <a:spLocks noGrp="1"/>
          </p:cNvSpPr>
          <p:nvPr>
            <p:ph/>
          </p:nvPr>
        </p:nvSpPr>
        <p:spPr>
          <a:xfrm>
            <a:off x="419040" y="388152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D495E-E132-4943-A9EF-8F0380E2A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30"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1"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2" name="PlaceHolder 4"/>
          <p:cNvSpPr>
            <a:spLocks noGrp="1"/>
          </p:cNvSpPr>
          <p:nvPr>
            <p:ph/>
          </p:nvPr>
        </p:nvSpPr>
        <p:spPr>
          <a:xfrm>
            <a:off x="41904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3" name="PlaceHolder 5"/>
          <p:cNvSpPr>
            <a:spLocks noGrp="1"/>
          </p:cNvSpPr>
          <p:nvPr>
            <p:ph/>
          </p:nvPr>
        </p:nvSpPr>
        <p:spPr>
          <a:xfrm>
            <a:off x="466776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09AEB-E7A3-44BC-9119-4D34D21DC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35" name="PlaceHolder 2"/>
          <p:cNvSpPr>
            <a:spLocks noGrp="1"/>
          </p:cNvSpPr>
          <p:nvPr>
            <p:ph/>
          </p:nvPr>
        </p:nvSpPr>
        <p:spPr>
          <a:xfrm>
            <a:off x="41904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6" name="PlaceHolder 3"/>
          <p:cNvSpPr>
            <a:spLocks noGrp="1"/>
          </p:cNvSpPr>
          <p:nvPr>
            <p:ph/>
          </p:nvPr>
        </p:nvSpPr>
        <p:spPr>
          <a:xfrm>
            <a:off x="322272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7" name="PlaceHolder 4"/>
          <p:cNvSpPr>
            <a:spLocks noGrp="1"/>
          </p:cNvSpPr>
          <p:nvPr>
            <p:ph/>
          </p:nvPr>
        </p:nvSpPr>
        <p:spPr>
          <a:xfrm>
            <a:off x="602640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8" name="PlaceHolder 5"/>
          <p:cNvSpPr>
            <a:spLocks noGrp="1"/>
          </p:cNvSpPr>
          <p:nvPr>
            <p:ph/>
          </p:nvPr>
        </p:nvSpPr>
        <p:spPr>
          <a:xfrm>
            <a:off x="41904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9" name="PlaceHolder 6"/>
          <p:cNvSpPr>
            <a:spLocks noGrp="1"/>
          </p:cNvSpPr>
          <p:nvPr>
            <p:ph/>
          </p:nvPr>
        </p:nvSpPr>
        <p:spPr>
          <a:xfrm>
            <a:off x="322272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40" name="PlaceHolder 7"/>
          <p:cNvSpPr>
            <a:spLocks noGrp="1"/>
          </p:cNvSpPr>
          <p:nvPr>
            <p:ph/>
          </p:nvPr>
        </p:nvSpPr>
        <p:spPr>
          <a:xfrm>
            <a:off x="602640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DE90C-4CED-4B9D-88AC-BBD1813DC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BE5F2-DCD8-4182-99B8-3A6379A8D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51" name="PlaceHolder 2"/>
          <p:cNvSpPr>
            <a:spLocks noGrp="1"/>
          </p:cNvSpPr>
          <p:nvPr>
            <p:ph type="subTitle"/>
          </p:nvPr>
        </p:nvSpPr>
        <p:spPr>
          <a:xfrm>
            <a:off x="419040" y="1257480"/>
            <a:ext cx="8291520" cy="5024160"/>
          </a:xfrm>
          <a:prstGeom prst="rect">
            <a:avLst/>
          </a:prstGeom>
          <a:noFill/>
          <a:ln w="0">
            <a:noFill/>
          </a:ln>
        </p:spPr>
        <p:txBody>
          <a:bodyPr lIns="0" rIns="0" tIns="0" bIns="0" anchor="ctr">
            <a:noAutofit/>
          </a:bodyPr>
          <a:p>
            <a:pPr indent="0">
              <a:lnSpc>
                <a:spcPct val="11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E9D55-1DD6-4A5B-86AF-6B6789EC2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53"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04CFF-AE80-4C81-B396-14A67A260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55" name="PlaceHolder 2"/>
          <p:cNvSpPr>
            <a:spLocks noGrp="1"/>
          </p:cNvSpPr>
          <p:nvPr>
            <p:ph/>
          </p:nvPr>
        </p:nvSpPr>
        <p:spPr>
          <a:xfrm>
            <a:off x="41904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56" name="PlaceHolder 3"/>
          <p:cNvSpPr>
            <a:spLocks noGrp="1"/>
          </p:cNvSpPr>
          <p:nvPr>
            <p:ph/>
          </p:nvPr>
        </p:nvSpPr>
        <p:spPr>
          <a:xfrm>
            <a:off x="466776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99596-4638-4446-B06D-3F063197E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56558-442B-4A73-BA6B-BF6C6FB96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9040" y="106200"/>
            <a:ext cx="8291520" cy="3689280"/>
          </a:xfrm>
          <a:prstGeom prst="rect">
            <a:avLst/>
          </a:prstGeom>
          <a:noFill/>
          <a:ln w="0">
            <a:noFill/>
          </a:ln>
        </p:spPr>
        <p:txBody>
          <a:bodyPr lIns="0" rIns="0" tIns="0" bIns="0" anchor="ctr">
            <a:noAutofit/>
          </a:bodyPr>
          <a:p>
            <a:pPr>
              <a:lnSpc>
                <a:spcPct val="11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80F26-288D-4DE7-9172-BC2EA3ED7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60"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1" name="PlaceHolder 3"/>
          <p:cNvSpPr>
            <a:spLocks noGrp="1"/>
          </p:cNvSpPr>
          <p:nvPr>
            <p:ph/>
          </p:nvPr>
        </p:nvSpPr>
        <p:spPr>
          <a:xfrm>
            <a:off x="466776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2" name="PlaceHolder 4"/>
          <p:cNvSpPr>
            <a:spLocks noGrp="1"/>
          </p:cNvSpPr>
          <p:nvPr>
            <p:ph/>
          </p:nvPr>
        </p:nvSpPr>
        <p:spPr>
          <a:xfrm>
            <a:off x="41904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82FC7-E76C-4DF3-9796-6F5188560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6" name="PlaceHolder 2"/>
          <p:cNvSpPr>
            <a:spLocks noGrp="1"/>
          </p:cNvSpPr>
          <p:nvPr>
            <p:ph type="subTitle"/>
          </p:nvPr>
        </p:nvSpPr>
        <p:spPr>
          <a:xfrm>
            <a:off x="419040" y="1257480"/>
            <a:ext cx="8291520" cy="5024160"/>
          </a:xfrm>
          <a:prstGeom prst="rect">
            <a:avLst/>
          </a:prstGeom>
          <a:noFill/>
          <a:ln w="0">
            <a:noFill/>
          </a:ln>
        </p:spPr>
        <p:txBody>
          <a:bodyPr lIns="0" rIns="0" tIns="0" bIns="0" anchor="ctr">
            <a:noAutofit/>
          </a:bodyPr>
          <a:p>
            <a:pPr indent="0">
              <a:lnSpc>
                <a:spcPct val="11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F76F0-1242-4E73-BDB4-681122D8D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64" name="PlaceHolder 2"/>
          <p:cNvSpPr>
            <a:spLocks noGrp="1"/>
          </p:cNvSpPr>
          <p:nvPr>
            <p:ph/>
          </p:nvPr>
        </p:nvSpPr>
        <p:spPr>
          <a:xfrm>
            <a:off x="41904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5"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6" name="PlaceHolder 4"/>
          <p:cNvSpPr>
            <a:spLocks noGrp="1"/>
          </p:cNvSpPr>
          <p:nvPr>
            <p:ph/>
          </p:nvPr>
        </p:nvSpPr>
        <p:spPr>
          <a:xfrm>
            <a:off x="466776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054F5-E454-4327-BD1D-A09687C34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68"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9"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0" name="PlaceHolder 4"/>
          <p:cNvSpPr>
            <a:spLocks noGrp="1"/>
          </p:cNvSpPr>
          <p:nvPr>
            <p:ph/>
          </p:nvPr>
        </p:nvSpPr>
        <p:spPr>
          <a:xfrm>
            <a:off x="419040" y="388152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19156-CF5A-4DBF-99A6-E162D33B8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72" name="PlaceHolder 2"/>
          <p:cNvSpPr>
            <a:spLocks noGrp="1"/>
          </p:cNvSpPr>
          <p:nvPr>
            <p:ph/>
          </p:nvPr>
        </p:nvSpPr>
        <p:spPr>
          <a:xfrm>
            <a:off x="419040" y="125748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3" name="PlaceHolder 3"/>
          <p:cNvSpPr>
            <a:spLocks noGrp="1"/>
          </p:cNvSpPr>
          <p:nvPr>
            <p:ph/>
          </p:nvPr>
        </p:nvSpPr>
        <p:spPr>
          <a:xfrm>
            <a:off x="419040" y="388152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47D30-7343-4480-A64D-113147ECF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75"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6"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7" name="PlaceHolder 4"/>
          <p:cNvSpPr>
            <a:spLocks noGrp="1"/>
          </p:cNvSpPr>
          <p:nvPr>
            <p:ph/>
          </p:nvPr>
        </p:nvSpPr>
        <p:spPr>
          <a:xfrm>
            <a:off x="41904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8" name="PlaceHolder 5"/>
          <p:cNvSpPr>
            <a:spLocks noGrp="1"/>
          </p:cNvSpPr>
          <p:nvPr>
            <p:ph/>
          </p:nvPr>
        </p:nvSpPr>
        <p:spPr>
          <a:xfrm>
            <a:off x="466776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8C1D6-D81E-4552-B74F-1BC4B59F0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80" name="PlaceHolder 2"/>
          <p:cNvSpPr>
            <a:spLocks noGrp="1"/>
          </p:cNvSpPr>
          <p:nvPr>
            <p:ph/>
          </p:nvPr>
        </p:nvSpPr>
        <p:spPr>
          <a:xfrm>
            <a:off x="41904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81" name="PlaceHolder 3"/>
          <p:cNvSpPr>
            <a:spLocks noGrp="1"/>
          </p:cNvSpPr>
          <p:nvPr>
            <p:ph/>
          </p:nvPr>
        </p:nvSpPr>
        <p:spPr>
          <a:xfrm>
            <a:off x="322272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82" name="PlaceHolder 4"/>
          <p:cNvSpPr>
            <a:spLocks noGrp="1"/>
          </p:cNvSpPr>
          <p:nvPr>
            <p:ph/>
          </p:nvPr>
        </p:nvSpPr>
        <p:spPr>
          <a:xfrm>
            <a:off x="602640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83" name="PlaceHolder 5"/>
          <p:cNvSpPr>
            <a:spLocks noGrp="1"/>
          </p:cNvSpPr>
          <p:nvPr>
            <p:ph/>
          </p:nvPr>
        </p:nvSpPr>
        <p:spPr>
          <a:xfrm>
            <a:off x="41904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84" name="PlaceHolder 6"/>
          <p:cNvSpPr>
            <a:spLocks noGrp="1"/>
          </p:cNvSpPr>
          <p:nvPr>
            <p:ph/>
          </p:nvPr>
        </p:nvSpPr>
        <p:spPr>
          <a:xfrm>
            <a:off x="322272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85" name="PlaceHolder 7"/>
          <p:cNvSpPr>
            <a:spLocks noGrp="1"/>
          </p:cNvSpPr>
          <p:nvPr>
            <p:ph/>
          </p:nvPr>
        </p:nvSpPr>
        <p:spPr>
          <a:xfrm>
            <a:off x="602640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B191F-8590-4E3A-AD4C-9C201FDB71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787CDE-5DB8-4472-8849-3B162B8C8B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04" name="PlaceHolder 2"/>
          <p:cNvSpPr>
            <a:spLocks noGrp="1"/>
          </p:cNvSpPr>
          <p:nvPr>
            <p:ph type="subTitle"/>
          </p:nvPr>
        </p:nvSpPr>
        <p:spPr>
          <a:xfrm>
            <a:off x="419040" y="1257480"/>
            <a:ext cx="8291520" cy="5024160"/>
          </a:xfrm>
          <a:prstGeom prst="rect">
            <a:avLst/>
          </a:prstGeom>
          <a:noFill/>
          <a:ln w="0">
            <a:noFill/>
          </a:ln>
        </p:spPr>
        <p:txBody>
          <a:bodyPr lIns="0" rIns="0" tIns="0" bIns="0" anchor="ctr">
            <a:noAutofit/>
          </a:bodyPr>
          <a:p>
            <a:pPr indent="0">
              <a:lnSpc>
                <a:spcPct val="11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DC6DB7-05DC-4BFB-BB4C-BAC87770B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06"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0DC950-AD21-412F-A163-96C38F3E7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08" name="PlaceHolder 2"/>
          <p:cNvSpPr>
            <a:spLocks noGrp="1"/>
          </p:cNvSpPr>
          <p:nvPr>
            <p:ph/>
          </p:nvPr>
        </p:nvSpPr>
        <p:spPr>
          <a:xfrm>
            <a:off x="41904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09" name="PlaceHolder 3"/>
          <p:cNvSpPr>
            <a:spLocks noGrp="1"/>
          </p:cNvSpPr>
          <p:nvPr>
            <p:ph/>
          </p:nvPr>
        </p:nvSpPr>
        <p:spPr>
          <a:xfrm>
            <a:off x="466776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28F6D-C948-42DC-8849-FC54CC09C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958BD9-B46D-4369-B9E5-AC68DCBCC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8"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0F876-4971-4D4D-89FF-A3302BF3F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19040" y="106200"/>
            <a:ext cx="8291520" cy="3689280"/>
          </a:xfrm>
          <a:prstGeom prst="rect">
            <a:avLst/>
          </a:prstGeom>
          <a:noFill/>
          <a:ln w="0">
            <a:noFill/>
          </a:ln>
        </p:spPr>
        <p:txBody>
          <a:bodyPr lIns="0" rIns="0" tIns="0" bIns="0" anchor="ctr">
            <a:noAutofit/>
          </a:bodyPr>
          <a:p>
            <a:pPr>
              <a:lnSpc>
                <a:spcPct val="11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E4D5F-58E7-43A5-9BA6-C0C42E8CA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13"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14" name="PlaceHolder 3"/>
          <p:cNvSpPr>
            <a:spLocks noGrp="1"/>
          </p:cNvSpPr>
          <p:nvPr>
            <p:ph/>
          </p:nvPr>
        </p:nvSpPr>
        <p:spPr>
          <a:xfrm>
            <a:off x="466776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15" name="PlaceHolder 4"/>
          <p:cNvSpPr>
            <a:spLocks noGrp="1"/>
          </p:cNvSpPr>
          <p:nvPr>
            <p:ph/>
          </p:nvPr>
        </p:nvSpPr>
        <p:spPr>
          <a:xfrm>
            <a:off x="41904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72D9C-1694-47C6-AA15-5CF5E861C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17" name="PlaceHolder 2"/>
          <p:cNvSpPr>
            <a:spLocks noGrp="1"/>
          </p:cNvSpPr>
          <p:nvPr>
            <p:ph/>
          </p:nvPr>
        </p:nvSpPr>
        <p:spPr>
          <a:xfrm>
            <a:off x="41904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18"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19" name="PlaceHolder 4"/>
          <p:cNvSpPr>
            <a:spLocks noGrp="1"/>
          </p:cNvSpPr>
          <p:nvPr>
            <p:ph/>
          </p:nvPr>
        </p:nvSpPr>
        <p:spPr>
          <a:xfrm>
            <a:off x="466776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FE0CF-5070-4472-BB94-BF4F4BCE6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21"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22"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23" name="PlaceHolder 4"/>
          <p:cNvSpPr>
            <a:spLocks noGrp="1"/>
          </p:cNvSpPr>
          <p:nvPr>
            <p:ph/>
          </p:nvPr>
        </p:nvSpPr>
        <p:spPr>
          <a:xfrm>
            <a:off x="419040" y="388152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2E30B-3F45-4F28-803B-5D208FAB3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25" name="PlaceHolder 2"/>
          <p:cNvSpPr>
            <a:spLocks noGrp="1"/>
          </p:cNvSpPr>
          <p:nvPr>
            <p:ph/>
          </p:nvPr>
        </p:nvSpPr>
        <p:spPr>
          <a:xfrm>
            <a:off x="419040" y="125748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26" name="PlaceHolder 3"/>
          <p:cNvSpPr>
            <a:spLocks noGrp="1"/>
          </p:cNvSpPr>
          <p:nvPr>
            <p:ph/>
          </p:nvPr>
        </p:nvSpPr>
        <p:spPr>
          <a:xfrm>
            <a:off x="419040" y="388152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4C2A8-4EE7-40C6-ADEF-2FFAA73CAE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28"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29"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30" name="PlaceHolder 4"/>
          <p:cNvSpPr>
            <a:spLocks noGrp="1"/>
          </p:cNvSpPr>
          <p:nvPr>
            <p:ph/>
          </p:nvPr>
        </p:nvSpPr>
        <p:spPr>
          <a:xfrm>
            <a:off x="41904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31" name="PlaceHolder 5"/>
          <p:cNvSpPr>
            <a:spLocks noGrp="1"/>
          </p:cNvSpPr>
          <p:nvPr>
            <p:ph/>
          </p:nvPr>
        </p:nvSpPr>
        <p:spPr>
          <a:xfrm>
            <a:off x="466776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6AA2A5-4414-4E88-8AC9-CF10D8F3A4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33" name="PlaceHolder 2"/>
          <p:cNvSpPr>
            <a:spLocks noGrp="1"/>
          </p:cNvSpPr>
          <p:nvPr>
            <p:ph/>
          </p:nvPr>
        </p:nvSpPr>
        <p:spPr>
          <a:xfrm>
            <a:off x="41904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34" name="PlaceHolder 3"/>
          <p:cNvSpPr>
            <a:spLocks noGrp="1"/>
          </p:cNvSpPr>
          <p:nvPr>
            <p:ph/>
          </p:nvPr>
        </p:nvSpPr>
        <p:spPr>
          <a:xfrm>
            <a:off x="322272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35" name="PlaceHolder 4"/>
          <p:cNvSpPr>
            <a:spLocks noGrp="1"/>
          </p:cNvSpPr>
          <p:nvPr>
            <p:ph/>
          </p:nvPr>
        </p:nvSpPr>
        <p:spPr>
          <a:xfrm>
            <a:off x="6026400" y="125748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36" name="PlaceHolder 5"/>
          <p:cNvSpPr>
            <a:spLocks noGrp="1"/>
          </p:cNvSpPr>
          <p:nvPr>
            <p:ph/>
          </p:nvPr>
        </p:nvSpPr>
        <p:spPr>
          <a:xfrm>
            <a:off x="41904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37" name="PlaceHolder 6"/>
          <p:cNvSpPr>
            <a:spLocks noGrp="1"/>
          </p:cNvSpPr>
          <p:nvPr>
            <p:ph/>
          </p:nvPr>
        </p:nvSpPr>
        <p:spPr>
          <a:xfrm>
            <a:off x="322272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38" name="PlaceHolder 7"/>
          <p:cNvSpPr>
            <a:spLocks noGrp="1"/>
          </p:cNvSpPr>
          <p:nvPr>
            <p:ph/>
          </p:nvPr>
        </p:nvSpPr>
        <p:spPr>
          <a:xfrm>
            <a:off x="6026400" y="3881520"/>
            <a:ext cx="266976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5E5FBA-02FD-4418-B4D8-D6FCAA5AE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0" name="PlaceHolder 2"/>
          <p:cNvSpPr>
            <a:spLocks noGrp="1"/>
          </p:cNvSpPr>
          <p:nvPr>
            <p:ph/>
          </p:nvPr>
        </p:nvSpPr>
        <p:spPr>
          <a:xfrm>
            <a:off x="41904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1" name="PlaceHolder 3"/>
          <p:cNvSpPr>
            <a:spLocks noGrp="1"/>
          </p:cNvSpPr>
          <p:nvPr>
            <p:ph/>
          </p:nvPr>
        </p:nvSpPr>
        <p:spPr>
          <a:xfrm>
            <a:off x="466776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2F4E5-9EDE-4564-B324-058BA3C41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D9DE3-455D-4DD5-884B-B0132F3A7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06200"/>
            <a:ext cx="8291520" cy="3689280"/>
          </a:xfrm>
          <a:prstGeom prst="rect">
            <a:avLst/>
          </a:prstGeom>
          <a:noFill/>
          <a:ln w="0">
            <a:noFill/>
          </a:ln>
        </p:spPr>
        <p:txBody>
          <a:bodyPr lIns="0" rIns="0" tIns="0" bIns="0" anchor="ctr">
            <a:noAutofit/>
          </a:bodyPr>
          <a:p>
            <a:pPr>
              <a:lnSpc>
                <a:spcPct val="11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F8508-6B94-4EA2-909B-020846B41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5"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6" name="PlaceHolder 3"/>
          <p:cNvSpPr>
            <a:spLocks noGrp="1"/>
          </p:cNvSpPr>
          <p:nvPr>
            <p:ph/>
          </p:nvPr>
        </p:nvSpPr>
        <p:spPr>
          <a:xfrm>
            <a:off x="466776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17" name="PlaceHolder 4"/>
          <p:cNvSpPr>
            <a:spLocks noGrp="1"/>
          </p:cNvSpPr>
          <p:nvPr>
            <p:ph/>
          </p:nvPr>
        </p:nvSpPr>
        <p:spPr>
          <a:xfrm>
            <a:off x="41904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89889-F719-48BE-9FAA-21E037DB2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9" name="PlaceHolder 2"/>
          <p:cNvSpPr>
            <a:spLocks noGrp="1"/>
          </p:cNvSpPr>
          <p:nvPr>
            <p:ph/>
          </p:nvPr>
        </p:nvSpPr>
        <p:spPr>
          <a:xfrm>
            <a:off x="419040" y="1257480"/>
            <a:ext cx="4046040" cy="5024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20"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21" name="PlaceHolder 4"/>
          <p:cNvSpPr>
            <a:spLocks noGrp="1"/>
          </p:cNvSpPr>
          <p:nvPr>
            <p:ph/>
          </p:nvPr>
        </p:nvSpPr>
        <p:spPr>
          <a:xfrm>
            <a:off x="4667760" y="388152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98A8-4A77-4DF3-A8A5-1AF4CE9A6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23" name="PlaceHolder 2"/>
          <p:cNvSpPr>
            <a:spLocks noGrp="1"/>
          </p:cNvSpPr>
          <p:nvPr>
            <p:ph/>
          </p:nvPr>
        </p:nvSpPr>
        <p:spPr>
          <a:xfrm>
            <a:off x="41904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24" name="PlaceHolder 3"/>
          <p:cNvSpPr>
            <a:spLocks noGrp="1"/>
          </p:cNvSpPr>
          <p:nvPr>
            <p:ph/>
          </p:nvPr>
        </p:nvSpPr>
        <p:spPr>
          <a:xfrm>
            <a:off x="4667760" y="1257480"/>
            <a:ext cx="404604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25" name="PlaceHolder 4"/>
          <p:cNvSpPr>
            <a:spLocks noGrp="1"/>
          </p:cNvSpPr>
          <p:nvPr>
            <p:ph/>
          </p:nvPr>
        </p:nvSpPr>
        <p:spPr>
          <a:xfrm>
            <a:off x="419040" y="3881520"/>
            <a:ext cx="8291520" cy="2396160"/>
          </a:xfrm>
          <a:prstGeom prst="rect">
            <a:avLst/>
          </a:prstGeom>
          <a:noFill/>
          <a:ln w="0">
            <a:noFill/>
          </a:ln>
        </p:spPr>
        <p:txBody>
          <a:bodyPr lIns="90000" rIns="90000" tIns="46800" bIns="46800" anchor="t">
            <a:normAutofit/>
          </a:bodyPr>
          <a:p>
            <a:pPr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0EEEA-9403-41DD-B138-BAD9ACE23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3151-328D-402C-96BD-655232215047}"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83BA-ED33-4A13-A0FA-67878D9D12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8"/>
          <p:cNvSpPr/>
          <p:nvPr/>
        </p:nvSpPr>
        <p:spPr>
          <a:xfrm>
            <a:off x="0" y="-11160"/>
            <a:ext cx="9144000" cy="6869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39EC-CEF1-4769-A882-BFFDE469B7A9}" type="datetime">
              <a:rPr b="0" lang="zh-CN" sz="900" spc="-1" strike="noStrike">
                <a:solidFill>
                  <a:srgbClr val="9d9d9d"/>
                </a:solidFill>
                <a:latin typeface="Times New Roman"/>
              </a:rPr>
              <a:t>26/7/28</a:t>
            </a:fld>
            <a:endParaRPr b="0" lang="en-US" sz="900" spc="-1" strike="noStrike">
              <a:solidFill>
                <a:srgbClr val="000000"/>
              </a:solidFill>
              <a:latin typeface="Times New Roman"/>
            </a:endParaRPr>
          </a:p>
        </p:txBody>
      </p:sp>
      <p:sp>
        <p:nvSpPr>
          <p:cNvPr id="43" name="PlaceHolder 2"/>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6F15-ED47-4429-814F-6C9C8CB99900}" type="slidenum">
              <a:rPr b="0" lang="zh-CN" sz="900" spc="-1" strike="noStrike">
                <a:solidFill>
                  <a:srgbClr val="9d9d9d"/>
                </a:solidFill>
                <a:latin typeface="Times New Roman"/>
              </a:rPr>
              <a:t>&lt;number&gt;</a:t>
            </a:fld>
            <a:endParaRPr b="0" lang="en-US" sz="900" spc="-1" strike="noStrike">
              <a:solidFill>
                <a:srgbClr val="000000"/>
              </a:solidFill>
              <a:latin typeface="Times New Roman"/>
            </a:endParaRPr>
          </a:p>
        </p:txBody>
      </p:sp>
      <p:sp>
        <p:nvSpPr>
          <p:cNvPr id="45" name="PlaceHolder 4"/>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c00000"/>
                </a:solidFill>
                <a:latin typeface="华文中宋"/>
              </a:rPr>
              <a:t>Click to edit the title text format</a:t>
            </a:r>
            <a:endParaRPr b="1" lang="en-US" sz="3200" spc="-1" strike="noStrike">
              <a:solidFill>
                <a:srgbClr val="c00000"/>
              </a:solidFill>
              <a:latin typeface="华文中宋"/>
            </a:endParaRPr>
          </a:p>
        </p:txBody>
      </p:sp>
      <p:sp>
        <p:nvSpPr>
          <p:cNvPr id="46" name="PlaceHolder 5"/>
          <p:cNvSpPr>
            <a:spLocks noGrp="1"/>
          </p:cNvSpPr>
          <p:nvPr>
            <p:ph type="body"/>
          </p:nvPr>
        </p:nvSpPr>
        <p:spPr>
          <a:xfrm>
            <a:off x="419040" y="1257480"/>
            <a:ext cx="8291520" cy="5024160"/>
          </a:xfrm>
          <a:prstGeom prst="rect">
            <a:avLst/>
          </a:prstGeom>
          <a:noFill/>
          <a:ln w="0">
            <a:noFill/>
          </a:ln>
        </p:spPr>
        <p:txBody>
          <a:bodyPr lIns="90000" rIns="90000" tIns="46800" bIns="46800" anchor="t">
            <a:normAutofit/>
          </a:bodyPr>
          <a:p>
            <a:pPr marL="266760" indent="-266760" algn="just">
              <a:lnSpc>
                <a:spcPct val="11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Click to edit the outline text format</a:t>
            </a:r>
            <a:endParaRPr b="0" lang="en-US" sz="2400" spc="-1" strike="noStrike">
              <a:solidFill>
                <a:srgbClr val="c00000"/>
              </a:solidFill>
              <a:latin typeface="幼圆"/>
            </a:endParaRPr>
          </a:p>
          <a:p>
            <a:pPr lvl="1" marL="266760" indent="-266760" algn="just">
              <a:lnSpc>
                <a:spcPct val="110000"/>
              </a:lnSpc>
              <a:spcBef>
                <a:spcPts val="451"/>
              </a:spcBef>
              <a:buClr>
                <a:srgbClr val="fd9354"/>
              </a:buClr>
              <a:buFont typeface="幼圆"/>
              <a:buChar char=" "/>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Second Outline Level</a:t>
            </a:r>
            <a:endParaRPr b="0" lang="en-US" sz="2400" spc="-1" strike="noStrike">
              <a:solidFill>
                <a:srgbClr val="c00000"/>
              </a:solidFill>
              <a:latin typeface="幼圆"/>
            </a:endParaRPr>
          </a:p>
          <a:p>
            <a:pPr lvl="2" marL="857160" indent="-171360" algn="just">
              <a:lnSpc>
                <a:spcPct val="110000"/>
              </a:lnSpc>
              <a:spcBef>
                <a:spcPts val="451"/>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Third Outline Level</a:t>
            </a:r>
            <a:endParaRPr b="0" lang="en-US" sz="2400" spc="-1" strike="noStrike">
              <a:solidFill>
                <a:srgbClr val="c00000"/>
              </a:solidFill>
              <a:latin typeface="幼圆"/>
            </a:endParaRPr>
          </a:p>
          <a:p>
            <a:pPr lvl="3" marL="1200240" indent="-171360" algn="just">
              <a:lnSpc>
                <a:spcPct val="110000"/>
              </a:lnSpc>
              <a:spcBef>
                <a:spcPts val="451"/>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Fourth Outline Level</a:t>
            </a:r>
            <a:endParaRPr b="0" lang="en-US" sz="2400" spc="-1" strike="noStrike">
              <a:solidFill>
                <a:srgbClr val="c00000"/>
              </a:solidFill>
              <a:latin typeface="幼圆"/>
            </a:endParaRPr>
          </a:p>
          <a:p>
            <a:pPr lvl="4" marL="1542960" indent="-171360" algn="just">
              <a:lnSpc>
                <a:spcPct val="110000"/>
              </a:lnSpc>
              <a:spcBef>
                <a:spcPts val="451"/>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Fifth Outline Level</a:t>
            </a:r>
            <a:endParaRPr b="0" lang="en-US" sz="2400" spc="-1" strike="noStrike">
              <a:solidFill>
                <a:srgbClr val="c00000"/>
              </a:solidFill>
              <a:latin typeface="幼圆"/>
            </a:endParaRPr>
          </a:p>
          <a:p>
            <a:pPr lvl="5" marL="1542960" indent="-171360" algn="just">
              <a:lnSpc>
                <a:spcPct val="110000"/>
              </a:lnSpc>
              <a:spcBef>
                <a:spcPts val="451"/>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Sixth Outline Level</a:t>
            </a:r>
            <a:endParaRPr b="0" lang="en-US" sz="2400" spc="-1" strike="noStrike">
              <a:solidFill>
                <a:srgbClr val="c00000"/>
              </a:solidFill>
              <a:latin typeface="幼圆"/>
            </a:endParaRPr>
          </a:p>
          <a:p>
            <a:pPr lvl="6" marL="1542960" indent="-171360" algn="just">
              <a:lnSpc>
                <a:spcPct val="110000"/>
              </a:lnSpc>
              <a:spcBef>
                <a:spcPts val="451"/>
              </a:spcBef>
              <a:buClr>
                <a:srgbClr val="5f5f5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Seventh Outline Level</a:t>
            </a:r>
            <a:endParaRPr b="0" lang="en-US" sz="2400" spc="-1" strike="noStrike">
              <a:solidFill>
                <a:srgbClr val="c00000"/>
              </a:solidFill>
              <a:latin typeface="幼圆"/>
            </a:endParaRPr>
          </a:p>
        </p:txBody>
      </p:sp>
      <p:sp>
        <p:nvSpPr>
          <p:cNvPr id="47" name="任意多边形 14"/>
          <p:cNvSpPr/>
          <p:nvPr/>
        </p:nvSpPr>
        <p:spPr>
          <a:xfrm>
            <a:off x="0" y="746280"/>
            <a:ext cx="343080" cy="399960"/>
          </a:xfrm>
          <a:custGeom>
            <a:avLst/>
            <a:gdLst/>
            <a:ahLst/>
            <a:rect l="l" t="t" r="r" b="b"/>
            <a:pathLst>
              <a:path w="456860" h="543139">
                <a:moveTo>
                  <a:pt x="0" y="0"/>
                </a:moveTo>
                <a:lnTo>
                  <a:pt x="306177" y="0"/>
                </a:lnTo>
                <a:lnTo>
                  <a:pt x="456860" y="271570"/>
                </a:lnTo>
                <a:lnTo>
                  <a:pt x="306177" y="543139"/>
                </a:lnTo>
                <a:lnTo>
                  <a:pt x="0" y="543139"/>
                </a:lnTo>
                <a:lnTo>
                  <a:pt x="0" y="0"/>
                </a:lnTo>
                <a:close/>
              </a:path>
            </a:pathLst>
          </a:custGeom>
          <a:solidFill>
            <a:srgbClr val="c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KSO_Shape"/>
          <p:cNvSpPr/>
          <p:nvPr/>
        </p:nvSpPr>
        <p:spPr>
          <a:xfrm>
            <a:off x="-31680" y="819000"/>
            <a:ext cx="287280" cy="250920"/>
          </a:xfrm>
          <a:custGeom>
            <a:avLst/>
            <a:gdLst/>
            <a:ahLst/>
            <a:rect l="l" t="t" r="r" b="b"/>
            <a:pathLst>
              <a:path w="494328" h="324036">
                <a:moveTo>
                  <a:pt x="277525" y="292250"/>
                </a:moveTo>
                <a:lnTo>
                  <a:pt x="309311" y="292250"/>
                </a:lnTo>
                <a:lnTo>
                  <a:pt x="309311" y="324036"/>
                </a:lnTo>
                <a:lnTo>
                  <a:pt x="277525" y="324036"/>
                </a:lnTo>
                <a:lnTo>
                  <a:pt x="277525" y="292250"/>
                </a:lnTo>
                <a:close/>
                <a:moveTo>
                  <a:pt x="323779" y="243541"/>
                </a:moveTo>
                <a:lnTo>
                  <a:pt x="355565" y="243541"/>
                </a:lnTo>
                <a:lnTo>
                  <a:pt x="355565" y="275328"/>
                </a:lnTo>
                <a:lnTo>
                  <a:pt x="323779" y="275328"/>
                </a:lnTo>
                <a:lnTo>
                  <a:pt x="323779" y="243541"/>
                </a:lnTo>
                <a:close/>
                <a:moveTo>
                  <a:pt x="277525" y="243541"/>
                </a:moveTo>
                <a:lnTo>
                  <a:pt x="309311" y="243541"/>
                </a:lnTo>
                <a:lnTo>
                  <a:pt x="309311" y="275328"/>
                </a:lnTo>
                <a:lnTo>
                  <a:pt x="277525" y="275328"/>
                </a:lnTo>
                <a:lnTo>
                  <a:pt x="277525" y="243541"/>
                </a:lnTo>
                <a:close/>
                <a:moveTo>
                  <a:pt x="370033" y="194833"/>
                </a:moveTo>
                <a:lnTo>
                  <a:pt x="401820" y="194833"/>
                </a:lnTo>
                <a:lnTo>
                  <a:pt x="401820" y="226620"/>
                </a:lnTo>
                <a:lnTo>
                  <a:pt x="370033" y="226620"/>
                </a:lnTo>
                <a:lnTo>
                  <a:pt x="370033" y="194833"/>
                </a:lnTo>
                <a:close/>
                <a:moveTo>
                  <a:pt x="323779" y="194833"/>
                </a:moveTo>
                <a:lnTo>
                  <a:pt x="355565" y="194833"/>
                </a:lnTo>
                <a:lnTo>
                  <a:pt x="355565" y="226620"/>
                </a:lnTo>
                <a:lnTo>
                  <a:pt x="323779" y="226620"/>
                </a:lnTo>
                <a:lnTo>
                  <a:pt x="323779" y="194833"/>
                </a:lnTo>
                <a:close/>
                <a:moveTo>
                  <a:pt x="277525" y="194833"/>
                </a:moveTo>
                <a:lnTo>
                  <a:pt x="309311" y="194833"/>
                </a:lnTo>
                <a:lnTo>
                  <a:pt x="309311" y="226620"/>
                </a:lnTo>
                <a:lnTo>
                  <a:pt x="277525" y="226620"/>
                </a:lnTo>
                <a:lnTo>
                  <a:pt x="277525" y="194833"/>
                </a:lnTo>
                <a:close/>
                <a:moveTo>
                  <a:pt x="231271" y="194833"/>
                </a:moveTo>
                <a:lnTo>
                  <a:pt x="263057" y="194833"/>
                </a:lnTo>
                <a:lnTo>
                  <a:pt x="263057" y="226620"/>
                </a:lnTo>
                <a:lnTo>
                  <a:pt x="231271" y="226620"/>
                </a:lnTo>
                <a:lnTo>
                  <a:pt x="231271" y="194833"/>
                </a:lnTo>
                <a:close/>
                <a:moveTo>
                  <a:pt x="185016" y="194833"/>
                </a:moveTo>
                <a:lnTo>
                  <a:pt x="216803" y="194833"/>
                </a:lnTo>
                <a:lnTo>
                  <a:pt x="216803" y="226620"/>
                </a:lnTo>
                <a:lnTo>
                  <a:pt x="185016" y="226620"/>
                </a:lnTo>
                <a:lnTo>
                  <a:pt x="185016" y="194833"/>
                </a:lnTo>
                <a:close/>
                <a:moveTo>
                  <a:pt x="138762" y="194833"/>
                </a:moveTo>
                <a:lnTo>
                  <a:pt x="170549" y="194833"/>
                </a:lnTo>
                <a:lnTo>
                  <a:pt x="170549" y="226620"/>
                </a:lnTo>
                <a:lnTo>
                  <a:pt x="138762" y="226620"/>
                </a:lnTo>
                <a:lnTo>
                  <a:pt x="138762" y="194833"/>
                </a:lnTo>
                <a:close/>
                <a:moveTo>
                  <a:pt x="92508" y="194833"/>
                </a:moveTo>
                <a:lnTo>
                  <a:pt x="124294" y="194833"/>
                </a:lnTo>
                <a:lnTo>
                  <a:pt x="124294" y="226620"/>
                </a:lnTo>
                <a:lnTo>
                  <a:pt x="92508" y="226620"/>
                </a:lnTo>
                <a:lnTo>
                  <a:pt x="92508" y="194833"/>
                </a:lnTo>
                <a:close/>
                <a:moveTo>
                  <a:pt x="46254" y="194833"/>
                </a:moveTo>
                <a:lnTo>
                  <a:pt x="78040" y="194833"/>
                </a:lnTo>
                <a:lnTo>
                  <a:pt x="78040" y="226620"/>
                </a:lnTo>
                <a:lnTo>
                  <a:pt x="46254" y="226620"/>
                </a:lnTo>
                <a:lnTo>
                  <a:pt x="46254" y="194833"/>
                </a:lnTo>
                <a:close/>
                <a:moveTo>
                  <a:pt x="0" y="194833"/>
                </a:moveTo>
                <a:lnTo>
                  <a:pt x="31787" y="194833"/>
                </a:lnTo>
                <a:lnTo>
                  <a:pt x="31787" y="226620"/>
                </a:lnTo>
                <a:lnTo>
                  <a:pt x="0" y="226620"/>
                </a:lnTo>
                <a:lnTo>
                  <a:pt x="0" y="194833"/>
                </a:lnTo>
                <a:close/>
                <a:moveTo>
                  <a:pt x="416287" y="170479"/>
                </a:moveTo>
                <a:lnTo>
                  <a:pt x="448074" y="170479"/>
                </a:lnTo>
                <a:lnTo>
                  <a:pt x="448074" y="202266"/>
                </a:lnTo>
                <a:lnTo>
                  <a:pt x="416287" y="202266"/>
                </a:lnTo>
                <a:lnTo>
                  <a:pt x="416287" y="170479"/>
                </a:lnTo>
                <a:close/>
                <a:moveTo>
                  <a:pt x="462542" y="146125"/>
                </a:moveTo>
                <a:lnTo>
                  <a:pt x="494328" y="146125"/>
                </a:lnTo>
                <a:lnTo>
                  <a:pt x="494328" y="177911"/>
                </a:lnTo>
                <a:lnTo>
                  <a:pt x="462542" y="177911"/>
                </a:lnTo>
                <a:lnTo>
                  <a:pt x="462542" y="146125"/>
                </a:lnTo>
                <a:close/>
                <a:moveTo>
                  <a:pt x="370033" y="146125"/>
                </a:moveTo>
                <a:lnTo>
                  <a:pt x="401820" y="146125"/>
                </a:lnTo>
                <a:lnTo>
                  <a:pt x="401820" y="177911"/>
                </a:lnTo>
                <a:lnTo>
                  <a:pt x="370033" y="177911"/>
                </a:lnTo>
                <a:lnTo>
                  <a:pt x="370033" y="146125"/>
                </a:lnTo>
                <a:close/>
                <a:moveTo>
                  <a:pt x="323779" y="146125"/>
                </a:moveTo>
                <a:lnTo>
                  <a:pt x="355565" y="146125"/>
                </a:lnTo>
                <a:lnTo>
                  <a:pt x="355565" y="177911"/>
                </a:lnTo>
                <a:lnTo>
                  <a:pt x="323779" y="177911"/>
                </a:lnTo>
                <a:lnTo>
                  <a:pt x="323779" y="146125"/>
                </a:lnTo>
                <a:close/>
                <a:moveTo>
                  <a:pt x="277525" y="146125"/>
                </a:moveTo>
                <a:lnTo>
                  <a:pt x="309311" y="146125"/>
                </a:lnTo>
                <a:lnTo>
                  <a:pt x="309311" y="177911"/>
                </a:lnTo>
                <a:lnTo>
                  <a:pt x="277525" y="177911"/>
                </a:lnTo>
                <a:lnTo>
                  <a:pt x="277525" y="146125"/>
                </a:lnTo>
                <a:close/>
                <a:moveTo>
                  <a:pt x="231271" y="146125"/>
                </a:moveTo>
                <a:lnTo>
                  <a:pt x="263057" y="146125"/>
                </a:lnTo>
                <a:lnTo>
                  <a:pt x="263057" y="177911"/>
                </a:lnTo>
                <a:lnTo>
                  <a:pt x="231271" y="177911"/>
                </a:lnTo>
                <a:lnTo>
                  <a:pt x="231271" y="146125"/>
                </a:lnTo>
                <a:close/>
                <a:moveTo>
                  <a:pt x="185016" y="146125"/>
                </a:moveTo>
                <a:lnTo>
                  <a:pt x="216803" y="146125"/>
                </a:lnTo>
                <a:lnTo>
                  <a:pt x="216803" y="177911"/>
                </a:lnTo>
                <a:lnTo>
                  <a:pt x="185016" y="177911"/>
                </a:lnTo>
                <a:lnTo>
                  <a:pt x="185016" y="146125"/>
                </a:lnTo>
                <a:close/>
                <a:moveTo>
                  <a:pt x="138762" y="146125"/>
                </a:moveTo>
                <a:lnTo>
                  <a:pt x="170549" y="146125"/>
                </a:lnTo>
                <a:lnTo>
                  <a:pt x="170549" y="177911"/>
                </a:lnTo>
                <a:lnTo>
                  <a:pt x="138762" y="177911"/>
                </a:lnTo>
                <a:lnTo>
                  <a:pt x="138762" y="146125"/>
                </a:lnTo>
                <a:close/>
                <a:moveTo>
                  <a:pt x="92508" y="146125"/>
                </a:moveTo>
                <a:lnTo>
                  <a:pt x="124294" y="146125"/>
                </a:lnTo>
                <a:lnTo>
                  <a:pt x="124294" y="177911"/>
                </a:lnTo>
                <a:lnTo>
                  <a:pt x="92508" y="177911"/>
                </a:lnTo>
                <a:lnTo>
                  <a:pt x="92508" y="146125"/>
                </a:lnTo>
                <a:close/>
                <a:moveTo>
                  <a:pt x="46254" y="146125"/>
                </a:moveTo>
                <a:lnTo>
                  <a:pt x="78040" y="146125"/>
                </a:lnTo>
                <a:lnTo>
                  <a:pt x="78040" y="177911"/>
                </a:lnTo>
                <a:lnTo>
                  <a:pt x="46254" y="177911"/>
                </a:lnTo>
                <a:lnTo>
                  <a:pt x="46254" y="146125"/>
                </a:lnTo>
                <a:close/>
                <a:moveTo>
                  <a:pt x="0" y="146125"/>
                </a:moveTo>
                <a:lnTo>
                  <a:pt x="31787" y="146125"/>
                </a:lnTo>
                <a:lnTo>
                  <a:pt x="31787" y="177911"/>
                </a:lnTo>
                <a:lnTo>
                  <a:pt x="0" y="177911"/>
                </a:lnTo>
                <a:lnTo>
                  <a:pt x="0" y="146125"/>
                </a:lnTo>
                <a:close/>
                <a:moveTo>
                  <a:pt x="416287" y="121771"/>
                </a:moveTo>
                <a:lnTo>
                  <a:pt x="448074" y="121771"/>
                </a:lnTo>
                <a:lnTo>
                  <a:pt x="448074" y="153557"/>
                </a:lnTo>
                <a:lnTo>
                  <a:pt x="416287" y="153557"/>
                </a:lnTo>
                <a:lnTo>
                  <a:pt x="416287" y="121771"/>
                </a:lnTo>
                <a:close/>
                <a:moveTo>
                  <a:pt x="370033" y="97417"/>
                </a:moveTo>
                <a:lnTo>
                  <a:pt x="401820" y="97417"/>
                </a:lnTo>
                <a:lnTo>
                  <a:pt x="401820" y="129203"/>
                </a:lnTo>
                <a:lnTo>
                  <a:pt x="370033" y="129203"/>
                </a:lnTo>
                <a:lnTo>
                  <a:pt x="370033" y="97417"/>
                </a:lnTo>
                <a:close/>
                <a:moveTo>
                  <a:pt x="323779" y="97417"/>
                </a:moveTo>
                <a:lnTo>
                  <a:pt x="355565" y="97417"/>
                </a:lnTo>
                <a:lnTo>
                  <a:pt x="355565" y="129203"/>
                </a:lnTo>
                <a:lnTo>
                  <a:pt x="323779" y="129203"/>
                </a:lnTo>
                <a:lnTo>
                  <a:pt x="323779" y="97417"/>
                </a:lnTo>
                <a:close/>
                <a:moveTo>
                  <a:pt x="277525" y="97417"/>
                </a:moveTo>
                <a:lnTo>
                  <a:pt x="309311" y="97417"/>
                </a:lnTo>
                <a:lnTo>
                  <a:pt x="309311" y="129203"/>
                </a:lnTo>
                <a:lnTo>
                  <a:pt x="277525" y="129203"/>
                </a:lnTo>
                <a:lnTo>
                  <a:pt x="277525" y="97417"/>
                </a:lnTo>
                <a:close/>
                <a:moveTo>
                  <a:pt x="231271" y="97417"/>
                </a:moveTo>
                <a:lnTo>
                  <a:pt x="263057" y="97417"/>
                </a:lnTo>
                <a:lnTo>
                  <a:pt x="263057" y="129203"/>
                </a:lnTo>
                <a:lnTo>
                  <a:pt x="231271" y="129203"/>
                </a:lnTo>
                <a:lnTo>
                  <a:pt x="231271" y="97417"/>
                </a:lnTo>
                <a:close/>
                <a:moveTo>
                  <a:pt x="185016" y="97417"/>
                </a:moveTo>
                <a:lnTo>
                  <a:pt x="216803" y="97417"/>
                </a:lnTo>
                <a:lnTo>
                  <a:pt x="216803" y="129203"/>
                </a:lnTo>
                <a:lnTo>
                  <a:pt x="185016" y="129203"/>
                </a:lnTo>
                <a:lnTo>
                  <a:pt x="185016" y="97417"/>
                </a:lnTo>
                <a:close/>
                <a:moveTo>
                  <a:pt x="138762" y="97417"/>
                </a:moveTo>
                <a:lnTo>
                  <a:pt x="170549" y="97417"/>
                </a:lnTo>
                <a:lnTo>
                  <a:pt x="170549" y="129203"/>
                </a:lnTo>
                <a:lnTo>
                  <a:pt x="138762" y="129203"/>
                </a:lnTo>
                <a:lnTo>
                  <a:pt x="138762" y="97417"/>
                </a:lnTo>
                <a:close/>
                <a:moveTo>
                  <a:pt x="92508" y="97417"/>
                </a:moveTo>
                <a:lnTo>
                  <a:pt x="124294" y="97417"/>
                </a:lnTo>
                <a:lnTo>
                  <a:pt x="124294" y="129203"/>
                </a:lnTo>
                <a:lnTo>
                  <a:pt x="92508" y="129203"/>
                </a:lnTo>
                <a:lnTo>
                  <a:pt x="92508" y="97417"/>
                </a:lnTo>
                <a:close/>
                <a:moveTo>
                  <a:pt x="46254" y="97417"/>
                </a:moveTo>
                <a:lnTo>
                  <a:pt x="78040" y="97417"/>
                </a:lnTo>
                <a:lnTo>
                  <a:pt x="78040" y="129203"/>
                </a:lnTo>
                <a:lnTo>
                  <a:pt x="46254" y="129203"/>
                </a:lnTo>
                <a:lnTo>
                  <a:pt x="46254" y="97417"/>
                </a:lnTo>
                <a:close/>
                <a:moveTo>
                  <a:pt x="0" y="97417"/>
                </a:moveTo>
                <a:lnTo>
                  <a:pt x="31787" y="97417"/>
                </a:lnTo>
                <a:lnTo>
                  <a:pt x="31787" y="129203"/>
                </a:lnTo>
                <a:lnTo>
                  <a:pt x="0" y="129203"/>
                </a:lnTo>
                <a:lnTo>
                  <a:pt x="0" y="97417"/>
                </a:lnTo>
                <a:close/>
                <a:moveTo>
                  <a:pt x="323779" y="48708"/>
                </a:moveTo>
                <a:lnTo>
                  <a:pt x="355565" y="48708"/>
                </a:lnTo>
                <a:lnTo>
                  <a:pt x="355565" y="80495"/>
                </a:lnTo>
                <a:lnTo>
                  <a:pt x="323779" y="80495"/>
                </a:lnTo>
                <a:lnTo>
                  <a:pt x="323779" y="48708"/>
                </a:lnTo>
                <a:close/>
                <a:moveTo>
                  <a:pt x="277525" y="48708"/>
                </a:moveTo>
                <a:lnTo>
                  <a:pt x="309311" y="48708"/>
                </a:lnTo>
                <a:lnTo>
                  <a:pt x="309311" y="80495"/>
                </a:lnTo>
                <a:lnTo>
                  <a:pt x="277525" y="80495"/>
                </a:lnTo>
                <a:lnTo>
                  <a:pt x="277525" y="48708"/>
                </a:lnTo>
                <a:close/>
                <a:moveTo>
                  <a:pt x="277525" y="0"/>
                </a:moveTo>
                <a:lnTo>
                  <a:pt x="309311" y="0"/>
                </a:lnTo>
                <a:lnTo>
                  <a:pt x="309311" y="31787"/>
                </a:lnTo>
                <a:lnTo>
                  <a:pt x="277525" y="31787"/>
                </a:lnTo>
                <a:lnTo>
                  <a:pt x="27752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直接连接符 12"/>
          <p:cNvSpPr/>
          <p:nvPr/>
        </p:nvSpPr>
        <p:spPr>
          <a:xfrm>
            <a:off x="343080" y="946080"/>
            <a:ext cx="8800920" cy="6480"/>
          </a:xfrm>
          <a:prstGeom prst="line">
            <a:avLst/>
          </a:prstGeom>
          <a:ln w="12600">
            <a:solidFill>
              <a:srgbClr val="c00000"/>
            </a:solidFill>
            <a:beve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矩形 11"/>
          <p:cNvSpPr/>
          <p:nvPr/>
        </p:nvSpPr>
        <p:spPr>
          <a:xfrm>
            <a:off x="0" y="-11160"/>
            <a:ext cx="9144000" cy="6869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任意多边形 13"/>
          <p:cNvSpPr/>
          <p:nvPr/>
        </p:nvSpPr>
        <p:spPr>
          <a:xfrm>
            <a:off x="6600960" y="-11160"/>
            <a:ext cx="2554200" cy="2683080"/>
          </a:xfrm>
          <a:custGeom>
            <a:avLst/>
            <a:gdLst/>
            <a:ahLst/>
            <a:rect l="l" t="t" r="r" b="b"/>
            <a:pathLst>
              <a:path w="2554815" h="2682612">
                <a:moveTo>
                  <a:pt x="629529" y="0"/>
                </a:moveTo>
                <a:lnTo>
                  <a:pt x="2554815" y="0"/>
                </a:lnTo>
                <a:lnTo>
                  <a:pt x="2554815" y="2682612"/>
                </a:lnTo>
                <a:lnTo>
                  <a:pt x="858947" y="2682612"/>
                </a:lnTo>
                <a:lnTo>
                  <a:pt x="0" y="1134571"/>
                </a:lnTo>
                <a:lnTo>
                  <a:pt x="629529" y="0"/>
                </a:lnTo>
                <a:close/>
              </a:path>
            </a:pathLst>
          </a:custGeom>
          <a:solidFill>
            <a:srgbClr val="d9d9d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任意多边形 15"/>
          <p:cNvSpPr/>
          <p:nvPr/>
        </p:nvSpPr>
        <p:spPr>
          <a:xfrm>
            <a:off x="3905280" y="4383000"/>
            <a:ext cx="3422520" cy="2475000"/>
          </a:xfrm>
          <a:custGeom>
            <a:avLst/>
            <a:gdLst/>
            <a:ahLst/>
            <a:rect l="l" t="t" r="r" b="b"/>
            <a:pathLst>
              <a:path w="3422217" h="2474655">
                <a:moveTo>
                  <a:pt x="858947" y="0"/>
                </a:moveTo>
                <a:lnTo>
                  <a:pt x="2563270" y="0"/>
                </a:lnTo>
                <a:lnTo>
                  <a:pt x="3422217" y="1548041"/>
                </a:lnTo>
                <a:lnTo>
                  <a:pt x="2908076" y="2474655"/>
                </a:lnTo>
                <a:lnTo>
                  <a:pt x="514142" y="2474655"/>
                </a:lnTo>
                <a:lnTo>
                  <a:pt x="0" y="1548041"/>
                </a:lnTo>
                <a:lnTo>
                  <a:pt x="858947" y="0"/>
                </a:lnTo>
                <a:close/>
              </a:path>
            </a:pathLst>
          </a:custGeom>
          <a:solidFill>
            <a:srgbClr val="d9d9d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KSO_Shape"/>
          <p:cNvSpPr/>
          <p:nvPr/>
        </p:nvSpPr>
        <p:spPr>
          <a:xfrm>
            <a:off x="7523280" y="503280"/>
            <a:ext cx="1271520" cy="1241280"/>
          </a:xfrm>
          <a:custGeom>
            <a:avLst/>
            <a:gdLst/>
            <a:ahLst/>
            <a:rect l="l" t="t" r="r" b="b"/>
            <a:pathLst>
              <a:path w="5471" h="5188">
                <a:moveTo>
                  <a:pt x="3062" y="530"/>
                </a:moveTo>
                <a:lnTo>
                  <a:pt x="3062" y="530"/>
                </a:lnTo>
                <a:lnTo>
                  <a:pt x="3073" y="522"/>
                </a:lnTo>
                <a:lnTo>
                  <a:pt x="3103" y="499"/>
                </a:lnTo>
                <a:lnTo>
                  <a:pt x="3122" y="482"/>
                </a:lnTo>
                <a:lnTo>
                  <a:pt x="3143" y="462"/>
                </a:lnTo>
                <a:lnTo>
                  <a:pt x="3166" y="440"/>
                </a:lnTo>
                <a:lnTo>
                  <a:pt x="3188" y="415"/>
                </a:lnTo>
                <a:lnTo>
                  <a:pt x="3211" y="388"/>
                </a:lnTo>
                <a:lnTo>
                  <a:pt x="3221" y="372"/>
                </a:lnTo>
                <a:lnTo>
                  <a:pt x="3232" y="358"/>
                </a:lnTo>
                <a:lnTo>
                  <a:pt x="3242" y="341"/>
                </a:lnTo>
                <a:lnTo>
                  <a:pt x="3250" y="325"/>
                </a:lnTo>
                <a:lnTo>
                  <a:pt x="3258" y="308"/>
                </a:lnTo>
                <a:lnTo>
                  <a:pt x="3266" y="292"/>
                </a:lnTo>
                <a:lnTo>
                  <a:pt x="3272" y="273"/>
                </a:lnTo>
                <a:lnTo>
                  <a:pt x="3278" y="256"/>
                </a:lnTo>
                <a:lnTo>
                  <a:pt x="3282" y="237"/>
                </a:lnTo>
                <a:lnTo>
                  <a:pt x="3286" y="218"/>
                </a:lnTo>
                <a:lnTo>
                  <a:pt x="3287" y="200"/>
                </a:lnTo>
                <a:lnTo>
                  <a:pt x="3287" y="180"/>
                </a:lnTo>
                <a:lnTo>
                  <a:pt x="3286" y="160"/>
                </a:lnTo>
                <a:lnTo>
                  <a:pt x="3282" y="140"/>
                </a:lnTo>
                <a:lnTo>
                  <a:pt x="3279" y="126"/>
                </a:lnTo>
                <a:lnTo>
                  <a:pt x="3276" y="113"/>
                </a:lnTo>
                <a:lnTo>
                  <a:pt x="3270" y="99"/>
                </a:lnTo>
                <a:lnTo>
                  <a:pt x="3264" y="87"/>
                </a:lnTo>
                <a:lnTo>
                  <a:pt x="3257" y="75"/>
                </a:lnTo>
                <a:lnTo>
                  <a:pt x="3249" y="64"/>
                </a:lnTo>
                <a:lnTo>
                  <a:pt x="3242" y="54"/>
                </a:lnTo>
                <a:lnTo>
                  <a:pt x="3232" y="44"/>
                </a:lnTo>
                <a:lnTo>
                  <a:pt x="3223" y="36"/>
                </a:lnTo>
                <a:lnTo>
                  <a:pt x="3212" y="28"/>
                </a:lnTo>
                <a:lnTo>
                  <a:pt x="3202" y="21"/>
                </a:lnTo>
                <a:lnTo>
                  <a:pt x="3190" y="15"/>
                </a:lnTo>
                <a:lnTo>
                  <a:pt x="3179" y="10"/>
                </a:lnTo>
                <a:lnTo>
                  <a:pt x="3167" y="6"/>
                </a:lnTo>
                <a:lnTo>
                  <a:pt x="3155" y="3"/>
                </a:lnTo>
                <a:lnTo>
                  <a:pt x="3142" y="1"/>
                </a:lnTo>
                <a:lnTo>
                  <a:pt x="3123" y="0"/>
                </a:lnTo>
                <a:lnTo>
                  <a:pt x="3104" y="0"/>
                </a:lnTo>
                <a:lnTo>
                  <a:pt x="3088" y="3"/>
                </a:lnTo>
                <a:lnTo>
                  <a:pt x="3071" y="6"/>
                </a:lnTo>
                <a:lnTo>
                  <a:pt x="3056" y="11"/>
                </a:lnTo>
                <a:lnTo>
                  <a:pt x="3041" y="18"/>
                </a:lnTo>
                <a:lnTo>
                  <a:pt x="3027" y="26"/>
                </a:lnTo>
                <a:lnTo>
                  <a:pt x="3015" y="34"/>
                </a:lnTo>
                <a:lnTo>
                  <a:pt x="3004" y="44"/>
                </a:lnTo>
                <a:lnTo>
                  <a:pt x="2994" y="55"/>
                </a:lnTo>
                <a:lnTo>
                  <a:pt x="2984" y="67"/>
                </a:lnTo>
                <a:lnTo>
                  <a:pt x="2976" y="80"/>
                </a:lnTo>
                <a:lnTo>
                  <a:pt x="2970" y="93"/>
                </a:lnTo>
                <a:lnTo>
                  <a:pt x="2964" y="106"/>
                </a:lnTo>
                <a:lnTo>
                  <a:pt x="2960" y="120"/>
                </a:lnTo>
                <a:lnTo>
                  <a:pt x="2958" y="135"/>
                </a:lnTo>
                <a:lnTo>
                  <a:pt x="2950" y="127"/>
                </a:lnTo>
                <a:lnTo>
                  <a:pt x="2941" y="120"/>
                </a:lnTo>
                <a:lnTo>
                  <a:pt x="2932" y="114"/>
                </a:lnTo>
                <a:lnTo>
                  <a:pt x="2923" y="108"/>
                </a:lnTo>
                <a:lnTo>
                  <a:pt x="2912" y="103"/>
                </a:lnTo>
                <a:lnTo>
                  <a:pt x="2901" y="98"/>
                </a:lnTo>
                <a:lnTo>
                  <a:pt x="2890" y="95"/>
                </a:lnTo>
                <a:lnTo>
                  <a:pt x="2877" y="92"/>
                </a:lnTo>
                <a:lnTo>
                  <a:pt x="2865" y="91"/>
                </a:lnTo>
                <a:lnTo>
                  <a:pt x="2852" y="89"/>
                </a:lnTo>
                <a:lnTo>
                  <a:pt x="2840" y="91"/>
                </a:lnTo>
                <a:lnTo>
                  <a:pt x="2828" y="92"/>
                </a:lnTo>
                <a:lnTo>
                  <a:pt x="2815" y="95"/>
                </a:lnTo>
                <a:lnTo>
                  <a:pt x="2803" y="99"/>
                </a:lnTo>
                <a:lnTo>
                  <a:pt x="2791" y="105"/>
                </a:lnTo>
                <a:lnTo>
                  <a:pt x="2780" y="111"/>
                </a:lnTo>
                <a:lnTo>
                  <a:pt x="2770" y="118"/>
                </a:lnTo>
                <a:lnTo>
                  <a:pt x="2761" y="126"/>
                </a:lnTo>
                <a:lnTo>
                  <a:pt x="2753" y="135"/>
                </a:lnTo>
                <a:lnTo>
                  <a:pt x="2745" y="143"/>
                </a:lnTo>
                <a:lnTo>
                  <a:pt x="2739" y="152"/>
                </a:lnTo>
                <a:lnTo>
                  <a:pt x="2733" y="162"/>
                </a:lnTo>
                <a:lnTo>
                  <a:pt x="2728" y="171"/>
                </a:lnTo>
                <a:lnTo>
                  <a:pt x="2725" y="182"/>
                </a:lnTo>
                <a:lnTo>
                  <a:pt x="2720" y="192"/>
                </a:lnTo>
                <a:lnTo>
                  <a:pt x="2718" y="203"/>
                </a:lnTo>
                <a:lnTo>
                  <a:pt x="2717" y="214"/>
                </a:lnTo>
                <a:lnTo>
                  <a:pt x="2716" y="225"/>
                </a:lnTo>
                <a:lnTo>
                  <a:pt x="2716" y="236"/>
                </a:lnTo>
                <a:lnTo>
                  <a:pt x="2717" y="248"/>
                </a:lnTo>
                <a:lnTo>
                  <a:pt x="2719" y="259"/>
                </a:lnTo>
                <a:lnTo>
                  <a:pt x="2721" y="270"/>
                </a:lnTo>
                <a:lnTo>
                  <a:pt x="2727" y="288"/>
                </a:lnTo>
                <a:lnTo>
                  <a:pt x="2733" y="303"/>
                </a:lnTo>
                <a:lnTo>
                  <a:pt x="2741" y="318"/>
                </a:lnTo>
                <a:lnTo>
                  <a:pt x="2751" y="334"/>
                </a:lnTo>
                <a:lnTo>
                  <a:pt x="2761" y="348"/>
                </a:lnTo>
                <a:lnTo>
                  <a:pt x="2772" y="362"/>
                </a:lnTo>
                <a:lnTo>
                  <a:pt x="2784" y="376"/>
                </a:lnTo>
                <a:lnTo>
                  <a:pt x="2796" y="388"/>
                </a:lnTo>
                <a:lnTo>
                  <a:pt x="2809" y="400"/>
                </a:lnTo>
                <a:lnTo>
                  <a:pt x="2824" y="412"/>
                </a:lnTo>
                <a:lnTo>
                  <a:pt x="2837" y="422"/>
                </a:lnTo>
                <a:lnTo>
                  <a:pt x="2851" y="433"/>
                </a:lnTo>
                <a:lnTo>
                  <a:pt x="2881" y="451"/>
                </a:lnTo>
                <a:lnTo>
                  <a:pt x="2910" y="468"/>
                </a:lnTo>
                <a:lnTo>
                  <a:pt x="2940" y="483"/>
                </a:lnTo>
                <a:lnTo>
                  <a:pt x="2968" y="495"/>
                </a:lnTo>
                <a:lnTo>
                  <a:pt x="2993" y="506"/>
                </a:lnTo>
                <a:lnTo>
                  <a:pt x="3016" y="514"/>
                </a:lnTo>
                <a:lnTo>
                  <a:pt x="3049" y="525"/>
                </a:lnTo>
                <a:lnTo>
                  <a:pt x="3062" y="530"/>
                </a:lnTo>
                <a:close/>
                <a:moveTo>
                  <a:pt x="2435" y="3095"/>
                </a:moveTo>
                <a:lnTo>
                  <a:pt x="2435" y="3095"/>
                </a:lnTo>
                <a:lnTo>
                  <a:pt x="2463" y="3057"/>
                </a:lnTo>
                <a:lnTo>
                  <a:pt x="2490" y="3020"/>
                </a:lnTo>
                <a:lnTo>
                  <a:pt x="2520" y="2985"/>
                </a:lnTo>
                <a:lnTo>
                  <a:pt x="2551" y="2951"/>
                </a:lnTo>
                <a:lnTo>
                  <a:pt x="2583" y="2919"/>
                </a:lnTo>
                <a:lnTo>
                  <a:pt x="2617" y="2888"/>
                </a:lnTo>
                <a:lnTo>
                  <a:pt x="2651" y="2859"/>
                </a:lnTo>
                <a:lnTo>
                  <a:pt x="2687" y="2831"/>
                </a:lnTo>
                <a:lnTo>
                  <a:pt x="2723" y="2805"/>
                </a:lnTo>
                <a:lnTo>
                  <a:pt x="2762" y="2779"/>
                </a:lnTo>
                <a:lnTo>
                  <a:pt x="2800" y="2756"/>
                </a:lnTo>
                <a:lnTo>
                  <a:pt x="2840" y="2735"/>
                </a:lnTo>
                <a:lnTo>
                  <a:pt x="2882" y="2714"/>
                </a:lnTo>
                <a:lnTo>
                  <a:pt x="2924" y="2697"/>
                </a:lnTo>
                <a:lnTo>
                  <a:pt x="2965" y="2680"/>
                </a:lnTo>
                <a:lnTo>
                  <a:pt x="3009" y="2666"/>
                </a:lnTo>
                <a:lnTo>
                  <a:pt x="2986" y="2646"/>
                </a:lnTo>
                <a:lnTo>
                  <a:pt x="2964" y="2626"/>
                </a:lnTo>
                <a:lnTo>
                  <a:pt x="2940" y="2609"/>
                </a:lnTo>
                <a:lnTo>
                  <a:pt x="2916" y="2591"/>
                </a:lnTo>
                <a:lnTo>
                  <a:pt x="2891" y="2575"/>
                </a:lnTo>
                <a:lnTo>
                  <a:pt x="2865" y="2558"/>
                </a:lnTo>
                <a:lnTo>
                  <a:pt x="2839" y="2544"/>
                </a:lnTo>
                <a:lnTo>
                  <a:pt x="2813" y="2530"/>
                </a:lnTo>
                <a:lnTo>
                  <a:pt x="2785" y="2516"/>
                </a:lnTo>
                <a:lnTo>
                  <a:pt x="2758" y="2503"/>
                </a:lnTo>
                <a:lnTo>
                  <a:pt x="2729" y="2492"/>
                </a:lnTo>
                <a:lnTo>
                  <a:pt x="2700" y="2481"/>
                </a:lnTo>
                <a:lnTo>
                  <a:pt x="2671" y="2471"/>
                </a:lnTo>
                <a:lnTo>
                  <a:pt x="2641" y="2462"/>
                </a:lnTo>
                <a:lnTo>
                  <a:pt x="2610" y="2455"/>
                </a:lnTo>
                <a:lnTo>
                  <a:pt x="2579" y="2448"/>
                </a:lnTo>
                <a:lnTo>
                  <a:pt x="2536" y="2442"/>
                </a:lnTo>
                <a:lnTo>
                  <a:pt x="2495" y="2436"/>
                </a:lnTo>
                <a:lnTo>
                  <a:pt x="2453" y="2433"/>
                </a:lnTo>
                <a:lnTo>
                  <a:pt x="2411" y="2432"/>
                </a:lnTo>
                <a:lnTo>
                  <a:pt x="2370" y="2433"/>
                </a:lnTo>
                <a:lnTo>
                  <a:pt x="2330" y="2435"/>
                </a:lnTo>
                <a:lnTo>
                  <a:pt x="2289" y="2440"/>
                </a:lnTo>
                <a:lnTo>
                  <a:pt x="2248" y="2446"/>
                </a:lnTo>
                <a:lnTo>
                  <a:pt x="2209" y="2455"/>
                </a:lnTo>
                <a:lnTo>
                  <a:pt x="2170" y="2465"/>
                </a:lnTo>
                <a:lnTo>
                  <a:pt x="2132" y="2476"/>
                </a:lnTo>
                <a:lnTo>
                  <a:pt x="2094" y="2489"/>
                </a:lnTo>
                <a:lnTo>
                  <a:pt x="2057" y="2504"/>
                </a:lnTo>
                <a:lnTo>
                  <a:pt x="2020" y="2521"/>
                </a:lnTo>
                <a:lnTo>
                  <a:pt x="1985" y="2539"/>
                </a:lnTo>
                <a:lnTo>
                  <a:pt x="1950" y="2558"/>
                </a:lnTo>
                <a:lnTo>
                  <a:pt x="1938" y="2531"/>
                </a:lnTo>
                <a:lnTo>
                  <a:pt x="1925" y="2502"/>
                </a:lnTo>
                <a:lnTo>
                  <a:pt x="1911" y="2475"/>
                </a:lnTo>
                <a:lnTo>
                  <a:pt x="1897" y="2448"/>
                </a:lnTo>
                <a:lnTo>
                  <a:pt x="1882" y="2421"/>
                </a:lnTo>
                <a:lnTo>
                  <a:pt x="1865" y="2395"/>
                </a:lnTo>
                <a:lnTo>
                  <a:pt x="1849" y="2369"/>
                </a:lnTo>
                <a:lnTo>
                  <a:pt x="1831" y="2344"/>
                </a:lnTo>
                <a:lnTo>
                  <a:pt x="1812" y="2319"/>
                </a:lnTo>
                <a:lnTo>
                  <a:pt x="1794" y="2295"/>
                </a:lnTo>
                <a:lnTo>
                  <a:pt x="1774" y="2272"/>
                </a:lnTo>
                <a:lnTo>
                  <a:pt x="1753" y="2249"/>
                </a:lnTo>
                <a:lnTo>
                  <a:pt x="1731" y="2227"/>
                </a:lnTo>
                <a:lnTo>
                  <a:pt x="1709" y="2205"/>
                </a:lnTo>
                <a:lnTo>
                  <a:pt x="1687" y="2184"/>
                </a:lnTo>
                <a:lnTo>
                  <a:pt x="1663" y="2164"/>
                </a:lnTo>
                <a:lnTo>
                  <a:pt x="1640" y="2145"/>
                </a:lnTo>
                <a:lnTo>
                  <a:pt x="1614" y="2126"/>
                </a:lnTo>
                <a:lnTo>
                  <a:pt x="1589" y="2108"/>
                </a:lnTo>
                <a:lnTo>
                  <a:pt x="1564" y="2091"/>
                </a:lnTo>
                <a:lnTo>
                  <a:pt x="1537" y="2074"/>
                </a:lnTo>
                <a:lnTo>
                  <a:pt x="1510" y="2058"/>
                </a:lnTo>
                <a:lnTo>
                  <a:pt x="1482" y="2043"/>
                </a:lnTo>
                <a:lnTo>
                  <a:pt x="1454" y="2029"/>
                </a:lnTo>
                <a:lnTo>
                  <a:pt x="1425" y="2016"/>
                </a:lnTo>
                <a:lnTo>
                  <a:pt x="1395" y="2003"/>
                </a:lnTo>
                <a:lnTo>
                  <a:pt x="1366" y="1992"/>
                </a:lnTo>
                <a:lnTo>
                  <a:pt x="1335" y="1981"/>
                </a:lnTo>
                <a:lnTo>
                  <a:pt x="1304" y="1971"/>
                </a:lnTo>
                <a:lnTo>
                  <a:pt x="1273" y="1962"/>
                </a:lnTo>
                <a:lnTo>
                  <a:pt x="1241" y="1954"/>
                </a:lnTo>
                <a:lnTo>
                  <a:pt x="1210" y="1948"/>
                </a:lnTo>
                <a:lnTo>
                  <a:pt x="1158" y="1939"/>
                </a:lnTo>
                <a:lnTo>
                  <a:pt x="1107" y="1933"/>
                </a:lnTo>
                <a:lnTo>
                  <a:pt x="1057" y="1930"/>
                </a:lnTo>
                <a:lnTo>
                  <a:pt x="1006" y="1929"/>
                </a:lnTo>
                <a:lnTo>
                  <a:pt x="955" y="1930"/>
                </a:lnTo>
                <a:lnTo>
                  <a:pt x="906" y="1934"/>
                </a:lnTo>
                <a:lnTo>
                  <a:pt x="857" y="1941"/>
                </a:lnTo>
                <a:lnTo>
                  <a:pt x="809" y="1950"/>
                </a:lnTo>
                <a:lnTo>
                  <a:pt x="761" y="1962"/>
                </a:lnTo>
                <a:lnTo>
                  <a:pt x="714" y="1975"/>
                </a:lnTo>
                <a:lnTo>
                  <a:pt x="668" y="1991"/>
                </a:lnTo>
                <a:lnTo>
                  <a:pt x="623" y="2009"/>
                </a:lnTo>
                <a:lnTo>
                  <a:pt x="579" y="2029"/>
                </a:lnTo>
                <a:lnTo>
                  <a:pt x="536" y="2051"/>
                </a:lnTo>
                <a:lnTo>
                  <a:pt x="493" y="2075"/>
                </a:lnTo>
                <a:lnTo>
                  <a:pt x="453" y="2101"/>
                </a:lnTo>
                <a:lnTo>
                  <a:pt x="414" y="2129"/>
                </a:lnTo>
                <a:lnTo>
                  <a:pt x="376" y="2159"/>
                </a:lnTo>
                <a:lnTo>
                  <a:pt x="339" y="2191"/>
                </a:lnTo>
                <a:lnTo>
                  <a:pt x="304" y="2224"/>
                </a:lnTo>
                <a:lnTo>
                  <a:pt x="270" y="2259"/>
                </a:lnTo>
                <a:lnTo>
                  <a:pt x="238" y="2295"/>
                </a:lnTo>
                <a:lnTo>
                  <a:pt x="208" y="2334"/>
                </a:lnTo>
                <a:lnTo>
                  <a:pt x="180" y="2374"/>
                </a:lnTo>
                <a:lnTo>
                  <a:pt x="153" y="2415"/>
                </a:lnTo>
                <a:lnTo>
                  <a:pt x="129" y="2458"/>
                </a:lnTo>
                <a:lnTo>
                  <a:pt x="106" y="2503"/>
                </a:lnTo>
                <a:lnTo>
                  <a:pt x="86" y="2548"/>
                </a:lnTo>
                <a:lnTo>
                  <a:pt x="67" y="2596"/>
                </a:lnTo>
                <a:lnTo>
                  <a:pt x="52" y="2644"/>
                </a:lnTo>
                <a:lnTo>
                  <a:pt x="38" y="2694"/>
                </a:lnTo>
                <a:lnTo>
                  <a:pt x="27" y="2744"/>
                </a:lnTo>
                <a:lnTo>
                  <a:pt x="17" y="2802"/>
                </a:lnTo>
                <a:lnTo>
                  <a:pt x="9" y="2860"/>
                </a:lnTo>
                <a:lnTo>
                  <a:pt x="4" y="2918"/>
                </a:lnTo>
                <a:lnTo>
                  <a:pt x="1" y="2974"/>
                </a:lnTo>
                <a:lnTo>
                  <a:pt x="0" y="3031"/>
                </a:lnTo>
                <a:lnTo>
                  <a:pt x="3" y="3087"/>
                </a:lnTo>
                <a:lnTo>
                  <a:pt x="6" y="3143"/>
                </a:lnTo>
                <a:lnTo>
                  <a:pt x="12" y="3198"/>
                </a:lnTo>
                <a:lnTo>
                  <a:pt x="20" y="3253"/>
                </a:lnTo>
                <a:lnTo>
                  <a:pt x="30" y="3307"/>
                </a:lnTo>
                <a:lnTo>
                  <a:pt x="41" y="3361"/>
                </a:lnTo>
                <a:lnTo>
                  <a:pt x="55" y="3415"/>
                </a:lnTo>
                <a:lnTo>
                  <a:pt x="70" y="3468"/>
                </a:lnTo>
                <a:lnTo>
                  <a:pt x="86" y="3520"/>
                </a:lnTo>
                <a:lnTo>
                  <a:pt x="105" y="3571"/>
                </a:lnTo>
                <a:lnTo>
                  <a:pt x="125" y="3622"/>
                </a:lnTo>
                <a:lnTo>
                  <a:pt x="146" y="3673"/>
                </a:lnTo>
                <a:lnTo>
                  <a:pt x="168" y="3722"/>
                </a:lnTo>
                <a:lnTo>
                  <a:pt x="192" y="3772"/>
                </a:lnTo>
                <a:lnTo>
                  <a:pt x="216" y="3820"/>
                </a:lnTo>
                <a:lnTo>
                  <a:pt x="242" y="3867"/>
                </a:lnTo>
                <a:lnTo>
                  <a:pt x="269" y="3915"/>
                </a:lnTo>
                <a:lnTo>
                  <a:pt x="297" y="3961"/>
                </a:lnTo>
                <a:lnTo>
                  <a:pt x="326" y="4006"/>
                </a:lnTo>
                <a:lnTo>
                  <a:pt x="355" y="4051"/>
                </a:lnTo>
                <a:lnTo>
                  <a:pt x="385" y="4095"/>
                </a:lnTo>
                <a:lnTo>
                  <a:pt x="416" y="4138"/>
                </a:lnTo>
                <a:lnTo>
                  <a:pt x="447" y="4180"/>
                </a:lnTo>
                <a:lnTo>
                  <a:pt x="479" y="4222"/>
                </a:lnTo>
                <a:lnTo>
                  <a:pt x="511" y="4262"/>
                </a:lnTo>
                <a:lnTo>
                  <a:pt x="544" y="4302"/>
                </a:lnTo>
                <a:lnTo>
                  <a:pt x="577" y="4340"/>
                </a:lnTo>
                <a:lnTo>
                  <a:pt x="610" y="4379"/>
                </a:lnTo>
                <a:lnTo>
                  <a:pt x="643" y="4415"/>
                </a:lnTo>
                <a:lnTo>
                  <a:pt x="709" y="4487"/>
                </a:lnTo>
                <a:lnTo>
                  <a:pt x="775" y="4554"/>
                </a:lnTo>
                <a:lnTo>
                  <a:pt x="839" y="4617"/>
                </a:lnTo>
                <a:lnTo>
                  <a:pt x="903" y="4676"/>
                </a:lnTo>
                <a:lnTo>
                  <a:pt x="963" y="4731"/>
                </a:lnTo>
                <a:lnTo>
                  <a:pt x="1020" y="4780"/>
                </a:lnTo>
                <a:lnTo>
                  <a:pt x="1074" y="4826"/>
                </a:lnTo>
                <a:lnTo>
                  <a:pt x="1125" y="4866"/>
                </a:lnTo>
                <a:lnTo>
                  <a:pt x="1170" y="4901"/>
                </a:lnTo>
                <a:lnTo>
                  <a:pt x="1210" y="4932"/>
                </a:lnTo>
                <a:lnTo>
                  <a:pt x="1244" y="4958"/>
                </a:lnTo>
                <a:lnTo>
                  <a:pt x="1292" y="4992"/>
                </a:lnTo>
                <a:lnTo>
                  <a:pt x="1309" y="5004"/>
                </a:lnTo>
                <a:lnTo>
                  <a:pt x="1338" y="4996"/>
                </a:lnTo>
                <a:lnTo>
                  <a:pt x="1373" y="4986"/>
                </a:lnTo>
                <a:lnTo>
                  <a:pt x="1421" y="4973"/>
                </a:lnTo>
                <a:lnTo>
                  <a:pt x="1479" y="4955"/>
                </a:lnTo>
                <a:lnTo>
                  <a:pt x="1547" y="4934"/>
                </a:lnTo>
                <a:lnTo>
                  <a:pt x="1623" y="4908"/>
                </a:lnTo>
                <a:lnTo>
                  <a:pt x="1708" y="4878"/>
                </a:lnTo>
                <a:lnTo>
                  <a:pt x="1799" y="4844"/>
                </a:lnTo>
                <a:lnTo>
                  <a:pt x="1896" y="4806"/>
                </a:lnTo>
                <a:lnTo>
                  <a:pt x="1946" y="4785"/>
                </a:lnTo>
                <a:lnTo>
                  <a:pt x="1997" y="4763"/>
                </a:lnTo>
                <a:lnTo>
                  <a:pt x="2049" y="4739"/>
                </a:lnTo>
                <a:lnTo>
                  <a:pt x="2101" y="4714"/>
                </a:lnTo>
                <a:lnTo>
                  <a:pt x="2154" y="4689"/>
                </a:lnTo>
                <a:lnTo>
                  <a:pt x="2207" y="4663"/>
                </a:lnTo>
                <a:lnTo>
                  <a:pt x="2261" y="4634"/>
                </a:lnTo>
                <a:lnTo>
                  <a:pt x="2315" y="4606"/>
                </a:lnTo>
                <a:lnTo>
                  <a:pt x="2368" y="4575"/>
                </a:lnTo>
                <a:lnTo>
                  <a:pt x="2422" y="4543"/>
                </a:lnTo>
                <a:lnTo>
                  <a:pt x="2476" y="4511"/>
                </a:lnTo>
                <a:lnTo>
                  <a:pt x="2529" y="4477"/>
                </a:lnTo>
                <a:lnTo>
                  <a:pt x="2506" y="4446"/>
                </a:lnTo>
                <a:lnTo>
                  <a:pt x="2484" y="4414"/>
                </a:lnTo>
                <a:lnTo>
                  <a:pt x="2462" y="4382"/>
                </a:lnTo>
                <a:lnTo>
                  <a:pt x="2442" y="4349"/>
                </a:lnTo>
                <a:lnTo>
                  <a:pt x="2422" y="4316"/>
                </a:lnTo>
                <a:lnTo>
                  <a:pt x="2403" y="4282"/>
                </a:lnTo>
                <a:lnTo>
                  <a:pt x="2385" y="4248"/>
                </a:lnTo>
                <a:lnTo>
                  <a:pt x="2368" y="4213"/>
                </a:lnTo>
                <a:lnTo>
                  <a:pt x="2353" y="4178"/>
                </a:lnTo>
                <a:lnTo>
                  <a:pt x="2337" y="4141"/>
                </a:lnTo>
                <a:lnTo>
                  <a:pt x="2323" y="4105"/>
                </a:lnTo>
                <a:lnTo>
                  <a:pt x="2310" y="4068"/>
                </a:lnTo>
                <a:lnTo>
                  <a:pt x="2299" y="4030"/>
                </a:lnTo>
                <a:lnTo>
                  <a:pt x="2288" y="3992"/>
                </a:lnTo>
                <a:lnTo>
                  <a:pt x="2278" y="3953"/>
                </a:lnTo>
                <a:lnTo>
                  <a:pt x="2270" y="3914"/>
                </a:lnTo>
                <a:lnTo>
                  <a:pt x="2265" y="3886"/>
                </a:lnTo>
                <a:lnTo>
                  <a:pt x="2260" y="3860"/>
                </a:lnTo>
                <a:lnTo>
                  <a:pt x="2257" y="3832"/>
                </a:lnTo>
                <a:lnTo>
                  <a:pt x="2255" y="3806"/>
                </a:lnTo>
                <a:lnTo>
                  <a:pt x="2250" y="3752"/>
                </a:lnTo>
                <a:lnTo>
                  <a:pt x="2249" y="3699"/>
                </a:lnTo>
                <a:lnTo>
                  <a:pt x="2250" y="3645"/>
                </a:lnTo>
                <a:lnTo>
                  <a:pt x="2255" y="3592"/>
                </a:lnTo>
                <a:lnTo>
                  <a:pt x="2261" y="3540"/>
                </a:lnTo>
                <a:lnTo>
                  <a:pt x="2271" y="3488"/>
                </a:lnTo>
                <a:lnTo>
                  <a:pt x="2282" y="3436"/>
                </a:lnTo>
                <a:lnTo>
                  <a:pt x="2297" y="3384"/>
                </a:lnTo>
                <a:lnTo>
                  <a:pt x="2314" y="3334"/>
                </a:lnTo>
                <a:lnTo>
                  <a:pt x="2333" y="3284"/>
                </a:lnTo>
                <a:lnTo>
                  <a:pt x="2355" y="3236"/>
                </a:lnTo>
                <a:lnTo>
                  <a:pt x="2379" y="3187"/>
                </a:lnTo>
                <a:lnTo>
                  <a:pt x="2392" y="3164"/>
                </a:lnTo>
                <a:lnTo>
                  <a:pt x="2407" y="3141"/>
                </a:lnTo>
                <a:lnTo>
                  <a:pt x="2421" y="3118"/>
                </a:lnTo>
                <a:lnTo>
                  <a:pt x="2435" y="3095"/>
                </a:lnTo>
                <a:close/>
                <a:moveTo>
                  <a:pt x="3250" y="1604"/>
                </a:moveTo>
                <a:lnTo>
                  <a:pt x="3250" y="1604"/>
                </a:lnTo>
                <a:lnTo>
                  <a:pt x="3255" y="1581"/>
                </a:lnTo>
                <a:lnTo>
                  <a:pt x="3261" y="1559"/>
                </a:lnTo>
                <a:lnTo>
                  <a:pt x="3270" y="1537"/>
                </a:lnTo>
                <a:lnTo>
                  <a:pt x="3281" y="1516"/>
                </a:lnTo>
                <a:lnTo>
                  <a:pt x="3294" y="1497"/>
                </a:lnTo>
                <a:lnTo>
                  <a:pt x="3309" y="1478"/>
                </a:lnTo>
                <a:lnTo>
                  <a:pt x="3325" y="1460"/>
                </a:lnTo>
                <a:lnTo>
                  <a:pt x="3343" y="1445"/>
                </a:lnTo>
                <a:lnTo>
                  <a:pt x="3363" y="1431"/>
                </a:lnTo>
                <a:lnTo>
                  <a:pt x="3385" y="1418"/>
                </a:lnTo>
                <a:lnTo>
                  <a:pt x="3408" y="1407"/>
                </a:lnTo>
                <a:lnTo>
                  <a:pt x="3432" y="1400"/>
                </a:lnTo>
                <a:lnTo>
                  <a:pt x="3445" y="1396"/>
                </a:lnTo>
                <a:lnTo>
                  <a:pt x="3458" y="1394"/>
                </a:lnTo>
                <a:lnTo>
                  <a:pt x="3472" y="1392"/>
                </a:lnTo>
                <a:lnTo>
                  <a:pt x="3486" y="1390"/>
                </a:lnTo>
                <a:lnTo>
                  <a:pt x="3500" y="1390"/>
                </a:lnTo>
                <a:lnTo>
                  <a:pt x="3515" y="1390"/>
                </a:lnTo>
                <a:lnTo>
                  <a:pt x="3530" y="1390"/>
                </a:lnTo>
                <a:lnTo>
                  <a:pt x="3545" y="1391"/>
                </a:lnTo>
                <a:lnTo>
                  <a:pt x="3565" y="1394"/>
                </a:lnTo>
                <a:lnTo>
                  <a:pt x="3585" y="1400"/>
                </a:lnTo>
                <a:lnTo>
                  <a:pt x="3604" y="1405"/>
                </a:lnTo>
                <a:lnTo>
                  <a:pt x="3622" y="1414"/>
                </a:lnTo>
                <a:lnTo>
                  <a:pt x="3641" y="1424"/>
                </a:lnTo>
                <a:lnTo>
                  <a:pt x="3658" y="1435"/>
                </a:lnTo>
                <a:lnTo>
                  <a:pt x="3674" y="1447"/>
                </a:lnTo>
                <a:lnTo>
                  <a:pt x="3689" y="1461"/>
                </a:lnTo>
                <a:lnTo>
                  <a:pt x="3704" y="1476"/>
                </a:lnTo>
                <a:lnTo>
                  <a:pt x="3717" y="1492"/>
                </a:lnTo>
                <a:lnTo>
                  <a:pt x="3729" y="1510"/>
                </a:lnTo>
                <a:lnTo>
                  <a:pt x="3740" y="1528"/>
                </a:lnTo>
                <a:lnTo>
                  <a:pt x="3750" y="1548"/>
                </a:lnTo>
                <a:lnTo>
                  <a:pt x="3758" y="1569"/>
                </a:lnTo>
                <a:lnTo>
                  <a:pt x="3765" y="1591"/>
                </a:lnTo>
                <a:lnTo>
                  <a:pt x="3770" y="1613"/>
                </a:lnTo>
                <a:lnTo>
                  <a:pt x="3773" y="1630"/>
                </a:lnTo>
                <a:lnTo>
                  <a:pt x="3775" y="1645"/>
                </a:lnTo>
                <a:lnTo>
                  <a:pt x="3777" y="1677"/>
                </a:lnTo>
                <a:lnTo>
                  <a:pt x="3777" y="1708"/>
                </a:lnTo>
                <a:lnTo>
                  <a:pt x="3774" y="1739"/>
                </a:lnTo>
                <a:lnTo>
                  <a:pt x="3770" y="1768"/>
                </a:lnTo>
                <a:lnTo>
                  <a:pt x="3762" y="1798"/>
                </a:lnTo>
                <a:lnTo>
                  <a:pt x="3753" y="1827"/>
                </a:lnTo>
                <a:lnTo>
                  <a:pt x="3743" y="1855"/>
                </a:lnTo>
                <a:lnTo>
                  <a:pt x="3731" y="1883"/>
                </a:lnTo>
                <a:lnTo>
                  <a:pt x="3718" y="1909"/>
                </a:lnTo>
                <a:lnTo>
                  <a:pt x="3704" y="1936"/>
                </a:lnTo>
                <a:lnTo>
                  <a:pt x="3688" y="1961"/>
                </a:lnTo>
                <a:lnTo>
                  <a:pt x="3672" y="1985"/>
                </a:lnTo>
                <a:lnTo>
                  <a:pt x="3654" y="2008"/>
                </a:lnTo>
                <a:lnTo>
                  <a:pt x="3637" y="2031"/>
                </a:lnTo>
                <a:lnTo>
                  <a:pt x="3619" y="2052"/>
                </a:lnTo>
                <a:lnTo>
                  <a:pt x="3600" y="2073"/>
                </a:lnTo>
                <a:lnTo>
                  <a:pt x="3583" y="2093"/>
                </a:lnTo>
                <a:lnTo>
                  <a:pt x="3546" y="2128"/>
                </a:lnTo>
                <a:lnTo>
                  <a:pt x="3512" y="2160"/>
                </a:lnTo>
                <a:lnTo>
                  <a:pt x="3481" y="2186"/>
                </a:lnTo>
                <a:lnTo>
                  <a:pt x="3456" y="2207"/>
                </a:lnTo>
                <a:lnTo>
                  <a:pt x="3435" y="2223"/>
                </a:lnTo>
                <a:lnTo>
                  <a:pt x="3418" y="2235"/>
                </a:lnTo>
                <a:lnTo>
                  <a:pt x="3398" y="2229"/>
                </a:lnTo>
                <a:lnTo>
                  <a:pt x="3375" y="2222"/>
                </a:lnTo>
                <a:lnTo>
                  <a:pt x="3344" y="2212"/>
                </a:lnTo>
                <a:lnTo>
                  <a:pt x="3308" y="2197"/>
                </a:lnTo>
                <a:lnTo>
                  <a:pt x="3267" y="2181"/>
                </a:lnTo>
                <a:lnTo>
                  <a:pt x="3223" y="2161"/>
                </a:lnTo>
                <a:lnTo>
                  <a:pt x="3176" y="2138"/>
                </a:lnTo>
                <a:lnTo>
                  <a:pt x="3153" y="2125"/>
                </a:lnTo>
                <a:lnTo>
                  <a:pt x="3128" y="2110"/>
                </a:lnTo>
                <a:lnTo>
                  <a:pt x="3105" y="2096"/>
                </a:lnTo>
                <a:lnTo>
                  <a:pt x="3081" y="2081"/>
                </a:lnTo>
                <a:lnTo>
                  <a:pt x="3058" y="2064"/>
                </a:lnTo>
                <a:lnTo>
                  <a:pt x="3036" y="2047"/>
                </a:lnTo>
                <a:lnTo>
                  <a:pt x="3014" y="2028"/>
                </a:lnTo>
                <a:lnTo>
                  <a:pt x="2993" y="2009"/>
                </a:lnTo>
                <a:lnTo>
                  <a:pt x="2973" y="1988"/>
                </a:lnTo>
                <a:lnTo>
                  <a:pt x="2954" y="1967"/>
                </a:lnTo>
                <a:lnTo>
                  <a:pt x="2937" y="1945"/>
                </a:lnTo>
                <a:lnTo>
                  <a:pt x="2920" y="1922"/>
                </a:lnTo>
                <a:lnTo>
                  <a:pt x="2906" y="1899"/>
                </a:lnTo>
                <a:lnTo>
                  <a:pt x="2893" y="1874"/>
                </a:lnTo>
                <a:lnTo>
                  <a:pt x="2882" y="1848"/>
                </a:lnTo>
                <a:lnTo>
                  <a:pt x="2873" y="1821"/>
                </a:lnTo>
                <a:lnTo>
                  <a:pt x="2869" y="1802"/>
                </a:lnTo>
                <a:lnTo>
                  <a:pt x="2866" y="1785"/>
                </a:lnTo>
                <a:lnTo>
                  <a:pt x="2864" y="1767"/>
                </a:lnTo>
                <a:lnTo>
                  <a:pt x="2864" y="1748"/>
                </a:lnTo>
                <a:lnTo>
                  <a:pt x="2865" y="1731"/>
                </a:lnTo>
                <a:lnTo>
                  <a:pt x="2869" y="1713"/>
                </a:lnTo>
                <a:lnTo>
                  <a:pt x="2873" y="1697"/>
                </a:lnTo>
                <a:lnTo>
                  <a:pt x="2877" y="1679"/>
                </a:lnTo>
                <a:lnTo>
                  <a:pt x="2884" y="1664"/>
                </a:lnTo>
                <a:lnTo>
                  <a:pt x="2893" y="1647"/>
                </a:lnTo>
                <a:lnTo>
                  <a:pt x="2902" y="1633"/>
                </a:lnTo>
                <a:lnTo>
                  <a:pt x="2913" y="1618"/>
                </a:lnTo>
                <a:lnTo>
                  <a:pt x="2924" y="1604"/>
                </a:lnTo>
                <a:lnTo>
                  <a:pt x="2937" y="1591"/>
                </a:lnTo>
                <a:lnTo>
                  <a:pt x="2951" y="1579"/>
                </a:lnTo>
                <a:lnTo>
                  <a:pt x="2967" y="1568"/>
                </a:lnTo>
                <a:lnTo>
                  <a:pt x="2985" y="1557"/>
                </a:lnTo>
                <a:lnTo>
                  <a:pt x="3004" y="1548"/>
                </a:lnTo>
                <a:lnTo>
                  <a:pt x="3024" y="1542"/>
                </a:lnTo>
                <a:lnTo>
                  <a:pt x="3044" y="1536"/>
                </a:lnTo>
                <a:lnTo>
                  <a:pt x="3063" y="1534"/>
                </a:lnTo>
                <a:lnTo>
                  <a:pt x="3083" y="1533"/>
                </a:lnTo>
                <a:lnTo>
                  <a:pt x="3103" y="1534"/>
                </a:lnTo>
                <a:lnTo>
                  <a:pt x="3123" y="1537"/>
                </a:lnTo>
                <a:lnTo>
                  <a:pt x="3142" y="1541"/>
                </a:lnTo>
                <a:lnTo>
                  <a:pt x="3160" y="1547"/>
                </a:lnTo>
                <a:lnTo>
                  <a:pt x="3178" y="1554"/>
                </a:lnTo>
                <a:lnTo>
                  <a:pt x="3195" y="1561"/>
                </a:lnTo>
                <a:lnTo>
                  <a:pt x="3211" y="1571"/>
                </a:lnTo>
                <a:lnTo>
                  <a:pt x="3225" y="1581"/>
                </a:lnTo>
                <a:lnTo>
                  <a:pt x="3238" y="1592"/>
                </a:lnTo>
                <a:lnTo>
                  <a:pt x="3250" y="1604"/>
                </a:lnTo>
                <a:close/>
                <a:moveTo>
                  <a:pt x="2345" y="1525"/>
                </a:moveTo>
                <a:lnTo>
                  <a:pt x="2345" y="1525"/>
                </a:lnTo>
                <a:lnTo>
                  <a:pt x="2361" y="1521"/>
                </a:lnTo>
                <a:lnTo>
                  <a:pt x="2403" y="1506"/>
                </a:lnTo>
                <a:lnTo>
                  <a:pt x="2432" y="1495"/>
                </a:lnTo>
                <a:lnTo>
                  <a:pt x="2464" y="1482"/>
                </a:lnTo>
                <a:lnTo>
                  <a:pt x="2499" y="1467"/>
                </a:lnTo>
                <a:lnTo>
                  <a:pt x="2535" y="1448"/>
                </a:lnTo>
                <a:lnTo>
                  <a:pt x="2573" y="1427"/>
                </a:lnTo>
                <a:lnTo>
                  <a:pt x="2591" y="1415"/>
                </a:lnTo>
                <a:lnTo>
                  <a:pt x="2610" y="1403"/>
                </a:lnTo>
                <a:lnTo>
                  <a:pt x="2629" y="1390"/>
                </a:lnTo>
                <a:lnTo>
                  <a:pt x="2646" y="1377"/>
                </a:lnTo>
                <a:lnTo>
                  <a:pt x="2663" y="1362"/>
                </a:lnTo>
                <a:lnTo>
                  <a:pt x="2679" y="1347"/>
                </a:lnTo>
                <a:lnTo>
                  <a:pt x="2696" y="1332"/>
                </a:lnTo>
                <a:lnTo>
                  <a:pt x="2710" y="1315"/>
                </a:lnTo>
                <a:lnTo>
                  <a:pt x="2725" y="1297"/>
                </a:lnTo>
                <a:lnTo>
                  <a:pt x="2737" y="1279"/>
                </a:lnTo>
                <a:lnTo>
                  <a:pt x="2749" y="1260"/>
                </a:lnTo>
                <a:lnTo>
                  <a:pt x="2759" y="1240"/>
                </a:lnTo>
                <a:lnTo>
                  <a:pt x="2767" y="1220"/>
                </a:lnTo>
                <a:lnTo>
                  <a:pt x="2774" y="1200"/>
                </a:lnTo>
                <a:lnTo>
                  <a:pt x="2777" y="1185"/>
                </a:lnTo>
                <a:lnTo>
                  <a:pt x="2780" y="1171"/>
                </a:lnTo>
                <a:lnTo>
                  <a:pt x="2781" y="1157"/>
                </a:lnTo>
                <a:lnTo>
                  <a:pt x="2781" y="1142"/>
                </a:lnTo>
                <a:lnTo>
                  <a:pt x="2780" y="1128"/>
                </a:lnTo>
                <a:lnTo>
                  <a:pt x="2778" y="1115"/>
                </a:lnTo>
                <a:lnTo>
                  <a:pt x="2775" y="1101"/>
                </a:lnTo>
                <a:lnTo>
                  <a:pt x="2771" y="1087"/>
                </a:lnTo>
                <a:lnTo>
                  <a:pt x="2765" y="1075"/>
                </a:lnTo>
                <a:lnTo>
                  <a:pt x="2759" y="1062"/>
                </a:lnTo>
                <a:lnTo>
                  <a:pt x="2752" y="1051"/>
                </a:lnTo>
                <a:lnTo>
                  <a:pt x="2743" y="1039"/>
                </a:lnTo>
                <a:lnTo>
                  <a:pt x="2734" y="1028"/>
                </a:lnTo>
                <a:lnTo>
                  <a:pt x="2725" y="1018"/>
                </a:lnTo>
                <a:lnTo>
                  <a:pt x="2712" y="1008"/>
                </a:lnTo>
                <a:lnTo>
                  <a:pt x="2700" y="999"/>
                </a:lnTo>
                <a:lnTo>
                  <a:pt x="2686" y="990"/>
                </a:lnTo>
                <a:lnTo>
                  <a:pt x="2672" y="984"/>
                </a:lnTo>
                <a:lnTo>
                  <a:pt x="2656" y="978"/>
                </a:lnTo>
                <a:lnTo>
                  <a:pt x="2641" y="975"/>
                </a:lnTo>
                <a:lnTo>
                  <a:pt x="2624" y="973"/>
                </a:lnTo>
                <a:lnTo>
                  <a:pt x="2609" y="973"/>
                </a:lnTo>
                <a:lnTo>
                  <a:pt x="2594" y="973"/>
                </a:lnTo>
                <a:lnTo>
                  <a:pt x="2578" y="975"/>
                </a:lnTo>
                <a:lnTo>
                  <a:pt x="2563" y="978"/>
                </a:lnTo>
                <a:lnTo>
                  <a:pt x="2548" y="983"/>
                </a:lnTo>
                <a:lnTo>
                  <a:pt x="2534" y="988"/>
                </a:lnTo>
                <a:lnTo>
                  <a:pt x="2521" y="995"/>
                </a:lnTo>
                <a:lnTo>
                  <a:pt x="2509" y="1003"/>
                </a:lnTo>
                <a:lnTo>
                  <a:pt x="2497" y="1010"/>
                </a:lnTo>
                <a:lnTo>
                  <a:pt x="2487" y="1019"/>
                </a:lnTo>
                <a:lnTo>
                  <a:pt x="2477" y="1029"/>
                </a:lnTo>
                <a:lnTo>
                  <a:pt x="2474" y="1010"/>
                </a:lnTo>
                <a:lnTo>
                  <a:pt x="2468" y="993"/>
                </a:lnTo>
                <a:lnTo>
                  <a:pt x="2462" y="975"/>
                </a:lnTo>
                <a:lnTo>
                  <a:pt x="2453" y="959"/>
                </a:lnTo>
                <a:lnTo>
                  <a:pt x="2443" y="943"/>
                </a:lnTo>
                <a:lnTo>
                  <a:pt x="2432" y="929"/>
                </a:lnTo>
                <a:lnTo>
                  <a:pt x="2419" y="915"/>
                </a:lnTo>
                <a:lnTo>
                  <a:pt x="2404" y="902"/>
                </a:lnTo>
                <a:lnTo>
                  <a:pt x="2389" y="891"/>
                </a:lnTo>
                <a:lnTo>
                  <a:pt x="2371" y="882"/>
                </a:lnTo>
                <a:lnTo>
                  <a:pt x="2354" y="874"/>
                </a:lnTo>
                <a:lnTo>
                  <a:pt x="2334" y="867"/>
                </a:lnTo>
                <a:lnTo>
                  <a:pt x="2313" y="863"/>
                </a:lnTo>
                <a:lnTo>
                  <a:pt x="2292" y="860"/>
                </a:lnTo>
                <a:lnTo>
                  <a:pt x="2269" y="858"/>
                </a:lnTo>
                <a:lnTo>
                  <a:pt x="2245" y="861"/>
                </a:lnTo>
                <a:lnTo>
                  <a:pt x="2229" y="863"/>
                </a:lnTo>
                <a:lnTo>
                  <a:pt x="2214" y="866"/>
                </a:lnTo>
                <a:lnTo>
                  <a:pt x="2199" y="872"/>
                </a:lnTo>
                <a:lnTo>
                  <a:pt x="2183" y="878"/>
                </a:lnTo>
                <a:lnTo>
                  <a:pt x="2170" y="886"/>
                </a:lnTo>
                <a:lnTo>
                  <a:pt x="2156" y="895"/>
                </a:lnTo>
                <a:lnTo>
                  <a:pt x="2144" y="905"/>
                </a:lnTo>
                <a:lnTo>
                  <a:pt x="2132" y="916"/>
                </a:lnTo>
                <a:lnTo>
                  <a:pt x="2119" y="928"/>
                </a:lnTo>
                <a:lnTo>
                  <a:pt x="2110" y="940"/>
                </a:lnTo>
                <a:lnTo>
                  <a:pt x="2100" y="954"/>
                </a:lnTo>
                <a:lnTo>
                  <a:pt x="2091" y="968"/>
                </a:lnTo>
                <a:lnTo>
                  <a:pt x="2083" y="985"/>
                </a:lnTo>
                <a:lnTo>
                  <a:pt x="2078" y="1000"/>
                </a:lnTo>
                <a:lnTo>
                  <a:pt x="2072" y="1018"/>
                </a:lnTo>
                <a:lnTo>
                  <a:pt x="2068" y="1036"/>
                </a:lnTo>
                <a:lnTo>
                  <a:pt x="2063" y="1061"/>
                </a:lnTo>
                <a:lnTo>
                  <a:pt x="2062" y="1085"/>
                </a:lnTo>
                <a:lnTo>
                  <a:pt x="2062" y="1110"/>
                </a:lnTo>
                <a:lnTo>
                  <a:pt x="2064" y="1134"/>
                </a:lnTo>
                <a:lnTo>
                  <a:pt x="2068" y="1158"/>
                </a:lnTo>
                <a:lnTo>
                  <a:pt x="2073" y="1181"/>
                </a:lnTo>
                <a:lnTo>
                  <a:pt x="2081" y="1204"/>
                </a:lnTo>
                <a:lnTo>
                  <a:pt x="2089" y="1226"/>
                </a:lnTo>
                <a:lnTo>
                  <a:pt x="2099" y="1248"/>
                </a:lnTo>
                <a:lnTo>
                  <a:pt x="2108" y="1269"/>
                </a:lnTo>
                <a:lnTo>
                  <a:pt x="2121" y="1289"/>
                </a:lnTo>
                <a:lnTo>
                  <a:pt x="2133" y="1310"/>
                </a:lnTo>
                <a:lnTo>
                  <a:pt x="2145" y="1328"/>
                </a:lnTo>
                <a:lnTo>
                  <a:pt x="2159" y="1347"/>
                </a:lnTo>
                <a:lnTo>
                  <a:pt x="2172" y="1365"/>
                </a:lnTo>
                <a:lnTo>
                  <a:pt x="2187" y="1381"/>
                </a:lnTo>
                <a:lnTo>
                  <a:pt x="2215" y="1413"/>
                </a:lnTo>
                <a:lnTo>
                  <a:pt x="2244" y="1442"/>
                </a:lnTo>
                <a:lnTo>
                  <a:pt x="2270" y="1466"/>
                </a:lnTo>
                <a:lnTo>
                  <a:pt x="2294" y="1487"/>
                </a:lnTo>
                <a:lnTo>
                  <a:pt x="2315" y="1503"/>
                </a:lnTo>
                <a:lnTo>
                  <a:pt x="2331" y="1515"/>
                </a:lnTo>
                <a:lnTo>
                  <a:pt x="2345" y="1525"/>
                </a:lnTo>
                <a:close/>
                <a:moveTo>
                  <a:pt x="5448" y="3187"/>
                </a:moveTo>
                <a:lnTo>
                  <a:pt x="5448" y="3187"/>
                </a:lnTo>
                <a:lnTo>
                  <a:pt x="5438" y="3142"/>
                </a:lnTo>
                <a:lnTo>
                  <a:pt x="5426" y="3098"/>
                </a:lnTo>
                <a:lnTo>
                  <a:pt x="5411" y="3057"/>
                </a:lnTo>
                <a:lnTo>
                  <a:pt x="5395" y="3015"/>
                </a:lnTo>
                <a:lnTo>
                  <a:pt x="5377" y="2974"/>
                </a:lnTo>
                <a:lnTo>
                  <a:pt x="5357" y="2934"/>
                </a:lnTo>
                <a:lnTo>
                  <a:pt x="5335" y="2897"/>
                </a:lnTo>
                <a:lnTo>
                  <a:pt x="5312" y="2860"/>
                </a:lnTo>
                <a:lnTo>
                  <a:pt x="5287" y="2824"/>
                </a:lnTo>
                <a:lnTo>
                  <a:pt x="5261" y="2790"/>
                </a:lnTo>
                <a:lnTo>
                  <a:pt x="5232" y="2758"/>
                </a:lnTo>
                <a:lnTo>
                  <a:pt x="5202" y="2728"/>
                </a:lnTo>
                <a:lnTo>
                  <a:pt x="5171" y="2698"/>
                </a:lnTo>
                <a:lnTo>
                  <a:pt x="5138" y="2669"/>
                </a:lnTo>
                <a:lnTo>
                  <a:pt x="5105" y="2643"/>
                </a:lnTo>
                <a:lnTo>
                  <a:pt x="5070" y="2619"/>
                </a:lnTo>
                <a:lnTo>
                  <a:pt x="5034" y="2596"/>
                </a:lnTo>
                <a:lnTo>
                  <a:pt x="4998" y="2574"/>
                </a:lnTo>
                <a:lnTo>
                  <a:pt x="4959" y="2555"/>
                </a:lnTo>
                <a:lnTo>
                  <a:pt x="4919" y="2537"/>
                </a:lnTo>
                <a:lnTo>
                  <a:pt x="4880" y="2521"/>
                </a:lnTo>
                <a:lnTo>
                  <a:pt x="4839" y="2506"/>
                </a:lnTo>
                <a:lnTo>
                  <a:pt x="4797" y="2495"/>
                </a:lnTo>
                <a:lnTo>
                  <a:pt x="4756" y="2486"/>
                </a:lnTo>
                <a:lnTo>
                  <a:pt x="4713" y="2477"/>
                </a:lnTo>
                <a:lnTo>
                  <a:pt x="4670" y="2471"/>
                </a:lnTo>
                <a:lnTo>
                  <a:pt x="4626" y="2468"/>
                </a:lnTo>
                <a:lnTo>
                  <a:pt x="4581" y="2466"/>
                </a:lnTo>
                <a:lnTo>
                  <a:pt x="4537" y="2467"/>
                </a:lnTo>
                <a:lnTo>
                  <a:pt x="4492" y="2470"/>
                </a:lnTo>
                <a:lnTo>
                  <a:pt x="4446" y="2476"/>
                </a:lnTo>
                <a:lnTo>
                  <a:pt x="4401" y="2483"/>
                </a:lnTo>
                <a:lnTo>
                  <a:pt x="4373" y="2489"/>
                </a:lnTo>
                <a:lnTo>
                  <a:pt x="4344" y="2495"/>
                </a:lnTo>
                <a:lnTo>
                  <a:pt x="4317" y="2503"/>
                </a:lnTo>
                <a:lnTo>
                  <a:pt x="4289" y="2512"/>
                </a:lnTo>
                <a:lnTo>
                  <a:pt x="4263" y="2522"/>
                </a:lnTo>
                <a:lnTo>
                  <a:pt x="4236" y="2532"/>
                </a:lnTo>
                <a:lnTo>
                  <a:pt x="4210" y="2543"/>
                </a:lnTo>
                <a:lnTo>
                  <a:pt x="4185" y="2555"/>
                </a:lnTo>
                <a:lnTo>
                  <a:pt x="4159" y="2567"/>
                </a:lnTo>
                <a:lnTo>
                  <a:pt x="4135" y="2580"/>
                </a:lnTo>
                <a:lnTo>
                  <a:pt x="4111" y="2594"/>
                </a:lnTo>
                <a:lnTo>
                  <a:pt x="4088" y="2609"/>
                </a:lnTo>
                <a:lnTo>
                  <a:pt x="4065" y="2624"/>
                </a:lnTo>
                <a:lnTo>
                  <a:pt x="4043" y="2641"/>
                </a:lnTo>
                <a:lnTo>
                  <a:pt x="4021" y="2657"/>
                </a:lnTo>
                <a:lnTo>
                  <a:pt x="3999" y="2675"/>
                </a:lnTo>
                <a:lnTo>
                  <a:pt x="3979" y="2692"/>
                </a:lnTo>
                <a:lnTo>
                  <a:pt x="3958" y="2711"/>
                </a:lnTo>
                <a:lnTo>
                  <a:pt x="3939" y="2730"/>
                </a:lnTo>
                <a:lnTo>
                  <a:pt x="3920" y="2750"/>
                </a:lnTo>
                <a:lnTo>
                  <a:pt x="3902" y="2769"/>
                </a:lnTo>
                <a:lnTo>
                  <a:pt x="3884" y="2790"/>
                </a:lnTo>
                <a:lnTo>
                  <a:pt x="3868" y="2812"/>
                </a:lnTo>
                <a:lnTo>
                  <a:pt x="3851" y="2833"/>
                </a:lnTo>
                <a:lnTo>
                  <a:pt x="3835" y="2856"/>
                </a:lnTo>
                <a:lnTo>
                  <a:pt x="3820" y="2878"/>
                </a:lnTo>
                <a:lnTo>
                  <a:pt x="3806" y="2901"/>
                </a:lnTo>
                <a:lnTo>
                  <a:pt x="3793" y="2926"/>
                </a:lnTo>
                <a:lnTo>
                  <a:pt x="3780" y="2949"/>
                </a:lnTo>
                <a:lnTo>
                  <a:pt x="3768" y="2974"/>
                </a:lnTo>
                <a:lnTo>
                  <a:pt x="3757" y="2998"/>
                </a:lnTo>
                <a:lnTo>
                  <a:pt x="3746" y="3024"/>
                </a:lnTo>
                <a:lnTo>
                  <a:pt x="3715" y="3006"/>
                </a:lnTo>
                <a:lnTo>
                  <a:pt x="3683" y="2991"/>
                </a:lnTo>
                <a:lnTo>
                  <a:pt x="3651" y="2975"/>
                </a:lnTo>
                <a:lnTo>
                  <a:pt x="3618" y="2962"/>
                </a:lnTo>
                <a:lnTo>
                  <a:pt x="3585" y="2950"/>
                </a:lnTo>
                <a:lnTo>
                  <a:pt x="3551" y="2940"/>
                </a:lnTo>
                <a:lnTo>
                  <a:pt x="3517" y="2931"/>
                </a:lnTo>
                <a:lnTo>
                  <a:pt x="3481" y="2925"/>
                </a:lnTo>
                <a:lnTo>
                  <a:pt x="3445" y="2918"/>
                </a:lnTo>
                <a:lnTo>
                  <a:pt x="3410" y="2915"/>
                </a:lnTo>
                <a:lnTo>
                  <a:pt x="3374" y="2912"/>
                </a:lnTo>
                <a:lnTo>
                  <a:pt x="3337" y="2911"/>
                </a:lnTo>
                <a:lnTo>
                  <a:pt x="3300" y="2912"/>
                </a:lnTo>
                <a:lnTo>
                  <a:pt x="3264" y="2915"/>
                </a:lnTo>
                <a:lnTo>
                  <a:pt x="3226" y="2920"/>
                </a:lnTo>
                <a:lnTo>
                  <a:pt x="3189" y="2926"/>
                </a:lnTo>
                <a:lnTo>
                  <a:pt x="3149" y="2934"/>
                </a:lnTo>
                <a:lnTo>
                  <a:pt x="3110" y="2945"/>
                </a:lnTo>
                <a:lnTo>
                  <a:pt x="3072" y="2958"/>
                </a:lnTo>
                <a:lnTo>
                  <a:pt x="3035" y="2972"/>
                </a:lnTo>
                <a:lnTo>
                  <a:pt x="2998" y="2988"/>
                </a:lnTo>
                <a:lnTo>
                  <a:pt x="2964" y="3006"/>
                </a:lnTo>
                <a:lnTo>
                  <a:pt x="2930" y="3026"/>
                </a:lnTo>
                <a:lnTo>
                  <a:pt x="2897" y="3047"/>
                </a:lnTo>
                <a:lnTo>
                  <a:pt x="2866" y="3069"/>
                </a:lnTo>
                <a:lnTo>
                  <a:pt x="2836" y="3092"/>
                </a:lnTo>
                <a:lnTo>
                  <a:pt x="2807" y="3117"/>
                </a:lnTo>
                <a:lnTo>
                  <a:pt x="2780" y="3143"/>
                </a:lnTo>
                <a:lnTo>
                  <a:pt x="2753" y="3171"/>
                </a:lnTo>
                <a:lnTo>
                  <a:pt x="2728" y="3201"/>
                </a:lnTo>
                <a:lnTo>
                  <a:pt x="2705" y="3230"/>
                </a:lnTo>
                <a:lnTo>
                  <a:pt x="2683" y="3261"/>
                </a:lnTo>
                <a:lnTo>
                  <a:pt x="2662" y="3293"/>
                </a:lnTo>
                <a:lnTo>
                  <a:pt x="2643" y="3326"/>
                </a:lnTo>
                <a:lnTo>
                  <a:pt x="2626" y="3360"/>
                </a:lnTo>
                <a:lnTo>
                  <a:pt x="2610" y="3395"/>
                </a:lnTo>
                <a:lnTo>
                  <a:pt x="2596" y="3431"/>
                </a:lnTo>
                <a:lnTo>
                  <a:pt x="2584" y="3467"/>
                </a:lnTo>
                <a:lnTo>
                  <a:pt x="2573" y="3503"/>
                </a:lnTo>
                <a:lnTo>
                  <a:pt x="2564" y="3542"/>
                </a:lnTo>
                <a:lnTo>
                  <a:pt x="2557" y="3579"/>
                </a:lnTo>
                <a:lnTo>
                  <a:pt x="2552" y="3618"/>
                </a:lnTo>
                <a:lnTo>
                  <a:pt x="2548" y="3657"/>
                </a:lnTo>
                <a:lnTo>
                  <a:pt x="2547" y="3696"/>
                </a:lnTo>
                <a:lnTo>
                  <a:pt x="2548" y="3735"/>
                </a:lnTo>
                <a:lnTo>
                  <a:pt x="2551" y="3776"/>
                </a:lnTo>
                <a:lnTo>
                  <a:pt x="2555" y="3816"/>
                </a:lnTo>
                <a:lnTo>
                  <a:pt x="2563" y="3856"/>
                </a:lnTo>
                <a:lnTo>
                  <a:pt x="2572" y="3900"/>
                </a:lnTo>
                <a:lnTo>
                  <a:pt x="2584" y="3944"/>
                </a:lnTo>
                <a:lnTo>
                  <a:pt x="2597" y="3987"/>
                </a:lnTo>
                <a:lnTo>
                  <a:pt x="2612" y="4029"/>
                </a:lnTo>
                <a:lnTo>
                  <a:pt x="2630" y="4070"/>
                </a:lnTo>
                <a:lnTo>
                  <a:pt x="2649" y="4110"/>
                </a:lnTo>
                <a:lnTo>
                  <a:pt x="2670" y="4149"/>
                </a:lnTo>
                <a:lnTo>
                  <a:pt x="2692" y="4189"/>
                </a:lnTo>
                <a:lnTo>
                  <a:pt x="2715" y="4226"/>
                </a:lnTo>
                <a:lnTo>
                  <a:pt x="2740" y="4262"/>
                </a:lnTo>
                <a:lnTo>
                  <a:pt x="2765" y="4299"/>
                </a:lnTo>
                <a:lnTo>
                  <a:pt x="2793" y="4334"/>
                </a:lnTo>
                <a:lnTo>
                  <a:pt x="2821" y="4369"/>
                </a:lnTo>
                <a:lnTo>
                  <a:pt x="2852" y="4403"/>
                </a:lnTo>
                <a:lnTo>
                  <a:pt x="2883" y="4436"/>
                </a:lnTo>
                <a:lnTo>
                  <a:pt x="2915" y="4468"/>
                </a:lnTo>
                <a:lnTo>
                  <a:pt x="2948" y="4499"/>
                </a:lnTo>
                <a:lnTo>
                  <a:pt x="2981" y="4530"/>
                </a:lnTo>
                <a:lnTo>
                  <a:pt x="3016" y="4559"/>
                </a:lnTo>
                <a:lnTo>
                  <a:pt x="3051" y="4589"/>
                </a:lnTo>
                <a:lnTo>
                  <a:pt x="3087" y="4618"/>
                </a:lnTo>
                <a:lnTo>
                  <a:pt x="3124" y="4645"/>
                </a:lnTo>
                <a:lnTo>
                  <a:pt x="3160" y="4672"/>
                </a:lnTo>
                <a:lnTo>
                  <a:pt x="3199" y="4698"/>
                </a:lnTo>
                <a:lnTo>
                  <a:pt x="3236" y="4723"/>
                </a:lnTo>
                <a:lnTo>
                  <a:pt x="3275" y="4747"/>
                </a:lnTo>
                <a:lnTo>
                  <a:pt x="3313" y="4772"/>
                </a:lnTo>
                <a:lnTo>
                  <a:pt x="3352" y="4795"/>
                </a:lnTo>
                <a:lnTo>
                  <a:pt x="3391" y="4818"/>
                </a:lnTo>
                <a:lnTo>
                  <a:pt x="3430" y="4839"/>
                </a:lnTo>
                <a:lnTo>
                  <a:pt x="3508" y="4881"/>
                </a:lnTo>
                <a:lnTo>
                  <a:pt x="3585" y="4919"/>
                </a:lnTo>
                <a:lnTo>
                  <a:pt x="3661" y="4955"/>
                </a:lnTo>
                <a:lnTo>
                  <a:pt x="3736" y="4988"/>
                </a:lnTo>
                <a:lnTo>
                  <a:pt x="3808" y="5018"/>
                </a:lnTo>
                <a:lnTo>
                  <a:pt x="3878" y="5047"/>
                </a:lnTo>
                <a:lnTo>
                  <a:pt x="3945" y="5071"/>
                </a:lnTo>
                <a:lnTo>
                  <a:pt x="4007" y="5094"/>
                </a:lnTo>
                <a:lnTo>
                  <a:pt x="4066" y="5114"/>
                </a:lnTo>
                <a:lnTo>
                  <a:pt x="4120" y="5131"/>
                </a:lnTo>
                <a:lnTo>
                  <a:pt x="4167" y="5147"/>
                </a:lnTo>
                <a:lnTo>
                  <a:pt x="4245" y="5169"/>
                </a:lnTo>
                <a:lnTo>
                  <a:pt x="4296" y="5183"/>
                </a:lnTo>
                <a:lnTo>
                  <a:pt x="4313" y="5188"/>
                </a:lnTo>
                <a:lnTo>
                  <a:pt x="4328" y="5177"/>
                </a:lnTo>
                <a:lnTo>
                  <a:pt x="4370" y="5147"/>
                </a:lnTo>
                <a:lnTo>
                  <a:pt x="4436" y="5097"/>
                </a:lnTo>
                <a:lnTo>
                  <a:pt x="4476" y="5065"/>
                </a:lnTo>
                <a:lnTo>
                  <a:pt x="4520" y="5030"/>
                </a:lnTo>
                <a:lnTo>
                  <a:pt x="4569" y="4989"/>
                </a:lnTo>
                <a:lnTo>
                  <a:pt x="4619" y="4945"/>
                </a:lnTo>
                <a:lnTo>
                  <a:pt x="4673" y="4897"/>
                </a:lnTo>
                <a:lnTo>
                  <a:pt x="4728" y="4845"/>
                </a:lnTo>
                <a:lnTo>
                  <a:pt x="4785" y="4789"/>
                </a:lnTo>
                <a:lnTo>
                  <a:pt x="4844" y="4730"/>
                </a:lnTo>
                <a:lnTo>
                  <a:pt x="4902" y="4667"/>
                </a:lnTo>
                <a:lnTo>
                  <a:pt x="4961" y="4601"/>
                </a:lnTo>
                <a:lnTo>
                  <a:pt x="4990" y="4566"/>
                </a:lnTo>
                <a:lnTo>
                  <a:pt x="5019" y="4531"/>
                </a:lnTo>
                <a:lnTo>
                  <a:pt x="5047" y="4496"/>
                </a:lnTo>
                <a:lnTo>
                  <a:pt x="5076" y="4458"/>
                </a:lnTo>
                <a:lnTo>
                  <a:pt x="5103" y="4421"/>
                </a:lnTo>
                <a:lnTo>
                  <a:pt x="5131" y="4383"/>
                </a:lnTo>
                <a:lnTo>
                  <a:pt x="5157" y="4344"/>
                </a:lnTo>
                <a:lnTo>
                  <a:pt x="5184" y="4304"/>
                </a:lnTo>
                <a:lnTo>
                  <a:pt x="5209" y="4264"/>
                </a:lnTo>
                <a:lnTo>
                  <a:pt x="5233" y="4224"/>
                </a:lnTo>
                <a:lnTo>
                  <a:pt x="5257" y="4182"/>
                </a:lnTo>
                <a:lnTo>
                  <a:pt x="5279" y="4139"/>
                </a:lnTo>
                <a:lnTo>
                  <a:pt x="5301" y="4097"/>
                </a:lnTo>
                <a:lnTo>
                  <a:pt x="5322" y="4053"/>
                </a:lnTo>
                <a:lnTo>
                  <a:pt x="5342" y="4009"/>
                </a:lnTo>
                <a:lnTo>
                  <a:pt x="5361" y="3965"/>
                </a:lnTo>
                <a:lnTo>
                  <a:pt x="5378" y="3920"/>
                </a:lnTo>
                <a:lnTo>
                  <a:pt x="5395" y="3874"/>
                </a:lnTo>
                <a:lnTo>
                  <a:pt x="5409" y="3828"/>
                </a:lnTo>
                <a:lnTo>
                  <a:pt x="5422" y="3782"/>
                </a:lnTo>
                <a:lnTo>
                  <a:pt x="5434" y="3734"/>
                </a:lnTo>
                <a:lnTo>
                  <a:pt x="5445" y="3687"/>
                </a:lnTo>
                <a:lnTo>
                  <a:pt x="5453" y="3639"/>
                </a:lnTo>
                <a:lnTo>
                  <a:pt x="5461" y="3590"/>
                </a:lnTo>
                <a:lnTo>
                  <a:pt x="5466" y="3541"/>
                </a:lnTo>
                <a:lnTo>
                  <a:pt x="5470" y="3491"/>
                </a:lnTo>
                <a:lnTo>
                  <a:pt x="5471" y="3442"/>
                </a:lnTo>
                <a:lnTo>
                  <a:pt x="5471" y="3391"/>
                </a:lnTo>
                <a:lnTo>
                  <a:pt x="5467" y="3341"/>
                </a:lnTo>
                <a:lnTo>
                  <a:pt x="5463" y="3290"/>
                </a:lnTo>
                <a:lnTo>
                  <a:pt x="5456" y="3239"/>
                </a:lnTo>
                <a:lnTo>
                  <a:pt x="5448" y="3187"/>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KSO_Shape"/>
          <p:cNvSpPr/>
          <p:nvPr/>
        </p:nvSpPr>
        <p:spPr>
          <a:xfrm>
            <a:off x="4873680" y="5187960"/>
            <a:ext cx="1301760" cy="1044720"/>
          </a:xfrm>
          <a:custGeom>
            <a:avLst/>
            <a:gdLst/>
            <a:ahLst/>
            <a:rect l="l" t="t" r="r" b="b"/>
            <a:pathLst>
              <a:path w="1565275" h="1217613">
                <a:moveTo>
                  <a:pt x="781977" y="392112"/>
                </a:moveTo>
                <a:lnTo>
                  <a:pt x="796787" y="392377"/>
                </a:lnTo>
                <a:lnTo>
                  <a:pt x="811332" y="393699"/>
                </a:lnTo>
                <a:lnTo>
                  <a:pt x="825878" y="395550"/>
                </a:lnTo>
                <a:lnTo>
                  <a:pt x="840159" y="397930"/>
                </a:lnTo>
                <a:lnTo>
                  <a:pt x="854175" y="401104"/>
                </a:lnTo>
                <a:lnTo>
                  <a:pt x="867663" y="405071"/>
                </a:lnTo>
                <a:lnTo>
                  <a:pt x="881150" y="409302"/>
                </a:lnTo>
                <a:lnTo>
                  <a:pt x="894109" y="414856"/>
                </a:lnTo>
                <a:lnTo>
                  <a:pt x="907068" y="420410"/>
                </a:lnTo>
                <a:lnTo>
                  <a:pt x="919233" y="426757"/>
                </a:lnTo>
                <a:lnTo>
                  <a:pt x="931398" y="433897"/>
                </a:lnTo>
                <a:lnTo>
                  <a:pt x="943034" y="441302"/>
                </a:lnTo>
                <a:lnTo>
                  <a:pt x="954142" y="449236"/>
                </a:lnTo>
                <a:lnTo>
                  <a:pt x="965249" y="457963"/>
                </a:lnTo>
                <a:lnTo>
                  <a:pt x="975563" y="466955"/>
                </a:lnTo>
                <a:lnTo>
                  <a:pt x="985613" y="476476"/>
                </a:lnTo>
                <a:lnTo>
                  <a:pt x="995398" y="486261"/>
                </a:lnTo>
                <a:lnTo>
                  <a:pt x="1004125" y="496839"/>
                </a:lnTo>
                <a:lnTo>
                  <a:pt x="1012852" y="507947"/>
                </a:lnTo>
                <a:lnTo>
                  <a:pt x="1020522" y="519054"/>
                </a:lnTo>
                <a:lnTo>
                  <a:pt x="1028191" y="530690"/>
                </a:lnTo>
                <a:lnTo>
                  <a:pt x="1035332" y="542591"/>
                </a:lnTo>
                <a:lnTo>
                  <a:pt x="1041679" y="555021"/>
                </a:lnTo>
                <a:lnTo>
                  <a:pt x="1047232" y="567979"/>
                </a:lnTo>
                <a:lnTo>
                  <a:pt x="1052522" y="580938"/>
                </a:lnTo>
                <a:lnTo>
                  <a:pt x="1057018" y="594426"/>
                </a:lnTo>
                <a:lnTo>
                  <a:pt x="1060985" y="608178"/>
                </a:lnTo>
                <a:lnTo>
                  <a:pt x="1064158" y="622194"/>
                </a:lnTo>
                <a:lnTo>
                  <a:pt x="1066538" y="636211"/>
                </a:lnTo>
                <a:lnTo>
                  <a:pt x="1068389" y="650756"/>
                </a:lnTo>
                <a:lnTo>
                  <a:pt x="1069712" y="665302"/>
                </a:lnTo>
                <a:lnTo>
                  <a:pt x="1069976" y="680111"/>
                </a:lnTo>
                <a:lnTo>
                  <a:pt x="1069712" y="694921"/>
                </a:lnTo>
                <a:lnTo>
                  <a:pt x="1068389" y="709467"/>
                </a:lnTo>
                <a:lnTo>
                  <a:pt x="1066538" y="723748"/>
                </a:lnTo>
                <a:lnTo>
                  <a:pt x="1064158" y="738029"/>
                </a:lnTo>
                <a:lnTo>
                  <a:pt x="1060985" y="752045"/>
                </a:lnTo>
                <a:lnTo>
                  <a:pt x="1057018" y="765533"/>
                </a:lnTo>
                <a:lnTo>
                  <a:pt x="1052522" y="779285"/>
                </a:lnTo>
                <a:lnTo>
                  <a:pt x="1047232" y="792243"/>
                </a:lnTo>
                <a:lnTo>
                  <a:pt x="1041679" y="804938"/>
                </a:lnTo>
                <a:lnTo>
                  <a:pt x="1035332" y="817632"/>
                </a:lnTo>
                <a:lnTo>
                  <a:pt x="1028191" y="829533"/>
                </a:lnTo>
                <a:lnTo>
                  <a:pt x="1020522" y="841169"/>
                </a:lnTo>
                <a:lnTo>
                  <a:pt x="1012852" y="852276"/>
                </a:lnTo>
                <a:lnTo>
                  <a:pt x="1004125" y="863384"/>
                </a:lnTo>
                <a:lnTo>
                  <a:pt x="995398" y="873962"/>
                </a:lnTo>
                <a:lnTo>
                  <a:pt x="985613" y="883747"/>
                </a:lnTo>
                <a:lnTo>
                  <a:pt x="975563" y="893268"/>
                </a:lnTo>
                <a:lnTo>
                  <a:pt x="965249" y="902524"/>
                </a:lnTo>
                <a:lnTo>
                  <a:pt x="954142" y="910987"/>
                </a:lnTo>
                <a:lnTo>
                  <a:pt x="943034" y="918921"/>
                </a:lnTo>
                <a:lnTo>
                  <a:pt x="931398" y="926590"/>
                </a:lnTo>
                <a:lnTo>
                  <a:pt x="919233" y="933466"/>
                </a:lnTo>
                <a:lnTo>
                  <a:pt x="907068" y="939813"/>
                </a:lnTo>
                <a:lnTo>
                  <a:pt x="894109" y="945367"/>
                </a:lnTo>
                <a:lnTo>
                  <a:pt x="881150" y="950921"/>
                </a:lnTo>
                <a:lnTo>
                  <a:pt x="867663" y="955152"/>
                </a:lnTo>
                <a:lnTo>
                  <a:pt x="854175" y="959119"/>
                </a:lnTo>
                <a:lnTo>
                  <a:pt x="840159" y="962293"/>
                </a:lnTo>
                <a:lnTo>
                  <a:pt x="825878" y="964673"/>
                </a:lnTo>
                <a:lnTo>
                  <a:pt x="811332" y="966788"/>
                </a:lnTo>
                <a:lnTo>
                  <a:pt x="796787" y="967846"/>
                </a:lnTo>
                <a:lnTo>
                  <a:pt x="781977" y="968375"/>
                </a:lnTo>
                <a:lnTo>
                  <a:pt x="767432" y="967846"/>
                </a:lnTo>
                <a:lnTo>
                  <a:pt x="752357" y="966788"/>
                </a:lnTo>
                <a:lnTo>
                  <a:pt x="738341" y="964673"/>
                </a:lnTo>
                <a:lnTo>
                  <a:pt x="724060" y="962293"/>
                </a:lnTo>
                <a:lnTo>
                  <a:pt x="710043" y="959119"/>
                </a:lnTo>
                <a:lnTo>
                  <a:pt x="696556" y="955152"/>
                </a:lnTo>
                <a:lnTo>
                  <a:pt x="682804" y="950921"/>
                </a:lnTo>
                <a:lnTo>
                  <a:pt x="669845" y="945367"/>
                </a:lnTo>
                <a:lnTo>
                  <a:pt x="657151" y="939813"/>
                </a:lnTo>
                <a:lnTo>
                  <a:pt x="644721" y="933466"/>
                </a:lnTo>
                <a:lnTo>
                  <a:pt x="632556" y="926590"/>
                </a:lnTo>
                <a:lnTo>
                  <a:pt x="621184" y="918921"/>
                </a:lnTo>
                <a:lnTo>
                  <a:pt x="609812" y="910987"/>
                </a:lnTo>
                <a:lnTo>
                  <a:pt x="598969" y="902524"/>
                </a:lnTo>
                <a:lnTo>
                  <a:pt x="588126" y="893268"/>
                </a:lnTo>
                <a:lnTo>
                  <a:pt x="578341" y="883747"/>
                </a:lnTo>
                <a:lnTo>
                  <a:pt x="568820" y="873962"/>
                </a:lnTo>
                <a:lnTo>
                  <a:pt x="559564" y="863384"/>
                </a:lnTo>
                <a:lnTo>
                  <a:pt x="551102" y="852276"/>
                </a:lnTo>
                <a:lnTo>
                  <a:pt x="543168" y="841169"/>
                </a:lnTo>
                <a:lnTo>
                  <a:pt x="535498" y="829533"/>
                </a:lnTo>
                <a:lnTo>
                  <a:pt x="528622" y="817632"/>
                </a:lnTo>
                <a:lnTo>
                  <a:pt x="522275" y="804938"/>
                </a:lnTo>
                <a:lnTo>
                  <a:pt x="516721" y="792243"/>
                </a:lnTo>
                <a:lnTo>
                  <a:pt x="511432" y="779285"/>
                </a:lnTo>
                <a:lnTo>
                  <a:pt x="506672" y="765533"/>
                </a:lnTo>
                <a:lnTo>
                  <a:pt x="502969" y="752045"/>
                </a:lnTo>
                <a:lnTo>
                  <a:pt x="499796" y="738029"/>
                </a:lnTo>
                <a:lnTo>
                  <a:pt x="497416" y="723748"/>
                </a:lnTo>
                <a:lnTo>
                  <a:pt x="495300" y="709467"/>
                </a:lnTo>
                <a:lnTo>
                  <a:pt x="494242" y="694921"/>
                </a:lnTo>
                <a:lnTo>
                  <a:pt x="493713" y="680111"/>
                </a:lnTo>
                <a:lnTo>
                  <a:pt x="494242" y="665302"/>
                </a:lnTo>
                <a:lnTo>
                  <a:pt x="495300" y="650756"/>
                </a:lnTo>
                <a:lnTo>
                  <a:pt x="497416" y="636211"/>
                </a:lnTo>
                <a:lnTo>
                  <a:pt x="499796" y="622194"/>
                </a:lnTo>
                <a:lnTo>
                  <a:pt x="502969" y="608178"/>
                </a:lnTo>
                <a:lnTo>
                  <a:pt x="506672" y="594426"/>
                </a:lnTo>
                <a:lnTo>
                  <a:pt x="511432" y="580938"/>
                </a:lnTo>
                <a:lnTo>
                  <a:pt x="516721" y="567979"/>
                </a:lnTo>
                <a:lnTo>
                  <a:pt x="522275" y="555021"/>
                </a:lnTo>
                <a:lnTo>
                  <a:pt x="528622" y="542591"/>
                </a:lnTo>
                <a:lnTo>
                  <a:pt x="535498" y="530690"/>
                </a:lnTo>
                <a:lnTo>
                  <a:pt x="543168" y="519054"/>
                </a:lnTo>
                <a:lnTo>
                  <a:pt x="551102" y="507947"/>
                </a:lnTo>
                <a:lnTo>
                  <a:pt x="559564" y="496839"/>
                </a:lnTo>
                <a:lnTo>
                  <a:pt x="568820" y="486261"/>
                </a:lnTo>
                <a:lnTo>
                  <a:pt x="578341" y="476476"/>
                </a:lnTo>
                <a:lnTo>
                  <a:pt x="588126" y="466955"/>
                </a:lnTo>
                <a:lnTo>
                  <a:pt x="598969" y="457963"/>
                </a:lnTo>
                <a:lnTo>
                  <a:pt x="609812" y="449236"/>
                </a:lnTo>
                <a:lnTo>
                  <a:pt x="621184" y="441302"/>
                </a:lnTo>
                <a:lnTo>
                  <a:pt x="632556" y="433897"/>
                </a:lnTo>
                <a:lnTo>
                  <a:pt x="644721" y="426757"/>
                </a:lnTo>
                <a:lnTo>
                  <a:pt x="657151" y="420410"/>
                </a:lnTo>
                <a:lnTo>
                  <a:pt x="669845" y="414856"/>
                </a:lnTo>
                <a:lnTo>
                  <a:pt x="682804" y="409302"/>
                </a:lnTo>
                <a:lnTo>
                  <a:pt x="696556" y="405071"/>
                </a:lnTo>
                <a:lnTo>
                  <a:pt x="710043" y="401104"/>
                </a:lnTo>
                <a:lnTo>
                  <a:pt x="724060" y="397930"/>
                </a:lnTo>
                <a:lnTo>
                  <a:pt x="738341" y="395550"/>
                </a:lnTo>
                <a:lnTo>
                  <a:pt x="752357" y="393699"/>
                </a:lnTo>
                <a:lnTo>
                  <a:pt x="767432" y="392377"/>
                </a:lnTo>
                <a:lnTo>
                  <a:pt x="781977" y="392112"/>
                </a:lnTo>
                <a:close/>
                <a:moveTo>
                  <a:pt x="781977" y="259179"/>
                </a:moveTo>
                <a:lnTo>
                  <a:pt x="771134" y="259444"/>
                </a:lnTo>
                <a:lnTo>
                  <a:pt x="760292" y="259708"/>
                </a:lnTo>
                <a:lnTo>
                  <a:pt x="749714" y="260502"/>
                </a:lnTo>
                <a:lnTo>
                  <a:pt x="738871" y="261295"/>
                </a:lnTo>
                <a:lnTo>
                  <a:pt x="728293" y="262617"/>
                </a:lnTo>
                <a:lnTo>
                  <a:pt x="717980" y="264204"/>
                </a:lnTo>
                <a:lnTo>
                  <a:pt x="707402" y="265791"/>
                </a:lnTo>
                <a:lnTo>
                  <a:pt x="697088" y="267642"/>
                </a:lnTo>
                <a:lnTo>
                  <a:pt x="687039" y="270287"/>
                </a:lnTo>
                <a:lnTo>
                  <a:pt x="676726" y="272403"/>
                </a:lnTo>
                <a:lnTo>
                  <a:pt x="666677" y="275312"/>
                </a:lnTo>
                <a:lnTo>
                  <a:pt x="656892" y="278221"/>
                </a:lnTo>
                <a:lnTo>
                  <a:pt x="647107" y="281395"/>
                </a:lnTo>
                <a:lnTo>
                  <a:pt x="637323" y="284833"/>
                </a:lnTo>
                <a:lnTo>
                  <a:pt x="627803" y="288535"/>
                </a:lnTo>
                <a:lnTo>
                  <a:pt x="618283" y="292238"/>
                </a:lnTo>
                <a:lnTo>
                  <a:pt x="608762" y="296469"/>
                </a:lnTo>
                <a:lnTo>
                  <a:pt x="599507" y="300965"/>
                </a:lnTo>
                <a:lnTo>
                  <a:pt x="590515" y="305461"/>
                </a:lnTo>
                <a:lnTo>
                  <a:pt x="581524" y="310222"/>
                </a:lnTo>
                <a:lnTo>
                  <a:pt x="572268" y="315247"/>
                </a:lnTo>
                <a:lnTo>
                  <a:pt x="563806" y="320272"/>
                </a:lnTo>
                <a:lnTo>
                  <a:pt x="555344" y="325561"/>
                </a:lnTo>
                <a:lnTo>
                  <a:pt x="546617" y="331379"/>
                </a:lnTo>
                <a:lnTo>
                  <a:pt x="538419" y="336933"/>
                </a:lnTo>
                <a:lnTo>
                  <a:pt x="530221" y="343016"/>
                </a:lnTo>
                <a:lnTo>
                  <a:pt x="522023" y="349099"/>
                </a:lnTo>
                <a:lnTo>
                  <a:pt x="514354" y="355446"/>
                </a:lnTo>
                <a:lnTo>
                  <a:pt x="506421" y="362058"/>
                </a:lnTo>
                <a:lnTo>
                  <a:pt x="499016" y="368669"/>
                </a:lnTo>
                <a:lnTo>
                  <a:pt x="491611" y="375545"/>
                </a:lnTo>
                <a:lnTo>
                  <a:pt x="484207" y="382686"/>
                </a:lnTo>
                <a:lnTo>
                  <a:pt x="477331" y="389827"/>
                </a:lnTo>
                <a:lnTo>
                  <a:pt x="470455" y="397232"/>
                </a:lnTo>
                <a:lnTo>
                  <a:pt x="463844" y="404901"/>
                </a:lnTo>
                <a:lnTo>
                  <a:pt x="457233" y="412307"/>
                </a:lnTo>
                <a:lnTo>
                  <a:pt x="450886" y="420241"/>
                </a:lnTo>
                <a:lnTo>
                  <a:pt x="444804" y="428439"/>
                </a:lnTo>
                <a:lnTo>
                  <a:pt x="438722" y="436373"/>
                </a:lnTo>
                <a:lnTo>
                  <a:pt x="433168" y="445101"/>
                </a:lnTo>
                <a:lnTo>
                  <a:pt x="427350" y="453299"/>
                </a:lnTo>
                <a:lnTo>
                  <a:pt x="422061" y="462027"/>
                </a:lnTo>
                <a:lnTo>
                  <a:pt x="416772" y="470754"/>
                </a:lnTo>
                <a:lnTo>
                  <a:pt x="411748" y="479482"/>
                </a:lnTo>
                <a:lnTo>
                  <a:pt x="406988" y="488738"/>
                </a:lnTo>
                <a:lnTo>
                  <a:pt x="402756" y="497730"/>
                </a:lnTo>
                <a:lnTo>
                  <a:pt x="398261" y="506986"/>
                </a:lnTo>
                <a:lnTo>
                  <a:pt x="394030" y="516243"/>
                </a:lnTo>
                <a:lnTo>
                  <a:pt x="390327" y="525764"/>
                </a:lnTo>
                <a:lnTo>
                  <a:pt x="386889" y="535549"/>
                </a:lnTo>
                <a:lnTo>
                  <a:pt x="383452" y="545334"/>
                </a:lnTo>
                <a:lnTo>
                  <a:pt x="380278" y="555120"/>
                </a:lnTo>
                <a:lnTo>
                  <a:pt x="377105" y="564905"/>
                </a:lnTo>
                <a:lnTo>
                  <a:pt x="374460" y="575219"/>
                </a:lnTo>
                <a:lnTo>
                  <a:pt x="371816" y="585269"/>
                </a:lnTo>
                <a:lnTo>
                  <a:pt x="369700" y="595319"/>
                </a:lnTo>
                <a:lnTo>
                  <a:pt x="367849" y="605898"/>
                </a:lnTo>
                <a:lnTo>
                  <a:pt x="365998" y="615947"/>
                </a:lnTo>
                <a:lnTo>
                  <a:pt x="364676" y="626791"/>
                </a:lnTo>
                <a:lnTo>
                  <a:pt x="363353" y="637105"/>
                </a:lnTo>
                <a:lnTo>
                  <a:pt x="362560" y="647948"/>
                </a:lnTo>
                <a:lnTo>
                  <a:pt x="361767" y="658791"/>
                </a:lnTo>
                <a:lnTo>
                  <a:pt x="361238" y="669370"/>
                </a:lnTo>
                <a:lnTo>
                  <a:pt x="361238" y="680213"/>
                </a:lnTo>
                <a:lnTo>
                  <a:pt x="361238" y="691056"/>
                </a:lnTo>
                <a:lnTo>
                  <a:pt x="361767" y="701900"/>
                </a:lnTo>
                <a:lnTo>
                  <a:pt x="362560" y="712478"/>
                </a:lnTo>
                <a:lnTo>
                  <a:pt x="363353" y="723322"/>
                </a:lnTo>
                <a:lnTo>
                  <a:pt x="364676" y="733636"/>
                </a:lnTo>
                <a:lnTo>
                  <a:pt x="365998" y="744215"/>
                </a:lnTo>
                <a:lnTo>
                  <a:pt x="367849" y="754529"/>
                </a:lnTo>
                <a:lnTo>
                  <a:pt x="369700" y="765108"/>
                </a:lnTo>
                <a:lnTo>
                  <a:pt x="371816" y="775157"/>
                </a:lnTo>
                <a:lnTo>
                  <a:pt x="374460" y="785472"/>
                </a:lnTo>
                <a:lnTo>
                  <a:pt x="377105" y="795521"/>
                </a:lnTo>
                <a:lnTo>
                  <a:pt x="380278" y="805307"/>
                </a:lnTo>
                <a:lnTo>
                  <a:pt x="383452" y="815092"/>
                </a:lnTo>
                <a:lnTo>
                  <a:pt x="386889" y="824877"/>
                </a:lnTo>
                <a:lnTo>
                  <a:pt x="390327" y="834398"/>
                </a:lnTo>
                <a:lnTo>
                  <a:pt x="394030" y="843919"/>
                </a:lnTo>
                <a:lnTo>
                  <a:pt x="398261" y="853440"/>
                </a:lnTo>
                <a:lnTo>
                  <a:pt x="402756" y="862696"/>
                </a:lnTo>
                <a:lnTo>
                  <a:pt x="406988" y="871688"/>
                </a:lnTo>
                <a:lnTo>
                  <a:pt x="411748" y="880680"/>
                </a:lnTo>
                <a:lnTo>
                  <a:pt x="416772" y="889408"/>
                </a:lnTo>
                <a:lnTo>
                  <a:pt x="422061" y="898400"/>
                </a:lnTo>
                <a:lnTo>
                  <a:pt x="427350" y="906863"/>
                </a:lnTo>
                <a:lnTo>
                  <a:pt x="433168" y="915590"/>
                </a:lnTo>
                <a:lnTo>
                  <a:pt x="438722" y="923789"/>
                </a:lnTo>
                <a:lnTo>
                  <a:pt x="444804" y="931987"/>
                </a:lnTo>
                <a:lnTo>
                  <a:pt x="450886" y="940186"/>
                </a:lnTo>
                <a:lnTo>
                  <a:pt x="457233" y="947855"/>
                </a:lnTo>
                <a:lnTo>
                  <a:pt x="463844" y="955789"/>
                </a:lnTo>
                <a:lnTo>
                  <a:pt x="470455" y="963194"/>
                </a:lnTo>
                <a:lnTo>
                  <a:pt x="477331" y="970600"/>
                </a:lnTo>
                <a:lnTo>
                  <a:pt x="484207" y="977740"/>
                </a:lnTo>
                <a:lnTo>
                  <a:pt x="491611" y="984881"/>
                </a:lnTo>
                <a:lnTo>
                  <a:pt x="499016" y="991757"/>
                </a:lnTo>
                <a:lnTo>
                  <a:pt x="506421" y="998369"/>
                </a:lnTo>
                <a:lnTo>
                  <a:pt x="514354" y="1004980"/>
                </a:lnTo>
                <a:lnTo>
                  <a:pt x="522023" y="1011328"/>
                </a:lnTo>
                <a:lnTo>
                  <a:pt x="530221" y="1017410"/>
                </a:lnTo>
                <a:lnTo>
                  <a:pt x="538419" y="1023493"/>
                </a:lnTo>
                <a:lnTo>
                  <a:pt x="546617" y="1029047"/>
                </a:lnTo>
                <a:lnTo>
                  <a:pt x="555344" y="1034865"/>
                </a:lnTo>
                <a:lnTo>
                  <a:pt x="563806" y="1040155"/>
                </a:lnTo>
                <a:lnTo>
                  <a:pt x="572268" y="1045180"/>
                </a:lnTo>
                <a:lnTo>
                  <a:pt x="581524" y="1050469"/>
                </a:lnTo>
                <a:lnTo>
                  <a:pt x="590515" y="1055230"/>
                </a:lnTo>
                <a:lnTo>
                  <a:pt x="599507" y="1059461"/>
                </a:lnTo>
                <a:lnTo>
                  <a:pt x="608762" y="1063957"/>
                </a:lnTo>
                <a:lnTo>
                  <a:pt x="618283" y="1068188"/>
                </a:lnTo>
                <a:lnTo>
                  <a:pt x="627803" y="1071891"/>
                </a:lnTo>
                <a:lnTo>
                  <a:pt x="637323" y="1075329"/>
                </a:lnTo>
                <a:lnTo>
                  <a:pt x="647107" y="1078767"/>
                </a:lnTo>
                <a:lnTo>
                  <a:pt x="656892" y="1081941"/>
                </a:lnTo>
                <a:lnTo>
                  <a:pt x="666677" y="1085114"/>
                </a:lnTo>
                <a:lnTo>
                  <a:pt x="676726" y="1087759"/>
                </a:lnTo>
                <a:lnTo>
                  <a:pt x="687039" y="1090404"/>
                </a:lnTo>
                <a:lnTo>
                  <a:pt x="697088" y="1092520"/>
                </a:lnTo>
                <a:lnTo>
                  <a:pt x="707402" y="1094371"/>
                </a:lnTo>
                <a:lnTo>
                  <a:pt x="717980" y="1096222"/>
                </a:lnTo>
                <a:lnTo>
                  <a:pt x="728293" y="1097544"/>
                </a:lnTo>
                <a:lnTo>
                  <a:pt x="738871" y="1098867"/>
                </a:lnTo>
                <a:lnTo>
                  <a:pt x="749714" y="1099660"/>
                </a:lnTo>
                <a:lnTo>
                  <a:pt x="760292" y="1100454"/>
                </a:lnTo>
                <a:lnTo>
                  <a:pt x="771134" y="1100983"/>
                </a:lnTo>
                <a:lnTo>
                  <a:pt x="781977" y="1100983"/>
                </a:lnTo>
                <a:lnTo>
                  <a:pt x="793083" y="1100983"/>
                </a:lnTo>
                <a:lnTo>
                  <a:pt x="803661" y="1100454"/>
                </a:lnTo>
                <a:lnTo>
                  <a:pt x="814504" y="1099660"/>
                </a:lnTo>
                <a:lnTo>
                  <a:pt x="825082" y="1098867"/>
                </a:lnTo>
                <a:lnTo>
                  <a:pt x="835660" y="1097544"/>
                </a:lnTo>
                <a:lnTo>
                  <a:pt x="846238" y="1096222"/>
                </a:lnTo>
                <a:lnTo>
                  <a:pt x="856551" y="1094371"/>
                </a:lnTo>
                <a:lnTo>
                  <a:pt x="866865" y="1092520"/>
                </a:lnTo>
                <a:lnTo>
                  <a:pt x="876914" y="1090404"/>
                </a:lnTo>
                <a:lnTo>
                  <a:pt x="886963" y="1087759"/>
                </a:lnTo>
                <a:lnTo>
                  <a:pt x="897276" y="1085114"/>
                </a:lnTo>
                <a:lnTo>
                  <a:pt x="907326" y="1081941"/>
                </a:lnTo>
                <a:lnTo>
                  <a:pt x="917110" y="1078767"/>
                </a:lnTo>
                <a:lnTo>
                  <a:pt x="926630" y="1075329"/>
                </a:lnTo>
                <a:lnTo>
                  <a:pt x="936415" y="1071891"/>
                </a:lnTo>
                <a:lnTo>
                  <a:pt x="945935" y="1068188"/>
                </a:lnTo>
                <a:lnTo>
                  <a:pt x="955191" y="1063957"/>
                </a:lnTo>
                <a:lnTo>
                  <a:pt x="964711" y="1059461"/>
                </a:lnTo>
                <a:lnTo>
                  <a:pt x="973438" y="1055230"/>
                </a:lnTo>
                <a:lnTo>
                  <a:pt x="982694" y="1050469"/>
                </a:lnTo>
                <a:lnTo>
                  <a:pt x="991420" y="1045180"/>
                </a:lnTo>
                <a:lnTo>
                  <a:pt x="1000412" y="1040155"/>
                </a:lnTo>
                <a:lnTo>
                  <a:pt x="1008874" y="1034865"/>
                </a:lnTo>
                <a:lnTo>
                  <a:pt x="1017072" y="1029047"/>
                </a:lnTo>
                <a:lnTo>
                  <a:pt x="1025799" y="1023493"/>
                </a:lnTo>
                <a:lnTo>
                  <a:pt x="1033997" y="1017410"/>
                </a:lnTo>
                <a:lnTo>
                  <a:pt x="1041930" y="1011328"/>
                </a:lnTo>
                <a:lnTo>
                  <a:pt x="1049864" y="1004980"/>
                </a:lnTo>
                <a:lnTo>
                  <a:pt x="1057268" y="998369"/>
                </a:lnTo>
                <a:lnTo>
                  <a:pt x="1064937" y="991757"/>
                </a:lnTo>
                <a:lnTo>
                  <a:pt x="1072342" y="984881"/>
                </a:lnTo>
                <a:lnTo>
                  <a:pt x="1079482" y="977740"/>
                </a:lnTo>
                <a:lnTo>
                  <a:pt x="1086622" y="970600"/>
                </a:lnTo>
                <a:lnTo>
                  <a:pt x="1093498" y="963194"/>
                </a:lnTo>
                <a:lnTo>
                  <a:pt x="1100109" y="955789"/>
                </a:lnTo>
                <a:lnTo>
                  <a:pt x="1106720" y="947855"/>
                </a:lnTo>
                <a:lnTo>
                  <a:pt x="1113067" y="940186"/>
                </a:lnTo>
                <a:lnTo>
                  <a:pt x="1119149" y="931987"/>
                </a:lnTo>
                <a:lnTo>
                  <a:pt x="1125231" y="923789"/>
                </a:lnTo>
                <a:lnTo>
                  <a:pt x="1131049" y="915590"/>
                </a:lnTo>
                <a:lnTo>
                  <a:pt x="1136603" y="906863"/>
                </a:lnTo>
                <a:lnTo>
                  <a:pt x="1141892" y="898400"/>
                </a:lnTo>
                <a:lnTo>
                  <a:pt x="1146916" y="889408"/>
                </a:lnTo>
                <a:lnTo>
                  <a:pt x="1151941" y="880680"/>
                </a:lnTo>
                <a:lnTo>
                  <a:pt x="1156701" y="871688"/>
                </a:lnTo>
                <a:lnTo>
                  <a:pt x="1161197" y="862696"/>
                </a:lnTo>
                <a:lnTo>
                  <a:pt x="1165692" y="853440"/>
                </a:lnTo>
                <a:lnTo>
                  <a:pt x="1169659" y="843919"/>
                </a:lnTo>
                <a:lnTo>
                  <a:pt x="1173626" y="834398"/>
                </a:lnTo>
                <a:lnTo>
                  <a:pt x="1177328" y="824877"/>
                </a:lnTo>
                <a:lnTo>
                  <a:pt x="1180766" y="815092"/>
                </a:lnTo>
                <a:lnTo>
                  <a:pt x="1183939" y="805307"/>
                </a:lnTo>
                <a:lnTo>
                  <a:pt x="1186848" y="795521"/>
                </a:lnTo>
                <a:lnTo>
                  <a:pt x="1189757" y="785472"/>
                </a:lnTo>
                <a:lnTo>
                  <a:pt x="1192137" y="775157"/>
                </a:lnTo>
                <a:lnTo>
                  <a:pt x="1194517" y="765108"/>
                </a:lnTo>
                <a:lnTo>
                  <a:pt x="1196368" y="754529"/>
                </a:lnTo>
                <a:lnTo>
                  <a:pt x="1197955" y="744215"/>
                </a:lnTo>
                <a:lnTo>
                  <a:pt x="1199542" y="733636"/>
                </a:lnTo>
                <a:lnTo>
                  <a:pt x="1200864" y="723322"/>
                </a:lnTo>
                <a:lnTo>
                  <a:pt x="1201657" y="712478"/>
                </a:lnTo>
                <a:lnTo>
                  <a:pt x="1202451" y="701900"/>
                </a:lnTo>
                <a:lnTo>
                  <a:pt x="1202715" y="691056"/>
                </a:lnTo>
                <a:lnTo>
                  <a:pt x="1202979" y="680213"/>
                </a:lnTo>
                <a:lnTo>
                  <a:pt x="1202715" y="669370"/>
                </a:lnTo>
                <a:lnTo>
                  <a:pt x="1202451" y="658791"/>
                </a:lnTo>
                <a:lnTo>
                  <a:pt x="1201657" y="647948"/>
                </a:lnTo>
                <a:lnTo>
                  <a:pt x="1200864" y="637105"/>
                </a:lnTo>
                <a:lnTo>
                  <a:pt x="1199542" y="626791"/>
                </a:lnTo>
                <a:lnTo>
                  <a:pt x="1197955" y="615947"/>
                </a:lnTo>
                <a:lnTo>
                  <a:pt x="1196368" y="605898"/>
                </a:lnTo>
                <a:lnTo>
                  <a:pt x="1194517" y="595319"/>
                </a:lnTo>
                <a:lnTo>
                  <a:pt x="1192137" y="585269"/>
                </a:lnTo>
                <a:lnTo>
                  <a:pt x="1189757" y="575219"/>
                </a:lnTo>
                <a:lnTo>
                  <a:pt x="1186848" y="564905"/>
                </a:lnTo>
                <a:lnTo>
                  <a:pt x="1183939" y="555120"/>
                </a:lnTo>
                <a:lnTo>
                  <a:pt x="1180766" y="545334"/>
                </a:lnTo>
                <a:lnTo>
                  <a:pt x="1177328" y="535549"/>
                </a:lnTo>
                <a:lnTo>
                  <a:pt x="1173626" y="525764"/>
                </a:lnTo>
                <a:lnTo>
                  <a:pt x="1169659" y="516243"/>
                </a:lnTo>
                <a:lnTo>
                  <a:pt x="1165692" y="506986"/>
                </a:lnTo>
                <a:lnTo>
                  <a:pt x="1161197" y="497730"/>
                </a:lnTo>
                <a:lnTo>
                  <a:pt x="1156701" y="488738"/>
                </a:lnTo>
                <a:lnTo>
                  <a:pt x="1151941" y="479482"/>
                </a:lnTo>
                <a:lnTo>
                  <a:pt x="1146916" y="470754"/>
                </a:lnTo>
                <a:lnTo>
                  <a:pt x="1141892" y="462027"/>
                </a:lnTo>
                <a:lnTo>
                  <a:pt x="1136603" y="453299"/>
                </a:lnTo>
                <a:lnTo>
                  <a:pt x="1131049" y="445101"/>
                </a:lnTo>
                <a:lnTo>
                  <a:pt x="1125231" y="436373"/>
                </a:lnTo>
                <a:lnTo>
                  <a:pt x="1119149" y="428439"/>
                </a:lnTo>
                <a:lnTo>
                  <a:pt x="1113067" y="420241"/>
                </a:lnTo>
                <a:lnTo>
                  <a:pt x="1106720" y="412307"/>
                </a:lnTo>
                <a:lnTo>
                  <a:pt x="1100109" y="404901"/>
                </a:lnTo>
                <a:lnTo>
                  <a:pt x="1093498" y="397232"/>
                </a:lnTo>
                <a:lnTo>
                  <a:pt x="1086622" y="389827"/>
                </a:lnTo>
                <a:lnTo>
                  <a:pt x="1079482" y="382686"/>
                </a:lnTo>
                <a:lnTo>
                  <a:pt x="1072342" y="375545"/>
                </a:lnTo>
                <a:lnTo>
                  <a:pt x="1064937" y="368669"/>
                </a:lnTo>
                <a:lnTo>
                  <a:pt x="1057268" y="362058"/>
                </a:lnTo>
                <a:lnTo>
                  <a:pt x="1049864" y="355446"/>
                </a:lnTo>
                <a:lnTo>
                  <a:pt x="1041930" y="349099"/>
                </a:lnTo>
                <a:lnTo>
                  <a:pt x="1033997" y="343016"/>
                </a:lnTo>
                <a:lnTo>
                  <a:pt x="1025799" y="336933"/>
                </a:lnTo>
                <a:lnTo>
                  <a:pt x="1017072" y="331379"/>
                </a:lnTo>
                <a:lnTo>
                  <a:pt x="1008874" y="325561"/>
                </a:lnTo>
                <a:lnTo>
                  <a:pt x="1000412" y="320272"/>
                </a:lnTo>
                <a:lnTo>
                  <a:pt x="991420" y="315247"/>
                </a:lnTo>
                <a:lnTo>
                  <a:pt x="982694" y="310222"/>
                </a:lnTo>
                <a:lnTo>
                  <a:pt x="973438" y="305461"/>
                </a:lnTo>
                <a:lnTo>
                  <a:pt x="964711" y="300965"/>
                </a:lnTo>
                <a:lnTo>
                  <a:pt x="955191" y="296469"/>
                </a:lnTo>
                <a:lnTo>
                  <a:pt x="945935" y="292238"/>
                </a:lnTo>
                <a:lnTo>
                  <a:pt x="936415" y="288535"/>
                </a:lnTo>
                <a:lnTo>
                  <a:pt x="926630" y="284833"/>
                </a:lnTo>
                <a:lnTo>
                  <a:pt x="917110" y="281395"/>
                </a:lnTo>
                <a:lnTo>
                  <a:pt x="907326" y="278221"/>
                </a:lnTo>
                <a:lnTo>
                  <a:pt x="897276" y="275312"/>
                </a:lnTo>
                <a:lnTo>
                  <a:pt x="886963" y="272403"/>
                </a:lnTo>
                <a:lnTo>
                  <a:pt x="876914" y="270287"/>
                </a:lnTo>
                <a:lnTo>
                  <a:pt x="866865" y="267642"/>
                </a:lnTo>
                <a:lnTo>
                  <a:pt x="856551" y="265791"/>
                </a:lnTo>
                <a:lnTo>
                  <a:pt x="846238" y="264204"/>
                </a:lnTo>
                <a:lnTo>
                  <a:pt x="835660" y="262617"/>
                </a:lnTo>
                <a:lnTo>
                  <a:pt x="825082" y="261295"/>
                </a:lnTo>
                <a:lnTo>
                  <a:pt x="814504" y="260502"/>
                </a:lnTo>
                <a:lnTo>
                  <a:pt x="803661" y="259708"/>
                </a:lnTo>
                <a:lnTo>
                  <a:pt x="793083" y="259444"/>
                </a:lnTo>
                <a:lnTo>
                  <a:pt x="781977" y="259179"/>
                </a:lnTo>
                <a:close/>
                <a:moveTo>
                  <a:pt x="65088" y="42862"/>
                </a:moveTo>
                <a:lnTo>
                  <a:pt x="315913" y="42862"/>
                </a:lnTo>
                <a:lnTo>
                  <a:pt x="315913" y="64516"/>
                </a:lnTo>
                <a:lnTo>
                  <a:pt x="315913" y="94620"/>
                </a:lnTo>
                <a:lnTo>
                  <a:pt x="65088" y="179387"/>
                </a:lnTo>
                <a:lnTo>
                  <a:pt x="65088" y="64516"/>
                </a:lnTo>
                <a:lnTo>
                  <a:pt x="65088" y="42862"/>
                </a:lnTo>
                <a:close/>
                <a:moveTo>
                  <a:pt x="537097" y="0"/>
                </a:moveTo>
                <a:lnTo>
                  <a:pt x="1032939" y="0"/>
                </a:lnTo>
                <a:lnTo>
                  <a:pt x="1032939" y="71142"/>
                </a:lnTo>
                <a:lnTo>
                  <a:pt x="1032939" y="130912"/>
                </a:lnTo>
                <a:lnTo>
                  <a:pt x="1564217" y="130912"/>
                </a:lnTo>
                <a:lnTo>
                  <a:pt x="1564217" y="202319"/>
                </a:lnTo>
                <a:lnTo>
                  <a:pt x="1564217" y="1145942"/>
                </a:lnTo>
                <a:lnTo>
                  <a:pt x="1564482" y="1173976"/>
                </a:lnTo>
                <a:lnTo>
                  <a:pt x="1565275" y="1196720"/>
                </a:lnTo>
                <a:lnTo>
                  <a:pt x="1565275" y="1212059"/>
                </a:lnTo>
                <a:lnTo>
                  <a:pt x="1564746" y="1216291"/>
                </a:lnTo>
                <a:lnTo>
                  <a:pt x="1564482" y="1217349"/>
                </a:lnTo>
                <a:lnTo>
                  <a:pt x="1564217" y="1217613"/>
                </a:lnTo>
                <a:lnTo>
                  <a:pt x="781712" y="1217613"/>
                </a:lnTo>
                <a:lnTo>
                  <a:pt x="265" y="1217613"/>
                </a:lnTo>
                <a:lnTo>
                  <a:pt x="265" y="1145942"/>
                </a:lnTo>
                <a:lnTo>
                  <a:pt x="0" y="756645"/>
                </a:lnTo>
                <a:lnTo>
                  <a:pt x="0" y="481333"/>
                </a:lnTo>
                <a:lnTo>
                  <a:pt x="265" y="385860"/>
                </a:lnTo>
                <a:lnTo>
                  <a:pt x="265" y="341165"/>
                </a:lnTo>
                <a:lnTo>
                  <a:pt x="794" y="313924"/>
                </a:lnTo>
                <a:lnTo>
                  <a:pt x="529" y="287213"/>
                </a:lnTo>
                <a:lnTo>
                  <a:pt x="265" y="258915"/>
                </a:lnTo>
                <a:lnTo>
                  <a:pt x="342462" y="148367"/>
                </a:lnTo>
                <a:lnTo>
                  <a:pt x="350924" y="145722"/>
                </a:lnTo>
                <a:lnTo>
                  <a:pt x="361238" y="142813"/>
                </a:lnTo>
                <a:lnTo>
                  <a:pt x="373403" y="139640"/>
                </a:lnTo>
                <a:lnTo>
                  <a:pt x="388476" y="136466"/>
                </a:lnTo>
                <a:lnTo>
                  <a:pt x="396410" y="135408"/>
                </a:lnTo>
                <a:lnTo>
                  <a:pt x="404608" y="133821"/>
                </a:lnTo>
                <a:lnTo>
                  <a:pt x="413070" y="132763"/>
                </a:lnTo>
                <a:lnTo>
                  <a:pt x="421532" y="131705"/>
                </a:lnTo>
                <a:lnTo>
                  <a:pt x="430259" y="131177"/>
                </a:lnTo>
                <a:lnTo>
                  <a:pt x="438722" y="130912"/>
                </a:lnTo>
                <a:lnTo>
                  <a:pt x="473364" y="130383"/>
                </a:lnTo>
                <a:lnTo>
                  <a:pt x="504834" y="130383"/>
                </a:lnTo>
                <a:lnTo>
                  <a:pt x="537097" y="130912"/>
                </a:lnTo>
                <a:lnTo>
                  <a:pt x="537097" y="71142"/>
                </a:lnTo>
                <a:lnTo>
                  <a:pt x="537097"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1" name="组合 18"/>
          <p:cNvGrpSpPr/>
          <p:nvPr/>
        </p:nvGrpSpPr>
        <p:grpSpPr>
          <a:xfrm>
            <a:off x="455760" y="2870280"/>
            <a:ext cx="758520" cy="668160"/>
            <a:chOff x="455760" y="2870280"/>
            <a:chExt cx="758520" cy="668160"/>
          </a:xfrm>
        </p:grpSpPr>
        <p:sp>
          <p:nvSpPr>
            <p:cNvPr id="92" name="六边形 19"/>
            <p:cNvSpPr/>
            <p:nvPr/>
          </p:nvSpPr>
          <p:spPr>
            <a:xfrm>
              <a:off x="455760" y="2870280"/>
              <a:ext cx="758520" cy="668160"/>
            </a:xfrm>
            <a:prstGeom prst="hexagon">
              <a:avLst>
                <a:gd name="adj" fmla="val 31492"/>
                <a:gd name="vf" fmla="val 115470"/>
              </a:avLst>
            </a:prstGeom>
            <a:solidFill>
              <a:srgbClr val="c0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KSO_Shape"/>
            <p:cNvSpPr/>
            <p:nvPr/>
          </p:nvSpPr>
          <p:spPr>
            <a:xfrm>
              <a:off x="600840" y="3053160"/>
              <a:ext cx="471960" cy="309600"/>
            </a:xfrm>
            <a:custGeom>
              <a:avLst/>
              <a:gdLst/>
              <a:ahLst/>
              <a:rect l="l" t="t" r="r" b="b"/>
              <a:pathLst>
                <a:path w="494328" h="324036">
                  <a:moveTo>
                    <a:pt x="277525" y="292250"/>
                  </a:moveTo>
                  <a:lnTo>
                    <a:pt x="309311" y="292250"/>
                  </a:lnTo>
                  <a:lnTo>
                    <a:pt x="309311" y="324036"/>
                  </a:lnTo>
                  <a:lnTo>
                    <a:pt x="277525" y="324036"/>
                  </a:lnTo>
                  <a:lnTo>
                    <a:pt x="277525" y="292250"/>
                  </a:lnTo>
                  <a:close/>
                  <a:moveTo>
                    <a:pt x="323779" y="243541"/>
                  </a:moveTo>
                  <a:lnTo>
                    <a:pt x="355565" y="243541"/>
                  </a:lnTo>
                  <a:lnTo>
                    <a:pt x="355565" y="275328"/>
                  </a:lnTo>
                  <a:lnTo>
                    <a:pt x="323779" y="275328"/>
                  </a:lnTo>
                  <a:lnTo>
                    <a:pt x="323779" y="243541"/>
                  </a:lnTo>
                  <a:close/>
                  <a:moveTo>
                    <a:pt x="277525" y="243541"/>
                  </a:moveTo>
                  <a:lnTo>
                    <a:pt x="309311" y="243541"/>
                  </a:lnTo>
                  <a:lnTo>
                    <a:pt x="309311" y="275328"/>
                  </a:lnTo>
                  <a:lnTo>
                    <a:pt x="277525" y="275328"/>
                  </a:lnTo>
                  <a:lnTo>
                    <a:pt x="277525" y="243541"/>
                  </a:lnTo>
                  <a:close/>
                  <a:moveTo>
                    <a:pt x="370033" y="194833"/>
                  </a:moveTo>
                  <a:lnTo>
                    <a:pt x="401820" y="194833"/>
                  </a:lnTo>
                  <a:lnTo>
                    <a:pt x="401820" y="226620"/>
                  </a:lnTo>
                  <a:lnTo>
                    <a:pt x="370033" y="226620"/>
                  </a:lnTo>
                  <a:lnTo>
                    <a:pt x="370033" y="194833"/>
                  </a:lnTo>
                  <a:close/>
                  <a:moveTo>
                    <a:pt x="323779" y="194833"/>
                  </a:moveTo>
                  <a:lnTo>
                    <a:pt x="355565" y="194833"/>
                  </a:lnTo>
                  <a:lnTo>
                    <a:pt x="355565" y="226620"/>
                  </a:lnTo>
                  <a:lnTo>
                    <a:pt x="323779" y="226620"/>
                  </a:lnTo>
                  <a:lnTo>
                    <a:pt x="323779" y="194833"/>
                  </a:lnTo>
                  <a:close/>
                  <a:moveTo>
                    <a:pt x="277525" y="194833"/>
                  </a:moveTo>
                  <a:lnTo>
                    <a:pt x="309311" y="194833"/>
                  </a:lnTo>
                  <a:lnTo>
                    <a:pt x="309311" y="226620"/>
                  </a:lnTo>
                  <a:lnTo>
                    <a:pt x="277525" y="226620"/>
                  </a:lnTo>
                  <a:lnTo>
                    <a:pt x="277525" y="194833"/>
                  </a:lnTo>
                  <a:close/>
                  <a:moveTo>
                    <a:pt x="231271" y="194833"/>
                  </a:moveTo>
                  <a:lnTo>
                    <a:pt x="263057" y="194833"/>
                  </a:lnTo>
                  <a:lnTo>
                    <a:pt x="263057" y="226620"/>
                  </a:lnTo>
                  <a:lnTo>
                    <a:pt x="231271" y="226620"/>
                  </a:lnTo>
                  <a:lnTo>
                    <a:pt x="231271" y="194833"/>
                  </a:lnTo>
                  <a:close/>
                  <a:moveTo>
                    <a:pt x="185016" y="194833"/>
                  </a:moveTo>
                  <a:lnTo>
                    <a:pt x="216803" y="194833"/>
                  </a:lnTo>
                  <a:lnTo>
                    <a:pt x="216803" y="226620"/>
                  </a:lnTo>
                  <a:lnTo>
                    <a:pt x="185016" y="226620"/>
                  </a:lnTo>
                  <a:lnTo>
                    <a:pt x="185016" y="194833"/>
                  </a:lnTo>
                  <a:close/>
                  <a:moveTo>
                    <a:pt x="138762" y="194833"/>
                  </a:moveTo>
                  <a:lnTo>
                    <a:pt x="170549" y="194833"/>
                  </a:lnTo>
                  <a:lnTo>
                    <a:pt x="170549" y="226620"/>
                  </a:lnTo>
                  <a:lnTo>
                    <a:pt x="138762" y="226620"/>
                  </a:lnTo>
                  <a:lnTo>
                    <a:pt x="138762" y="194833"/>
                  </a:lnTo>
                  <a:close/>
                  <a:moveTo>
                    <a:pt x="92508" y="194833"/>
                  </a:moveTo>
                  <a:lnTo>
                    <a:pt x="124294" y="194833"/>
                  </a:lnTo>
                  <a:lnTo>
                    <a:pt x="124294" y="226620"/>
                  </a:lnTo>
                  <a:lnTo>
                    <a:pt x="92508" y="226620"/>
                  </a:lnTo>
                  <a:lnTo>
                    <a:pt x="92508" y="194833"/>
                  </a:lnTo>
                  <a:close/>
                  <a:moveTo>
                    <a:pt x="46254" y="194833"/>
                  </a:moveTo>
                  <a:lnTo>
                    <a:pt x="78040" y="194833"/>
                  </a:lnTo>
                  <a:lnTo>
                    <a:pt x="78040" y="226620"/>
                  </a:lnTo>
                  <a:lnTo>
                    <a:pt x="46254" y="226620"/>
                  </a:lnTo>
                  <a:lnTo>
                    <a:pt x="46254" y="194833"/>
                  </a:lnTo>
                  <a:close/>
                  <a:moveTo>
                    <a:pt x="0" y="194833"/>
                  </a:moveTo>
                  <a:lnTo>
                    <a:pt x="31787" y="194833"/>
                  </a:lnTo>
                  <a:lnTo>
                    <a:pt x="31787" y="226620"/>
                  </a:lnTo>
                  <a:lnTo>
                    <a:pt x="0" y="226620"/>
                  </a:lnTo>
                  <a:lnTo>
                    <a:pt x="0" y="194833"/>
                  </a:lnTo>
                  <a:close/>
                  <a:moveTo>
                    <a:pt x="416287" y="170479"/>
                  </a:moveTo>
                  <a:lnTo>
                    <a:pt x="448074" y="170479"/>
                  </a:lnTo>
                  <a:lnTo>
                    <a:pt x="448074" y="202266"/>
                  </a:lnTo>
                  <a:lnTo>
                    <a:pt x="416287" y="202266"/>
                  </a:lnTo>
                  <a:lnTo>
                    <a:pt x="416287" y="170479"/>
                  </a:lnTo>
                  <a:close/>
                  <a:moveTo>
                    <a:pt x="462542" y="146125"/>
                  </a:moveTo>
                  <a:lnTo>
                    <a:pt x="494328" y="146125"/>
                  </a:lnTo>
                  <a:lnTo>
                    <a:pt x="494328" y="177911"/>
                  </a:lnTo>
                  <a:lnTo>
                    <a:pt x="462542" y="177911"/>
                  </a:lnTo>
                  <a:lnTo>
                    <a:pt x="462542" y="146125"/>
                  </a:lnTo>
                  <a:close/>
                  <a:moveTo>
                    <a:pt x="370033" y="146125"/>
                  </a:moveTo>
                  <a:lnTo>
                    <a:pt x="401820" y="146125"/>
                  </a:lnTo>
                  <a:lnTo>
                    <a:pt x="401820" y="177911"/>
                  </a:lnTo>
                  <a:lnTo>
                    <a:pt x="370033" y="177911"/>
                  </a:lnTo>
                  <a:lnTo>
                    <a:pt x="370033" y="146125"/>
                  </a:lnTo>
                  <a:close/>
                  <a:moveTo>
                    <a:pt x="323779" y="146125"/>
                  </a:moveTo>
                  <a:lnTo>
                    <a:pt x="355565" y="146125"/>
                  </a:lnTo>
                  <a:lnTo>
                    <a:pt x="355565" y="177911"/>
                  </a:lnTo>
                  <a:lnTo>
                    <a:pt x="323779" y="177911"/>
                  </a:lnTo>
                  <a:lnTo>
                    <a:pt x="323779" y="146125"/>
                  </a:lnTo>
                  <a:close/>
                  <a:moveTo>
                    <a:pt x="277525" y="146125"/>
                  </a:moveTo>
                  <a:lnTo>
                    <a:pt x="309311" y="146125"/>
                  </a:lnTo>
                  <a:lnTo>
                    <a:pt x="309311" y="177911"/>
                  </a:lnTo>
                  <a:lnTo>
                    <a:pt x="277525" y="177911"/>
                  </a:lnTo>
                  <a:lnTo>
                    <a:pt x="277525" y="146125"/>
                  </a:lnTo>
                  <a:close/>
                  <a:moveTo>
                    <a:pt x="231271" y="146125"/>
                  </a:moveTo>
                  <a:lnTo>
                    <a:pt x="263057" y="146125"/>
                  </a:lnTo>
                  <a:lnTo>
                    <a:pt x="263057" y="177911"/>
                  </a:lnTo>
                  <a:lnTo>
                    <a:pt x="231271" y="177911"/>
                  </a:lnTo>
                  <a:lnTo>
                    <a:pt x="231271" y="146125"/>
                  </a:lnTo>
                  <a:close/>
                  <a:moveTo>
                    <a:pt x="185016" y="146125"/>
                  </a:moveTo>
                  <a:lnTo>
                    <a:pt x="216803" y="146125"/>
                  </a:lnTo>
                  <a:lnTo>
                    <a:pt x="216803" y="177911"/>
                  </a:lnTo>
                  <a:lnTo>
                    <a:pt x="185016" y="177911"/>
                  </a:lnTo>
                  <a:lnTo>
                    <a:pt x="185016" y="146125"/>
                  </a:lnTo>
                  <a:close/>
                  <a:moveTo>
                    <a:pt x="138762" y="146125"/>
                  </a:moveTo>
                  <a:lnTo>
                    <a:pt x="170549" y="146125"/>
                  </a:lnTo>
                  <a:lnTo>
                    <a:pt x="170549" y="177911"/>
                  </a:lnTo>
                  <a:lnTo>
                    <a:pt x="138762" y="177911"/>
                  </a:lnTo>
                  <a:lnTo>
                    <a:pt x="138762" y="146125"/>
                  </a:lnTo>
                  <a:close/>
                  <a:moveTo>
                    <a:pt x="92508" y="146125"/>
                  </a:moveTo>
                  <a:lnTo>
                    <a:pt x="124294" y="146125"/>
                  </a:lnTo>
                  <a:lnTo>
                    <a:pt x="124294" y="177911"/>
                  </a:lnTo>
                  <a:lnTo>
                    <a:pt x="92508" y="177911"/>
                  </a:lnTo>
                  <a:lnTo>
                    <a:pt x="92508" y="146125"/>
                  </a:lnTo>
                  <a:close/>
                  <a:moveTo>
                    <a:pt x="46254" y="146125"/>
                  </a:moveTo>
                  <a:lnTo>
                    <a:pt x="78040" y="146125"/>
                  </a:lnTo>
                  <a:lnTo>
                    <a:pt x="78040" y="177911"/>
                  </a:lnTo>
                  <a:lnTo>
                    <a:pt x="46254" y="177911"/>
                  </a:lnTo>
                  <a:lnTo>
                    <a:pt x="46254" y="146125"/>
                  </a:lnTo>
                  <a:close/>
                  <a:moveTo>
                    <a:pt x="0" y="146125"/>
                  </a:moveTo>
                  <a:lnTo>
                    <a:pt x="31787" y="146125"/>
                  </a:lnTo>
                  <a:lnTo>
                    <a:pt x="31787" y="177911"/>
                  </a:lnTo>
                  <a:lnTo>
                    <a:pt x="0" y="177911"/>
                  </a:lnTo>
                  <a:lnTo>
                    <a:pt x="0" y="146125"/>
                  </a:lnTo>
                  <a:close/>
                  <a:moveTo>
                    <a:pt x="416287" y="121771"/>
                  </a:moveTo>
                  <a:lnTo>
                    <a:pt x="448074" y="121771"/>
                  </a:lnTo>
                  <a:lnTo>
                    <a:pt x="448074" y="153557"/>
                  </a:lnTo>
                  <a:lnTo>
                    <a:pt x="416287" y="153557"/>
                  </a:lnTo>
                  <a:lnTo>
                    <a:pt x="416287" y="121771"/>
                  </a:lnTo>
                  <a:close/>
                  <a:moveTo>
                    <a:pt x="370033" y="97417"/>
                  </a:moveTo>
                  <a:lnTo>
                    <a:pt x="401820" y="97417"/>
                  </a:lnTo>
                  <a:lnTo>
                    <a:pt x="401820" y="129203"/>
                  </a:lnTo>
                  <a:lnTo>
                    <a:pt x="370033" y="129203"/>
                  </a:lnTo>
                  <a:lnTo>
                    <a:pt x="370033" y="97417"/>
                  </a:lnTo>
                  <a:close/>
                  <a:moveTo>
                    <a:pt x="323779" y="97417"/>
                  </a:moveTo>
                  <a:lnTo>
                    <a:pt x="355565" y="97417"/>
                  </a:lnTo>
                  <a:lnTo>
                    <a:pt x="355565" y="129203"/>
                  </a:lnTo>
                  <a:lnTo>
                    <a:pt x="323779" y="129203"/>
                  </a:lnTo>
                  <a:lnTo>
                    <a:pt x="323779" y="97417"/>
                  </a:lnTo>
                  <a:close/>
                  <a:moveTo>
                    <a:pt x="277525" y="97417"/>
                  </a:moveTo>
                  <a:lnTo>
                    <a:pt x="309311" y="97417"/>
                  </a:lnTo>
                  <a:lnTo>
                    <a:pt x="309311" y="129203"/>
                  </a:lnTo>
                  <a:lnTo>
                    <a:pt x="277525" y="129203"/>
                  </a:lnTo>
                  <a:lnTo>
                    <a:pt x="277525" y="97417"/>
                  </a:lnTo>
                  <a:close/>
                  <a:moveTo>
                    <a:pt x="231271" y="97417"/>
                  </a:moveTo>
                  <a:lnTo>
                    <a:pt x="263057" y="97417"/>
                  </a:lnTo>
                  <a:lnTo>
                    <a:pt x="263057" y="129203"/>
                  </a:lnTo>
                  <a:lnTo>
                    <a:pt x="231271" y="129203"/>
                  </a:lnTo>
                  <a:lnTo>
                    <a:pt x="231271" y="97417"/>
                  </a:lnTo>
                  <a:close/>
                  <a:moveTo>
                    <a:pt x="185016" y="97417"/>
                  </a:moveTo>
                  <a:lnTo>
                    <a:pt x="216803" y="97417"/>
                  </a:lnTo>
                  <a:lnTo>
                    <a:pt x="216803" y="129203"/>
                  </a:lnTo>
                  <a:lnTo>
                    <a:pt x="185016" y="129203"/>
                  </a:lnTo>
                  <a:lnTo>
                    <a:pt x="185016" y="97417"/>
                  </a:lnTo>
                  <a:close/>
                  <a:moveTo>
                    <a:pt x="138762" y="97417"/>
                  </a:moveTo>
                  <a:lnTo>
                    <a:pt x="170549" y="97417"/>
                  </a:lnTo>
                  <a:lnTo>
                    <a:pt x="170549" y="129203"/>
                  </a:lnTo>
                  <a:lnTo>
                    <a:pt x="138762" y="129203"/>
                  </a:lnTo>
                  <a:lnTo>
                    <a:pt x="138762" y="97417"/>
                  </a:lnTo>
                  <a:close/>
                  <a:moveTo>
                    <a:pt x="92508" y="97417"/>
                  </a:moveTo>
                  <a:lnTo>
                    <a:pt x="124294" y="97417"/>
                  </a:lnTo>
                  <a:lnTo>
                    <a:pt x="124294" y="129203"/>
                  </a:lnTo>
                  <a:lnTo>
                    <a:pt x="92508" y="129203"/>
                  </a:lnTo>
                  <a:lnTo>
                    <a:pt x="92508" y="97417"/>
                  </a:lnTo>
                  <a:close/>
                  <a:moveTo>
                    <a:pt x="46254" y="97417"/>
                  </a:moveTo>
                  <a:lnTo>
                    <a:pt x="78040" y="97417"/>
                  </a:lnTo>
                  <a:lnTo>
                    <a:pt x="78040" y="129203"/>
                  </a:lnTo>
                  <a:lnTo>
                    <a:pt x="46254" y="129203"/>
                  </a:lnTo>
                  <a:lnTo>
                    <a:pt x="46254" y="97417"/>
                  </a:lnTo>
                  <a:close/>
                  <a:moveTo>
                    <a:pt x="0" y="97417"/>
                  </a:moveTo>
                  <a:lnTo>
                    <a:pt x="31787" y="97417"/>
                  </a:lnTo>
                  <a:lnTo>
                    <a:pt x="31787" y="129203"/>
                  </a:lnTo>
                  <a:lnTo>
                    <a:pt x="0" y="129203"/>
                  </a:lnTo>
                  <a:lnTo>
                    <a:pt x="0" y="97417"/>
                  </a:lnTo>
                  <a:close/>
                  <a:moveTo>
                    <a:pt x="323779" y="48708"/>
                  </a:moveTo>
                  <a:lnTo>
                    <a:pt x="355565" y="48708"/>
                  </a:lnTo>
                  <a:lnTo>
                    <a:pt x="355565" y="80495"/>
                  </a:lnTo>
                  <a:lnTo>
                    <a:pt x="323779" y="80495"/>
                  </a:lnTo>
                  <a:lnTo>
                    <a:pt x="323779" y="48708"/>
                  </a:lnTo>
                  <a:close/>
                  <a:moveTo>
                    <a:pt x="277525" y="48708"/>
                  </a:moveTo>
                  <a:lnTo>
                    <a:pt x="309311" y="48708"/>
                  </a:lnTo>
                  <a:lnTo>
                    <a:pt x="309311" y="80495"/>
                  </a:lnTo>
                  <a:lnTo>
                    <a:pt x="277525" y="80495"/>
                  </a:lnTo>
                  <a:lnTo>
                    <a:pt x="277525" y="48708"/>
                  </a:lnTo>
                  <a:close/>
                  <a:moveTo>
                    <a:pt x="277525" y="0"/>
                  </a:moveTo>
                  <a:lnTo>
                    <a:pt x="309311" y="0"/>
                  </a:lnTo>
                  <a:lnTo>
                    <a:pt x="309311" y="31787"/>
                  </a:lnTo>
                  <a:lnTo>
                    <a:pt x="277525" y="31787"/>
                  </a:lnTo>
                  <a:lnTo>
                    <a:pt x="277525"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 name="六边形 21"/>
          <p:cNvSpPr/>
          <p:nvPr/>
        </p:nvSpPr>
        <p:spPr>
          <a:xfrm>
            <a:off x="3921120" y="1165320"/>
            <a:ext cx="3422520" cy="3097080"/>
          </a:xfrm>
          <a:prstGeom prst="hexagon">
            <a:avLst>
              <a:gd name="adj" fmla="val 27734"/>
              <a:gd name="vf" fmla="val 115470"/>
            </a:avLst>
          </a:prstGeom>
          <a:solidFill>
            <a:srgbClr val="d9d9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任意多边形 22"/>
          <p:cNvSpPr/>
          <p:nvPr/>
        </p:nvSpPr>
        <p:spPr>
          <a:xfrm>
            <a:off x="6597720" y="2778120"/>
            <a:ext cx="2557440" cy="3095640"/>
          </a:xfrm>
          <a:custGeom>
            <a:avLst/>
            <a:gdLst/>
            <a:ahLst/>
            <a:rect l="l" t="t" r="r" b="b"/>
            <a:pathLst>
              <a:path w="3178630" h="3741574">
                <a:moveTo>
                  <a:pt x="1038025" y="0"/>
                </a:moveTo>
                <a:lnTo>
                  <a:pt x="3178630" y="0"/>
                </a:lnTo>
                <a:lnTo>
                  <a:pt x="3178630" y="3741574"/>
                </a:lnTo>
                <a:lnTo>
                  <a:pt x="1038025" y="3741574"/>
                </a:lnTo>
                <a:lnTo>
                  <a:pt x="0" y="1870787"/>
                </a:lnTo>
                <a:lnTo>
                  <a:pt x="1038025" y="0"/>
                </a:lnTo>
                <a:close/>
              </a:path>
            </a:pathLst>
          </a:custGeom>
          <a:solidFill>
            <a:srgbClr val="d9d9d9">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KSO_Shape"/>
          <p:cNvSpPr/>
          <p:nvPr/>
        </p:nvSpPr>
        <p:spPr>
          <a:xfrm>
            <a:off x="7591320" y="3786120"/>
            <a:ext cx="1094040" cy="1014480"/>
          </a:xfrm>
          <a:custGeom>
            <a:avLst/>
            <a:gdLst/>
            <a:ahLst/>
            <a:rect l="l" t="t" r="r" b="b"/>
            <a:pathLst>
              <a:path w="1160528" h="1137856">
                <a:moveTo>
                  <a:pt x="301373" y="145324"/>
                </a:moveTo>
                <a:cubicBezTo>
                  <a:pt x="77474" y="176329"/>
                  <a:pt x="-76715" y="585266"/>
                  <a:pt x="580264" y="1067944"/>
                </a:cubicBezTo>
                <a:cubicBezTo>
                  <a:pt x="1535870" y="365866"/>
                  <a:pt x="775286" y="-180195"/>
                  <a:pt x="580264" y="365866"/>
                </a:cubicBezTo>
                <a:cubicBezTo>
                  <a:pt x="519320" y="195222"/>
                  <a:pt x="403145" y="131231"/>
                  <a:pt x="301373" y="145324"/>
                </a:cubicBezTo>
                <a:close/>
                <a:moveTo>
                  <a:pt x="237013" y="2324"/>
                </a:moveTo>
                <a:cubicBezTo>
                  <a:pt x="362271" y="-15022"/>
                  <a:pt x="505256" y="63737"/>
                  <a:pt x="580264" y="273760"/>
                </a:cubicBezTo>
                <a:cubicBezTo>
                  <a:pt x="820291" y="-398315"/>
                  <a:pt x="1756395" y="273760"/>
                  <a:pt x="580264" y="1137856"/>
                </a:cubicBezTo>
                <a:cubicBezTo>
                  <a:pt x="-228326" y="543790"/>
                  <a:pt x="-38555" y="40484"/>
                  <a:pt x="237013" y="2324"/>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KSO_Shape"/>
          <p:cNvSpPr/>
          <p:nvPr/>
        </p:nvSpPr>
        <p:spPr>
          <a:xfrm>
            <a:off x="4991040" y="2286000"/>
            <a:ext cx="1184400" cy="1092240"/>
          </a:xfrm>
          <a:custGeom>
            <a:avLst/>
            <a:gdLst/>
            <a:ahLst/>
            <a:rect l="l" t="t" r="r" b="b"/>
            <a:pathLst>
              <a:path w="802377" h="800254">
                <a:moveTo>
                  <a:pt x="586746" y="175638"/>
                </a:moveTo>
                <a:cubicBezTo>
                  <a:pt x="616654" y="175638"/>
                  <a:pt x="640899" y="199883"/>
                  <a:pt x="640899" y="229791"/>
                </a:cubicBezTo>
                <a:cubicBezTo>
                  <a:pt x="640899" y="259699"/>
                  <a:pt x="616654" y="283944"/>
                  <a:pt x="586746" y="283944"/>
                </a:cubicBezTo>
                <a:cubicBezTo>
                  <a:pt x="556838" y="283944"/>
                  <a:pt x="532593" y="259699"/>
                  <a:pt x="532593" y="229791"/>
                </a:cubicBezTo>
                <a:cubicBezTo>
                  <a:pt x="532593" y="199883"/>
                  <a:pt x="556838" y="175638"/>
                  <a:pt x="586746" y="175638"/>
                </a:cubicBezTo>
                <a:close/>
                <a:moveTo>
                  <a:pt x="105683" y="105404"/>
                </a:moveTo>
                <a:lnTo>
                  <a:pt x="105683" y="694851"/>
                </a:lnTo>
                <a:lnTo>
                  <a:pt x="110500" y="694851"/>
                </a:lnTo>
                <a:cubicBezTo>
                  <a:pt x="155363" y="594841"/>
                  <a:pt x="208078" y="392209"/>
                  <a:pt x="245090" y="394820"/>
                </a:cubicBezTo>
                <a:cubicBezTo>
                  <a:pt x="282102" y="397431"/>
                  <a:pt x="283667" y="518205"/>
                  <a:pt x="302955" y="579898"/>
                </a:cubicBezTo>
                <a:cubicBezTo>
                  <a:pt x="342193" y="499858"/>
                  <a:pt x="380513" y="338668"/>
                  <a:pt x="420668" y="339778"/>
                </a:cubicBezTo>
                <a:cubicBezTo>
                  <a:pt x="460823" y="340888"/>
                  <a:pt x="471437" y="489705"/>
                  <a:pt x="496821" y="564668"/>
                </a:cubicBezTo>
                <a:cubicBezTo>
                  <a:pt x="530121" y="522589"/>
                  <a:pt x="566349" y="438139"/>
                  <a:pt x="596720" y="438432"/>
                </a:cubicBezTo>
                <a:cubicBezTo>
                  <a:pt x="627091" y="438725"/>
                  <a:pt x="663369" y="604447"/>
                  <a:pt x="696694" y="687455"/>
                </a:cubicBezTo>
                <a:lnTo>
                  <a:pt x="696694" y="105404"/>
                </a:lnTo>
                <a:lnTo>
                  <a:pt x="105683" y="105404"/>
                </a:lnTo>
                <a:close/>
                <a:moveTo>
                  <a:pt x="0" y="0"/>
                </a:moveTo>
                <a:lnTo>
                  <a:pt x="802377" y="0"/>
                </a:lnTo>
                <a:lnTo>
                  <a:pt x="802377" y="800254"/>
                </a:lnTo>
                <a:lnTo>
                  <a:pt x="0" y="800254"/>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F5DC-C173-420D-8221-2F68387A2676}" type="datetime">
              <a:rPr b="0" lang="zh-CN" sz="900" spc="-1" strike="noStrike">
                <a:solidFill>
                  <a:srgbClr val="9d9d9d"/>
                </a:solidFill>
                <a:latin typeface="Times New Roman"/>
              </a:rPr>
              <a:t>26/7/28</a:t>
            </a:fld>
            <a:endParaRPr b="0" lang="en-US" sz="900" spc="-1" strike="noStrike">
              <a:solidFill>
                <a:srgbClr val="000000"/>
              </a:solidFill>
              <a:latin typeface="Times New Roman"/>
            </a:endParaRPr>
          </a:p>
        </p:txBody>
      </p:sp>
      <p:sp>
        <p:nvSpPr>
          <p:cNvPr id="99"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9d9d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E7FE-9330-40C9-8297-FB85EA2DDE72}" type="slidenum">
              <a:rPr b="0" lang="zh-CN" sz="900" spc="-1" strike="noStrike">
                <a:solidFill>
                  <a:srgbClr val="9d9d9d"/>
                </a:solidFill>
                <a:latin typeface="Times New Roman"/>
              </a:rPr>
              <a:t>&lt;number&gt;</a:t>
            </a:fld>
            <a:endParaRPr b="0" lang="en-US" sz="900" spc="-1" strike="noStrike">
              <a:solidFill>
                <a:srgbClr val="000000"/>
              </a:solidFill>
              <a:latin typeface="Times New Roman"/>
            </a:endParaRPr>
          </a:p>
        </p:txBody>
      </p:sp>
      <p:sp>
        <p:nvSpPr>
          <p:cNvPr id="101" name="PlaceHolder 4"/>
          <p:cNvSpPr>
            <a:spLocks noGrp="1"/>
          </p:cNvSpPr>
          <p:nvPr>
            <p:ph type="title"/>
          </p:nvPr>
        </p:nvSpPr>
        <p:spPr>
          <a:xfrm>
            <a:off x="1371600" y="2616120"/>
            <a:ext cx="7020000" cy="6796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c00000"/>
                </a:solidFill>
                <a:latin typeface="华文中宋"/>
              </a:rPr>
              <a:t>Click to edit the title text format</a:t>
            </a:r>
            <a:endParaRPr b="1" lang="en-US" sz="3200" spc="-1" strike="noStrike">
              <a:solidFill>
                <a:srgbClr val="c00000"/>
              </a:solidFill>
              <a:latin typeface="华文中宋"/>
            </a:endParaRPr>
          </a:p>
        </p:txBody>
      </p:sp>
      <p:sp>
        <p:nvSpPr>
          <p:cNvPr id="10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4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Click to edit the outline text format</a:t>
            </a:r>
            <a:endParaRPr b="0" lang="en-US" sz="2400" spc="-1" strike="noStrike">
              <a:solidFill>
                <a:srgbClr val="c00000"/>
              </a:solidFill>
              <a:latin typeface="幼圆"/>
            </a:endParaRPr>
          </a:p>
          <a:p>
            <a:pPr lvl="1" indent="0" algn="ctr">
              <a:lnSpc>
                <a:spcPct val="120000"/>
              </a:lnSpc>
              <a:spcAft>
                <a:spcPts val="45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5f5f5f"/>
                </a:solidFill>
                <a:latin typeface="幼圆"/>
              </a:rPr>
              <a:t>Second Outline Level</a:t>
            </a:r>
            <a:endParaRPr b="0" lang="en-US" sz="1600" spc="-1" strike="noStrike">
              <a:solidFill>
                <a:srgbClr val="5f5f5f"/>
              </a:solidFill>
              <a:latin typeface="幼圆"/>
            </a:endParaRPr>
          </a:p>
          <a:p>
            <a:pPr lvl="2" marL="685800" algn="ctr">
              <a:lnSpc>
                <a:spcPct val="90000"/>
              </a:lnSpc>
              <a:spcBef>
                <a:spcPts val="374"/>
              </a:spcBef>
              <a:buClr>
                <a:srgbClr val="5f5f5f"/>
              </a:buClr>
              <a:buFont typeface="Arial"/>
              <a:buChar cha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5f5f5f"/>
                </a:solidFill>
                <a:latin typeface="Calibri"/>
              </a:rPr>
              <a:t>Third Outline Level</a:t>
            </a:r>
            <a:endParaRPr b="0" lang="en-US" sz="1500" spc="-1" strike="noStrike">
              <a:solidFill>
                <a:srgbClr val="5f5f5f"/>
              </a:solidFill>
              <a:latin typeface="Calibri"/>
            </a:endParaRPr>
          </a:p>
          <a:p>
            <a:pPr lvl="3" marL="1028880" algn="ctr">
              <a:lnSpc>
                <a:spcPct val="90000"/>
              </a:lnSpc>
              <a:spcBef>
                <a:spcPts val="374"/>
              </a:spcBef>
              <a:buClr>
                <a:srgbClr val="5f5f5f"/>
              </a:buClr>
              <a:buFont typeface="Arial"/>
              <a:buChar char="•"/>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5f5f5f"/>
                </a:solidFill>
                <a:latin typeface="Calibri"/>
              </a:rPr>
              <a:t>Fourth Outline Level</a:t>
            </a:r>
            <a:endParaRPr b="0" lang="en-US" sz="1300" spc="-1" strike="noStrike">
              <a:solidFill>
                <a:srgbClr val="5f5f5f"/>
              </a:solidFill>
              <a:latin typeface="Calibri"/>
            </a:endParaRPr>
          </a:p>
          <a:p>
            <a:pPr lvl="4" marL="1371600" algn="ctr">
              <a:lnSpc>
                <a:spcPct val="90000"/>
              </a:lnSpc>
              <a:spcBef>
                <a:spcPts val="374"/>
              </a:spcBef>
              <a:buClr>
                <a:srgbClr val="5f5f5f"/>
              </a:buClr>
              <a:buFont typeface="Arial"/>
              <a:buChar char="•"/>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5f5f5f"/>
                </a:solidFill>
                <a:latin typeface="Calibri"/>
              </a:rPr>
              <a:t>Fifth Outline Level</a:t>
            </a:r>
            <a:endParaRPr b="0" lang="en-US" sz="1300" spc="-1" strike="noStrike">
              <a:solidFill>
                <a:srgbClr val="5f5f5f"/>
              </a:solidFill>
              <a:latin typeface="Calibri"/>
            </a:endParaRPr>
          </a:p>
          <a:p>
            <a:pPr lvl="5" marL="1371600">
              <a:spcBef>
                <a:spcPts val="326"/>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alibri"/>
              </a:rPr>
              <a:t>Sixth Outline Level</a:t>
            </a:r>
            <a:endParaRPr b="0" lang="en-US" sz="1300" spc="-1" strike="noStrike">
              <a:solidFill>
                <a:srgbClr val="5f5f5f"/>
              </a:solidFill>
              <a:latin typeface="Calibri"/>
            </a:endParaRPr>
          </a:p>
          <a:p>
            <a:pPr lvl="6" marL="1371600">
              <a:spcBef>
                <a:spcPts val="326"/>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f5f5f"/>
                </a:solidFill>
                <a:latin typeface="Calibri"/>
              </a:rPr>
              <a:t>Seventh Outline Level</a:t>
            </a:r>
            <a:endParaRPr b="0" lang="en-US" sz="1300" spc="-1" strike="noStrike">
              <a:solidFill>
                <a:srgbClr val="5f5f5f"/>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857240" y="2236320"/>
            <a:ext cx="5740560" cy="210348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5400" spc="-1" strike="noStrike">
                <a:solidFill>
                  <a:srgbClr val="c00000"/>
                </a:solidFill>
                <a:latin typeface="华文中宋"/>
              </a:rPr>
              <a:t>新生儿红臀</a:t>
            </a:r>
            <a:br>
              <a:rPr sz="5400"/>
            </a:br>
            <a:r>
              <a:rPr b="1" lang="zh-CN" sz="5400" spc="-1" strike="noStrike">
                <a:solidFill>
                  <a:srgbClr val="c00000"/>
                </a:solidFill>
                <a:latin typeface="华文中宋"/>
              </a:rPr>
              <a:t>及抓伤护理查房</a:t>
            </a:r>
            <a:br>
              <a:rPr sz="5400"/>
            </a:br>
            <a:endParaRPr b="1" lang="en-US" sz="5400" spc="-1" strike="noStrike">
              <a:solidFill>
                <a:srgbClr val="c00000"/>
              </a:solidFill>
              <a:latin typeface="华文中宋"/>
            </a:endParaRPr>
          </a:p>
        </p:txBody>
      </p:sp>
      <p:sp>
        <p:nvSpPr>
          <p:cNvPr id="140" name="PlaceHolder 2"/>
          <p:cNvSpPr>
            <a:spLocks noGrp="1"/>
          </p:cNvSpPr>
          <p:nvPr>
            <p:ph type="subTitle"/>
          </p:nvPr>
        </p:nvSpPr>
        <p:spPr>
          <a:xfrm>
            <a:off x="6887880" y="5117760"/>
            <a:ext cx="2033640" cy="1400040"/>
          </a:xfrm>
          <a:prstGeom prst="rect">
            <a:avLst/>
          </a:prstGeom>
          <a:noFill/>
          <a:ln w="0">
            <a:noFill/>
          </a:ln>
        </p:spPr>
        <p:txBody>
          <a:bodyPr lIns="90000" rIns="90000" tIns="46800" bIns="46800" anchor="t">
            <a:noAutofit/>
          </a:bodyPr>
          <a:p>
            <a:pPr indent="0" algn="r">
              <a:lnSpc>
                <a:spcPct val="9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新生儿科   </a:t>
            </a:r>
            <a:endParaRPr b="0" lang="en-US" sz="2400" spc="-1" strike="noStrike">
              <a:solidFill>
                <a:srgbClr val="c00000"/>
              </a:solidFill>
              <a:latin typeface="幼圆"/>
            </a:endParaRPr>
          </a:p>
          <a:p>
            <a:pPr indent="0" algn="r">
              <a:lnSpc>
                <a:spcPct val="9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王惠</a:t>
            </a:r>
            <a:endParaRPr b="0" lang="en-US" sz="2400" spc="-1" strike="noStrike">
              <a:solidFill>
                <a:srgbClr val="c00000"/>
              </a:solidFill>
              <a:latin typeface="幼圆"/>
            </a:endParaRPr>
          </a:p>
          <a:p>
            <a:pPr indent="0" algn="r">
              <a:lnSpc>
                <a:spcPct val="9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2015.04</a:t>
            </a:r>
            <a:endParaRPr b="0" lang="en-US" sz="24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2590920" y="2160720"/>
            <a:ext cx="46702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谢谢！</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华文中宋"/>
              </a:rPr>
              <a:t>一、概述</a:t>
            </a:r>
            <a:endParaRPr b="1" lang="en-US" sz="2800" spc="-1" strike="noStrike">
              <a:solidFill>
                <a:srgbClr val="c00000"/>
              </a:solidFill>
              <a:latin typeface="华文中宋"/>
            </a:endParaRPr>
          </a:p>
        </p:txBody>
      </p:sp>
      <p:sp>
        <p:nvSpPr>
          <p:cNvPr id="142"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marL="266760" indent="-266760" algn="just">
              <a:lnSpc>
                <a:spcPct val="11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5f5f5f"/>
                </a:solidFill>
                <a:latin typeface="幼圆"/>
              </a:rPr>
              <a:t>新生儿高胆红素血症</a:t>
            </a:r>
            <a:r>
              <a:rPr b="0" lang="zh-CN" sz="2400" spc="-1" strike="noStrike">
                <a:solidFill>
                  <a:srgbClr val="c00000"/>
                </a:solidFill>
                <a:latin typeface="幼圆"/>
              </a:rPr>
              <a:t>的概念：广义上讲，由于新生儿时期胆红素生成过多</a:t>
            </a:r>
            <a:r>
              <a:rPr b="0" lang="zh-CN" sz="2400" spc="-1" strike="noStrike">
                <a:solidFill>
                  <a:srgbClr val="c00000"/>
                </a:solidFill>
                <a:latin typeface="幼圆"/>
              </a:rPr>
              <a:t>, </a:t>
            </a:r>
            <a:r>
              <a:rPr b="0" lang="zh-CN" sz="2400" spc="-1" strike="noStrike">
                <a:solidFill>
                  <a:srgbClr val="c00000"/>
                </a:solidFill>
                <a:latin typeface="幼圆"/>
              </a:rPr>
              <a:t>肝脏摄取、结合和排泄功能不足，以及过多的肠肝循环使胆红素重吸收增加，或胆红素摄取和结合有缺陷，使血清胆红素水平超过一定范围，临床上以足月儿血清总胆红素超过</a:t>
            </a:r>
            <a:r>
              <a:rPr b="0" lang="zh-CN" sz="2400" spc="-1" strike="noStrike">
                <a:solidFill>
                  <a:srgbClr val="c00000"/>
                </a:solidFill>
                <a:latin typeface="幼圆"/>
              </a:rPr>
              <a:t>205.2μmol/L(12mg</a:t>
            </a:r>
            <a:r>
              <a:rPr b="0" lang="zh-CN" sz="2400" spc="-1" strike="noStrike">
                <a:solidFill>
                  <a:srgbClr val="c00000"/>
                </a:solidFill>
                <a:latin typeface="幼圆"/>
              </a:rPr>
              <a:t>／</a:t>
            </a:r>
            <a:r>
              <a:rPr b="0" lang="zh-CN" sz="2400" spc="-1" strike="noStrike">
                <a:solidFill>
                  <a:srgbClr val="c00000"/>
                </a:solidFill>
                <a:latin typeface="幼圆"/>
              </a:rPr>
              <a:t>dl)</a:t>
            </a:r>
            <a:r>
              <a:rPr b="0" lang="zh-CN" sz="2400" spc="-1" strike="noStrike">
                <a:solidFill>
                  <a:srgbClr val="c00000"/>
                </a:solidFill>
                <a:latin typeface="幼圆"/>
              </a:rPr>
              <a:t>，早产儿超过</a:t>
            </a:r>
            <a:r>
              <a:rPr b="0" lang="zh-CN" sz="2400" spc="-1" strike="noStrike">
                <a:solidFill>
                  <a:srgbClr val="c00000"/>
                </a:solidFill>
                <a:latin typeface="幼圆"/>
              </a:rPr>
              <a:t>256.5μmol/L(16mg</a:t>
            </a:r>
            <a:r>
              <a:rPr b="0" lang="zh-CN" sz="2400" spc="-1" strike="noStrike">
                <a:solidFill>
                  <a:srgbClr val="c00000"/>
                </a:solidFill>
                <a:latin typeface="幼圆"/>
              </a:rPr>
              <a:t>／</a:t>
            </a:r>
            <a:r>
              <a:rPr b="0" lang="zh-CN" sz="2400" spc="-1" strike="noStrike">
                <a:solidFill>
                  <a:srgbClr val="c00000"/>
                </a:solidFill>
                <a:latin typeface="幼圆"/>
              </a:rPr>
              <a:t>dl)</a:t>
            </a:r>
            <a:r>
              <a:rPr b="0" lang="zh-CN" sz="2400" spc="-1" strike="noStrike">
                <a:solidFill>
                  <a:srgbClr val="c00000"/>
                </a:solidFill>
                <a:latin typeface="幼圆"/>
              </a:rPr>
              <a:t>称为高胆红素</a:t>
            </a:r>
            <a:endParaRPr b="0" lang="en-US" sz="24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11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5f5f5f"/>
                </a:solidFill>
                <a:latin typeface="幼圆"/>
              </a:rPr>
              <a:t>新生儿腹泻病</a:t>
            </a:r>
            <a:r>
              <a:rPr b="0" lang="zh-CN" sz="2400" spc="-1" strike="noStrike">
                <a:solidFill>
                  <a:srgbClr val="c00000"/>
                </a:solidFill>
                <a:latin typeface="幼圆"/>
              </a:rPr>
              <a:t>：是一组由多病原、多因素引起的以大便次数增多和大便形状改变为特点的消化道综合征。是我国婴幼儿常见的疾病之一。</a:t>
            </a:r>
            <a:endParaRPr b="0" lang="en-US" sz="24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华文中宋"/>
              </a:rPr>
              <a:t>一、概述</a:t>
            </a:r>
            <a:endParaRPr b="1" lang="en-US" sz="2800" spc="-1" strike="noStrike">
              <a:solidFill>
                <a:srgbClr val="c00000"/>
              </a:solidFill>
              <a:latin typeface="华文中宋"/>
            </a:endParaRPr>
          </a:p>
        </p:txBody>
      </p:sp>
      <p:sp>
        <p:nvSpPr>
          <p:cNvPr id="144"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marL="266760" indent="-266760" algn="just">
              <a:lnSpc>
                <a:spcPct val="11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5f5f5f"/>
                </a:solidFill>
                <a:latin typeface="幼圆"/>
              </a:rPr>
              <a:t>新生儿脓疱疹：</a:t>
            </a:r>
            <a:r>
              <a:rPr b="0" lang="zh-CN" sz="2400" spc="-1" strike="noStrike">
                <a:solidFill>
                  <a:srgbClr val="c00000"/>
                </a:solidFill>
                <a:latin typeface="幼圆"/>
              </a:rPr>
              <a:t>为发生在新生儿的急性传染性化脓性皮肤病</a:t>
            </a:r>
            <a:r>
              <a:rPr b="0" lang="zh-CN" sz="2400" spc="-1" strike="noStrike">
                <a:solidFill>
                  <a:srgbClr val="c00000"/>
                </a:solidFill>
                <a:latin typeface="幼圆"/>
              </a:rPr>
              <a:t>,</a:t>
            </a:r>
            <a:r>
              <a:rPr b="0" lang="zh-CN" sz="2400" spc="-1" strike="noStrike">
                <a:solidFill>
                  <a:srgbClr val="c00000"/>
                </a:solidFill>
                <a:latin typeface="幼圆"/>
              </a:rPr>
              <a:t>发病急剧</a:t>
            </a:r>
            <a:r>
              <a:rPr b="0" lang="zh-CN" sz="2400" spc="-1" strike="noStrike">
                <a:solidFill>
                  <a:srgbClr val="c00000"/>
                </a:solidFill>
                <a:latin typeface="幼圆"/>
              </a:rPr>
              <a:t>,</a:t>
            </a:r>
            <a:r>
              <a:rPr b="0" lang="zh-CN" sz="2400" spc="-1" strike="noStrike">
                <a:solidFill>
                  <a:srgbClr val="c00000"/>
                </a:solidFill>
                <a:latin typeface="幼圆"/>
              </a:rPr>
              <a:t>传染性强</a:t>
            </a:r>
            <a:r>
              <a:rPr b="0" lang="zh-CN" sz="2400" spc="-1" strike="noStrike">
                <a:solidFill>
                  <a:srgbClr val="c00000"/>
                </a:solidFill>
                <a:latin typeface="幼圆"/>
              </a:rPr>
              <a:t>.</a:t>
            </a:r>
            <a:r>
              <a:rPr b="0" lang="zh-CN" sz="2400" spc="-1" strike="noStrike">
                <a:solidFill>
                  <a:srgbClr val="c00000"/>
                </a:solidFill>
                <a:latin typeface="幼圆"/>
              </a:rPr>
              <a:t>由于新生儿皮肤细嫩</a:t>
            </a:r>
            <a:r>
              <a:rPr b="0" lang="zh-CN" sz="2400" spc="-1" strike="noStrike">
                <a:solidFill>
                  <a:srgbClr val="c00000"/>
                </a:solidFill>
                <a:latin typeface="幼圆"/>
              </a:rPr>
              <a:t>,</a:t>
            </a:r>
            <a:r>
              <a:rPr b="0" lang="zh-CN" sz="2400" spc="-1" strike="noStrike">
                <a:solidFill>
                  <a:srgbClr val="c00000"/>
                </a:solidFill>
                <a:latin typeface="幼圆"/>
              </a:rPr>
              <a:t>角质层薄</a:t>
            </a:r>
            <a:r>
              <a:rPr b="0" lang="zh-CN" sz="2400" spc="-1" strike="noStrike">
                <a:solidFill>
                  <a:srgbClr val="c00000"/>
                </a:solidFill>
                <a:latin typeface="幼圆"/>
              </a:rPr>
              <a:t>,</a:t>
            </a:r>
            <a:r>
              <a:rPr b="0" lang="zh-CN" sz="2400" spc="-1" strike="noStrike">
                <a:solidFill>
                  <a:srgbClr val="c00000"/>
                </a:solidFill>
                <a:latin typeface="幼圆"/>
              </a:rPr>
              <a:t>皮下血管网丰富</a:t>
            </a:r>
            <a:r>
              <a:rPr b="0" lang="zh-CN" sz="2400" spc="-1" strike="noStrike">
                <a:solidFill>
                  <a:srgbClr val="c00000"/>
                </a:solidFill>
                <a:latin typeface="幼圆"/>
              </a:rPr>
              <a:t>.</a:t>
            </a:r>
            <a:r>
              <a:rPr b="0" lang="zh-CN" sz="2400" spc="-1" strike="noStrike">
                <a:solidFill>
                  <a:srgbClr val="c00000"/>
                </a:solidFill>
                <a:latin typeface="幼圆"/>
              </a:rPr>
              <a:t>因而防御能力差</a:t>
            </a:r>
            <a:r>
              <a:rPr b="0" lang="zh-CN" sz="2400" spc="-1" strike="noStrike">
                <a:solidFill>
                  <a:srgbClr val="c00000"/>
                </a:solidFill>
                <a:latin typeface="幼圆"/>
              </a:rPr>
              <a:t>,</a:t>
            </a:r>
            <a:r>
              <a:rPr b="0" lang="zh-CN" sz="2400" spc="-1" strike="noStrike">
                <a:solidFill>
                  <a:srgbClr val="c00000"/>
                </a:solidFill>
                <a:latin typeface="幼圆"/>
              </a:rPr>
              <a:t>存在于皮肤表面的金黄色葡萄球菌、链球菌容易侵入</a:t>
            </a:r>
            <a:r>
              <a:rPr b="0" lang="zh-CN" sz="2400" spc="-1" strike="noStrike">
                <a:solidFill>
                  <a:srgbClr val="c00000"/>
                </a:solidFill>
                <a:latin typeface="幼圆"/>
              </a:rPr>
              <a:t>.</a:t>
            </a:r>
            <a:r>
              <a:rPr b="0" lang="zh-CN" sz="2400" spc="-1" strike="noStrike">
                <a:solidFill>
                  <a:srgbClr val="c00000"/>
                </a:solidFill>
                <a:latin typeface="幼圆"/>
              </a:rPr>
              <a:t>由凝固酶阳性</a:t>
            </a:r>
            <a:r>
              <a:rPr b="0" lang="zh-CN" sz="2400" spc="-1" strike="noStrike">
                <a:solidFill>
                  <a:srgbClr val="c00000"/>
                </a:solidFill>
                <a:latin typeface="幼圆"/>
              </a:rPr>
              <a:t>,</a:t>
            </a:r>
            <a:r>
              <a:rPr b="0" lang="zh-CN" sz="2400" spc="-1" strike="noStrike">
                <a:solidFill>
                  <a:srgbClr val="c00000"/>
                </a:solidFill>
                <a:latin typeface="幼圆"/>
              </a:rPr>
              <a:t>噬菌体Ⅱ组</a:t>
            </a:r>
            <a:r>
              <a:rPr b="0" lang="zh-CN" sz="2400" spc="-1" strike="noStrike">
                <a:solidFill>
                  <a:srgbClr val="c00000"/>
                </a:solidFill>
                <a:latin typeface="幼圆"/>
              </a:rPr>
              <a:t>71</a:t>
            </a:r>
            <a:r>
              <a:rPr b="0" lang="zh-CN" sz="2400" spc="-1" strike="noStrike">
                <a:solidFill>
                  <a:srgbClr val="c00000"/>
                </a:solidFill>
                <a:latin typeface="幼圆"/>
              </a:rPr>
              <a:t>型金黄色葡萄球菌接触传染所致</a:t>
            </a:r>
            <a:r>
              <a:rPr b="0" lang="zh-CN" sz="2400" spc="-1" strike="noStrike">
                <a:solidFill>
                  <a:srgbClr val="c00000"/>
                </a:solidFill>
                <a:latin typeface="幼圆"/>
              </a:rPr>
              <a:t>.</a:t>
            </a:r>
            <a:r>
              <a:rPr b="0" lang="zh-CN" sz="2400" spc="-1" strike="noStrike">
                <a:solidFill>
                  <a:srgbClr val="c00000"/>
                </a:solidFill>
                <a:latin typeface="幼圆"/>
              </a:rPr>
              <a:t>因新生儿初次接触细菌</a:t>
            </a:r>
            <a:r>
              <a:rPr b="0" lang="zh-CN" sz="2400" spc="-1" strike="noStrike">
                <a:solidFill>
                  <a:srgbClr val="c00000"/>
                </a:solidFill>
                <a:latin typeface="幼圆"/>
              </a:rPr>
              <a:t>,</a:t>
            </a:r>
            <a:r>
              <a:rPr b="0" lang="zh-CN" sz="2400" spc="-1" strike="noStrike">
                <a:solidFill>
                  <a:srgbClr val="c00000"/>
                </a:solidFill>
                <a:latin typeface="幼圆"/>
              </a:rPr>
              <a:t>对细菌特别敏感</a:t>
            </a:r>
            <a:r>
              <a:rPr b="0" lang="zh-CN" sz="2400" spc="-1" strike="noStrike">
                <a:solidFill>
                  <a:srgbClr val="c00000"/>
                </a:solidFill>
                <a:latin typeface="幼圆"/>
              </a:rPr>
              <a:t>,</a:t>
            </a:r>
            <a:r>
              <a:rPr b="0" lang="zh-CN" sz="2400" spc="-1" strike="noStrike">
                <a:solidFill>
                  <a:srgbClr val="c00000"/>
                </a:solidFill>
                <a:latin typeface="幼圆"/>
              </a:rPr>
              <a:t>再加上包裹过严</a:t>
            </a:r>
            <a:r>
              <a:rPr b="0" lang="zh-CN" sz="2400" spc="-1" strike="noStrike">
                <a:solidFill>
                  <a:srgbClr val="c00000"/>
                </a:solidFill>
                <a:latin typeface="幼圆"/>
              </a:rPr>
              <a:t>,</a:t>
            </a:r>
            <a:r>
              <a:rPr b="0" lang="zh-CN" sz="2400" spc="-1" strike="noStrike">
                <a:solidFill>
                  <a:srgbClr val="c00000"/>
                </a:solidFill>
                <a:latin typeface="幼圆"/>
              </a:rPr>
              <a:t>天热多汗</a:t>
            </a:r>
            <a:r>
              <a:rPr b="0" lang="zh-CN" sz="2400" spc="-1" strike="noStrike">
                <a:solidFill>
                  <a:srgbClr val="c00000"/>
                </a:solidFill>
                <a:latin typeface="幼圆"/>
              </a:rPr>
              <a:t>,</a:t>
            </a:r>
            <a:r>
              <a:rPr b="0" lang="zh-CN" sz="2400" spc="-1" strike="noStrike">
                <a:solidFill>
                  <a:srgbClr val="c00000"/>
                </a:solidFill>
                <a:latin typeface="幼圆"/>
              </a:rPr>
              <a:t>使局部皮肤温度、湿度较高</a:t>
            </a:r>
            <a:r>
              <a:rPr b="0" lang="zh-CN" sz="2400" spc="-1" strike="noStrike">
                <a:solidFill>
                  <a:srgbClr val="c00000"/>
                </a:solidFill>
                <a:latin typeface="幼圆"/>
              </a:rPr>
              <a:t>,</a:t>
            </a:r>
            <a:r>
              <a:rPr b="0" lang="zh-CN" sz="2400" spc="-1" strike="noStrike">
                <a:solidFill>
                  <a:srgbClr val="c00000"/>
                </a:solidFill>
                <a:latin typeface="幼圆"/>
              </a:rPr>
              <a:t>皮肤易受浸渍</a:t>
            </a:r>
            <a:r>
              <a:rPr b="0" lang="zh-CN" sz="2400" spc="-1" strike="noStrike">
                <a:solidFill>
                  <a:srgbClr val="c00000"/>
                </a:solidFill>
                <a:latin typeface="幼圆"/>
              </a:rPr>
              <a:t>,</a:t>
            </a:r>
            <a:r>
              <a:rPr b="0" lang="zh-CN" sz="2400" spc="-1" strike="noStrike">
                <a:solidFill>
                  <a:srgbClr val="c00000"/>
                </a:solidFill>
                <a:latin typeface="幼圆"/>
              </a:rPr>
              <a:t>给化脓菌入和繁殖造成良好条件</a:t>
            </a:r>
            <a:r>
              <a:rPr b="0" lang="zh-CN" sz="2400" spc="-1" strike="noStrike">
                <a:solidFill>
                  <a:srgbClr val="c00000"/>
                </a:solidFill>
                <a:latin typeface="幼圆"/>
              </a:rPr>
              <a:t>,</a:t>
            </a:r>
            <a:r>
              <a:rPr b="0" lang="zh-CN" sz="2400" spc="-1" strike="noStrike">
                <a:solidFill>
                  <a:srgbClr val="c00000"/>
                </a:solidFill>
                <a:latin typeface="幼圆"/>
              </a:rPr>
              <a:t>常发生在出生后一周</a:t>
            </a:r>
            <a:r>
              <a:rPr b="0" lang="zh-CN" sz="2400" spc="-1" strike="noStrike">
                <a:solidFill>
                  <a:srgbClr val="c00000"/>
                </a:solidFill>
                <a:latin typeface="幼圆"/>
              </a:rPr>
              <a:t>,</a:t>
            </a:r>
            <a:r>
              <a:rPr b="0" lang="zh-CN" sz="2400" spc="-1" strike="noStrike">
                <a:solidFill>
                  <a:srgbClr val="c00000"/>
                </a:solidFill>
                <a:latin typeface="幼圆"/>
              </a:rPr>
              <a:t>常见部位为新生儿头部、颈部、腋下、腹股沟等皮肤皱褶处</a:t>
            </a:r>
            <a:r>
              <a:rPr b="0" lang="zh-CN" sz="2400" spc="-1" strike="noStrike">
                <a:solidFill>
                  <a:srgbClr val="c00000"/>
                </a:solidFill>
                <a:latin typeface="幼圆"/>
              </a:rPr>
              <a:t>,</a:t>
            </a:r>
            <a:r>
              <a:rPr b="0" lang="zh-CN" sz="2400" spc="-1" strike="noStrike">
                <a:solidFill>
                  <a:srgbClr val="c00000"/>
                </a:solidFill>
                <a:latin typeface="幼圆"/>
              </a:rPr>
              <a:t>病变发生迅速</a:t>
            </a:r>
            <a:r>
              <a:rPr b="0" lang="zh-CN" sz="2400" spc="-1" strike="noStrike">
                <a:solidFill>
                  <a:srgbClr val="c00000"/>
                </a:solidFill>
                <a:latin typeface="幼圆"/>
              </a:rPr>
              <a:t>,</a:t>
            </a:r>
            <a:r>
              <a:rPr b="0" lang="zh-CN" sz="2400" spc="-1" strike="noStrike">
                <a:solidFill>
                  <a:srgbClr val="c00000"/>
                </a:solidFill>
                <a:latin typeface="幼圆"/>
              </a:rPr>
              <a:t>如不及时治疗</a:t>
            </a:r>
            <a:r>
              <a:rPr b="0" lang="zh-CN" sz="2400" spc="-1" strike="noStrike">
                <a:solidFill>
                  <a:srgbClr val="c00000"/>
                </a:solidFill>
                <a:latin typeface="幼圆"/>
              </a:rPr>
              <a:t>,</a:t>
            </a:r>
            <a:r>
              <a:rPr b="0" lang="zh-CN" sz="2400" spc="-1" strike="noStrike">
                <a:solidFill>
                  <a:srgbClr val="c00000"/>
                </a:solidFill>
                <a:latin typeface="幼圆"/>
              </a:rPr>
              <a:t>常在数小时或</a:t>
            </a:r>
            <a:r>
              <a:rPr b="0" lang="zh-CN" sz="2400" spc="-1" strike="noStrike">
                <a:solidFill>
                  <a:srgbClr val="c00000"/>
                </a:solidFill>
                <a:latin typeface="幼圆"/>
              </a:rPr>
              <a:t>1</a:t>
            </a:r>
            <a:r>
              <a:rPr b="0" lang="zh-CN" sz="2400" spc="-1" strike="noStrike">
                <a:solidFill>
                  <a:srgbClr val="c00000"/>
                </a:solidFill>
                <a:latin typeface="幼圆"/>
              </a:rPr>
              <a:t>～</a:t>
            </a:r>
            <a:r>
              <a:rPr b="0" lang="zh-CN" sz="2400" spc="-1" strike="noStrike">
                <a:solidFill>
                  <a:srgbClr val="c00000"/>
                </a:solidFill>
                <a:latin typeface="幼圆"/>
              </a:rPr>
              <a:t>2 d</a:t>
            </a:r>
            <a:r>
              <a:rPr b="0" lang="zh-CN" sz="2400" spc="-1" strike="noStrike">
                <a:solidFill>
                  <a:srgbClr val="c00000"/>
                </a:solidFill>
                <a:latin typeface="幼圆"/>
              </a:rPr>
              <a:t>波及全身</a:t>
            </a:r>
            <a:r>
              <a:rPr b="0" lang="zh-CN" sz="2400" spc="-1" strike="noStrike">
                <a:solidFill>
                  <a:srgbClr val="c00000"/>
                </a:solidFill>
                <a:latin typeface="幼圆"/>
              </a:rPr>
              <a:t>,</a:t>
            </a:r>
            <a:r>
              <a:rPr b="0" lang="zh-CN" sz="2400" spc="-1" strike="noStrike">
                <a:solidFill>
                  <a:srgbClr val="c00000"/>
                </a:solidFill>
                <a:latin typeface="幼圆"/>
              </a:rPr>
              <a:t>有瘙痒感</a:t>
            </a:r>
            <a:r>
              <a:rPr b="0" lang="zh-CN" sz="2400" spc="-1" strike="noStrike">
                <a:solidFill>
                  <a:srgbClr val="c00000"/>
                </a:solidFill>
                <a:latin typeface="幼圆"/>
              </a:rPr>
              <a:t>,</a:t>
            </a:r>
            <a:r>
              <a:rPr b="0" lang="zh-CN" sz="2400" spc="-1" strike="noStrike">
                <a:solidFill>
                  <a:srgbClr val="c00000"/>
                </a:solidFill>
                <a:latin typeface="幼圆"/>
              </a:rPr>
              <a:t>患儿哭闹不安</a:t>
            </a:r>
            <a:r>
              <a:rPr b="0" lang="zh-CN" sz="2400" spc="-1" strike="noStrike">
                <a:solidFill>
                  <a:srgbClr val="c00000"/>
                </a:solidFill>
                <a:latin typeface="幼圆"/>
              </a:rPr>
              <a:t>,</a:t>
            </a:r>
            <a:r>
              <a:rPr b="0" lang="zh-CN" sz="2400" spc="-1" strike="noStrike">
                <a:solidFill>
                  <a:srgbClr val="c00000"/>
                </a:solidFill>
                <a:latin typeface="幼圆"/>
              </a:rPr>
              <a:t>重者可发热、腹泻</a:t>
            </a:r>
            <a:r>
              <a:rPr b="0" lang="zh-CN" sz="2400" spc="-1" strike="noStrike">
                <a:solidFill>
                  <a:srgbClr val="c00000"/>
                </a:solidFill>
                <a:latin typeface="幼圆"/>
              </a:rPr>
              <a:t>,</a:t>
            </a:r>
            <a:r>
              <a:rPr b="0" lang="zh-CN" sz="2400" spc="-1" strike="noStrike">
                <a:solidFill>
                  <a:srgbClr val="c00000"/>
                </a:solidFill>
                <a:latin typeface="幼圆"/>
              </a:rPr>
              <a:t>若不及时治疗</a:t>
            </a:r>
            <a:r>
              <a:rPr b="0" lang="zh-CN" sz="2400" spc="-1" strike="noStrike">
                <a:solidFill>
                  <a:srgbClr val="c00000"/>
                </a:solidFill>
                <a:latin typeface="幼圆"/>
              </a:rPr>
              <a:t>,</a:t>
            </a:r>
            <a:r>
              <a:rPr b="0" lang="zh-CN" sz="2400" spc="-1" strike="noStrike">
                <a:solidFill>
                  <a:srgbClr val="c00000"/>
                </a:solidFill>
                <a:latin typeface="幼圆"/>
              </a:rPr>
              <a:t>可并发败血症、肺炎、脑膜炎等危及生命</a:t>
            </a:r>
            <a:endParaRPr b="0" lang="en-US" sz="24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00000"/>
                </a:solidFill>
                <a:latin typeface="华文中宋"/>
              </a:rPr>
              <a:t>二、一般资料</a:t>
            </a:r>
            <a:endParaRPr b="1" lang="en-US" sz="3200" spc="-1" strike="noStrike">
              <a:solidFill>
                <a:srgbClr val="c00000"/>
              </a:solidFill>
              <a:latin typeface="华文中宋"/>
            </a:endParaRPr>
          </a:p>
        </p:txBody>
      </p:sp>
      <p:sp>
        <p:nvSpPr>
          <p:cNvPr id="146"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5f5f5f"/>
                </a:solidFill>
                <a:latin typeface="幼圆"/>
              </a:rPr>
              <a:t>患儿，陈美君（孩），女，</a:t>
            </a:r>
            <a:r>
              <a:rPr b="0" lang="zh-CN" sz="2400" spc="-1" strike="noStrike">
                <a:solidFill>
                  <a:srgbClr val="5f5f5f"/>
                </a:solidFill>
                <a:latin typeface="幼圆"/>
              </a:rPr>
              <a:t>4+</a:t>
            </a:r>
            <a:r>
              <a:rPr b="0" lang="zh-CN" sz="2400" spc="-1" strike="noStrike">
                <a:solidFill>
                  <a:srgbClr val="5f5f5f"/>
                </a:solidFill>
                <a:latin typeface="幼圆"/>
              </a:rPr>
              <a:t>天，因“发现皮肤黄染</a:t>
            </a:r>
            <a:r>
              <a:rPr b="0" lang="zh-CN" sz="2400" spc="-1" strike="noStrike">
                <a:solidFill>
                  <a:srgbClr val="5f5f5f"/>
                </a:solidFill>
                <a:latin typeface="幼圆"/>
              </a:rPr>
              <a:t>2+</a:t>
            </a:r>
            <a:r>
              <a:rPr b="0" lang="zh-CN" sz="2400" spc="-1" strike="noStrike">
                <a:solidFill>
                  <a:srgbClr val="5f5f5f"/>
                </a:solidFill>
                <a:latin typeface="幼圆"/>
              </a:rPr>
              <a:t>天。”于</a:t>
            </a:r>
            <a:r>
              <a:rPr b="0" lang="zh-CN" sz="2400" spc="-1" strike="noStrike">
                <a:solidFill>
                  <a:srgbClr val="5f5f5f"/>
                </a:solidFill>
                <a:latin typeface="幼圆"/>
              </a:rPr>
              <a:t>2015</a:t>
            </a:r>
            <a:r>
              <a:rPr b="0" lang="zh-CN" sz="2400" spc="-1" strike="noStrike">
                <a:solidFill>
                  <a:srgbClr val="5f5f5f"/>
                </a:solidFill>
                <a:latin typeface="幼圆"/>
              </a:rPr>
              <a:t>年</a:t>
            </a:r>
            <a:r>
              <a:rPr b="0" lang="zh-CN" sz="2400" spc="-1" strike="noStrike">
                <a:solidFill>
                  <a:srgbClr val="5f5f5f"/>
                </a:solidFill>
                <a:latin typeface="幼圆"/>
              </a:rPr>
              <a:t>04</a:t>
            </a:r>
            <a:r>
              <a:rPr b="0" lang="zh-CN" sz="2400" spc="-1" strike="noStrike">
                <a:solidFill>
                  <a:srgbClr val="5f5f5f"/>
                </a:solidFill>
                <a:latin typeface="幼圆"/>
              </a:rPr>
              <a:t>月</a:t>
            </a:r>
            <a:r>
              <a:rPr b="0" lang="zh-CN" sz="2400" spc="-1" strike="noStrike">
                <a:solidFill>
                  <a:srgbClr val="5f5f5f"/>
                </a:solidFill>
                <a:latin typeface="幼圆"/>
              </a:rPr>
              <a:t>07</a:t>
            </a:r>
            <a:r>
              <a:rPr b="0" lang="zh-CN" sz="2400" spc="-1" strike="noStrike">
                <a:solidFill>
                  <a:srgbClr val="5f5f5f"/>
                </a:solidFill>
                <a:latin typeface="幼圆"/>
              </a:rPr>
              <a:t>日</a:t>
            </a:r>
            <a:r>
              <a:rPr b="0" lang="zh-CN" sz="2400" spc="-1" strike="noStrike">
                <a:solidFill>
                  <a:srgbClr val="5f5f5f"/>
                </a:solidFill>
                <a:latin typeface="幼圆"/>
              </a:rPr>
              <a:t>16</a:t>
            </a:r>
            <a:r>
              <a:rPr b="0" lang="zh-CN" sz="2400" spc="-1" strike="noStrike">
                <a:solidFill>
                  <a:srgbClr val="5f5f5f"/>
                </a:solidFill>
                <a:latin typeface="幼圆"/>
              </a:rPr>
              <a:t>：</a:t>
            </a:r>
            <a:r>
              <a:rPr b="0" lang="zh-CN" sz="2400" spc="-1" strike="noStrike">
                <a:solidFill>
                  <a:srgbClr val="5f5f5f"/>
                </a:solidFill>
                <a:latin typeface="幼圆"/>
              </a:rPr>
              <a:t>45</a:t>
            </a:r>
            <a:r>
              <a:rPr b="0" lang="zh-CN" sz="2400" spc="-1" strike="noStrike">
                <a:solidFill>
                  <a:srgbClr val="5f5f5f"/>
                </a:solidFill>
                <a:latin typeface="幼圆"/>
              </a:rPr>
              <a:t>入院。</a:t>
            </a:r>
            <a:endParaRPr b="0" lang="en-US" sz="24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5f5f5f"/>
                </a:solidFill>
                <a:latin typeface="幼圆"/>
              </a:rPr>
              <a:t>入院查“神清，反应可，全身散在红色皮疹，前胸、颈部见较多散在针帽大小皮疹，疹尖见白色脓点，目测皮肤黄染</a:t>
            </a:r>
            <a:r>
              <a:rPr b="0" lang="zh-CN" sz="2400" spc="-1" strike="noStrike">
                <a:solidFill>
                  <a:srgbClr val="5f5f5f"/>
                </a:solidFill>
                <a:latin typeface="幼圆"/>
              </a:rPr>
              <a:t>++++</a:t>
            </a:r>
            <a:r>
              <a:rPr b="0" lang="zh-CN" sz="2400" spc="-1" strike="noStrike">
                <a:solidFill>
                  <a:srgbClr val="5f5f5f"/>
                </a:solidFill>
                <a:latin typeface="幼圆"/>
              </a:rPr>
              <a:t>，巩膜黄染，前囟平软，口腔黏膜光滑，无明显擦痕，口唇无发绀，双肺呼吸音清，未闻及干湿罗音。心音有力，律齐，各瓣膜听诊区未闻及杂音。脐部见少许渗血，脐轮稍红；腹稍隆，扪软，四肢肌张力正常，各种原始反射存。”</a:t>
            </a:r>
            <a:endParaRPr b="0" lang="en-US" sz="24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5f5f5f"/>
                </a:solidFill>
                <a:latin typeface="幼圆"/>
              </a:rPr>
              <a:t>诊断：</a:t>
            </a:r>
            <a:r>
              <a:rPr b="0" lang="zh-CN" sz="2400" spc="-1" strike="noStrike">
                <a:solidFill>
                  <a:srgbClr val="5f5f5f"/>
                </a:solidFill>
                <a:latin typeface="幼圆"/>
              </a:rPr>
              <a:t>1.</a:t>
            </a:r>
            <a:r>
              <a:rPr b="0" lang="zh-CN" sz="2400" spc="-1" strike="noStrike">
                <a:solidFill>
                  <a:srgbClr val="5f5f5f"/>
                </a:solidFill>
                <a:latin typeface="幼圆"/>
              </a:rPr>
              <a:t>新生儿高胆红素血症；</a:t>
            </a:r>
            <a:r>
              <a:rPr b="0" lang="zh-CN" sz="2400" spc="-1" strike="noStrike">
                <a:solidFill>
                  <a:srgbClr val="5f5f5f"/>
                </a:solidFill>
                <a:latin typeface="幼圆"/>
              </a:rPr>
              <a:t>2.</a:t>
            </a:r>
            <a:r>
              <a:rPr b="0" lang="zh-CN" sz="2400" spc="-1" strike="noStrike">
                <a:solidFill>
                  <a:srgbClr val="5f5f5f"/>
                </a:solidFill>
                <a:latin typeface="幼圆"/>
              </a:rPr>
              <a:t>新生儿脓疱疹；</a:t>
            </a:r>
            <a:r>
              <a:rPr b="0" lang="zh-CN" sz="2400" spc="-1" strike="noStrike">
                <a:solidFill>
                  <a:srgbClr val="5f5f5f"/>
                </a:solidFill>
                <a:latin typeface="幼圆"/>
              </a:rPr>
              <a:t>3.</a:t>
            </a:r>
            <a:r>
              <a:rPr b="0" lang="zh-CN" sz="2400" spc="-1" strike="noStrike">
                <a:solidFill>
                  <a:srgbClr val="5f5f5f"/>
                </a:solidFill>
                <a:latin typeface="幼圆"/>
              </a:rPr>
              <a:t>新生儿腹泻病；</a:t>
            </a:r>
            <a:r>
              <a:rPr b="0" lang="zh-CN" sz="2400" spc="-1" strike="noStrike">
                <a:solidFill>
                  <a:srgbClr val="5f5f5f"/>
                </a:solidFill>
                <a:latin typeface="幼圆"/>
              </a:rPr>
              <a:t>4.</a:t>
            </a:r>
            <a:r>
              <a:rPr b="0" lang="zh-CN" sz="2400" spc="-1" strike="noStrike">
                <a:solidFill>
                  <a:srgbClr val="5f5f5f"/>
                </a:solidFill>
                <a:latin typeface="幼圆"/>
              </a:rPr>
              <a:t>新生儿贫血轻度</a:t>
            </a:r>
            <a:endParaRPr b="0" lang="en-US" sz="24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1" lang="en-US" sz="3200" spc="-1" strike="noStrike">
              <a:solidFill>
                <a:srgbClr val="c00000"/>
              </a:solidFill>
              <a:latin typeface="华文中宋"/>
            </a:endParaRPr>
          </a:p>
        </p:txBody>
      </p:sp>
      <p:sp>
        <p:nvSpPr>
          <p:cNvPr id="148"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marL="266760" indent="-266760" algn="just">
              <a:lnSpc>
                <a:spcPct val="81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生命体征</a:t>
            </a:r>
            <a:r>
              <a:rPr b="0" lang="zh-CN" sz="2400" spc="-1" strike="noStrike">
                <a:solidFill>
                  <a:srgbClr val="c00000"/>
                </a:solidFill>
                <a:latin typeface="幼圆"/>
              </a:rPr>
              <a:t>T:36.</a:t>
            </a:r>
            <a:r>
              <a:rPr b="0" lang="en-US" sz="2400" spc="-1" strike="noStrike">
                <a:solidFill>
                  <a:srgbClr val="c00000"/>
                </a:solidFill>
                <a:latin typeface="幼圆"/>
              </a:rPr>
              <a:t>5</a:t>
            </a:r>
            <a:r>
              <a:rPr b="0" lang="zh-CN" sz="2400" spc="-1" strike="noStrike">
                <a:solidFill>
                  <a:srgbClr val="c00000"/>
                </a:solidFill>
                <a:latin typeface="幼圆"/>
              </a:rPr>
              <a:t>      R:40      </a:t>
            </a:r>
            <a:r>
              <a:rPr b="0" lang="zh-CN" sz="2400" spc="-1" strike="noStrike">
                <a:solidFill>
                  <a:srgbClr val="c00000"/>
                </a:solidFill>
                <a:latin typeface="幼圆"/>
              </a:rPr>
              <a:t>	</a:t>
            </a:r>
            <a:r>
              <a:rPr b="0" lang="zh-CN" sz="2400" spc="-1" strike="noStrike">
                <a:solidFill>
                  <a:srgbClr val="c00000"/>
                </a:solidFill>
                <a:latin typeface="幼圆"/>
              </a:rPr>
              <a:t>P:125</a:t>
            </a:r>
            <a:endParaRPr b="0" lang="en-US" sz="2400" spc="-1" strike="noStrike">
              <a:solidFill>
                <a:srgbClr val="c00000"/>
              </a:solidFill>
              <a:latin typeface="幼圆"/>
            </a:endParaRPr>
          </a:p>
          <a:p>
            <a:pPr marL="266760" indent="-266760" algn="just">
              <a:lnSpc>
                <a:spcPct val="81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体重</a:t>
            </a:r>
            <a:r>
              <a:rPr b="0" lang="zh-CN" sz="2400" spc="-1" strike="noStrike">
                <a:solidFill>
                  <a:srgbClr val="c00000"/>
                </a:solidFill>
                <a:latin typeface="幼圆"/>
              </a:rPr>
              <a:t>:</a:t>
            </a:r>
            <a:r>
              <a:rPr b="0" lang="en-US" sz="2400" spc="-1" strike="noStrike">
                <a:solidFill>
                  <a:srgbClr val="c00000"/>
                </a:solidFill>
                <a:latin typeface="幼圆"/>
              </a:rPr>
              <a:t>32</a:t>
            </a:r>
            <a:r>
              <a:rPr b="0" lang="zh-CN" sz="2400" spc="-1" strike="noStrike">
                <a:solidFill>
                  <a:srgbClr val="c00000"/>
                </a:solidFill>
                <a:latin typeface="幼圆"/>
              </a:rPr>
              <a:t>80 g</a:t>
            </a:r>
            <a:endParaRPr b="0" lang="en-US" sz="2400" spc="-1" strike="noStrike">
              <a:solidFill>
                <a:srgbClr val="c00000"/>
              </a:solidFill>
              <a:latin typeface="幼圆"/>
            </a:endParaRPr>
          </a:p>
          <a:p>
            <a:pPr marL="266760" indent="-266760" algn="just">
              <a:lnSpc>
                <a:spcPct val="81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TCB</a:t>
            </a:r>
            <a:r>
              <a:rPr b="0" lang="zh-CN" sz="2400" spc="-1" strike="noStrike">
                <a:solidFill>
                  <a:srgbClr val="c00000"/>
                </a:solidFill>
                <a:latin typeface="幼圆"/>
              </a:rPr>
              <a:t>前额</a:t>
            </a:r>
            <a:r>
              <a:rPr b="0" lang="en-US" sz="2400" spc="-1" strike="noStrike">
                <a:solidFill>
                  <a:srgbClr val="c00000"/>
                </a:solidFill>
                <a:latin typeface="幼圆"/>
              </a:rPr>
              <a:t>1</a:t>
            </a:r>
            <a:r>
              <a:rPr b="0" lang="zh-CN" sz="2400" spc="-1" strike="noStrike">
                <a:solidFill>
                  <a:srgbClr val="c00000"/>
                </a:solidFill>
                <a:latin typeface="幼圆"/>
              </a:rPr>
              <a:t>2.1mg/dl   </a:t>
            </a:r>
            <a:r>
              <a:rPr b="0" lang="zh-CN" sz="2400" spc="-1" strike="noStrike">
                <a:solidFill>
                  <a:srgbClr val="c00000"/>
                </a:solidFill>
                <a:latin typeface="幼圆"/>
              </a:rPr>
              <a:t>中胸</a:t>
            </a:r>
            <a:r>
              <a:rPr b="0" lang="zh-CN" sz="2400" spc="-1" strike="noStrike">
                <a:solidFill>
                  <a:srgbClr val="c00000"/>
                </a:solidFill>
                <a:latin typeface="幼圆"/>
              </a:rPr>
              <a:t>11.9mg/dl</a:t>
            </a:r>
            <a:endParaRPr b="0" lang="en-US" sz="2400" spc="-1" strike="noStrike">
              <a:solidFill>
                <a:srgbClr val="c00000"/>
              </a:solidFill>
              <a:latin typeface="幼圆"/>
            </a:endParaRPr>
          </a:p>
          <a:p>
            <a:pPr marL="266760" indent="-266760" algn="just">
              <a:lnSpc>
                <a:spcPct val="81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既往史：无</a:t>
            </a:r>
            <a:endParaRPr b="0" lang="en-US" sz="2400" spc="-1" strike="noStrike">
              <a:solidFill>
                <a:srgbClr val="c00000"/>
              </a:solidFill>
              <a:latin typeface="幼圆"/>
            </a:endParaRPr>
          </a:p>
          <a:p>
            <a:pPr marL="266760" indent="-266760" algn="just">
              <a:lnSpc>
                <a:spcPct val="81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家族史：否认</a:t>
            </a:r>
            <a:endParaRPr b="0" lang="en-US" sz="2400" spc="-1" strike="noStrike">
              <a:solidFill>
                <a:srgbClr val="c00000"/>
              </a:solidFill>
              <a:latin typeface="幼圆"/>
            </a:endParaRPr>
          </a:p>
          <a:p>
            <a:pPr marL="266760" indent="-266760" algn="just">
              <a:lnSpc>
                <a:spcPct val="81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辅助检查：</a:t>
            </a:r>
            <a:endParaRPr b="0" lang="en-US" sz="2400" spc="-1" strike="noStrike">
              <a:solidFill>
                <a:srgbClr val="c00000"/>
              </a:solidFill>
              <a:latin typeface="幼圆"/>
            </a:endParaRPr>
          </a:p>
          <a:p>
            <a:pPr marL="266760" indent="0" algn="just">
              <a:lnSpc>
                <a:spcPct val="81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           </a:t>
            </a:r>
            <a:r>
              <a:rPr b="0" lang="zh-CN" sz="2400" spc="-1" strike="noStrike">
                <a:solidFill>
                  <a:srgbClr val="c00000"/>
                </a:solidFill>
                <a:latin typeface="幼圆"/>
              </a:rPr>
              <a:t> </a:t>
            </a:r>
            <a:r>
              <a:rPr b="0" lang="zh-CN" sz="2400" spc="-1" strike="noStrike">
                <a:solidFill>
                  <a:srgbClr val="c00000"/>
                </a:solidFill>
                <a:latin typeface="幼圆"/>
              </a:rPr>
              <a:t>血生化回示：总胆</a:t>
            </a:r>
            <a:r>
              <a:rPr b="0" lang="zh-CN" sz="2400" spc="-1" strike="noStrike">
                <a:solidFill>
                  <a:srgbClr val="c00000"/>
                </a:solidFill>
                <a:latin typeface="幼圆"/>
              </a:rPr>
              <a:t>315umol/L  </a:t>
            </a:r>
            <a:endParaRPr b="0" lang="en-US" sz="2400" spc="-1" strike="noStrike">
              <a:solidFill>
                <a:srgbClr val="c00000"/>
              </a:solidFill>
              <a:latin typeface="幼圆"/>
            </a:endParaRPr>
          </a:p>
          <a:p>
            <a:pPr marL="266760" indent="0" algn="just">
              <a:lnSpc>
                <a:spcPct val="81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c00000"/>
                </a:solidFill>
                <a:latin typeface="幼圆"/>
              </a:rPr>
              <a:t>    </a:t>
            </a:r>
            <a:r>
              <a:rPr b="0" lang="zh-CN" sz="2400" spc="-1" strike="noStrike">
                <a:solidFill>
                  <a:srgbClr val="c00000"/>
                </a:solidFill>
                <a:latin typeface="幼圆"/>
              </a:rPr>
              <a:t>          </a:t>
            </a:r>
            <a:r>
              <a:rPr b="0" lang="en-US" sz="2400" spc="-1" strike="noStrike">
                <a:solidFill>
                  <a:srgbClr val="c00000"/>
                </a:solidFill>
                <a:latin typeface="幼圆"/>
              </a:rPr>
              <a:t>          </a:t>
            </a:r>
            <a:r>
              <a:rPr b="0" lang="zh-CN" sz="2400" spc="-1" strike="noStrike">
                <a:solidFill>
                  <a:srgbClr val="c00000"/>
                </a:solidFill>
                <a:latin typeface="幼圆"/>
              </a:rPr>
              <a:t>间胆</a:t>
            </a:r>
            <a:r>
              <a:rPr b="0" lang="zh-CN" sz="2400" spc="-1" strike="noStrike">
                <a:solidFill>
                  <a:srgbClr val="c00000"/>
                </a:solidFill>
                <a:latin typeface="幼圆"/>
              </a:rPr>
              <a:t>13umol/L                         </a:t>
            </a:r>
            <a:endParaRPr b="0" lang="en-US" sz="2400" spc="-1" strike="noStrike">
              <a:solidFill>
                <a:srgbClr val="c00000"/>
              </a:solidFill>
              <a:latin typeface="幼圆"/>
            </a:endParaRPr>
          </a:p>
          <a:p>
            <a:pPr marL="266760" indent="-266760" algn="just">
              <a:lnSpc>
                <a:spcPct val="81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入院后积极予蓝光光疗，碱化血液，苯巴比妥钠诱导肝酶等退黄。</a:t>
            </a:r>
            <a:endParaRPr b="0" lang="en-US" sz="24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00000"/>
                </a:solidFill>
                <a:latin typeface="华文中宋"/>
              </a:rPr>
              <a:t>三、护理诊断</a:t>
            </a:r>
            <a:endParaRPr b="1" lang="en-US" sz="3200" spc="-1" strike="noStrike">
              <a:solidFill>
                <a:srgbClr val="c00000"/>
              </a:solidFill>
              <a:latin typeface="华文中宋"/>
            </a:endParaRPr>
          </a:p>
        </p:txBody>
      </p:sp>
      <p:sp>
        <p:nvSpPr>
          <p:cNvPr id="150"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1</a:t>
            </a:r>
            <a:r>
              <a:rPr b="0" lang="zh-CN" sz="2400" spc="-1" strike="noStrike">
                <a:solidFill>
                  <a:srgbClr val="c00000"/>
                </a:solidFill>
                <a:latin typeface="幼圆"/>
              </a:rPr>
              <a:t>、皮肤黄染（与血清中胆红素过高有关）</a:t>
            </a:r>
            <a:endParaRPr b="0" lang="en-US" sz="24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2</a:t>
            </a:r>
            <a:r>
              <a:rPr b="0" lang="zh-CN" sz="2400" spc="-1" strike="noStrike">
                <a:solidFill>
                  <a:srgbClr val="c00000"/>
                </a:solidFill>
                <a:latin typeface="幼圆"/>
              </a:rPr>
              <a:t>、皮肤完整性受损（与新生儿皮肤薄嫩及尿布等不良刺激、大便次数多及新生儿脓疱疹有关）</a:t>
            </a:r>
            <a:endParaRPr b="0" lang="en-US" sz="24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3</a:t>
            </a:r>
            <a:r>
              <a:rPr b="0" lang="zh-CN" sz="2400" spc="-1" strike="noStrike">
                <a:solidFill>
                  <a:srgbClr val="c00000"/>
                </a:solidFill>
                <a:latin typeface="幼圆"/>
              </a:rPr>
              <a:t>、体液不足（与腹泻有关）</a:t>
            </a:r>
            <a:endParaRPr b="0" lang="en-US" sz="24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4</a:t>
            </a:r>
            <a:r>
              <a:rPr b="0" lang="zh-CN" sz="2400" spc="-1" strike="noStrike">
                <a:solidFill>
                  <a:srgbClr val="c00000"/>
                </a:solidFill>
                <a:latin typeface="幼圆"/>
              </a:rPr>
              <a:t>、有交叉感染的危险（与腹泻、脓疱疹有关）</a:t>
            </a:r>
            <a:endParaRPr b="0" lang="en-US" sz="24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5</a:t>
            </a:r>
            <a:r>
              <a:rPr b="0" lang="zh-CN" sz="2400" spc="-1" strike="noStrike">
                <a:solidFill>
                  <a:srgbClr val="c00000"/>
                </a:solidFill>
                <a:latin typeface="幼圆"/>
              </a:rPr>
              <a:t>、潜在并发症（胆红素脑病）</a:t>
            </a:r>
            <a:endParaRPr b="0" lang="en-US" sz="2400" spc="-1" strike="noStrike">
              <a:solidFill>
                <a:srgbClr val="c00000"/>
              </a:solidFill>
              <a:latin typeface="幼圆"/>
            </a:endParaRPr>
          </a:p>
          <a:p>
            <a:pPr indent="0" algn="just">
              <a:lnSpc>
                <a:spcPct val="9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c00000"/>
                </a:solidFill>
                <a:latin typeface="幼圆"/>
              </a:rPr>
              <a:t>6</a:t>
            </a:r>
            <a:r>
              <a:rPr b="0" lang="zh-CN" sz="2400" spc="-1" strike="noStrike">
                <a:solidFill>
                  <a:srgbClr val="c00000"/>
                </a:solidFill>
                <a:latin typeface="幼圆"/>
              </a:rPr>
              <a:t>、知识缺乏（家长缺乏有关疾病的病因和护理知识）</a:t>
            </a:r>
            <a:endParaRPr b="0" lang="en-US" sz="24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华文中宋"/>
              </a:rPr>
              <a:t>四、护理措施</a:t>
            </a:r>
            <a:endParaRPr b="1" lang="en-US" sz="2800" spc="-1" strike="noStrike">
              <a:solidFill>
                <a:srgbClr val="c00000"/>
              </a:solidFill>
              <a:latin typeface="华文中宋"/>
            </a:endParaRPr>
          </a:p>
        </p:txBody>
      </p:sp>
      <p:sp>
        <p:nvSpPr>
          <p:cNvPr id="152"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marL="266760" indent="-266760" algn="just">
              <a:lnSpc>
                <a:spcPct val="11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积极保暖、合理喂养    </a:t>
            </a:r>
            <a:endParaRPr b="0" lang="en-US" sz="2000" spc="-1" strike="noStrike">
              <a:solidFill>
                <a:srgbClr val="c00000"/>
              </a:solidFill>
              <a:latin typeface="幼圆"/>
            </a:endParaRPr>
          </a:p>
          <a:p>
            <a:pPr marL="266760" indent="-266760" algn="just">
              <a:lnSpc>
                <a:spcPct val="11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低体温和低血糖时血中未结合胆红素（</a:t>
            </a:r>
            <a:r>
              <a:rPr b="0" lang="zh-CN" sz="2000" spc="-1" strike="noStrike">
                <a:solidFill>
                  <a:srgbClr val="c00000"/>
                </a:solidFill>
                <a:latin typeface="幼圆"/>
              </a:rPr>
              <a:t>CB</a:t>
            </a:r>
            <a:r>
              <a:rPr b="0" lang="zh-CN" sz="2000" spc="-1" strike="noStrike">
                <a:solidFill>
                  <a:srgbClr val="c00000"/>
                </a:solidFill>
                <a:latin typeface="幼圆"/>
              </a:rPr>
              <a:t>）与白蛋白的结合受到阻碍，故应加强保暖措施，使体表温度维持在</a:t>
            </a:r>
            <a:r>
              <a:rPr b="0" lang="zh-CN" sz="2000" spc="-1" strike="noStrike">
                <a:solidFill>
                  <a:srgbClr val="c00000"/>
                </a:solidFill>
                <a:latin typeface="幼圆"/>
              </a:rPr>
              <a:t>36</a:t>
            </a:r>
            <a:r>
              <a:rPr b="0" lang="zh-CN" sz="2000" spc="-1" strike="noStrike">
                <a:solidFill>
                  <a:srgbClr val="c00000"/>
                </a:solidFill>
                <a:latin typeface="幼圆"/>
              </a:rPr>
              <a:t>～</a:t>
            </a:r>
            <a:r>
              <a:rPr b="0" lang="zh-CN" sz="2000" spc="-1" strike="noStrike">
                <a:solidFill>
                  <a:srgbClr val="c00000"/>
                </a:solidFill>
                <a:latin typeface="幼圆"/>
              </a:rPr>
              <a:t>37℃</a:t>
            </a:r>
            <a:r>
              <a:rPr b="0" lang="zh-CN" sz="2000" spc="-1" strike="noStrike">
                <a:solidFill>
                  <a:srgbClr val="c00000"/>
                </a:solidFill>
                <a:latin typeface="幼圆"/>
              </a:rPr>
              <a:t>。将患儿置入新生儿病房，温度</a:t>
            </a:r>
            <a:r>
              <a:rPr b="0" lang="zh-CN" sz="2000" spc="-1" strike="noStrike">
                <a:solidFill>
                  <a:srgbClr val="c00000"/>
                </a:solidFill>
                <a:latin typeface="幼圆"/>
              </a:rPr>
              <a:t>24</a:t>
            </a:r>
            <a:r>
              <a:rPr b="0" lang="zh-CN" sz="2000" spc="-1" strike="noStrike">
                <a:solidFill>
                  <a:srgbClr val="c00000"/>
                </a:solidFill>
                <a:latin typeface="幼圆"/>
              </a:rPr>
              <a:t>～</a:t>
            </a:r>
            <a:r>
              <a:rPr b="0" lang="zh-CN" sz="2000" spc="-1" strike="noStrike">
                <a:solidFill>
                  <a:srgbClr val="c00000"/>
                </a:solidFill>
                <a:latin typeface="幼圆"/>
              </a:rPr>
              <a:t>26℃</a:t>
            </a:r>
            <a:r>
              <a:rPr b="0" lang="zh-CN" sz="2000" spc="-1" strike="noStrike">
                <a:solidFill>
                  <a:srgbClr val="c00000"/>
                </a:solidFill>
                <a:latin typeface="幼圆"/>
              </a:rPr>
              <a:t>，相对湿度</a:t>
            </a:r>
            <a:r>
              <a:rPr b="0" lang="zh-CN" sz="2000" spc="-1" strike="noStrike">
                <a:solidFill>
                  <a:srgbClr val="c00000"/>
                </a:solidFill>
                <a:latin typeface="幼圆"/>
              </a:rPr>
              <a:t>55%</a:t>
            </a:r>
            <a:r>
              <a:rPr b="0" lang="zh-CN" sz="2000" spc="-1" strike="noStrike">
                <a:solidFill>
                  <a:srgbClr val="c00000"/>
                </a:solidFill>
                <a:latin typeface="幼圆"/>
              </a:rPr>
              <a:t>～</a:t>
            </a:r>
            <a:r>
              <a:rPr b="0" lang="zh-CN" sz="2000" spc="-1" strike="noStrike">
                <a:solidFill>
                  <a:srgbClr val="c00000"/>
                </a:solidFill>
                <a:latin typeface="幼圆"/>
              </a:rPr>
              <a:t>65%</a:t>
            </a:r>
            <a:r>
              <a:rPr b="0" lang="zh-CN" sz="2000" spc="-1" strike="noStrike">
                <a:solidFill>
                  <a:srgbClr val="c00000"/>
                </a:solidFill>
                <a:latin typeface="幼圆"/>
              </a:rPr>
              <a:t>，避免对流风和日光的直接照射。必要时置入保暖箱。</a:t>
            </a: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indent="0" algn="just">
              <a:lnSpc>
                <a:spcPct val="8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 </a:t>
            </a:r>
            <a:r>
              <a:rPr b="0" lang="zh-CN" sz="2000" spc="-1" strike="noStrike">
                <a:solidFill>
                  <a:srgbClr val="c00000"/>
                </a:solidFill>
                <a:latin typeface="幼圆"/>
              </a:rPr>
              <a:t>密切观察病情 </a:t>
            </a:r>
            <a:endParaRPr b="0" lang="en-US" sz="2000" spc="-1" strike="noStrike">
              <a:solidFill>
                <a:srgbClr val="c00000"/>
              </a:solidFill>
              <a:latin typeface="幼圆"/>
            </a:endParaRPr>
          </a:p>
          <a:p>
            <a:pPr marL="266760" indent="-266760" algn="just">
              <a:lnSpc>
                <a:spcPct val="8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1</a:t>
            </a:r>
            <a:r>
              <a:rPr b="0" lang="zh-CN" sz="2000" spc="-1" strike="noStrike">
                <a:solidFill>
                  <a:srgbClr val="c00000"/>
                </a:solidFill>
                <a:latin typeface="幼圆"/>
              </a:rPr>
              <a:t>）观察黄疸出现的时间、颜色、范围及程度等，积极协助医生判断病因。</a:t>
            </a:r>
            <a:endParaRPr b="0" lang="en-US" sz="2000" spc="-1" strike="noStrike">
              <a:solidFill>
                <a:srgbClr val="c00000"/>
              </a:solidFill>
              <a:latin typeface="幼圆"/>
            </a:endParaRPr>
          </a:p>
          <a:p>
            <a:pPr marL="266760" indent="-266760" algn="just">
              <a:lnSpc>
                <a:spcPct val="8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2</a:t>
            </a:r>
            <a:r>
              <a:rPr b="0" lang="zh-CN" sz="2000" spc="-1" strike="noStrike">
                <a:solidFill>
                  <a:srgbClr val="c00000"/>
                </a:solidFill>
                <a:latin typeface="幼圆"/>
              </a:rPr>
              <a:t>）准确记录每日大小便次数、第</a:t>
            </a:r>
            <a:r>
              <a:rPr b="0" lang="zh-CN" sz="2000" spc="-1" strike="noStrike">
                <a:solidFill>
                  <a:srgbClr val="c00000"/>
                </a:solidFill>
                <a:latin typeface="幼圆"/>
              </a:rPr>
              <a:t>1</a:t>
            </a:r>
            <a:r>
              <a:rPr b="0" lang="zh-CN" sz="2000" spc="-1" strike="noStrike">
                <a:solidFill>
                  <a:srgbClr val="c00000"/>
                </a:solidFill>
                <a:latin typeface="幼圆"/>
              </a:rPr>
              <a:t>次排胎便和胎便变黄时间，若</a:t>
            </a:r>
            <a:r>
              <a:rPr b="0" lang="zh-CN" sz="2000" spc="-1" strike="noStrike">
                <a:solidFill>
                  <a:srgbClr val="c00000"/>
                </a:solidFill>
                <a:latin typeface="幼圆"/>
              </a:rPr>
              <a:t>24h</a:t>
            </a:r>
            <a:r>
              <a:rPr b="0" lang="zh-CN" sz="2000" spc="-1" strike="noStrike">
                <a:solidFill>
                  <a:srgbClr val="c00000"/>
                </a:solidFill>
                <a:latin typeface="幼圆"/>
              </a:rPr>
              <a:t>未排胎便，或超过</a:t>
            </a:r>
            <a:r>
              <a:rPr b="0" lang="zh-CN" sz="2000" spc="-1" strike="noStrike">
                <a:solidFill>
                  <a:srgbClr val="c00000"/>
                </a:solidFill>
                <a:latin typeface="幼圆"/>
              </a:rPr>
              <a:t>72h</a:t>
            </a:r>
            <a:r>
              <a:rPr b="0" lang="zh-CN" sz="2000" spc="-1" strike="noStrike">
                <a:solidFill>
                  <a:srgbClr val="c00000"/>
                </a:solidFill>
                <a:latin typeface="幼圆"/>
              </a:rPr>
              <a:t>胎便未变黄情况及时通知医生。仔细观察患儿脱水表现：如口腔粘膜是否干燥、皮肤弹性、眼眶凹陷、尿量等。</a:t>
            </a:r>
            <a:endParaRPr b="0" lang="en-US" sz="2000" spc="-1" strike="noStrike">
              <a:solidFill>
                <a:srgbClr val="c00000"/>
              </a:solidFill>
              <a:latin typeface="幼圆"/>
            </a:endParaRPr>
          </a:p>
          <a:p>
            <a:pPr marL="266760" indent="-266760" algn="just">
              <a:lnSpc>
                <a:spcPct val="8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3</a:t>
            </a:r>
            <a:r>
              <a:rPr b="0" lang="zh-CN" sz="2000" spc="-1" strike="noStrike">
                <a:solidFill>
                  <a:srgbClr val="c00000"/>
                </a:solidFill>
                <a:latin typeface="幼圆"/>
              </a:rPr>
              <a:t>）监测生命体征、哭声、吸吮力及肌张力等变化，及时判断有无核黄疸发生。</a:t>
            </a:r>
            <a:endParaRPr b="0" lang="en-US" sz="2000" spc="-1" strike="noStrike">
              <a:solidFill>
                <a:srgbClr val="c00000"/>
              </a:solidFill>
              <a:latin typeface="幼圆"/>
            </a:endParaRPr>
          </a:p>
          <a:p>
            <a:pPr marL="266760" indent="-266760" algn="just">
              <a:lnSpc>
                <a:spcPct val="8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4</a:t>
            </a:r>
            <a:r>
              <a:rPr b="0" lang="zh-CN" sz="2000" spc="-1" strike="noStrike">
                <a:solidFill>
                  <a:srgbClr val="c00000"/>
                </a:solidFill>
                <a:latin typeface="幼圆"/>
              </a:rPr>
              <a:t>）使用经皮胆红素仪每日监测新生儿胆红素的变化，数值</a:t>
            </a:r>
            <a:r>
              <a:rPr b="0" lang="zh-CN" sz="2000" spc="-1" strike="noStrike">
                <a:solidFill>
                  <a:srgbClr val="c00000"/>
                </a:solidFill>
                <a:latin typeface="幼圆"/>
              </a:rPr>
              <a:t>&gt;25</a:t>
            </a:r>
            <a:r>
              <a:rPr b="0" lang="zh-CN" sz="2000" spc="-1" strike="noStrike">
                <a:solidFill>
                  <a:srgbClr val="c00000"/>
                </a:solidFill>
                <a:latin typeface="幼圆"/>
              </a:rPr>
              <a:t>时（校对后相当于血胆红素</a:t>
            </a:r>
            <a:r>
              <a:rPr b="0" lang="zh-CN" sz="2000" spc="-1" strike="noStrike">
                <a:solidFill>
                  <a:srgbClr val="c00000"/>
                </a:solidFill>
                <a:latin typeface="幼圆"/>
              </a:rPr>
              <a:t>205.1μmol/L</a:t>
            </a:r>
            <a:r>
              <a:rPr b="0" lang="zh-CN" sz="2000" spc="-1" strike="noStrike">
                <a:solidFill>
                  <a:srgbClr val="c00000"/>
                </a:solidFill>
                <a:latin typeface="幼圆"/>
              </a:rPr>
              <a:t>），进一步测量血清胆红素。</a:t>
            </a:r>
            <a:endParaRPr b="0" lang="en-US" sz="2000" spc="-1" strike="noStrike">
              <a:solidFill>
                <a:srgbClr val="c00000"/>
              </a:solidFill>
              <a:latin typeface="幼圆"/>
            </a:endParaRPr>
          </a:p>
          <a:p>
            <a:pPr marL="266760" indent="0" algn="just">
              <a:lnSpc>
                <a:spcPct val="8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800" spc="-1" strike="noStrike">
                <a:solidFill>
                  <a:srgbClr val="c00000"/>
                </a:solidFill>
                <a:latin typeface="华文中宋"/>
              </a:rPr>
              <a:t>四、护理措施</a:t>
            </a:r>
            <a:endParaRPr b="1" lang="en-US" sz="2800" spc="-1" strike="noStrike">
              <a:solidFill>
                <a:srgbClr val="c00000"/>
              </a:solidFill>
              <a:latin typeface="华文中宋"/>
            </a:endParaRPr>
          </a:p>
        </p:txBody>
      </p:sp>
      <p:sp>
        <p:nvSpPr>
          <p:cNvPr id="154"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indent="0" algn="just">
              <a:lnSpc>
                <a:spcPct val="9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indent="0" algn="just">
              <a:lnSpc>
                <a:spcPct val="9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indent="0" algn="just">
              <a:lnSpc>
                <a:spcPct val="9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加强基础护理，防止并发症</a:t>
            </a:r>
            <a:endParaRPr b="0" lang="en-US" sz="20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1</a:t>
            </a:r>
            <a:r>
              <a:rPr b="0" lang="zh-CN" sz="2000" spc="-1" strike="noStrike">
                <a:solidFill>
                  <a:srgbClr val="c00000"/>
                </a:solidFill>
                <a:latin typeface="幼圆"/>
              </a:rPr>
              <a:t>）及时更换尿布，保持尿布平整干燥。每次排便后用湿纸巾，涂擦护臀霜或石蜡油，防止尿布皮炎。</a:t>
            </a:r>
            <a:endParaRPr b="0" lang="en-US" sz="20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2</a:t>
            </a:r>
            <a:r>
              <a:rPr b="0" lang="zh-CN" sz="2000" spc="-1" strike="noStrike">
                <a:solidFill>
                  <a:srgbClr val="c00000"/>
                </a:solidFill>
                <a:latin typeface="幼圆"/>
              </a:rPr>
              <a:t>）每次喂奶后，将患儿抱起，并轻拍背部，以驱尽胃内空气，并给予右侧卧位</a:t>
            </a:r>
            <a:r>
              <a:rPr b="0" lang="zh-CN" sz="2000" spc="-1" strike="noStrike">
                <a:solidFill>
                  <a:srgbClr val="c00000"/>
                </a:solidFill>
                <a:latin typeface="幼圆"/>
              </a:rPr>
              <a:t>10min</a:t>
            </a:r>
            <a:r>
              <a:rPr b="0" lang="zh-CN" sz="2000" spc="-1" strike="noStrike">
                <a:solidFill>
                  <a:srgbClr val="c00000"/>
                </a:solidFill>
                <a:latin typeface="幼圆"/>
              </a:rPr>
              <a:t>，防止溢乳。</a:t>
            </a:r>
            <a:endParaRPr b="0" lang="en-US" sz="20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3</a:t>
            </a:r>
            <a:r>
              <a:rPr b="0" lang="zh-CN" sz="2000" spc="-1" strike="noStrike">
                <a:solidFill>
                  <a:srgbClr val="c00000"/>
                </a:solidFill>
                <a:latin typeface="幼圆"/>
              </a:rPr>
              <a:t>）每次喂奶后，少许温开水洗净口腔，因新生儿口腔粘膜柔嫩，血管丰富，不宜擦洗。</a:t>
            </a:r>
            <a:endParaRPr b="0" lang="en-US" sz="20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4</a:t>
            </a:r>
            <a:r>
              <a:rPr b="0" lang="zh-CN" sz="2000" spc="-1" strike="noStrike">
                <a:solidFill>
                  <a:srgbClr val="c00000"/>
                </a:solidFill>
                <a:latin typeface="幼圆"/>
              </a:rPr>
              <a:t>）每天用</a:t>
            </a:r>
            <a:r>
              <a:rPr b="0" lang="zh-CN" sz="2000" spc="-1" strike="noStrike">
                <a:solidFill>
                  <a:srgbClr val="c00000"/>
                </a:solidFill>
                <a:latin typeface="幼圆"/>
              </a:rPr>
              <a:t>2%</a:t>
            </a:r>
            <a:r>
              <a:rPr b="0" lang="zh-CN" sz="2000" spc="-1" strike="noStrike">
                <a:solidFill>
                  <a:srgbClr val="c00000"/>
                </a:solidFill>
                <a:latin typeface="幼圆"/>
              </a:rPr>
              <a:t>碘酒和</a:t>
            </a:r>
            <a:r>
              <a:rPr b="0" lang="zh-CN" sz="2000" spc="-1" strike="noStrike">
                <a:solidFill>
                  <a:srgbClr val="c00000"/>
                </a:solidFill>
                <a:latin typeface="幼圆"/>
              </a:rPr>
              <a:t>75%</a:t>
            </a:r>
            <a:r>
              <a:rPr b="0" lang="zh-CN" sz="2000" spc="-1" strike="noStrike">
                <a:solidFill>
                  <a:srgbClr val="c00000"/>
                </a:solidFill>
                <a:latin typeface="幼圆"/>
              </a:rPr>
              <a:t>乙醇涂擦脐带残端，保持局部清洁干燥，同时注意观察脐部有无脓性分泌物和异味，脐轮有无红肿等，及时发现感染表现</a:t>
            </a:r>
            <a:endParaRPr b="0" lang="en-US" sz="2000" spc="-1" strike="noStrike">
              <a:solidFill>
                <a:srgbClr val="c00000"/>
              </a:solidFill>
              <a:latin typeface="幼圆"/>
            </a:endParaRPr>
          </a:p>
          <a:p>
            <a:pPr marL="266760" indent="-266760" algn="just">
              <a:lnSpc>
                <a:spcPct val="90000"/>
              </a:lnSpc>
              <a:spcBef>
                <a:spcPts val="451"/>
              </a:spcBef>
              <a:buClr>
                <a:srgbClr val="c00000"/>
              </a:buClr>
              <a:buSzPct val="60000"/>
              <a:buFont typeface="Wingdings 3"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a:t>
            </a:r>
            <a:r>
              <a:rPr b="0" lang="zh-CN" sz="2000" spc="-1" strike="noStrike">
                <a:solidFill>
                  <a:srgbClr val="c00000"/>
                </a:solidFill>
                <a:latin typeface="幼圆"/>
              </a:rPr>
              <a:t>5</a:t>
            </a:r>
            <a:r>
              <a:rPr b="0" lang="zh-CN" sz="2000" spc="-1" strike="noStrike">
                <a:solidFill>
                  <a:srgbClr val="c00000"/>
                </a:solidFill>
                <a:latin typeface="幼圆"/>
              </a:rPr>
              <a:t>）给患儿修剪指甲，带上手套，避免因瘙痒患儿抓伤皮肤，积极配合医生治疗，早日治愈脓疱疹</a:t>
            </a:r>
            <a:endParaRPr b="0" lang="en-US" sz="2000" spc="-1" strike="noStrike">
              <a:solidFill>
                <a:srgbClr val="c00000"/>
              </a:solidFill>
              <a:latin typeface="幼圆"/>
            </a:endParaRPr>
          </a:p>
          <a:p>
            <a:pPr marL="266760" indent="0" algn="just">
              <a:lnSpc>
                <a:spcPct val="9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06200"/>
            <a:ext cx="8291520" cy="795600"/>
          </a:xfrm>
          <a:prstGeom prst="rect">
            <a:avLst/>
          </a:prstGeom>
          <a:noFill/>
          <a:ln w="0">
            <a:noFill/>
          </a:ln>
        </p:spPr>
        <p:txBody>
          <a:bodyPr lIns="90000" rIns="90000" tIns="46800" bIns="4680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3200" spc="-1" strike="noStrike">
                <a:solidFill>
                  <a:srgbClr val="c00000"/>
                </a:solidFill>
                <a:latin typeface="华文中宋"/>
              </a:rPr>
              <a:t>四、护理措施</a:t>
            </a:r>
            <a:endParaRPr b="1" lang="en-US" sz="3200" spc="-1" strike="noStrike">
              <a:solidFill>
                <a:srgbClr val="c00000"/>
              </a:solidFill>
              <a:latin typeface="华文中宋"/>
            </a:endParaRPr>
          </a:p>
        </p:txBody>
      </p:sp>
      <p:sp>
        <p:nvSpPr>
          <p:cNvPr id="156" name="PlaceHolder 2"/>
          <p:cNvSpPr>
            <a:spLocks noGrp="1"/>
          </p:cNvSpPr>
          <p:nvPr>
            <p:ph/>
          </p:nvPr>
        </p:nvSpPr>
        <p:spPr>
          <a:xfrm>
            <a:off x="419040" y="1257480"/>
            <a:ext cx="8291520" cy="5024160"/>
          </a:xfrm>
          <a:prstGeom prst="rect">
            <a:avLst/>
          </a:prstGeom>
          <a:noFill/>
          <a:ln w="0">
            <a:noFill/>
          </a:ln>
        </p:spPr>
        <p:txBody>
          <a:bodyPr lIns="90000" rIns="90000" tIns="46800" bIns="46800" anchor="t">
            <a:normAutofit/>
          </a:bodyPr>
          <a:p>
            <a:pPr marL="266760" indent="0" algn="just">
              <a:lnSpc>
                <a:spcPct val="110000"/>
              </a:lnSpc>
              <a:spcBef>
                <a:spcPts val="4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c00000"/>
                </a:solidFill>
                <a:latin typeface="幼圆"/>
              </a:rPr>
              <a:t>  </a:t>
            </a:r>
            <a:r>
              <a:rPr b="0" lang="zh-CN" sz="2000" spc="-1" strike="noStrike">
                <a:solidFill>
                  <a:srgbClr val="c00000"/>
                </a:solidFill>
                <a:latin typeface="幼圆"/>
              </a:rPr>
              <a:t>做好家长的健康指导 尽早帮助产妇建立母乳喂养的信心，由浅入深逐步讲解母乳喂养的好处及方法、技巧</a:t>
            </a:r>
            <a:r>
              <a:rPr b="0" lang="zh-CN" sz="2000" spc="-1" strike="noStrike">
                <a:solidFill>
                  <a:srgbClr val="c00000"/>
                </a:solidFill>
                <a:latin typeface="幼圆"/>
              </a:rPr>
              <a:t>;</a:t>
            </a:r>
            <a:r>
              <a:rPr b="0" lang="zh-CN" sz="2000" spc="-1" strike="noStrike">
                <a:solidFill>
                  <a:srgbClr val="c00000"/>
                </a:solidFill>
                <a:latin typeface="幼圆"/>
              </a:rPr>
              <a:t>剖宫产和自然产后伤口疼痛，耐心指导产妇采取侧卧或坐位哺乳</a:t>
            </a:r>
            <a:r>
              <a:rPr b="0" lang="zh-CN" sz="2000" spc="-1" strike="noStrike">
                <a:solidFill>
                  <a:srgbClr val="c00000"/>
                </a:solidFill>
                <a:latin typeface="幼圆"/>
              </a:rPr>
              <a:t>;</a:t>
            </a:r>
            <a:r>
              <a:rPr b="0" lang="zh-CN" sz="2000" spc="-1" strike="noStrike">
                <a:solidFill>
                  <a:srgbClr val="c00000"/>
                </a:solidFill>
                <a:latin typeface="幼圆"/>
              </a:rPr>
              <a:t>用通俗易懂的语言讲解新生儿黄疸发生的原因和患儿的病情，取得合作</a:t>
            </a:r>
            <a:r>
              <a:rPr b="0" lang="zh-CN" sz="2000" spc="-1" strike="noStrike">
                <a:solidFill>
                  <a:srgbClr val="c00000"/>
                </a:solidFill>
                <a:latin typeface="幼圆"/>
              </a:rPr>
              <a:t>;</a:t>
            </a:r>
            <a:r>
              <a:rPr b="0" lang="zh-CN" sz="2000" spc="-1" strike="noStrike">
                <a:solidFill>
                  <a:srgbClr val="c00000"/>
                </a:solidFill>
                <a:latin typeface="幼圆"/>
              </a:rPr>
              <a:t>示范指导新生儿更换尿布、沐浴等方法，为出院后家庭护理打下良好的基础。</a:t>
            </a: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a:p>
            <a:pPr marL="266760" indent="0" algn="just">
              <a:lnSpc>
                <a:spcPct val="110000"/>
              </a:lnSpc>
              <a:spcBef>
                <a:spcPts val="4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c00000"/>
              </a:solidFill>
              <a:latin typeface="幼圆"/>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dc:language>en-US</dc:language>
  <cp:lastModifiedBy>bianxiaoxiang</cp:lastModifiedBy>
  <dcterms:modified xsi:type="dcterms:W3CDTF">2015-04-21T15:27:48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