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BE2-D3E7-416C-9705-11599CBF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FF6-53B6-4882-B315-0B3A8A70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37F-559E-4CD7-96C3-45BDA87B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74B-4C18-4BDF-9B13-FE7B4535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0641-BB6E-4764-A9CA-7EFB7A61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6429-AB2C-4F44-B0C8-DB5AE53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3B7C-AF86-47AB-8FCC-3ADBE52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86FE-1E2E-4D45-A113-82B93F3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54AE-D1C8-4463-98B8-74E78770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F112-2228-45DC-91E8-797AD063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747C-E150-4DBA-81F7-5D580CAA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56A-2374-4FBC-BC53-D7B575B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8A75-09F0-46BE-A029-3A55B88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0DE0-0450-4D9C-81BB-167C007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FFAC-C4E2-4640-927A-8E2D2F2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2AB-BEA0-4FCB-94DE-670DD1D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0E9B-8A6F-4EBE-A20F-19BC528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C7F-1CA0-4142-8E4E-0903E237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BEF-842C-4AB3-9057-2E9C1B4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A62-2436-466C-A46C-BC911F0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B6A-CF2A-4F09-98CF-15DA6DB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9E0-413D-4F4C-B6BC-C404F91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3D4-AF61-43BF-B436-490285F7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33A-FBB8-4E09-AAEE-A5FF2ED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710-3BF1-40DA-8BF6-C66A40340B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874-E107-45AF-8BA9-D2561F458EC9}" type="slidenum"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宋体"/>
              </a:rPr>
              <a:t>支气管哮喘护理查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宋体"/>
              </a:rPr>
              <a:t>房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80000" y="5157360"/>
            <a:ext cx="356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呼 吸 内 科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胡缤支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011.09.06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护理措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69992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可给予鼻导管低流量、持续湿化吸氧，改善呼吸。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6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观察病人神志、发绀、呼吸程度的改变，了解病情和治理效果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7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尊医嘱使用支气管解痉药物和抗炎药物，指导病人正确使用吸入剂，提高治疗效果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686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健康教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" descr="18400912551640840363"/>
          <p:cNvPicPr/>
          <p:nvPr/>
        </p:nvPicPr>
        <p:blipFill>
          <a:blip r:embed="rId2"/>
          <a:stretch/>
        </p:blipFill>
        <p:spPr>
          <a:xfrm>
            <a:off x="4572000" y="1928880"/>
            <a:ext cx="2928960" cy="2403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38289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向病人介绍哮喘的基本知识，帮助寻找几避开过敏原，指导安排生活起居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指导病人摄入营养丰富的清淡饮食，避免牛奶、蛋、鱼、虾等易过敏的食物及胡椒生姜等刺激性食物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0" name="Picture 11" descr="12562O262K0-1KS"/>
          <p:cNvPicPr/>
          <p:nvPr/>
        </p:nvPicPr>
        <p:blipFill>
          <a:blip r:embed="rId3"/>
          <a:stretch/>
        </p:blipFill>
        <p:spPr>
          <a:xfrm>
            <a:off x="6191280" y="4292640"/>
            <a:ext cx="2952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84360" y="404280"/>
            <a:ext cx="2638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健康教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尽量不用可能诱发哮喘的药物，如阿司匹林、吲哚美辛、普萘诺尔等。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告知病人及其家属应保持室内空气新鲜，不放花草，不饲养猫、狗、鸟等动物，不使用地毯、羊毛毯、羽毛枕及不穿羽绒衣；经常打扫房间，清洗床上用品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181080" y="162864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指导病人有计划的进行耐寒锻炼，增强抵抗开，养成规律的生活习惯和保持乐观的情绪。向病人说明发病和精神因数和生活压力的关系，做好与疾病长期做斗争的准备。注意保暖，预防呼吸道感染，发病季节前尊医嘱进行预防性治疗，减少复发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300720" y="404640"/>
            <a:ext cx="245448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健康教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图片 6" descr="支3.jpg"/>
          <p:cNvPicPr/>
          <p:nvPr/>
        </p:nvPicPr>
        <p:blipFill>
          <a:blip r:embed="rId2"/>
          <a:stretch/>
        </p:blipFill>
        <p:spPr>
          <a:xfrm>
            <a:off x="4356000" y="4149720"/>
            <a:ext cx="4500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护理措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29040" y="1676160"/>
            <a:ext cx="5214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6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向哮喘病人及其家属阐明所用的每一种药的药名、用法、使用时的注意事项和药物的主要副作用。帮助病人在急性发作时及时、正确的药物吸入技术。嘱病人随身携带止喘气雾剂，出现哮喘发作先兆时立即吸入并保持平静，以减轻哮喘的发作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8" name="内容占位符 4" descr="止喘气雾剂.jpg"/>
          <p:cNvPicPr/>
          <p:nvPr/>
        </p:nvPicPr>
        <p:blipFill>
          <a:blip r:embed="rId2"/>
          <a:stretch/>
        </p:blipFill>
        <p:spPr>
          <a:xfrm>
            <a:off x="142920" y="3000240"/>
            <a:ext cx="3429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7500960" cy="928440"/>
          </a:xfrm>
          <a:prstGeom prst="rect">
            <a:avLst/>
          </a:prstGeom>
          <a:noFill/>
          <a:ln w="9360">
            <a:solidFill>
              <a:srgbClr val="8eb3c8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支气管哮喘的定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142720"/>
            <a:ext cx="4929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支气管哮喘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bronchial asthma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，简称哮喘），是一种以嗜酸粒细胞、肥大细胞反应为主的气道变应性炎症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allergic airway inflammation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，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AAI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）和气道高反应性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broncho-hy-perreactivity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，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BHR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）为特征的疾病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1" name="图片占位符 6" descr="支气管哮喘.jpg"/>
          <p:cNvPicPr/>
          <p:nvPr/>
        </p:nvPicPr>
        <p:blipFill>
          <a:blip r:embed="rId2"/>
          <a:srcRect l="0" t="2794" r="0" b="2794"/>
          <a:stretch/>
        </p:blipFill>
        <p:spPr>
          <a:xfrm>
            <a:off x="4786200" y="1928880"/>
            <a:ext cx="43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00080" y="333360"/>
            <a:ext cx="45435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支气管哮喘的病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遗传因数  哮喘病人亲属的患病率高于正常人，且亲缘关系越近，其亲属患病率越高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环境因数中科激发因数有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吸入性过敏原为主，如花粉、尘螨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感染：如病毒、细菌、寄生虫等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食物：鱼、虾、蛋类、牛奶等食物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4)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其他：气候变化、某种药物等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57672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支气管哮喘的病理变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28960" y="1676160"/>
            <a:ext cx="5681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肉眼观，肺过度膨胀，柔软疏松而有弹性，支气管管腔内含有粘稠痰液和粘液栓，偶尔可有支气管扩张。镜下，可见粘膜上皮层中杯状细胞增多，粘液腺增生，粘膜的基底膜增厚并发生玻璃样变，管壁平滑肌肥大，粘膜下及肥厚的肌层内有嗜酸性粒细胞及单核细胞浸润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6" name="图片 3" descr="支4.jpg"/>
          <p:cNvPicPr/>
          <p:nvPr/>
        </p:nvPicPr>
        <p:blipFill>
          <a:blip r:embed="rId2"/>
          <a:stretch/>
        </p:blipFill>
        <p:spPr>
          <a:xfrm>
            <a:off x="357120" y="2762280"/>
            <a:ext cx="2786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内容占位符 3" descr="x先胸透.jpg"/>
          <p:cNvPicPr/>
          <p:nvPr/>
        </p:nvPicPr>
        <p:blipFill>
          <a:blip r:embed="rId2"/>
          <a:stretch/>
        </p:blipFill>
        <p:spPr>
          <a:xfrm>
            <a:off x="357120" y="1643040"/>
            <a:ext cx="4143600" cy="4071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x线2.jpg"/>
          <p:cNvPicPr/>
          <p:nvPr/>
        </p:nvPicPr>
        <p:blipFill>
          <a:blip r:embed="rId3"/>
          <a:stretch/>
        </p:blipFill>
        <p:spPr>
          <a:xfrm>
            <a:off x="4929120" y="1500120"/>
            <a:ext cx="3929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57760" y="333360"/>
            <a:ext cx="4721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临床表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症状：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咳嗽、喘息、呼吸困难、胸闷、咳痰等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发作性伴有哮鸣音的呼气性呼吸困难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干咳或咯大量白色泡沫痰，甚至出现紫绀等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在夜间和清晨发作、加重是哮喘的特征之一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99306"/>
          <p:cNvPicPr/>
          <p:nvPr/>
        </p:nvPicPr>
        <p:blipFill>
          <a:blip r:embed="rId2"/>
          <a:stretch/>
        </p:blipFill>
        <p:spPr>
          <a:xfrm>
            <a:off x="5572080" y="4118040"/>
            <a:ext cx="3571920" cy="273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64000" y="189000"/>
            <a:ext cx="37800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病例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患者 李芝英 老年女性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79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岁 退休工人 患者于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01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年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8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7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日开始无明诱因出现咳嗽、咳痰，呈阵发性咳，为白色泡沫痰，量不多，不易咳出，无血丝，未闻及腥臭味，伴气促、喘息，无盗汗、无发热、寒颤、无乏力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，于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01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年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9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日收入我科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。主述咳嗽、咳痰、气促、              喘息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天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259920"/>
            <a:ext cx="2741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临床表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体征：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发作时双肺呈过度充盈状态，哮鸣音广泛，呼气音延长，但当哮喘特别严重时或轻度哮喘时哮鸣音可不出现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可有发绀、心律增快、奇脉、颈静脉怒张、胸腹反常运动等体征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11280" y="333000"/>
            <a:ext cx="46861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支气管哮喘的治疗原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消除过敏原及引起哮喘的刺激因素，控制发作和预防复发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缓解哮喘发作的药物治疗：受体激动剂、茶碱类、抗胆碱能药物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抗炎药物：糖皮质激素、色甘酸钠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其他治疗：如控制感染、湿化奇道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采用脱敏治疗等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5280" y="3141360"/>
            <a:ext cx="75960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  <a:ea typeface="仿宋_GB2312"/>
              </a:rPr>
              <a:t>Thank you </a:t>
            </a:r>
            <a:r>
              <a:rPr b="0" lang="zh-CN" sz="8800" spc="-1" strike="noStrike">
                <a:solidFill>
                  <a:srgbClr val="000000"/>
                </a:solidFill>
                <a:latin typeface="Tahoma"/>
                <a:ea typeface="仿宋_GB2312"/>
              </a:rPr>
              <a:t>！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95640" y="333000"/>
            <a:ext cx="2670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病史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7200" y="171432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既往史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：有“哮喘”病史十余年，有“冠心病、胆囊结石”病史，否认有“高血压、糖尿病”病史，否认药物过敏史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入院体查：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T—36.4℃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，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P68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次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/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分，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R22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次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/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分，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BP160/70mmHg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，血氧饱和度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98%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辅助检查：血常规、血沉、血气分析、肝肾功能、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B-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钠尿肽、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B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超、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C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436608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7280" y="260280"/>
            <a:ext cx="26719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病史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阳性体征：血沉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2↑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葡萄糖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7.39↑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血气分析：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pc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T)33.8↓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，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T)102.1↑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入院诊断：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支气管哮喘并感染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冠心病  心功能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Ⅱ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级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、胆囊结石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病史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入院治疗：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低流量吸氧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帕拉西林钠舒巴坦钠抗感染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甲泼尼龙及哆嗦茶碱平喘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氨溴索雾化祛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5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泮托拉唑护胃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6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硫酸氢氯比格雷片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抗血小板聚集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4" name="Picture 5" descr="看了"/>
          <p:cNvPicPr/>
          <p:nvPr/>
        </p:nvPicPr>
        <p:blipFill>
          <a:blip r:embed="rId2"/>
          <a:srcRect l="5943" t="0" r="5943" b="0"/>
          <a:stretch/>
        </p:blipFill>
        <p:spPr>
          <a:xfrm>
            <a:off x="5143680" y="3716280"/>
            <a:ext cx="40003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病史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9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日患者随机血糖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7.39mmol∕L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，血糖过高，考虑使用糖皮质激素所致，为排除糖尿病，复查血常规，糖化血红蛋白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40000" y="475920"/>
            <a:ext cx="3203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护理诊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.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低效性呼吸型态或气体交换受损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2.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体液不足或有体液不足的危险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3.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知识缺乏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4.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活动无耐力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5.</a:t>
            </a: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合作性问题潜在并发症：感染、自发性气胸、呼吸衰竭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护理措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12_091209152000_1"/>
          <p:cNvPicPr/>
          <p:nvPr/>
        </p:nvPicPr>
        <p:blipFill>
          <a:blip r:embed="rId2"/>
          <a:stretch/>
        </p:blipFill>
        <p:spPr>
          <a:xfrm>
            <a:off x="468360" y="2492280"/>
            <a:ext cx="3460680" cy="303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24360" y="1844640"/>
            <a:ext cx="4680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、提供安静、舒适，温度、湿度适宜的环境，保持空气流通，避免花草、地毯、皮毛、烟及尘埃飞扬的诱因。安抚病人，防止情绪激动。根据病情提供舒适体位，如为端坐呼吸者提供桌椅，以作支撑，减少疲劳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686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护理措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、给予营养丰、高维生素、清淡流质或半流质饮食，多吃水果和蔬菜，避免使用鱼、蛋等可能诱发哮喘的食物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、鼓励病人饮水，饮水量</a:t>
            </a:r>
            <a:r>
              <a:rPr b="0" lang="en-US" sz="2800" spc="-1" strike="noStrike">
                <a:solidFill>
                  <a:srgbClr val="003366"/>
                </a:solidFill>
                <a:latin typeface="宋体"/>
                <a:ea typeface="宋体"/>
              </a:rPr>
              <a:t>&gt;2500ml∕d</a:t>
            </a: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。以补充丢失的水分，稀释痰液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防止便秘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、定期协助病人翻身、拍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背，促使痰液排出。给予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宋体"/>
                <a:ea typeface="宋体"/>
              </a:rPr>
              <a:t>祛痰药物或使用蒸汽雾化、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  <a:ea typeface="宋体"/>
              </a:rPr>
              <a:t>雾化吸入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4" name="内容占位符 13" descr="南瓜.jpg"/>
          <p:cNvPicPr/>
          <p:nvPr/>
        </p:nvPicPr>
        <p:blipFill>
          <a:blip r:embed="rId2"/>
          <a:stretch/>
        </p:blipFill>
        <p:spPr>
          <a:xfrm>
            <a:off x="5572080" y="4143240"/>
            <a:ext cx="3571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33:57Z</dcterms:created>
  <dc:creator>微软用户</dc:creator>
  <dc:description/>
  <cp:keywords/>
  <dc:language>en-US</dc:language>
  <cp:lastModifiedBy>微软用户</cp:lastModifiedBy>
  <dcterms:modified xsi:type="dcterms:W3CDTF">2011-10-06T08:18:46Z</dcterms:modified>
  <cp:revision>55</cp:revision>
  <dc:subject/>
  <dc:title>支气管扩张护理查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2052</vt:lpwstr>
  </property>
</Properties>
</file>