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10.jpeg" ContentType="image/jpeg"/>
  <Override PartName="/ppt/media/image11.gif" ContentType="image/gi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894-6C50-4B91-AA1B-044431DC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971-AEDC-4040-927E-723228E3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7C2-B0C2-45A1-AEE2-8F883E91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6E77-464B-4456-9195-D6B89E76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5DC7-6255-4E0F-B050-21E55612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D9C9-B0E2-46FA-85AF-A166E7BF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E0D0-FC20-423A-AC82-00533FEB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FB9D-A2D1-4E23-BFFF-4DB670B7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B3B4-E4ED-4789-A6BA-738FFCAA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2D01-542D-4C48-B7D4-F8C44AC3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64A2-0A0B-4697-9EF8-039EE4F9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B22-E67B-4819-BA90-6002ED06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A915-9282-4AE6-B68B-563FF728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E65B-0976-400C-94B6-71F6B907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CD52-C745-4649-A2CC-40CA8653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17C1-36B5-4970-8A73-B7ABBC44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0D33-2267-4FCB-A68D-8A16C4FC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AD72-1F97-4253-B9B0-56A5203D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94B-B1C4-4BE9-9AB1-5C8CD491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113-C22D-4CF9-8963-807B0465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D73-2C5B-4F62-82C4-E98E398F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427-A930-41E8-92B5-5E1172B7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1853-7FE2-4EF7-A477-930FDA76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6EE-6106-4039-8724-FEF4E45A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3E82-23A8-43E4-8FCF-0353D9BA7B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B732-0985-4046-87C4-8823D919DC05}" type="slidenum">
              <a: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health.sohu.com/56/25/column212512556.s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baike.baidu.com/view/20616.htm" TargetMode="External"/><Relationship Id="rId2" Type="http://schemas.openxmlformats.org/officeDocument/2006/relationships/hyperlink" Target="http://baike.baidu.com/view/122861.htm" TargetMode="External"/><Relationship Id="rId3" Type="http://schemas.openxmlformats.org/officeDocument/2006/relationships/hyperlink" Target="http://baike.baidu.com/view/43126.htm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4" descr="护士.png"/>
          <p:cNvPicPr/>
          <p:nvPr/>
        </p:nvPicPr>
        <p:blipFill>
          <a:blip r:embed="rId1"/>
          <a:stretch/>
        </p:blipFill>
        <p:spPr>
          <a:xfrm>
            <a:off x="324000" y="1844640"/>
            <a:ext cx="4465440" cy="5013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604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中暑护理查房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56000" y="4508280"/>
            <a:ext cx="6588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             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i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江急科疾病查房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何敏慧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Arial"/>
              </a:rPr>
              <a:t>　　　　　　　　　　　　　　　                                            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2013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月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02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日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4064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61406"/>
                </a:solidFill>
                <a:latin typeface="Arial"/>
                <a:ea typeface="黑体"/>
              </a:rPr>
              <a:t>护理计划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406"/>
                </a:solidFill>
                <a:latin typeface="Arial"/>
                <a:ea typeface="黑体"/>
              </a:rPr>
              <a:t>护理诊断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1406"/>
                </a:solidFill>
                <a:latin typeface="宋体"/>
              </a:rPr>
              <a:t>1.</a:t>
            </a:r>
            <a:r>
              <a:rPr b="1" lang="zh-CN" sz="1600" spc="-1" strike="noStrike">
                <a:solidFill>
                  <a:srgbClr val="061406"/>
                </a:solidFill>
                <a:latin typeface="宋体"/>
              </a:rPr>
              <a:t>体温过高   与中暑高热有关。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1406"/>
                </a:solidFill>
                <a:latin typeface="宋体"/>
              </a:rPr>
              <a:t>2.</a:t>
            </a:r>
            <a:r>
              <a:rPr b="1" lang="zh-CN" sz="1600" spc="-1" strike="noStrike">
                <a:solidFill>
                  <a:srgbClr val="061406"/>
                </a:solidFill>
                <a:latin typeface="宋体"/>
              </a:rPr>
              <a:t>有体液不足的危险  与脱水与中暑衰竭引起血容量不足有关。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1406"/>
                </a:solidFill>
                <a:latin typeface="宋体"/>
              </a:rPr>
              <a:t>3.</a:t>
            </a:r>
            <a:r>
              <a:rPr b="1" lang="zh-CN" sz="1600" spc="-1" strike="noStrike">
                <a:solidFill>
                  <a:srgbClr val="061406"/>
                </a:solidFill>
                <a:latin typeface="宋体"/>
              </a:rPr>
              <a:t>急性意识障碍   与昏迷与中暑引起头部温度过高有关。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1406"/>
                </a:solidFill>
                <a:latin typeface="宋体"/>
              </a:rPr>
              <a:t>4.</a:t>
            </a:r>
            <a:r>
              <a:rPr b="1" lang="zh-CN" sz="1600" spc="-1" strike="noStrike">
                <a:solidFill>
                  <a:srgbClr val="061406"/>
                </a:solidFill>
                <a:latin typeface="宋体"/>
              </a:rPr>
              <a:t>潜在并发症 休克、压疮等 与病情和长期卧床有关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1406"/>
                </a:solidFill>
                <a:latin typeface="宋体"/>
              </a:rPr>
              <a:t>5.</a:t>
            </a:r>
            <a:r>
              <a:rPr b="1" lang="zh-CN" sz="1600" spc="-1" strike="noStrike">
                <a:solidFill>
                  <a:srgbClr val="061406"/>
                </a:solidFill>
                <a:latin typeface="宋体"/>
              </a:rPr>
              <a:t>清理呼吸道无效  与咳嗽无力有关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1406"/>
                </a:solidFill>
                <a:latin typeface="宋体"/>
              </a:rPr>
              <a:t>6.</a:t>
            </a:r>
            <a:r>
              <a:rPr b="1" lang="zh-CN" sz="1600" spc="-1" strike="noStrike">
                <a:solidFill>
                  <a:srgbClr val="061406"/>
                </a:solidFill>
                <a:latin typeface="宋体"/>
              </a:rPr>
              <a:t>水电解质混乱   与病情脱水等有关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406"/>
                </a:solidFill>
                <a:latin typeface="宋体"/>
              </a:rPr>
              <a:t>护理目标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61406"/>
                </a:solidFill>
                <a:latin typeface="宋体"/>
              </a:rPr>
              <a:t>患者体温高时能及时处理，使体温在正常范围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1406"/>
                </a:solidFill>
                <a:latin typeface="宋体"/>
              </a:rPr>
              <a:t>CVP</a:t>
            </a:r>
            <a:r>
              <a:rPr b="1" lang="zh-CN" sz="1600" spc="-1" strike="noStrike">
                <a:solidFill>
                  <a:srgbClr val="061406"/>
                </a:solidFill>
                <a:latin typeface="宋体"/>
              </a:rPr>
              <a:t>正常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61406"/>
                </a:solidFill>
                <a:latin typeface="宋体"/>
              </a:rPr>
              <a:t>意识好转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61406"/>
                </a:solidFill>
                <a:latin typeface="Arial"/>
              </a:rPr>
              <a:t>血压正常、皮肤完整无破损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61406"/>
                </a:solidFill>
                <a:latin typeface="Arial"/>
              </a:rPr>
              <a:t>护理措施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61406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61406"/>
                </a:solidFill>
                <a:latin typeface="Arial"/>
              </a:rPr>
              <a:t>降温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）物理降温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） 药物降温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61406"/>
                </a:solidFill>
                <a:latin typeface="Arial"/>
              </a:rPr>
              <a:t>降温措施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472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物理降温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406"/>
                </a:solidFill>
                <a:latin typeface="Arial"/>
              </a:rPr>
              <a:t>放置空调房间，可同时使用电风扇吹风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406"/>
                </a:solidFill>
                <a:latin typeface="Arial"/>
              </a:rPr>
              <a:t>冷水浴或冰浴，在腋下或腹股沟等大血管分布区覆盖湿毛巾、放置冰袋或用酒精擦身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406"/>
                </a:solidFill>
                <a:latin typeface="Arial"/>
              </a:rPr>
              <a:t>使用冰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药物降温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92b4d"/>
                </a:solidFill>
                <a:latin typeface="Arial Black"/>
                <a:ea typeface="华文新魏"/>
              </a:rPr>
              <a:t>必须与物理降温同时使用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406"/>
                </a:solidFill>
                <a:latin typeface="华文新魏"/>
                <a:ea typeface="华文新魏"/>
              </a:rPr>
              <a:t>氯丙嗪加入</a:t>
            </a:r>
            <a:r>
              <a:rPr b="1" lang="en-US" sz="2500" spc="-1" strike="noStrike">
                <a:solidFill>
                  <a:srgbClr val="061406"/>
                </a:solidFill>
                <a:latin typeface="华文新魏"/>
                <a:ea typeface="华文新魏"/>
              </a:rPr>
              <a:t>4℃</a:t>
            </a:r>
            <a:r>
              <a:rPr b="1" lang="zh-CN" sz="2500" spc="-1" strike="noStrike">
                <a:solidFill>
                  <a:srgbClr val="061406"/>
                </a:solidFill>
                <a:latin typeface="华文新魏"/>
                <a:ea typeface="华文新魏"/>
              </a:rPr>
              <a:t>糖盐水快速静点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406"/>
                </a:solidFill>
                <a:latin typeface="华文新魏"/>
                <a:ea typeface="华文新魏"/>
              </a:rPr>
              <a:t>地塞米松：静推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406"/>
                </a:solidFill>
                <a:latin typeface="华文新魏"/>
                <a:ea typeface="华文新魏"/>
              </a:rPr>
              <a:t>人工冬眠：氯丙嗪</a:t>
            </a:r>
            <a:r>
              <a:rPr b="1" lang="en-US" sz="2500" spc="-1" strike="noStrike">
                <a:solidFill>
                  <a:srgbClr val="061406"/>
                </a:solidFill>
                <a:latin typeface="华文新魏"/>
                <a:ea typeface="华文新魏"/>
              </a:rPr>
              <a:t>+</a:t>
            </a:r>
            <a:r>
              <a:rPr b="1" lang="zh-CN" sz="2500" spc="-1" strike="noStrike">
                <a:solidFill>
                  <a:srgbClr val="061406"/>
                </a:solidFill>
                <a:latin typeface="华文新魏"/>
                <a:ea typeface="华文新魏"/>
              </a:rPr>
              <a:t>派替啶</a:t>
            </a:r>
            <a:r>
              <a:rPr b="1" lang="en-US" sz="2500" spc="-1" strike="noStrike">
                <a:solidFill>
                  <a:srgbClr val="061406"/>
                </a:solidFill>
                <a:latin typeface="华文新魏"/>
                <a:ea typeface="华文新魏"/>
              </a:rPr>
              <a:t>+</a:t>
            </a:r>
            <a:r>
              <a:rPr b="1" lang="zh-CN" sz="2500" spc="-1" strike="noStrike">
                <a:solidFill>
                  <a:srgbClr val="061406"/>
                </a:solidFill>
                <a:latin typeface="华文新魏"/>
                <a:ea typeface="华文新魏"/>
              </a:rPr>
              <a:t>异丙嗪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406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61406"/>
                </a:solidFill>
                <a:latin typeface="Arial"/>
              </a:rPr>
              <a:t>对症处理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纠正水电解质紊乱改善周围循环衰竭；防治并发症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应按病情补给水和盐类，一般给予生理盐水或</a:t>
            </a:r>
            <a:r>
              <a:rPr b="1" lang="en-US" sz="2800" spc="-1" strike="noStrike">
                <a:solidFill>
                  <a:srgbClr val="061406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％葡萄糖生理盐水</a:t>
            </a:r>
            <a:r>
              <a:rPr b="1" lang="en-US" sz="2800" spc="-1" strike="noStrike">
                <a:solidFill>
                  <a:srgbClr val="061406"/>
                </a:solidFill>
                <a:latin typeface="Arial"/>
              </a:rPr>
              <a:t>1000</a:t>
            </a: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61406"/>
                </a:solidFill>
                <a:latin typeface="Arial"/>
              </a:rPr>
              <a:t>2000ml</a:t>
            </a: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适量补充维生素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对热痉挛患者，补充钙、钾，适当使用镇静剂，如苯巴比妥、安定肌肉注射，或</a:t>
            </a:r>
            <a:r>
              <a:rPr b="1" lang="en-US" sz="2800" spc="-1" strike="noStrike">
                <a:solidFill>
                  <a:srgbClr val="061406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％水合氯醛灌肠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热衰竭者适量使用升压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406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061406"/>
                </a:solidFill>
                <a:latin typeface="Arial"/>
              </a:rPr>
              <a:t>监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）  呼吸系统监护 　及时清除口腔及呼吸道分泌物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保持呼吸道通畅。给予 氧气吸入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并严密观察病人呼吸频率、节律及是否有口唇、 指甲发绀、指尖氧饱和度等缺氧现象。呼吸困难者行呼吸机辅助通气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定时行血气分析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并根据结果调整呼吸机参数。加强气道管理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注意应用叩背等物理疗法促进排痰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及时清除口、 鼻及气道分泌物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同时病人由于高热体液丢失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呼吸道干燥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应注意气道湿化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防止痰痂形成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保证通气效果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预防肺部感染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5406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）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循环系统监护 　 行床旁心电监护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严密监测病人心率及心律、 呼吸、 血压以及中心静脉压的变化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并详细作好护理记录。迅速建立有效的静脉通路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快速补液及补钾、 钠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脱水降颅压、 营养神经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纠正内环境紊乱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抗炎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抑酸、 胃黏膜保护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护肝、 静脉营养等对症支持治疗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积极预防并发症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根据血流动力学变化和尿量情况调节输液量、 药物性质及补液速度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纠正水、 电解质失衡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防止心力衰竭等并发症的发生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052640"/>
            <a:ext cx="85406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）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脑功能监护 　 甘露醇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125 mL 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每日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次静脉输注脱水降颅压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给予脑电图及脑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CT 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检查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了解脑部的病变状况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更好地采取保护措施。仔细观察病人的意识状态、 语言表达、 面部表情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同时观察病人的瞳孔及对光反射等变化。根据病人有无恶心、 呕吐等症状估计颅内高压的程度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必要时行腰椎穿刺以准确掌握颅内压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以便及时对症用药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避免脑水肿的发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）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肾功能监护 　 做好留置导尿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留取尿标本并及时送检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测定尿比重、 血清内生肌酐清除率、 血清尿素氮、 血肌酐等指标。观察记录尿量、 尿色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并严密监测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24 h 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出入液量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如尿量低于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30 mL/ h 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而比重大于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1. 025 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以上说明肾血流量减少、 血容量不足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要及时补足液量。一旦出现蛋白尿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就可能导致肾衰竭。凡疑有急性肾衰竭者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应早期快速给予呋塞米、 甘露醇等利尿药物治疗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保证尿量在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30 mL/ h 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以上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对于高钾血症或急性肾衰竭病人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尽早进行腹膜透析或血液透析 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使肾功能损害降低到最低限度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61406"/>
                </a:solidFill>
                <a:latin typeface="Arial"/>
                <a:ea typeface="隶书"/>
              </a:rPr>
              <a:t>4.</a:t>
            </a:r>
            <a:r>
              <a:rPr b="1" i="1" lang="zh-CN" sz="4400" spc="-1" strike="noStrike">
                <a:solidFill>
                  <a:srgbClr val="061406"/>
                </a:solidFill>
                <a:latin typeface="Arial"/>
                <a:ea typeface="隶书"/>
              </a:rPr>
              <a:t>并发症处理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pSp>
        <p:nvGrpSpPr>
          <p:cNvPr id="117" name="组合 121858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sp>
          <p:nvSpPr>
            <p:cNvPr id="118" name="直接连接符 121859"/>
            <p:cNvSpPr/>
            <p:nvPr/>
          </p:nvSpPr>
          <p:spPr>
            <a:xfrm flipH="1">
              <a:off x="873000" y="5621400"/>
              <a:ext cx="1657440" cy="144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9" name="直接连接符 121860"/>
            <p:cNvSpPr/>
            <p:nvPr/>
          </p:nvSpPr>
          <p:spPr>
            <a:xfrm flipH="1">
              <a:off x="873000" y="4782960"/>
              <a:ext cx="243864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" name="直接连接符 121861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1" name="直接连接符 121862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" name="直接连接符 121863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" name="直接连接符 121864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" name="直接连接符 121865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" name="直接连接符 121866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6" name="直接连接符 121867"/>
            <p:cNvSpPr/>
            <p:nvPr/>
          </p:nvSpPr>
          <p:spPr>
            <a:xfrm>
              <a:off x="1025640" y="4782960"/>
              <a:ext cx="0" cy="81612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" name="文本框 121868"/>
            <p:cNvSpPr/>
            <p:nvPr/>
          </p:nvSpPr>
          <p:spPr>
            <a:xfrm>
              <a:off x="1499760" y="254016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cc"/>
                  </a:solidFill>
                  <a:latin typeface="Arial"/>
                  <a:ea typeface="宋体"/>
                </a:rPr>
                <a:t>多器官功能衰竭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" name="文本框 121869"/>
            <p:cNvSpPr/>
            <p:nvPr/>
          </p:nvSpPr>
          <p:spPr>
            <a:xfrm>
              <a:off x="1545480" y="33670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cc"/>
                  </a:solidFill>
                  <a:latin typeface="Arial"/>
                  <a:ea typeface="宋体"/>
                </a:rPr>
                <a:t>弥漫性血管内凝血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9" name="文本框 121870"/>
            <p:cNvSpPr/>
            <p:nvPr/>
          </p:nvSpPr>
          <p:spPr>
            <a:xfrm>
              <a:off x="1316880" y="4230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cc"/>
                  </a:solidFill>
                  <a:latin typeface="Arial"/>
                  <a:ea typeface="宋体"/>
                </a:rPr>
                <a:t>脑水肿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0" name="文本框 121871"/>
            <p:cNvSpPr/>
            <p:nvPr/>
          </p:nvSpPr>
          <p:spPr>
            <a:xfrm>
              <a:off x="1271160" y="50371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33cc"/>
                  </a:solidFill>
                  <a:latin typeface="Arial"/>
                  <a:ea typeface="宋体"/>
                </a:rPr>
                <a:t>休克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31" name="组合 121872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132" name="任意多边形 121873"/>
              <p:cNvSpPr/>
              <p:nvPr/>
            </p:nvSpPr>
            <p:spPr>
              <a:xfrm>
                <a:off x="7834320" y="228600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4776"/>
                  </a:gs>
                  <a:gs pos="50000">
                    <a:srgbClr val="3399ff"/>
                  </a:gs>
                  <a:gs pos="100000">
                    <a:srgbClr val="1847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3" name="任意多边形 121874"/>
              <p:cNvSpPr/>
              <p:nvPr/>
            </p:nvSpPr>
            <p:spPr>
              <a:xfrm>
                <a:off x="5073480" y="228600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4" name="任意多边形 121875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5" name="任意多边形 121876"/>
              <p:cNvSpPr/>
              <p:nvPr/>
            </p:nvSpPr>
            <p:spPr>
              <a:xfrm>
                <a:off x="4243320" y="311796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6" name="任意多边形 121877"/>
              <p:cNvSpPr/>
              <p:nvPr/>
            </p:nvSpPr>
            <p:spPr>
              <a:xfrm>
                <a:off x="6673680" y="394992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a3a4e"/>
                  </a:gs>
                  <a:gs pos="50000">
                    <a:srgbClr val="7d7da9"/>
                  </a:gs>
                  <a:gs pos="100000">
                    <a:srgbClr val="3a3a4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7" name="任意多边形 121878"/>
              <p:cNvSpPr/>
              <p:nvPr/>
            </p:nvSpPr>
            <p:spPr>
              <a:xfrm>
                <a:off x="6095880" y="478332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d76"/>
                  </a:gs>
                  <a:gs pos="50000">
                    <a:srgbClr val="ccecff"/>
                  </a:gs>
                  <a:gs pos="100000">
                    <a:srgbClr val="5e6d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8" name="任意多边形 121879"/>
              <p:cNvSpPr/>
              <p:nvPr/>
            </p:nvSpPr>
            <p:spPr>
              <a:xfrm>
                <a:off x="2592360" y="478800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9" name="任意多边形 121880"/>
              <p:cNvSpPr/>
              <p:nvPr/>
            </p:nvSpPr>
            <p:spPr>
              <a:xfrm>
                <a:off x="3184560" y="244008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0" name="矩形 121881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256fb9"/>
                  </a:gs>
                  <a:gs pos="50000">
                    <a:srgbClr val="3399ff"/>
                  </a:gs>
                  <a:gs pos="100000">
                    <a:srgbClr val="256fb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持续肾透析（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CRRT)</a:t>
                </a:r>
                <a:endParaRPr b="0" lang="en-US" sz="1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1" name="矩形 121882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94004a"/>
                  </a:gs>
                  <a:gs pos="50000">
                    <a:srgbClr val="cc0066"/>
                  </a:gs>
                  <a:gs pos="100000">
                    <a:srgbClr val="9400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速碧林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0.4IU</a:t>
                </a:r>
                <a:r>
                  <a:rPr b="0" lang="zh-CN" sz="16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皮下注射</a:t>
                </a:r>
                <a:r>
                  <a:rPr b="0" lang="zh-CN" sz="1800" spc="-1" strike="noStrike">
                    <a:solidFill>
                      <a:srgbClr val="0033cc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2" name="任意多边形 121883"/>
              <p:cNvSpPr/>
              <p:nvPr/>
            </p:nvSpPr>
            <p:spPr>
              <a:xfrm>
                <a:off x="3419280" y="394992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7d7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3" name="矩形 121884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5b5b7b"/>
                  </a:gs>
                  <a:gs pos="50000">
                    <a:srgbClr val="7d7da9"/>
                  </a:gs>
                  <a:gs pos="100000">
                    <a:srgbClr val="5b5b7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20%</a:t>
                </a:r>
                <a:r>
                  <a:rPr b="0" lang="zh-CN" sz="16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甘露醇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250ml</a:t>
                </a:r>
                <a:r>
                  <a:rPr b="0" lang="zh-CN" sz="16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静滴</a:t>
                </a:r>
                <a:endParaRPr b="0" lang="en-US" sz="1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4" name="矩形 121885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94abb9"/>
                  </a:gs>
                  <a:gs pos="50000">
                    <a:srgbClr val="ccecff"/>
                  </a:gs>
                  <a:gs pos="100000">
                    <a:srgbClr val="94abb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扩容</a:t>
                </a:r>
                <a:endParaRPr b="0" lang="en-US" sz="1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78920" y="105228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5 .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营养支持 　及时静脉营养支持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补充氨基酸、 人血白蛋白、 维生素等。若病人胃肠道无出血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肠道蠕动恢复后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尽早启动肠内营养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如给予高热量、 高维生素、高蛋白半流质饮食和凉淡盐水、 凉西瓜汁等。同时注意胃肠道反应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61406"/>
                </a:solidFill>
                <a:latin typeface="Arial"/>
              </a:rPr>
              <a:t>中暑护理查房内容概要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汇报病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护理评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护理查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护理计划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相关知识提升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691920"/>
            <a:ext cx="854064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6.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加强基础护理 　 重症中暑病人应按高热、 昏迷病人护理常规进行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做好口腔护理、 会阴护理、 皮肤护理、导管护理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以预防肺部、 泌尿道感染及压疮等并发症的发生。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）口腔护理 　 高热病人唾液分泌减少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口腔黏膜干燥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易发生舌炎、 牙龈炎等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尤其注意口腔清洁。口腔护理时应用生理盐水浸湿棉球擦洗牙齿及口腔黏膜 。此外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双唇可涂擦食用香油或唇膏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防止干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） 皮肤护理 　高热病人再降温过程中伴有大汗者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应及时更换衣裤和被褥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注意皮肤清洁卫生和床单舒适平整干燥。定时翻身以防压疮 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必要时应用电动防压疮气垫床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620640"/>
            <a:ext cx="85406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7.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健康教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9" name="图片 116739" descr="25"/>
          <p:cNvPicPr/>
          <p:nvPr/>
        </p:nvPicPr>
        <p:blipFill>
          <a:blip r:embed="rId1"/>
          <a:stretch/>
        </p:blipFill>
        <p:spPr>
          <a:xfrm>
            <a:off x="826920" y="1557360"/>
            <a:ext cx="73454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640" y="40428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406"/>
                </a:solidFill>
                <a:latin typeface="Arial"/>
              </a:rPr>
              <a:t>大量饮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别等口渴了才喝水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出汗较多时可适当补充一些盐水。对于某些需要限制液体摄入量的病人，高温时的饮水量应遵医嘱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在露天或在高温环境下工作的人，必须加强通风降温设施，减少阳光直接照射。合理调整工休时间，注意劳逸结合，避免过度疲劳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戒烟戒酒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61406"/>
                </a:solidFill>
                <a:latin typeface="Arial"/>
              </a:rPr>
              <a:t>护理评价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773360"/>
            <a:ext cx="854064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患者意识瞳孔未发生改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患者体温好转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患者体重，电解质情况好转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患者未出现因卧床造成的皮肤压疮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患者家属情绪稳定，积极配合治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60280"/>
            <a:ext cx="8540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61406"/>
                </a:solidFill>
                <a:latin typeface="Arial"/>
              </a:rPr>
              <a:t>相关知识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406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33℃---</a:t>
            </a: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人就会有热的感觉，这是防暑降温的起始温度。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35℃---</a:t>
            </a: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人体赖以散热的辐射、对流、传导形式逐渐减弱或停  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              </a:t>
            </a: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止，蒸发</a:t>
            </a:r>
            <a:r>
              <a:rPr b="0" lang="en-US" sz="1600" spc="-1" strike="noStrike">
                <a:solidFill>
                  <a:srgbClr val="06140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出汗</a:t>
            </a:r>
            <a:r>
              <a:rPr b="0" lang="en-US" sz="1600" spc="-1" strike="noStrike">
                <a:solidFill>
                  <a:srgbClr val="061406"/>
                </a:solidFill>
                <a:latin typeface="Arial"/>
              </a:rPr>
              <a:t>)</a:t>
            </a: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便是最重要乃至惟一的散热方式。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37℃---</a:t>
            </a: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一级警报！此温度下人可能因大量出汗而出现脱水或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               </a:t>
            </a: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电解质紊乱。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38--39℃---</a:t>
            </a: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二至三级警报！一些人，特别是体质较弱者的心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                   </a:t>
            </a: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肺会不堪重负，可能出现意外，这时应该进行物理  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                   </a:t>
            </a: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降温和药物防护。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当气温升高到</a:t>
            </a:r>
            <a:r>
              <a:rPr b="0" lang="en-US" sz="1600" spc="-1" strike="noStrike">
                <a:solidFill>
                  <a:srgbClr val="061406"/>
                </a:solidFill>
                <a:latin typeface="Arial"/>
              </a:rPr>
              <a:t>38℃,</a:t>
            </a: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或虽然气温是</a:t>
            </a:r>
            <a:r>
              <a:rPr b="0" lang="en-US" sz="1600" spc="-1" strike="noStrike">
                <a:solidFill>
                  <a:srgbClr val="061406"/>
                </a:solidFill>
                <a:latin typeface="Arial"/>
              </a:rPr>
              <a:t>35℃</a:t>
            </a: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，但</a:t>
            </a:r>
            <a:r>
              <a:rPr b="1" lang="zh-CN" sz="1600" spc="-1" strike="noStrike">
                <a:solidFill>
                  <a:srgbClr val="061406"/>
                </a:solidFill>
                <a:latin typeface="Arial"/>
              </a:rPr>
              <a:t>湿度过大</a:t>
            </a: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时</a:t>
            </a:r>
            <a:r>
              <a:rPr b="0" lang="en-US" sz="1600" spc="-1" strike="noStrike">
                <a:solidFill>
                  <a:srgbClr val="061406"/>
                </a:solidFill>
                <a:latin typeface="Arial"/>
              </a:rPr>
              <a:t>---</a:t>
            </a: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便是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         </a:t>
            </a: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可能发生中暑、心脑血管意外的天气。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这种天气状况下，人的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皮肤</a:t>
            </a: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血流量会增加</a:t>
            </a:r>
            <a:r>
              <a:rPr b="0" lang="en-US" sz="1600" spc="-1" strike="noStrike">
                <a:solidFill>
                  <a:srgbClr val="06140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倍以上，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             </a:t>
            </a: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心输出量增加</a:t>
            </a:r>
            <a:r>
              <a:rPr b="0" lang="en-US" sz="1600" spc="-1" strike="noStrike">
                <a:solidFill>
                  <a:srgbClr val="061406"/>
                </a:solidFill>
                <a:latin typeface="Arial"/>
              </a:rPr>
              <a:t>50</a:t>
            </a: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％</a:t>
            </a:r>
            <a:r>
              <a:rPr b="0" lang="en-US" sz="1600" spc="-1" strike="noStrike">
                <a:solidFill>
                  <a:srgbClr val="061406"/>
                </a:solidFill>
                <a:latin typeface="Arial"/>
              </a:rPr>
              <a:t>~70</a:t>
            </a: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％，因而可以使心衰的发生率增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             </a:t>
            </a: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加</a:t>
            </a:r>
            <a:r>
              <a:rPr b="0" lang="en-US" sz="1600" spc="-1" strike="noStrike">
                <a:solidFill>
                  <a:srgbClr val="06140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倍，使心脏病的死亡率增加</a:t>
            </a:r>
            <a:r>
              <a:rPr b="0" lang="en-US" sz="1600" spc="-1" strike="noStrike">
                <a:solidFill>
                  <a:srgbClr val="061406"/>
                </a:solidFill>
                <a:latin typeface="Arial"/>
              </a:rPr>
              <a:t>1.5</a:t>
            </a:r>
            <a:r>
              <a:rPr b="0" lang="zh-CN" sz="1600" spc="-1" strike="noStrike">
                <a:solidFill>
                  <a:srgbClr val="061406"/>
                </a:solidFill>
                <a:latin typeface="Arial"/>
              </a:rPr>
              <a:t>倍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061406"/>
                </a:solidFill>
                <a:latin typeface="Arial"/>
              </a:rPr>
              <a:t>一   定义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317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中暑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是指在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高温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或者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烈日暴晒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环境下人体体温调节功能紊乱</a:t>
            </a:r>
            <a:r>
              <a:rPr b="0" lang="en-US" sz="3200" spc="-1" strike="noStrike">
                <a:solidFill>
                  <a:srgbClr val="06140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而引起的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中枢神经系统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和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循环系统</a:t>
            </a:r>
            <a:r>
              <a:rPr b="0" lang="zh-CN" sz="3200" spc="-1" strike="noStrike">
                <a:solidFill>
                  <a:srgbClr val="061406"/>
                </a:solidFill>
                <a:latin typeface="Arial"/>
              </a:rPr>
              <a:t>障碍为主要表现的急性疾病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7" name="图片 103427" descr="027a45b5bcb4d88e36d3ca84"/>
          <p:cNvPicPr/>
          <p:nvPr/>
        </p:nvPicPr>
        <p:blipFill>
          <a:blip r:embed="rId4"/>
          <a:stretch/>
        </p:blipFill>
        <p:spPr>
          <a:xfrm>
            <a:off x="5148360" y="3789360"/>
            <a:ext cx="3419280" cy="3068640"/>
          </a:xfrm>
          <a:prstGeom prst="rect">
            <a:avLst/>
          </a:prstGeom>
          <a:ln w="0">
            <a:noFill/>
          </a:ln>
        </p:spPr>
      </p:pic>
      <p:pic>
        <p:nvPicPr>
          <p:cNvPr id="158" name="内容占位符 103428" descr="21"/>
          <p:cNvPicPr/>
          <p:nvPr/>
        </p:nvPicPr>
        <p:blipFill>
          <a:blip r:embed="rId5"/>
          <a:stretch/>
        </p:blipFill>
        <p:spPr>
          <a:xfrm>
            <a:off x="1187280" y="3760920"/>
            <a:ext cx="3527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480" y="870120"/>
            <a:ext cx="8383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中暑的分类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pSp>
        <p:nvGrpSpPr>
          <p:cNvPr id="160" name="组合 104450"/>
          <p:cNvGrpSpPr/>
          <p:nvPr/>
        </p:nvGrpSpPr>
        <p:grpSpPr>
          <a:xfrm>
            <a:off x="0" y="1413000"/>
            <a:ext cx="8229240" cy="4530600"/>
            <a:chOff x="0" y="1413000"/>
            <a:chExt cx="8229240" cy="4530600"/>
          </a:xfrm>
        </p:grpSpPr>
        <p:sp>
          <p:nvSpPr>
            <p:cNvPr id="161" name="矩形 104451"/>
            <p:cNvSpPr/>
            <p:nvPr/>
          </p:nvSpPr>
          <p:spPr>
            <a:xfrm>
              <a:off x="0" y="1413000"/>
              <a:ext cx="8229240" cy="45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cxnSp>
          <p:nvCxnSpPr>
            <p:cNvPr id="162" name="_s104453"/>
            <p:cNvCxnSpPr>
              <a:stCxn id="163" idx="3"/>
              <a:endCxn id="164" idx="2"/>
            </p:cNvCxnSpPr>
            <p:nvPr/>
          </p:nvCxnSpPr>
          <p:spPr>
            <a:xfrm flipV="1">
              <a:off x="6171840" y="3395520"/>
              <a:ext cx="345960" cy="915120"/>
            </a:xfrm>
            <a:prstGeom prst="straightConnector1">
              <a:avLst/>
            </a:prstGeom>
            <a:ln w="28440">
              <a:solidFill>
                <a:srgbClr val="0033cc"/>
              </a:solidFill>
              <a:miter/>
            </a:ln>
          </p:spPr>
        </p:cxnSp>
        <p:cxnSp>
          <p:nvCxnSpPr>
            <p:cNvPr id="165" name="_s104454"/>
            <p:cNvCxnSpPr>
              <a:stCxn id="166" idx="3"/>
              <a:endCxn id="164" idx="2"/>
            </p:cNvCxnSpPr>
            <p:nvPr/>
          </p:nvCxnSpPr>
          <p:spPr>
            <a:xfrm flipV="1">
              <a:off x="6171840" y="3395160"/>
              <a:ext cx="345960" cy="2076120"/>
            </a:xfrm>
            <a:prstGeom prst="straightConnector1">
              <a:avLst/>
            </a:prstGeom>
            <a:ln w="28440">
              <a:solidFill>
                <a:srgbClr val="0033cc"/>
              </a:solidFill>
              <a:miter/>
            </a:ln>
          </p:spPr>
        </p:cxnSp>
        <p:cxnSp>
          <p:nvCxnSpPr>
            <p:cNvPr id="167" name="_s104455"/>
            <p:cNvCxnSpPr>
              <a:stCxn id="168" idx="3"/>
              <a:endCxn id="164" idx="2"/>
            </p:cNvCxnSpPr>
            <p:nvPr/>
          </p:nvCxnSpPr>
          <p:spPr>
            <a:xfrm flipV="1">
              <a:off x="6171840" y="3395160"/>
              <a:ext cx="345960" cy="1496520"/>
            </a:xfrm>
            <a:prstGeom prst="straightConnector1">
              <a:avLst/>
            </a:prstGeom>
            <a:ln w="28440">
              <a:solidFill>
                <a:srgbClr val="0033cc"/>
              </a:solidFill>
              <a:miter/>
            </a:ln>
          </p:spPr>
        </p:cxnSp>
        <p:cxnSp>
          <p:nvCxnSpPr>
            <p:cNvPr id="169" name="_s104456"/>
            <p:cNvCxnSpPr>
              <a:stCxn id="170" idx="3"/>
              <a:endCxn id="164" idx="2"/>
            </p:cNvCxnSpPr>
            <p:nvPr/>
          </p:nvCxnSpPr>
          <p:spPr>
            <a:xfrm flipV="1">
              <a:off x="6171840" y="3395520"/>
              <a:ext cx="345960" cy="333360"/>
            </a:xfrm>
            <a:prstGeom prst="straightConnector1">
              <a:avLst/>
            </a:prstGeom>
            <a:ln w="28440">
              <a:solidFill>
                <a:srgbClr val="0033cc"/>
              </a:solidFill>
              <a:miter/>
            </a:ln>
          </p:spPr>
        </p:cxnSp>
        <p:cxnSp>
          <p:nvCxnSpPr>
            <p:cNvPr id="171" name="_s104457"/>
            <p:cNvCxnSpPr>
              <a:stCxn id="164" idx="0"/>
              <a:endCxn id="172" idx="2"/>
            </p:cNvCxnSpPr>
            <p:nvPr/>
          </p:nvCxnSpPr>
          <p:spPr>
            <a:xfrm flipH="1" flipV="1">
              <a:off x="4111560" y="2769480"/>
              <a:ext cx="2403720" cy="86760"/>
            </a:xfrm>
            <a:prstGeom prst="straightConnector1">
              <a:avLst/>
            </a:prstGeom>
            <a:ln w="28440">
              <a:solidFill>
                <a:srgbClr val="0033cc"/>
              </a:solidFill>
              <a:miter/>
            </a:ln>
          </p:spPr>
        </p:cxnSp>
        <p:cxnSp>
          <p:nvCxnSpPr>
            <p:cNvPr id="173" name="_s104458"/>
            <p:cNvCxnSpPr>
              <a:stCxn id="174" idx="0"/>
              <a:endCxn id="172" idx="2"/>
            </p:cNvCxnSpPr>
            <p:nvPr/>
          </p:nvCxnSpPr>
          <p:spPr>
            <a:xfrm flipH="1" flipV="1">
              <a:off x="4111920" y="2769480"/>
              <a:ext cx="2880" cy="86760"/>
            </a:xfrm>
            <a:prstGeom prst="straightConnector1">
              <a:avLst/>
            </a:prstGeom>
            <a:ln w="28440">
              <a:solidFill>
                <a:srgbClr val="0033cc"/>
              </a:solidFill>
              <a:miter/>
            </a:ln>
          </p:spPr>
        </p:cxnSp>
        <p:cxnSp>
          <p:nvCxnSpPr>
            <p:cNvPr id="175" name="_s104459"/>
            <p:cNvCxnSpPr>
              <a:stCxn id="176" idx="0"/>
              <a:endCxn id="172" idx="2"/>
            </p:cNvCxnSpPr>
            <p:nvPr/>
          </p:nvCxnSpPr>
          <p:spPr>
            <a:xfrm flipV="1">
              <a:off x="1711080" y="2769480"/>
              <a:ext cx="2401560" cy="86760"/>
            </a:xfrm>
            <a:prstGeom prst="straightConnector1">
              <a:avLst/>
            </a:prstGeom>
            <a:ln w="28440">
              <a:solidFill>
                <a:srgbClr val="0033cc"/>
              </a:solidFill>
              <a:miter/>
            </a:ln>
          </p:spPr>
        </p:cxnSp>
        <p:sp>
          <p:nvSpPr>
            <p:cNvPr id="172" name="_s104460"/>
            <p:cNvSpPr/>
            <p:nvPr/>
          </p:nvSpPr>
          <p:spPr>
            <a:xfrm>
              <a:off x="3087360" y="2167920"/>
              <a:ext cx="2054880" cy="6026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666633"/>
                  </a:solidFill>
                  <a:latin typeface="Times New Roman"/>
                  <a:ea typeface="华文新魏"/>
                </a:rPr>
                <a:t>中暑</a:t>
              </a:r>
              <a:endParaRPr b="0" lang="en-US" sz="21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6" name="_s104461"/>
            <p:cNvSpPr/>
            <p:nvPr/>
          </p:nvSpPr>
          <p:spPr>
            <a:xfrm>
              <a:off x="686520" y="2856600"/>
              <a:ext cx="2057400" cy="5385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666633"/>
                  </a:solidFill>
                  <a:latin typeface="Times New Roman"/>
                  <a:ea typeface="华文新魏"/>
                </a:rPr>
                <a:t>先兆中暑</a:t>
              </a:r>
              <a:endParaRPr b="0" lang="en-US" sz="21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4" name="_s104462"/>
            <p:cNvSpPr/>
            <p:nvPr/>
          </p:nvSpPr>
          <p:spPr>
            <a:xfrm>
              <a:off x="3087360" y="2856600"/>
              <a:ext cx="2057040" cy="5385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666633"/>
                  </a:solidFill>
                  <a:latin typeface="Times New Roman"/>
                  <a:ea typeface="华文新魏"/>
                </a:rPr>
                <a:t>轻度中暑</a:t>
              </a:r>
              <a:endParaRPr b="0" lang="en-US" sz="21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" name="_s104463"/>
            <p:cNvSpPr/>
            <p:nvPr/>
          </p:nvSpPr>
          <p:spPr>
            <a:xfrm>
              <a:off x="5487840" y="2856600"/>
              <a:ext cx="2057400" cy="5385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993300"/>
                  </a:solidFill>
                  <a:latin typeface="Times New Roman"/>
                  <a:ea typeface="华文新魏"/>
                </a:rPr>
                <a:t>重度中暑</a:t>
              </a:r>
              <a:endParaRPr b="0" lang="en-US" sz="21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0" name="_s104464"/>
            <p:cNvSpPr/>
            <p:nvPr/>
          </p:nvSpPr>
          <p:spPr>
            <a:xfrm>
              <a:off x="4117320" y="3480840"/>
              <a:ext cx="2054880" cy="495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热射病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" name="_s104465"/>
            <p:cNvSpPr/>
            <p:nvPr/>
          </p:nvSpPr>
          <p:spPr>
            <a:xfrm>
              <a:off x="4117320" y="4642560"/>
              <a:ext cx="2054880" cy="495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160" rIns="2916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热痉挛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_s104466"/>
            <p:cNvSpPr/>
            <p:nvPr/>
          </p:nvSpPr>
          <p:spPr>
            <a:xfrm>
              <a:off x="4117320" y="5223600"/>
              <a:ext cx="2054880" cy="495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热衰竭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" name="_s104467"/>
            <p:cNvSpPr/>
            <p:nvPr/>
          </p:nvSpPr>
          <p:spPr>
            <a:xfrm>
              <a:off x="4117320" y="4061880"/>
              <a:ext cx="2054880" cy="4953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日射病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05473" descr="5"/>
          <p:cNvPicPr/>
          <p:nvPr/>
        </p:nvPicPr>
        <p:blipFill>
          <a:blip r:embed="rId1"/>
          <a:stretch/>
        </p:blipFill>
        <p:spPr>
          <a:xfrm>
            <a:off x="5748480" y="4437000"/>
            <a:ext cx="3395520" cy="2421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中暑的表现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先兆中暑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缺氧表现：四肢无力、胸闷、心悸、头晕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眼花、耳鸣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失水失盐：口渴、过量出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体温变化：体温正常或略高，不超过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8°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中暑的表现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轻度中暑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先兆中暑基础上有以下一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体温在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8.5℃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以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面色潮红或苍白，皮肤灼热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脉搏细弱，心率快，血压下降等呼吸及循环衰竭的症状。 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61406"/>
                </a:solidFill>
                <a:latin typeface="Arial"/>
              </a:rPr>
              <a:t>基本资料</a:t>
            </a:r>
            <a:br>
              <a:rPr sz="4400"/>
            </a:b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患者男性，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赵其勋，</a:t>
            </a: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 ４</a:t>
            </a:r>
            <a:r>
              <a:rPr b="1" lang="en-US" sz="2800" spc="-1" strike="noStrike">
                <a:solidFill>
                  <a:srgbClr val="061406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岁，小学文化，农民，离异，育有１子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，父母亡，有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兄弟</a:t>
            </a:r>
            <a:r>
              <a:rPr b="0" lang="en-US" sz="2800" spc="-1" strike="noStrike">
                <a:solidFill>
                  <a:srgbClr val="06140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61406"/>
                </a:solidFill>
                <a:latin typeface="Arial"/>
              </a:rPr>
              <a:t>姐妹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无药物过敏史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有酗酒史伴酒精性精神异常：有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烟酒不良嗜好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年，烟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支每天，酒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斤烧酒每天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家人关心积极配合治疗护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昏迷，无法评估心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61406"/>
                </a:solidFill>
                <a:latin typeface="Arial"/>
              </a:rPr>
              <a:t>中暑表现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重度中暑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轻度中暑症状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高热、痉挛、晕厥、昏迷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有热射病、热痉挛、热衰竭、日射病之一或混合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13840" y="259920"/>
            <a:ext cx="8929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、热射病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多发生在</a:t>
            </a: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强干热或湿热</a:t>
            </a: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环境型高温作业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持续高温使散热受阻、体内蓄热、体温调节机制紊乱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表现：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高热</a:t>
            </a: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61406"/>
                </a:solidFill>
                <a:latin typeface="Arial"/>
              </a:rPr>
              <a:t>&gt;40℃</a:t>
            </a: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；无汗，伴</a:t>
            </a: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皮肤干热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严重的可出现昏迷、抽搐，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如抢救不及时可因循环、呼吸衰竭而死亡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、热痉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多发于</a:t>
            </a: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干热型</a:t>
            </a: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高温作业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大量出汗→</a:t>
            </a:r>
            <a:r>
              <a:rPr b="1" lang="en-US" sz="2000" spc="-1" strike="noStrike">
                <a:solidFill>
                  <a:srgbClr val="061406"/>
                </a:solidFill>
                <a:latin typeface="Arial"/>
              </a:rPr>
              <a:t>Na+</a:t>
            </a: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61406"/>
                </a:solidFill>
                <a:latin typeface="Arial"/>
              </a:rPr>
              <a:t>Cl-</a:t>
            </a: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61406"/>
                </a:solidFill>
                <a:latin typeface="Arial"/>
              </a:rPr>
              <a:t>K+</a:t>
            </a: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、等严重丢失→水电解质平衡紊乱→肌痉挛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表现：</a:t>
            </a: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肌肉痉挛伴收缩痛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肌痉挛</a:t>
            </a:r>
            <a:r>
              <a:rPr b="1" lang="en-US" sz="2000" spc="-1" strike="noStrike">
                <a:solidFill>
                  <a:srgbClr val="061406"/>
                </a:solidFill>
                <a:latin typeface="Arial"/>
              </a:rPr>
              <a:t>: </a:t>
            </a: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四肢（腓肠肌）、腹肌，呈对称性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神志清醒  体温正常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1280" y="54936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、热衰竭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高气温、强热辐射</a:t>
            </a: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的生产环境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出汗过多，大量失水、失钠，低渗性脱水，导致皮肤血管扩张，引起周围循环衰竭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表现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          </a:t>
            </a: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起病迅速，先有头昏、头痛、多汗、口渴、恶心、呕吐、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          </a:t>
            </a: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面色苍白等症状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继之可出现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皮肤湿冷</a:t>
            </a: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、</a:t>
            </a:r>
            <a:r>
              <a:rPr b="1" lang="en-US" sz="1800" spc="-1" strike="noStrike">
                <a:solidFill>
                  <a:srgbClr val="061406"/>
                </a:solidFill>
                <a:latin typeface="Arial"/>
              </a:rPr>
              <a:t>BP↓</a:t>
            </a: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，脉细弱，晕厥等。         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体温正常或稍高</a:t>
            </a: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，最终致循环衰竭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、日射病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00"/>
                </a:solidFill>
                <a:latin typeface="Arial"/>
              </a:rPr>
              <a:t>夏季露天作业</a:t>
            </a: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及</a:t>
            </a:r>
            <a:r>
              <a:rPr b="1" lang="zh-CN" sz="1600" spc="-1" strike="noStrike">
                <a:solidFill>
                  <a:srgbClr val="ff9900"/>
                </a:solidFill>
                <a:latin typeface="Arial"/>
              </a:rPr>
              <a:t>强热辐射作业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61406"/>
                </a:solidFill>
                <a:latin typeface="Arial"/>
              </a:rPr>
              <a:t>局部脑组织温度达</a:t>
            </a:r>
            <a:r>
              <a:rPr b="0" lang="en-US" sz="1800" spc="-1" strike="noStrike">
                <a:solidFill>
                  <a:srgbClr val="061406"/>
                </a:solidFill>
                <a:latin typeface="Arial"/>
              </a:rPr>
              <a:t>40-42°C</a:t>
            </a:r>
            <a:r>
              <a:rPr b="0" lang="zh-CN" sz="1800" spc="-1" strike="noStrike">
                <a:solidFill>
                  <a:srgbClr val="06140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61406"/>
                </a:solidFill>
                <a:latin typeface="Arial"/>
              </a:rPr>
              <a:t>表现</a:t>
            </a: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剧烈头痛、头晕、眼花、耳鸣、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恶心、呕吐、烦躁不安，</a:t>
            </a:r>
            <a:r>
              <a:rPr b="1" lang="zh-CN" sz="1600" spc="-1" strike="noStrike">
                <a:solidFill>
                  <a:srgbClr val="cc0066"/>
                </a:solidFill>
                <a:latin typeface="Arial"/>
              </a:rPr>
              <a:t>面部潮红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严重时可出现抽搐、昏迷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61406"/>
                </a:solidFill>
                <a:latin typeface="Arial"/>
              </a:rPr>
              <a:t>体温正常或略高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61406"/>
                </a:solidFill>
                <a:latin typeface="Arial"/>
                <a:ea typeface="隶书"/>
              </a:rPr>
              <a:t>中暑急救流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8" name="流程图: 可选过程 101378"/>
          <p:cNvSpPr/>
          <p:nvPr/>
        </p:nvSpPr>
        <p:spPr>
          <a:xfrm>
            <a:off x="2309760" y="2192400"/>
            <a:ext cx="5167440" cy="961920"/>
          </a:xfrm>
          <a:prstGeom prst="flowChartAlternateProcess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评估</a:t>
            </a:r>
            <a:r>
              <a:rPr b="0" lang="en-US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ABC</a:t>
            </a:r>
            <a:r>
              <a:rPr b="0" lang="en-US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	</a:t>
            </a:r>
            <a:r>
              <a:rPr b="0" lang="en-US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	</a:t>
            </a:r>
            <a:r>
              <a:rPr b="0" lang="en-US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开放静脉通路</a:t>
            </a: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	</a:t>
            </a: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△心电监护及</a:t>
            </a:r>
            <a:r>
              <a:rPr b="0" lang="en-US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SPO</a:t>
            </a:r>
            <a:r>
              <a:rPr b="0" lang="en-US" sz="1100" spc="-1" strike="noStrike" baseline="-25000">
                <a:solidFill>
                  <a:srgbClr val="061406"/>
                </a:solidFill>
                <a:latin typeface="楷体_GB2312"/>
                <a:ea typeface="楷体_GB2312"/>
              </a:rPr>
              <a:t>2</a:t>
            </a: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监护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保持呼吸通畅</a:t>
            </a: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	</a:t>
            </a: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△评估生命体征</a:t>
            </a: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	</a:t>
            </a: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△吸氧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评估神志、瞳孔、肢体活动及各种反射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流程图: 可选过程 101379"/>
          <p:cNvSpPr/>
          <p:nvPr/>
        </p:nvSpPr>
        <p:spPr>
          <a:xfrm flipH="1" flipV="1">
            <a:off x="1042920" y="1051920"/>
            <a:ext cx="843120" cy="360360"/>
          </a:xfrm>
          <a:prstGeom prst="flowChartAlternateProcess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诊断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流程图: 可选过程 101380"/>
          <p:cNvSpPr/>
          <p:nvPr/>
        </p:nvSpPr>
        <p:spPr>
          <a:xfrm>
            <a:off x="841320" y="1774800"/>
            <a:ext cx="1228680" cy="1379520"/>
          </a:xfrm>
          <a:prstGeom prst="flowChartAlternateProcess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高温或烈日暴晒环境中引起体温调节功能紊乱，以高热、无汗及中枢症状为主的综合征。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矩形 101381"/>
          <p:cNvSpPr/>
          <p:nvPr/>
        </p:nvSpPr>
        <p:spPr>
          <a:xfrm>
            <a:off x="3522600" y="3591000"/>
            <a:ext cx="2743200" cy="2668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t">
            <a:noAutofit/>
          </a:bodyPr>
          <a:p>
            <a:pPr marL="174600" indent="-174600">
              <a:lnSpc>
                <a:spcPct val="11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密切观察神志，瞳孔，生命体征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病室宜阴凉通风，控制室温</a:t>
            </a: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宋体"/>
              </a:rPr>
              <a:t>22~25 ℃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保持呼吸道通畅，合理给氧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静脉输液速度：以</a:t>
            </a: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30~40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滴</a:t>
            </a: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/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分钟为宜，    以等渗生理盐水为主，钠离子较低时可输入</a:t>
            </a: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3%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高渗氯化钠，禁止输入高渗葡萄糖（</a:t>
            </a: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10%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及</a:t>
            </a: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50%)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体温监护</a:t>
            </a: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: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降至</a:t>
            </a: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38 </a:t>
            </a:r>
            <a:r>
              <a:rPr b="0" lang="en-US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℃</a:t>
            </a: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即终止降温</a:t>
            </a:r>
            <a:r>
              <a:rPr b="0" lang="en-US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,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  </a:t>
            </a: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但不让体温回升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血压监护</a:t>
            </a: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: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收缩压维持在</a:t>
            </a: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90mmHg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    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以上，以防脱水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血气分析</a:t>
            </a: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,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电解质</a:t>
            </a: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,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肾功能监测，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    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心肌酶谱、生化监测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矩形 101382"/>
          <p:cNvSpPr/>
          <p:nvPr/>
        </p:nvSpPr>
        <p:spPr>
          <a:xfrm>
            <a:off x="6388200" y="3591000"/>
            <a:ext cx="2289240" cy="2668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t">
            <a:no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对症处理：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惊厥：巴比妥类及降温药物改为冬眠</a:t>
            </a: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Ⅰ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号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脑水肿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△</a:t>
            </a: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DIC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肺水肿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休克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	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	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见相关程序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肾衰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感染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诱发心律失常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193680" indent="-193680"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Arial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Arial"/>
                <a:ea typeface="楷体_GB2312"/>
              </a:rPr>
              <a:t>横纹肌溶解症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矩形 101383"/>
          <p:cNvSpPr/>
          <p:nvPr/>
        </p:nvSpPr>
        <p:spPr>
          <a:xfrm>
            <a:off x="812880" y="3591000"/>
            <a:ext cx="2589120" cy="2668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t">
            <a:noAutofit/>
          </a:bodyPr>
          <a:p>
            <a:pPr marL="384120" indent="-384120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空调房间</a:t>
            </a: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20~25℃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物理降温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	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◎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头部置水帽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	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◎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大血管处置冰袋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	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◎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冷水擦身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	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◎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酒精擦浴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	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◎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冰水灌肠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药物降温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	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◎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氯丙嗪</a:t>
            </a: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20~50mg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加入冰</a:t>
            </a: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5% 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              </a:t>
            </a: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GNS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中静滴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	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◎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消炎痛栓塞肛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           ◎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激素治疗：</a:t>
            </a: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Dxm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，氢化可的松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中暑痉挛：用</a:t>
            </a: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10%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葡酸钙</a:t>
            </a: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10~20 ml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稀释后静注或安定</a:t>
            </a:r>
            <a:r>
              <a:rPr b="0" lang="en-US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10mg</a:t>
            </a:r>
            <a:r>
              <a:rPr b="0" lang="zh-CN" sz="1100" spc="-1" strike="noStrike">
                <a:solidFill>
                  <a:srgbClr val="061406"/>
                </a:solidFill>
                <a:latin typeface="Times New Roman"/>
                <a:ea typeface="楷体_GB2312"/>
              </a:rPr>
              <a:t>静注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</p:txBody>
      </p:sp>
      <p:cxnSp>
        <p:nvCxnSpPr>
          <p:cNvPr id="194" name="肘形连接符 101384"/>
          <p:cNvCxnSpPr>
            <a:stCxn id="188" idx="2"/>
            <a:endCxn id="193" idx="0"/>
          </p:cNvCxnSpPr>
          <p:nvPr/>
        </p:nvCxnSpPr>
        <p:spPr>
          <a:xfrm flipH="1">
            <a:off x="2107440" y="3153960"/>
            <a:ext cx="2786760" cy="4374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stealth" w="med"/>
          </a:ln>
        </p:spPr>
      </p:cxnSp>
      <p:cxnSp>
        <p:nvCxnSpPr>
          <p:cNvPr id="195" name="直接箭头连接符 101385"/>
          <p:cNvCxnSpPr>
            <a:stCxn id="188" idx="2"/>
            <a:endCxn id="191" idx="0"/>
          </p:cNvCxnSpPr>
          <p:nvPr/>
        </p:nvCxnSpPr>
        <p:spPr>
          <a:xfrm>
            <a:off x="4893840" y="3153960"/>
            <a:ext cx="1080" cy="437400"/>
          </a:xfrm>
          <a:prstGeom prst="straightConnector1">
            <a:avLst/>
          </a:prstGeom>
          <a:ln w="9360">
            <a:solidFill>
              <a:srgbClr val="0033cc"/>
            </a:solidFill>
            <a:round/>
            <a:tailEnd len="med" type="stealth" w="med"/>
          </a:ln>
        </p:spPr>
      </p:cxnSp>
      <p:cxnSp>
        <p:nvCxnSpPr>
          <p:cNvPr id="196" name="肘形连接符 101386"/>
          <p:cNvCxnSpPr>
            <a:stCxn id="188" idx="2"/>
            <a:endCxn id="192" idx="0"/>
          </p:cNvCxnSpPr>
          <p:nvPr/>
        </p:nvCxnSpPr>
        <p:spPr>
          <a:xfrm>
            <a:off x="4891680" y="3152880"/>
            <a:ext cx="2639160" cy="43704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stealth" w="med"/>
          </a:ln>
        </p:spPr>
      </p:cxnSp>
      <p:sp>
        <p:nvSpPr>
          <p:cNvPr id="197" name="流程图: 过程 101387"/>
          <p:cNvSpPr/>
          <p:nvPr/>
        </p:nvSpPr>
        <p:spPr>
          <a:xfrm>
            <a:off x="4313160" y="1741320"/>
            <a:ext cx="1160640" cy="214560"/>
          </a:xfrm>
          <a:prstGeom prst="flowChartProcess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急诊室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</p:txBody>
      </p:sp>
      <p:cxnSp>
        <p:nvCxnSpPr>
          <p:cNvPr id="198" name="直接箭头连接符 101388"/>
          <p:cNvCxnSpPr>
            <a:stCxn id="197" idx="2"/>
            <a:endCxn id="188" idx="0"/>
          </p:cNvCxnSpPr>
          <p:nvPr/>
        </p:nvCxnSpPr>
        <p:spPr>
          <a:xfrm>
            <a:off x="4893840" y="1955520"/>
            <a:ext cx="1080" cy="237240"/>
          </a:xfrm>
          <a:prstGeom prst="straightConnector1">
            <a:avLst/>
          </a:prstGeom>
          <a:ln w="9360">
            <a:solidFill>
              <a:srgbClr val="0033cc"/>
            </a:solidFill>
            <a:round/>
            <a:tailEnd len="med" type="stealth" w="med"/>
          </a:ln>
        </p:spPr>
      </p:cxnSp>
      <p:sp>
        <p:nvSpPr>
          <p:cNvPr id="199" name="流程图: 过程 101389"/>
          <p:cNvSpPr/>
          <p:nvPr/>
        </p:nvSpPr>
        <p:spPr>
          <a:xfrm flipH="1" flipV="1">
            <a:off x="4313160" y="991440"/>
            <a:ext cx="1160640" cy="446040"/>
          </a:xfrm>
          <a:prstGeom prst="flowChartProcess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现场急救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流程图: 过程 101390"/>
          <p:cNvSpPr/>
          <p:nvPr/>
        </p:nvSpPr>
        <p:spPr>
          <a:xfrm flipH="1" flipV="1">
            <a:off x="6156360" y="1196280"/>
            <a:ext cx="1760400" cy="855720"/>
          </a:xfrm>
          <a:prstGeom prst="flowChartProcess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立即脱离高温环境，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  </a:t>
            </a: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置阴凉处休息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△</a:t>
            </a:r>
            <a:r>
              <a:rPr b="0" lang="zh-CN" sz="1100" spc="-1" strike="noStrike">
                <a:solidFill>
                  <a:srgbClr val="061406"/>
                </a:solidFill>
                <a:latin typeface="楷体_GB2312"/>
                <a:ea typeface="楷体_GB2312"/>
              </a:rPr>
              <a:t>补充含盐饮料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</p:txBody>
      </p:sp>
      <p:cxnSp>
        <p:nvCxnSpPr>
          <p:cNvPr id="201" name="直接箭头连接符 101391"/>
          <p:cNvCxnSpPr>
            <a:stCxn id="199" idx="0"/>
            <a:endCxn id="197" idx="0"/>
          </p:cNvCxnSpPr>
          <p:nvPr/>
        </p:nvCxnSpPr>
        <p:spPr>
          <a:xfrm>
            <a:off x="4893840" y="1439640"/>
            <a:ext cx="1080" cy="302040"/>
          </a:xfrm>
          <a:prstGeom prst="straightConnector1">
            <a:avLst/>
          </a:prstGeom>
          <a:ln w="9360">
            <a:solidFill>
              <a:srgbClr val="0033cc"/>
            </a:solidFill>
            <a:round/>
            <a:tailEnd len="med" type="stealth" w="med"/>
          </a:ln>
        </p:spPr>
      </p:cxnSp>
      <p:cxnSp>
        <p:nvCxnSpPr>
          <p:cNvPr id="202" name="直接箭头连接符 101392"/>
          <p:cNvCxnSpPr>
            <a:stCxn id="199" idx="1"/>
            <a:endCxn id="200" idx="3"/>
          </p:cNvCxnSpPr>
          <p:nvPr/>
        </p:nvCxnSpPr>
        <p:spPr>
          <a:xfrm>
            <a:off x="5475240" y="1216080"/>
            <a:ext cx="682920" cy="410400"/>
          </a:xfrm>
          <a:prstGeom prst="straightConnector1">
            <a:avLst/>
          </a:prstGeom>
          <a:ln w="9360">
            <a:solidFill>
              <a:srgbClr val="0033cc"/>
            </a:solidFill>
            <a:round/>
            <a:tailEnd len="med" type="stealth" w="med"/>
          </a:ln>
        </p:spPr>
      </p:cxnSp>
      <p:cxnSp>
        <p:nvCxnSpPr>
          <p:cNvPr id="203" name="直接箭头连接符 101393"/>
          <p:cNvCxnSpPr>
            <a:stCxn id="189" idx="1"/>
            <a:endCxn id="199" idx="3"/>
          </p:cNvCxnSpPr>
          <p:nvPr/>
        </p:nvCxnSpPr>
        <p:spPr>
          <a:xfrm flipV="1">
            <a:off x="1887120" y="1215720"/>
            <a:ext cx="2428200" cy="18000"/>
          </a:xfrm>
          <a:prstGeom prst="straightConnector1">
            <a:avLst/>
          </a:prstGeom>
          <a:ln w="9360">
            <a:solidFill>
              <a:srgbClr val="0033cc"/>
            </a:solidFill>
            <a:round/>
            <a:tailEnd len="med" type="stealth" w="med"/>
          </a:ln>
        </p:spPr>
      </p:cxnSp>
      <p:cxnSp>
        <p:nvCxnSpPr>
          <p:cNvPr id="204" name="直接箭头连接符 101394"/>
          <p:cNvCxnSpPr>
            <a:stCxn id="189" idx="1"/>
            <a:endCxn id="199" idx="3"/>
          </p:cNvCxnSpPr>
          <p:nvPr/>
        </p:nvCxnSpPr>
        <p:spPr>
          <a:xfrm flipV="1">
            <a:off x="1476000" y="1341000"/>
            <a:ext cx="10440" cy="478800"/>
          </a:xfrm>
          <a:prstGeom prst="straightConnector1">
            <a:avLst/>
          </a:prstGeom>
          <a:ln w="12600">
            <a:solidFill>
              <a:srgbClr val="0033cc"/>
            </a:solidFill>
            <a:round/>
          </a:ln>
        </p:spPr>
      </p:cxnSp>
      <p:sp>
        <p:nvSpPr>
          <p:cNvPr id="205" name="右大括号 101395"/>
          <p:cNvSpPr/>
          <p:nvPr/>
        </p:nvSpPr>
        <p:spPr>
          <a:xfrm>
            <a:off x="7570800" y="4276800"/>
            <a:ext cx="239760" cy="1066680"/>
          </a:xfrm>
          <a:custGeom>
            <a:avLst/>
            <a:gdLst>
              <a:gd name="textAreaLeft" fmla="*/ 0 w 239760"/>
              <a:gd name="textAreaRight" fmla="*/ 86400 w 2397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8" name="图片 123907" descr="a042690831[1]"/>
          <p:cNvPicPr/>
          <p:nvPr/>
        </p:nvPicPr>
        <p:blipFill>
          <a:blip r:embed="rId1"/>
          <a:stretch/>
        </p:blipFill>
        <p:spPr>
          <a:xfrm>
            <a:off x="0" y="0"/>
            <a:ext cx="9469440" cy="67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1406"/>
                </a:solidFill>
                <a:latin typeface="Arial"/>
              </a:rPr>
              <a:t>天气炎热，愿大家有个好心情、好身体。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4194000" cy="388800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72707" descr="2010030420150539"/>
          <p:cNvPicPr/>
          <p:nvPr/>
        </p:nvPicPr>
        <p:blipFill>
          <a:blip r:embed="rId2"/>
          <a:stretch/>
        </p:blipFill>
        <p:spPr>
          <a:xfrm>
            <a:off x="5292720" y="1628640"/>
            <a:ext cx="25560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406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1406"/>
                </a:solidFill>
                <a:latin typeface="黑体"/>
                <a:ea typeface="黑体"/>
              </a:rPr>
              <a:t>病 史 汇报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26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床患者赵其勋，男，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47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岁，住院号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:50063019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予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2013-07-30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发现意识不清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小时余入院。当时触体表温度高，可闻及酒精味道，入科时意识不清，叹气样呼吸，双侧瞳孔约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0.4</a:t>
            </a: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㎝，对光反射消失，</a:t>
            </a:r>
            <a:r>
              <a:rPr b="1" lang="en-US" sz="2800" spc="-1" strike="noStrike">
                <a:solidFill>
                  <a:srgbClr val="061406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61406"/>
                </a:solidFill>
                <a:latin typeface="Arial"/>
              </a:rPr>
              <a:t>42</a:t>
            </a: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以上，抽搐一次，予安定</a:t>
            </a:r>
            <a:r>
              <a:rPr b="1" lang="en-US" sz="2800" spc="-1" strike="noStrike">
                <a:solidFill>
                  <a:srgbClr val="061406"/>
                </a:solidFill>
                <a:latin typeface="Arial"/>
              </a:rPr>
              <a:t>10mg</a:t>
            </a: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静推，急诊予气管插管、补液降温等对症处理后收住院。检：浅昏迷，双侧瞳孔等大约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0.2</a:t>
            </a: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㎝，对光反射迟钝，球结膜水肿，气管插管，距门齿</a:t>
            </a:r>
            <a:r>
              <a:rPr b="1" lang="en-US" sz="2800" spc="-1" strike="noStrike">
                <a:solidFill>
                  <a:srgbClr val="061406"/>
                </a:solidFill>
                <a:latin typeface="Arial"/>
              </a:rPr>
              <a:t>24 </a:t>
            </a: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㎝，测气囊压力</a:t>
            </a:r>
            <a:r>
              <a:rPr b="1" lang="en-US" sz="2800" spc="-1" strike="noStrike">
                <a:solidFill>
                  <a:srgbClr val="061406"/>
                </a:solidFill>
                <a:latin typeface="Arial"/>
              </a:rPr>
              <a:t>24 </a:t>
            </a: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㎝</a:t>
            </a:r>
            <a:r>
              <a:rPr b="1" lang="en-US" sz="2800" spc="-1" strike="noStrike">
                <a:solidFill>
                  <a:srgbClr val="061406"/>
                </a:solidFill>
                <a:latin typeface="Arial"/>
              </a:rPr>
              <a:t>H2O</a:t>
            </a: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，双肺呼吸音粗，少量湿罗音，腹隆软，肠鸣音活跃，四肢肌张力稍高，躯干部皮肤可及散在出血点，尾骶部有</a:t>
            </a:r>
            <a:r>
              <a:rPr b="1" lang="en-US" sz="2800" spc="-1" strike="noStrike">
                <a:solidFill>
                  <a:srgbClr val="061406"/>
                </a:solidFill>
                <a:latin typeface="Arial"/>
              </a:rPr>
              <a:t>3*3</a:t>
            </a: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皮肤发红。带入左右前臂浅静脉留管，导尿管各一根，均通畅。解黄色水样便</a:t>
            </a:r>
            <a:r>
              <a:rPr b="1" lang="en-US" sz="2800" spc="-1" strike="noStrike">
                <a:solidFill>
                  <a:srgbClr val="06140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次，量约</a:t>
            </a:r>
            <a:r>
              <a:rPr b="1" lang="en-US" sz="2800" spc="-1" strike="noStrike">
                <a:solidFill>
                  <a:srgbClr val="061406"/>
                </a:solidFill>
                <a:latin typeface="Arial"/>
              </a:rPr>
              <a:t>300ml</a:t>
            </a:r>
            <a:r>
              <a:rPr b="1" lang="zh-CN" sz="2800" spc="-1" strike="noStrike">
                <a:solidFill>
                  <a:srgbClr val="061406"/>
                </a:solidFill>
                <a:latin typeface="Arial"/>
              </a:rPr>
              <a:t>。心电监护示：心律偏快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1" name="图片 13315" descr="_12404192350178127804"/>
          <p:cNvPicPr/>
          <p:nvPr/>
        </p:nvPicPr>
        <p:blipFill>
          <a:blip r:embed="rId1"/>
          <a:stretch/>
        </p:blipFill>
        <p:spPr>
          <a:xfrm>
            <a:off x="7020000" y="189000"/>
            <a:ext cx="757080" cy="969840"/>
          </a:xfrm>
          <a:prstGeom prst="rect">
            <a:avLst/>
          </a:prstGeom>
          <a:ln w="0">
            <a:noFill/>
          </a:ln>
        </p:spPr>
      </p:pic>
      <p:sp>
        <p:nvSpPr>
          <p:cNvPr id="92" name="矩形 13316"/>
          <p:cNvSpPr/>
          <p:nvPr/>
        </p:nvSpPr>
        <p:spPr>
          <a:xfrm>
            <a:off x="324000" y="1557360"/>
            <a:ext cx="856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1406"/>
                </a:solidFill>
                <a:latin typeface="黑体"/>
                <a:ea typeface="黑体"/>
              </a:rPr>
              <a:t>病     史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测得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T3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.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℃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P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130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次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分，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R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30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次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分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BP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87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/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47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mmHg,SPO2 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95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%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，予一级护理，禁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食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，垫气垫床，心电监护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+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血氧饱和度监测，温湿化吸氧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升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分，消炎、化痰、护脑、镇静等对症治疗。 跌倒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坠床危险因子评分 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分，压疮危险因子评分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分。予跌倒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坠床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标识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，加双侧床栏，加强陪护，巡视，及时应急电铃，向病人家属介绍环境，指导其保持输液处清洁干燥</a:t>
            </a:r>
            <a:r>
              <a:rPr b="1" lang="zh-CN" sz="2400" spc="-1" strike="noStrike">
                <a:solidFill>
                  <a:srgbClr val="061406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61406"/>
                </a:solidFill>
                <a:latin typeface="Arial"/>
              </a:rPr>
              <a:t>入院诊断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406"/>
                </a:solidFill>
                <a:latin typeface="Arial"/>
              </a:rPr>
              <a:t>昏迷待查：重度中暑（中暑衰竭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406"/>
                </a:solidFill>
                <a:latin typeface="Arial"/>
              </a:rPr>
              <a:t>多脏器功能不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406"/>
                </a:solidFill>
                <a:latin typeface="Arial"/>
              </a:rPr>
              <a:t>水电解质混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406"/>
                </a:solidFill>
                <a:latin typeface="Arial"/>
              </a:rPr>
              <a:t>慢性酒精中毒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4064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406"/>
                </a:solidFill>
                <a:latin typeface="Arial"/>
                <a:ea typeface="黑体"/>
              </a:rPr>
              <a:t>住 院 病 情 概 况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3360" y="1052640"/>
            <a:ext cx="8540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7.30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急诊测末梢血糖：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14.1mmol/L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，血气分析：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PH 7.476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PCO2 19.7mmHg 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、</a:t>
            </a: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PO2 56.7mmHg  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，提示呼碱，电解质示：低钾、低钠、低氯。头颅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CT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无异常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7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.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 30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入院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14:50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测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T:38.2</a:t>
            </a:r>
            <a:r>
              <a:rPr b="1" lang="en-US" sz="2000" spc="-1" strike="noStrike">
                <a:solidFill>
                  <a:srgbClr val="061406"/>
                </a:solidFill>
                <a:latin typeface="Arial"/>
              </a:rPr>
              <a:t>℃,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测末梢血糖：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9.5mmol/L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，予氯丙嗪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50mg+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异丙嗪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50mg+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杜冷丁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100mg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肌注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15:50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测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T:38.6</a:t>
            </a:r>
            <a:r>
              <a:rPr b="1" lang="en-US" sz="2000" spc="-1" strike="noStrike">
                <a:solidFill>
                  <a:srgbClr val="061406"/>
                </a:solidFill>
                <a:latin typeface="Arial"/>
              </a:rPr>
              <a:t>℃,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血气分析：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PH 7.518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PCO2 25.5mmHg 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、</a:t>
            </a: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TCO2 47.9mmol/L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。复查头颅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CT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无异常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16:30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尤锁骨下深静脉留管，内置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14cm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。测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CVP 12cmH2O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16:48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测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T:38.5</a:t>
            </a:r>
            <a:r>
              <a:rPr b="1" lang="en-US" sz="2000" spc="-1" strike="noStrike">
                <a:solidFill>
                  <a:srgbClr val="061406"/>
                </a:solidFill>
                <a:latin typeface="Arial"/>
              </a:rPr>
              <a:t>℃</a:t>
            </a: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，头置冰袋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1406"/>
                </a:solidFill>
                <a:latin typeface="Arial"/>
              </a:rPr>
              <a:t>17:45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测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T:38.1</a:t>
            </a:r>
            <a:r>
              <a:rPr b="1" lang="en-US" sz="2000" spc="-1" strike="noStrike">
                <a:solidFill>
                  <a:srgbClr val="061406"/>
                </a:solidFill>
                <a:latin typeface="Arial"/>
              </a:rPr>
              <a:t>℃</a:t>
            </a: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，全身抽搐，予力月西针</a:t>
            </a:r>
            <a:r>
              <a:rPr b="1" lang="en-US" sz="2000" spc="-1" strike="noStrike">
                <a:solidFill>
                  <a:srgbClr val="061406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mg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静推，生理盐水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45ml+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力月西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50mg 2ml/h ivvp,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冰毯降温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19:00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测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T:36.9</a:t>
            </a:r>
            <a:r>
              <a:rPr b="1" lang="en-US" sz="2000" spc="-1" strike="noStrike">
                <a:solidFill>
                  <a:srgbClr val="061406"/>
                </a:solidFill>
                <a:latin typeface="Arial"/>
              </a:rPr>
              <a:t>℃</a:t>
            </a: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（肛温）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1406"/>
                </a:solidFill>
                <a:latin typeface="Arial"/>
              </a:rPr>
              <a:t>22:40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血气分析：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PH 7.525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PCO2 21.5mmHg 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、</a:t>
            </a: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HCO3- 17.6mmol/L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，血钾 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2.5mmol/L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。予补钾补液处理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23:30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测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CVP 4cmH2O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，予加快输液滴速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图片 17411" descr="2"/>
          <p:cNvPicPr/>
          <p:nvPr/>
        </p:nvPicPr>
        <p:blipFill>
          <a:blip r:embed="rId1"/>
          <a:stretch/>
        </p:blipFill>
        <p:spPr>
          <a:xfrm>
            <a:off x="6516720" y="220680"/>
            <a:ext cx="1655640" cy="15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7.31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11:30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血钾 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2.22mmol/L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。予生理盐水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40ml+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氯化钾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10ml 25ml/h ivvp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12:30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血常规示：血红蛋白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115g/L,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生化示：肌酐 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109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mol/L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，肌酸激酶 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1472U/L,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甘油三酯 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3.5mmol/L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，血钠 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130mmol/L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，血气分析：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PCO2 26.3mmHg 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、</a:t>
            </a: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HCO3- 17.8mmol/L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， 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TCO2 41.7mmol/L.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16:30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血钾 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3.5mmol/L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，血钠 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148mmol/L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22:50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血气分析：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PCO2 30.7mmHg 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、 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PO2 200mmHg</a:t>
            </a: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HCO3- 19.4mmol/L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， 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TCO2 45.5mmol/L.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，血钠 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152mmol/L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，改温湿化吸氧为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2L/MIN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8.1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01:40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右侧鼻腔出血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10ml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，予鼻根部压迫止血，加快输液，邦亭针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2U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静推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09:58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留置胃管，内置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50cm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，接胃肠减压。输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AB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型新鲜冰冻血浆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340ml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14:00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测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T:38.8</a:t>
            </a:r>
            <a:r>
              <a:rPr b="1" lang="en-US" sz="2000" spc="-1" strike="noStrike">
                <a:solidFill>
                  <a:srgbClr val="061406"/>
                </a:solidFill>
                <a:latin typeface="Arial"/>
              </a:rPr>
              <a:t>℃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14:30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血气分析： 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PH 7.473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、 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PCO2 30.4mmHg 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、 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PO2 135mmHg</a:t>
            </a:r>
            <a:r>
              <a:rPr b="1" lang="zh-CN" sz="2000" spc="-1" strike="noStrike">
                <a:solidFill>
                  <a:srgbClr val="06140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， 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TCO2 51.3mmol/L.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，血钾 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3.39mmol/L.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呼碱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16:00</a:t>
            </a:r>
            <a:r>
              <a:rPr b="1" lang="zh-CN" sz="2000" spc="-1" strike="noStrike">
                <a:solidFill>
                  <a:srgbClr val="061406"/>
                </a:solidFill>
                <a:latin typeface="黑体"/>
                <a:ea typeface="黑体"/>
              </a:rPr>
              <a:t>测</a:t>
            </a:r>
            <a:r>
              <a:rPr b="1" lang="en-US" sz="2000" spc="-1" strike="noStrike">
                <a:solidFill>
                  <a:srgbClr val="061406"/>
                </a:solidFill>
                <a:latin typeface="黑体"/>
                <a:ea typeface="黑体"/>
              </a:rPr>
              <a:t>CVP 6cmH2O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61406"/>
                </a:solidFill>
                <a:latin typeface="Arial"/>
              </a:rPr>
              <a:t>目前治疗措施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5406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一级护理，禁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食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，垫气垫床，心电监护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+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血氧饱和度监测，气管插管，温湿化吸氧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升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分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深静脉置管，测中心静脉压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2/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日，留置胃管，胃肠减压，特殊物理降温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双上肢约束带制动，留置导尿 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头孢替安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2g 2/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日，氨溴索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60mg 2/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日，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DXM 5mg 2/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日，</a:t>
            </a:r>
            <a:r>
              <a:rPr b="1" lang="zh-CN" sz="2900" spc="-1" strike="noStrike">
                <a:solidFill>
                  <a:srgbClr val="061406"/>
                </a:solidFill>
                <a:latin typeface="华文新魏"/>
                <a:ea typeface="华文新魏"/>
              </a:rPr>
              <a:t>氯丙嗪</a:t>
            </a:r>
            <a:r>
              <a:rPr b="1" lang="en-US" sz="2900" spc="-1" strike="noStrike">
                <a:solidFill>
                  <a:srgbClr val="061406"/>
                </a:solidFill>
                <a:latin typeface="华文新魏"/>
                <a:ea typeface="华文新魏"/>
              </a:rPr>
              <a:t>50mg+</a:t>
            </a:r>
            <a:r>
              <a:rPr b="1" lang="zh-CN" sz="2900" spc="-1" strike="noStrike">
                <a:solidFill>
                  <a:srgbClr val="061406"/>
                </a:solidFill>
                <a:latin typeface="华文新魏"/>
                <a:ea typeface="华文新魏"/>
              </a:rPr>
              <a:t>派替啶</a:t>
            </a:r>
            <a:r>
              <a:rPr b="1" lang="en-US" sz="2900" spc="-1" strike="noStrike">
                <a:solidFill>
                  <a:srgbClr val="061406"/>
                </a:solidFill>
                <a:latin typeface="华文新魏"/>
                <a:ea typeface="华文新魏"/>
              </a:rPr>
              <a:t>100mg+</a:t>
            </a:r>
            <a:r>
              <a:rPr b="1" lang="zh-CN" sz="2900" spc="-1" strike="noStrike">
                <a:solidFill>
                  <a:srgbClr val="061406"/>
                </a:solidFill>
                <a:latin typeface="华文新魏"/>
                <a:ea typeface="华文新魏"/>
              </a:rPr>
              <a:t>异丙嗪</a:t>
            </a:r>
            <a:r>
              <a:rPr b="1" lang="en-US" sz="2900" spc="-1" strike="noStrike">
                <a:solidFill>
                  <a:srgbClr val="061406"/>
                </a:solidFill>
                <a:latin typeface="华文新魏"/>
                <a:ea typeface="华文新魏"/>
              </a:rPr>
              <a:t>50mg 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3/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日，磷酸肌酸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1g 2/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日，苯巴比妥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0.1g 2/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日，异甘草酸镁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150mg 1/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日，甘露醇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150ml 3/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日，奥拉西坦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15ml 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维生素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C 3g 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维生素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B6 0.2g 1/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日，雷尼替丁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150mg 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氯化钾</a:t>
            </a:r>
            <a:r>
              <a:rPr b="1" lang="en-US" sz="2800" spc="-1" strike="noStrike">
                <a:solidFill>
                  <a:srgbClr val="061406"/>
                </a:solidFill>
                <a:latin typeface="黑体"/>
                <a:ea typeface="黑体"/>
              </a:rPr>
              <a:t>15ml 1/</a:t>
            </a:r>
            <a:r>
              <a:rPr b="1" lang="zh-CN" sz="2800" spc="-1" strike="noStrike">
                <a:solidFill>
                  <a:srgbClr val="061406"/>
                </a:solidFill>
                <a:latin typeface="黑体"/>
                <a:ea typeface="黑体"/>
              </a:rPr>
              <a:t>日，冬眠疗法，补液，护脑，降颅压，营养心肌，化痰，护胃，预防感染对症治疗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5:16:39Z</dcterms:created>
  <dc:creator>雨林木风</dc:creator>
  <dc:description/>
  <dc:language>en-US</dc:language>
  <cp:lastModifiedBy>wuhan</cp:lastModifiedBy>
  <dcterms:modified xsi:type="dcterms:W3CDTF">2018-09-18T06:53:23Z</dcterms:modified>
  <cp:revision>740</cp:revision>
  <dc:subject/>
  <dc:title>疾病查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1</vt:lpwstr>
  </property>
</Properties>
</file>