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531D1A-2805-4061-8D19-3E74CF1FB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05200" y="2819520"/>
            <a:ext cx="6121440" cy="3768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000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1523880"/>
            <a:ext cx="711360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57480" y="1066680"/>
            <a:ext cx="6121440" cy="376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000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C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4280" y="2895480"/>
            <a:ext cx="711360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</dc:creator>
  <dc:description/>
  <dc:language>en-US</dc:language>
  <cp:lastModifiedBy>CPRO-user</cp:lastModifiedBy>
  <cp:revision>0</cp:revision>
  <dc:subject/>
  <dc:title>PRC_SIM</dc:title>
</cp:coreProperties>
</file>