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862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5"/>
          </p:nvPr>
        </p:nvSpPr>
        <p:spPr>
          <a:xfrm>
            <a:off x="3900600" y="0"/>
            <a:ext cx="298584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03968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6"/>
          </p:nvPr>
        </p:nvSpPr>
        <p:spPr>
          <a:xfrm>
            <a:off x="-360" y="9140760"/>
            <a:ext cx="29862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7"/>
          </p:nvPr>
        </p:nvSpPr>
        <p:spPr>
          <a:xfrm>
            <a:off x="3900600" y="9140760"/>
            <a:ext cx="298584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2649-D531-4239-AD85-11FF41C79C5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03968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지금부터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V-ELEQ</a:t>
            </a:r>
            <a:r>
              <a:rPr b="0" lang="zh-CN" sz="1200" spc="-1" strike="noStrike">
                <a:solidFill>
                  <a:srgbClr val="000000"/>
                </a:solidFill>
                <a:latin typeface="굴림"/>
              </a:rPr>
              <a:t>에 대해 설명하도록 하겠습니다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03968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브이일렉의 사용환경은 펜티움 투이상의 컴퓨터를 기본사양으로 합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03968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V-ELEQ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브이 일렉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라는 이름은 버츄얼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Electric Equipment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의 약자입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브이 일렉은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컴퓨터를 이용한 가상의 환경에서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기회로의 설계 및 검증과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실전기요소의 부품배치 및 배선 실습을  지원하는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시뮬레이션 소프트웨어라고 할 수 있습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03968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브이 일렉의 작동원리는 우선 실습과제가 주어지면 전기시퀀스회로도를 설계하고 편집합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설계가 끝나면 시뮬레이션을 시켜 검증단계를 거쳐 회로에 이상이 있을 경우 시퀀스 회로도를 편집합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시뮬레이션과 검증단계에서 회로에 이상이 없을 경우 시퀀스회로도를 바탕으로 가상 실배선도를 설계하고 편집합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실배선도 설계가 끝나면 시뮬레이션과 검증단계를 거쳐 회로 이상 유무를 확인합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확인이 끝나면 실회로를 구성합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03968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 화면은 브이 일렉의 화면 구성입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03968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브이 일렉의 주요 기능을 설명 드리겠습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직류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교류 신퀀스 회로도 구성요소 및 실배선 요소를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200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여개 지원하고 있으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전기회로도를 구성하기 위해 꼭 필요한  사용자 중심의 편리한 설계방식을 지원하고 있습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즉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용자들은 브이 일렉에서 제공하는 라이브러리를 화면에 끌어다 놓는 방식으로 회로를 설계하면 됩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아래 화면은 이러한 방식으로 회로를 구성한 예제 화면과 라이브러리화면입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03968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전화면에 이어지는 브이 일렉의 주요 기능입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직류와 교류등의 다양한 요소를 제공하고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요소의 용량을 변경 할 수 있습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또한 전기 배선의 색깔 및 굵기를 설정할 수 있으며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내부 구조를 볼 수 있는 실 배선 요소를 지원합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아래 그림은 이런 방식을 이용하여  지연동작회로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DC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를 구성한 화면입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03968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회로 설계가 끝나면 시뮬레이션과 검증 단계를 거쳐 회로에 동작 상태를 확인해 볼 수 있습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시뮬레이션을 실행 시키면 전류가 흐르는 곳에 배선의 색상이 변화하여 직관적인 전류 흐름을 확인해 볼 수 있으며 각 요소들의 기능선도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시간선도를 확인 해 볼 수 있습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또한 과전류나 과전압이 흘러 회로에 이상이 생길 시 퓨즈가 단락 된다던지 릴레이 등의 부하요소가 단락되는 현상을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DISPLAY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해 줍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아래 그림은 이런 방식을 이용하여 회로를 구성한 화면입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03968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브이 일렉은 다양한 교육 환경을 지원하고 있습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15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주차로 구성된 교안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교재를 제공하고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시뮬레이션과 연동되는 다양한 실습예제를 제공하고 있습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8FDA6-C8F2-4AE1-8FA7-DC4B6B9E72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285840"/>
            <a:ext cx="7010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520" y="3915360"/>
            <a:ext cx="8153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E83BB-AF49-457C-9B59-58FD2F5C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285840"/>
            <a:ext cx="7010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397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1680" y="1447560"/>
            <a:ext cx="397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520" y="3915360"/>
            <a:ext cx="397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1680" y="3915360"/>
            <a:ext cx="397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D31F9-8238-4539-B56E-F8023560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285840"/>
            <a:ext cx="7010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2625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90400" y="1447560"/>
            <a:ext cx="2625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25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520" y="3915360"/>
            <a:ext cx="2625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90400" y="3915360"/>
            <a:ext cx="2625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6920" y="3915360"/>
            <a:ext cx="2625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0BA3B-CE45-4695-9586-C1ED8D1B8D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862F-3E61-4D30-A1B0-1E5AAC845D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285840"/>
            <a:ext cx="7010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3352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7C79-C77E-4A05-A132-69F8719A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285840"/>
            <a:ext cx="7010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26E5-A294-4DCB-827E-29900D91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285840"/>
            <a:ext cx="7010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397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1680" y="1447560"/>
            <a:ext cx="397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BE9F-9ADD-4605-935B-158BC614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285840"/>
            <a:ext cx="7010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E8D3-6985-4FB9-B6D2-44B210CD7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533160" y="285840"/>
            <a:ext cx="70102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568C-4882-4672-B587-1A8E390EA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285840"/>
            <a:ext cx="7010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397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1680" y="1447560"/>
            <a:ext cx="397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915360"/>
            <a:ext cx="397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2B0E-9530-4684-B0FB-6B30E741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285840"/>
            <a:ext cx="7010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52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71993-FC8D-4698-8D2B-19154641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285840"/>
            <a:ext cx="7010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397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1680" y="1447560"/>
            <a:ext cx="397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11680" y="3915360"/>
            <a:ext cx="397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E12B-4406-4C5F-8BAA-4456CD5F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285840"/>
            <a:ext cx="7010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397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447560"/>
            <a:ext cx="397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15360"/>
            <a:ext cx="8153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24C1-46B1-4ED1-948B-3B1A3F91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285840"/>
            <a:ext cx="7010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33520" y="3915360"/>
            <a:ext cx="8153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1970-588A-4292-B5EC-C1452EDB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285840"/>
            <a:ext cx="7010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397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1680" y="1447560"/>
            <a:ext cx="397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3520" y="3915360"/>
            <a:ext cx="397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11680" y="3915360"/>
            <a:ext cx="397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80E2-7901-40D9-A4C9-E7E5590F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85840"/>
            <a:ext cx="7010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2625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90400" y="1447560"/>
            <a:ext cx="2625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25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33520" y="3915360"/>
            <a:ext cx="2625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90400" y="3915360"/>
            <a:ext cx="2625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46920" y="3915360"/>
            <a:ext cx="2625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58BF-0EF1-4D0E-B437-7ADE24F1F2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285840"/>
            <a:ext cx="7010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1CF8E-4076-4E40-94CC-9A4D072D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285840"/>
            <a:ext cx="7010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397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1680" y="1447560"/>
            <a:ext cx="397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4CF2F-6971-473E-8B1D-388E2F9C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285840"/>
            <a:ext cx="7010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1961E-8EAA-4BE2-A50D-F1136D6AA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285840"/>
            <a:ext cx="70102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6911D-E75D-436E-89BE-6D8F9F356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285840"/>
            <a:ext cx="7010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397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1680" y="1447560"/>
            <a:ext cx="397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520" y="3915360"/>
            <a:ext cx="397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D5B50-7F3D-43EE-9D64-4107F47C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285840"/>
            <a:ext cx="7010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397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1680" y="1447560"/>
            <a:ext cx="397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1680" y="3915360"/>
            <a:ext cx="397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9E8FB-0B1C-4A85-B54A-F7CD9FEC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285840"/>
            <a:ext cx="7010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397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1680" y="1447560"/>
            <a:ext cx="397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3915360"/>
            <a:ext cx="81532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D71FD-EA2F-46B7-B9E0-B94DB806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33520" y="1009800"/>
            <a:ext cx="7238880" cy="0"/>
          </a:xfrm>
          <a:prstGeom prst="line">
            <a:avLst/>
          </a:prstGeom>
          <a:ln w="2844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6540480"/>
            <a:ext cx="9144000" cy="317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40480"/>
            <a:ext cx="2362320" cy="304920"/>
          </a:xfrm>
          <a:prstGeom prst="rect">
            <a:avLst/>
          </a:prstGeom>
          <a:solidFill>
            <a:srgbClr val="194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8077320" y="228600"/>
            <a:ext cx="838080" cy="819000"/>
          </a:xfrm>
          <a:prstGeom prst="rect">
            <a:avLst/>
          </a:prstGeom>
          <a:solidFill>
            <a:srgbClr val="194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7734240" y="380880"/>
            <a:ext cx="990720" cy="91440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53352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194293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194293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67816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45C7-7309-4F92-B8C6-3449BB1D1EE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2"/>
          </p:nvPr>
        </p:nvSpPr>
        <p:spPr>
          <a:xfrm>
            <a:off x="3962520" y="6552720"/>
            <a:ext cx="12189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734240" y="609480"/>
            <a:ext cx="952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-ELEQ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533160" y="285840"/>
            <a:ext cx="7010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450720" y="6597720"/>
            <a:ext cx="1244880" cy="216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57480" y="2971800"/>
            <a:ext cx="6629400" cy="838080"/>
            <a:chOff x="1257480" y="2971800"/>
            <a:chExt cx="6629400" cy="838080"/>
          </a:xfrm>
        </p:grpSpPr>
        <p:sp>
          <p:nvSpPr>
            <p:cNvPr id="49" name=""/>
            <p:cNvSpPr/>
            <p:nvPr/>
          </p:nvSpPr>
          <p:spPr>
            <a:xfrm>
              <a:off x="1257480" y="3059280"/>
              <a:ext cx="6629400" cy="628560"/>
            </a:xfrm>
            <a:prstGeom prst="rect">
              <a:avLst/>
            </a:prstGeom>
            <a:noFill/>
            <a:ln w="381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600200" y="2971800"/>
              <a:ext cx="594360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00200" y="2692440"/>
            <a:ext cx="5943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4400" y="165240"/>
            <a:ext cx="5486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6000" spc="-1" strike="noStrike">
                <a:solidFill>
                  <a:srgbClr val="ffffff"/>
                </a:solidFill>
                <a:latin typeface="Arial Black"/>
              </a:rPr>
              <a:t>Cubictek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540480"/>
            <a:ext cx="9144000" cy="317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540480"/>
            <a:ext cx="2362320" cy="304920"/>
          </a:xfrm>
          <a:prstGeom prst="rect">
            <a:avLst/>
          </a:prstGeom>
          <a:solidFill>
            <a:srgbClr val="194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ldNum" idx="3"/>
          </p:nvPr>
        </p:nvSpPr>
        <p:spPr>
          <a:xfrm>
            <a:off x="66294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A840-3481-4D09-900F-F1348F6ED85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962520" y="6552720"/>
            <a:ext cx="12189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0720" y="6597720"/>
            <a:ext cx="1244880" cy="216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843280" y="5084640"/>
            <a:ext cx="3311280" cy="706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708360" y="5805360"/>
            <a:ext cx="230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Swis721 BlkCn BT"/>
                <a:ea typeface="MD아트체"/>
              </a:rPr>
              <a:t>www.cubictek.co.kr   02-2108-6124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499"/>
              </a:spcBef>
              <a:buClr>
                <a:srgbClr val="194293"/>
              </a:buClr>
              <a:buSzPct val="65000"/>
              <a:buFont typeface="Wingdings" charset="2"/>
              <a:buChar char="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00"/>
              </a:spcBef>
              <a:buClr>
                <a:srgbClr val="194293"/>
              </a:buClr>
              <a:buSzPct val="8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8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19280" y="2491920"/>
            <a:ext cx="5943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66"/>
                </a:solidFill>
                <a:latin typeface="Arial"/>
              </a:rPr>
              <a:t>V-ELEQ</a:t>
            </a:r>
            <a:endParaRPr b="1" i="1" lang="en-US" sz="5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71640" y="321300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굴림"/>
                <a:ea typeface="宋体"/>
              </a:rPr>
              <a:t>电路设计及检测模拟软件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160" y="285840"/>
            <a:ext cx="7010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系统要求</a:t>
            </a: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1440" y="1655640"/>
            <a:ext cx="0" cy="54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8548560" y="1655640"/>
            <a:ext cx="0" cy="54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541440" y="2197080"/>
            <a:ext cx="0" cy="54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8548560" y="2197080"/>
            <a:ext cx="0" cy="54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541440" y="2738520"/>
            <a:ext cx="0" cy="541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>
            <a:off x="8548560" y="2738520"/>
            <a:ext cx="0" cy="541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541440" y="3279600"/>
            <a:ext cx="0" cy="54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8548560" y="3279600"/>
            <a:ext cx="0" cy="54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541440" y="3821040"/>
            <a:ext cx="0" cy="1535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8548560" y="3821040"/>
            <a:ext cx="0" cy="1535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541440" y="5356080"/>
            <a:ext cx="0" cy="490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>
            <a:off x="8548560" y="5356080"/>
            <a:ext cx="0" cy="490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39640" y="1413000"/>
          <a:ext cx="8153640" cy="4705200"/>
        </p:xfrm>
        <a:graphic>
          <a:graphicData uri="http://schemas.openxmlformats.org/drawingml/2006/table">
            <a:tbl>
              <a:tblPr/>
              <a:tblGrid>
                <a:gridCol w="1728720"/>
                <a:gridCol w="3095640"/>
                <a:gridCol w="3329280"/>
              </a:tblGrid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굴림"/>
                          <a:ea typeface="宋体"/>
                        </a:rPr>
                        <a:t>基本配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굴림"/>
                          <a:ea typeface="宋体"/>
                        </a:rPr>
                        <a:t>推荐配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P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entium 130M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entium III 500M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dows 98 / 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dows NT/2000/X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M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2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28MB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굴림"/>
                          <a:ea typeface="宋体"/>
                        </a:rPr>
                        <a:t>以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SP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00 x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6 Million Co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MByte Video Mem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24 x 7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2 Million Co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2MByte Video Mem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00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00MB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굴림"/>
                          <a:ea typeface="宋体"/>
                        </a:rPr>
                        <a:t>以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F7D94-B403-496D-9722-6DDE509F47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285840"/>
            <a:ext cx="7010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V-ELEQ</a:t>
            </a: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-ELEQ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irtual-Electric Equipment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缩写。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-ELEQ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一种为电路的设计、检测以及仪器的零配件、配线实习提供支持的模拟软件。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V-ELEQ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以让你理解对电气、自控等运作原理，是设计和分析由此组成的电路的模拟软件。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88DC2-4080-4C03-A60C-97C0EBDE637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66280" y="285840"/>
            <a:ext cx="6977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运作原理</a:t>
            </a: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70280" y="1317960"/>
            <a:ext cx="1439640" cy="4597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굴림"/>
                <a:ea typeface="宋体"/>
              </a:rPr>
              <a:t>实习课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340000" y="2535480"/>
            <a:ext cx="2508120" cy="4597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굴림"/>
                <a:ea typeface="宋体"/>
              </a:rPr>
              <a:t>电气顺序回路设计和编辑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2589120" y="3665880"/>
            <a:ext cx="2016360" cy="4597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굴림"/>
                <a:ea typeface="宋体"/>
              </a:rPr>
              <a:t>模拟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89120" y="4627800"/>
            <a:ext cx="2016360" cy="4597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굴림"/>
                <a:ea typeface="宋体"/>
              </a:rPr>
              <a:t>检测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2340000" y="5664600"/>
            <a:ext cx="2552760" cy="4597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굴림"/>
                <a:ea typeface="宋体"/>
              </a:rPr>
              <a:t>实际电路制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6367320" y="4654800"/>
            <a:ext cx="2597400" cy="4597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굴림"/>
                <a:ea typeface="宋体"/>
              </a:rPr>
              <a:t>虚拟实际电路设计及编辑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1398600" y="4308840"/>
            <a:ext cx="1258920" cy="39168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"/>
                <a:ea typeface="宋体"/>
              </a:rPr>
              <a:t>电路结构错误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4" idx="0"/>
            <a:endCxn id="111" idx="3"/>
          </p:cNvCxnSpPr>
          <p:nvPr/>
        </p:nvCxnSpPr>
        <p:spPr>
          <a:xfrm flipV="1" rot="16200000">
            <a:off x="5848920" y="2651040"/>
            <a:ext cx="573840" cy="3061440"/>
          </a:xfrm>
          <a:prstGeom prst="bentConnector2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17" name=""/>
          <p:cNvCxnSpPr/>
          <p:nvPr/>
        </p:nvCxnSpPr>
        <p:spPr>
          <a:xfrm rot="10800000">
            <a:off x="2334600" y="2668680"/>
            <a:ext cx="237240" cy="2092680"/>
          </a:xfrm>
          <a:prstGeom prst="bentConnector3">
            <a:avLst>
              <a:gd name="adj1" fmla="val 528115"/>
            </a:avLst>
          </a:prstGeom>
          <a:ln w="63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4932360" y="5069160"/>
            <a:ext cx="1258920" cy="39168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굴림"/>
                <a:ea typeface="宋体"/>
              </a:rPr>
              <a:t>电路结构错误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/>
          <p:nvPr/>
        </p:nvCxnSpPr>
        <p:spPr>
          <a:xfrm>
            <a:off x="4642920" y="4723920"/>
            <a:ext cx="1762920" cy="27720"/>
          </a:xfrm>
          <a:prstGeom prst="straightConnector1">
            <a:avLst/>
          </a:prstGeom>
          <a:ln w="63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09" idx="2"/>
            <a:endCxn id="110" idx="0"/>
          </p:cNvCxnSpPr>
          <p:nvPr/>
        </p:nvCxnSpPr>
        <p:spPr>
          <a:xfrm>
            <a:off x="3590640" y="1781280"/>
            <a:ext cx="3960" cy="568800"/>
          </a:xfrm>
          <a:prstGeom prst="straightConnector1">
            <a:avLst/>
          </a:prstGeom>
          <a:ln w="5076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121" name=""/>
          <p:cNvCxnSpPr/>
          <p:nvPr/>
        </p:nvCxnSpPr>
        <p:spPr>
          <a:xfrm>
            <a:off x="3559320" y="3173400"/>
            <a:ext cx="3600" cy="481680"/>
          </a:xfrm>
          <a:prstGeom prst="straightConnector1">
            <a:avLst/>
          </a:prstGeom>
          <a:ln w="5076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122" name=""/>
          <p:cNvCxnSpPr/>
          <p:nvPr/>
        </p:nvCxnSpPr>
        <p:spPr>
          <a:xfrm>
            <a:off x="3347640" y="4149720"/>
            <a:ext cx="1080" cy="496080"/>
          </a:xfrm>
          <a:prstGeom prst="straightConnector1">
            <a:avLst/>
          </a:prstGeom>
          <a:ln w="5076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2" idx="2"/>
            <a:endCxn id="113" idx="0"/>
          </p:cNvCxnSpPr>
          <p:nvPr/>
        </p:nvCxnSpPr>
        <p:spPr>
          <a:xfrm>
            <a:off x="3596760" y="5090760"/>
            <a:ext cx="19800" cy="570600"/>
          </a:xfrm>
          <a:prstGeom prst="straightConnector1">
            <a:avLst/>
          </a:prstGeom>
          <a:ln w="50760">
            <a:solidFill>
              <a:srgbClr val="b2b2b2"/>
            </a:solidFill>
            <a:miter/>
            <a:tailEnd len="med" type="triangle" w="med"/>
          </a:ln>
        </p:spPr>
      </p:cxnSp>
      <p:cxnSp>
        <p:nvCxnSpPr>
          <p:cNvPr id="124" name=""/>
          <p:cNvCxnSpPr/>
          <p:nvPr/>
        </p:nvCxnSpPr>
        <p:spPr>
          <a:xfrm>
            <a:off x="4642920" y="4941360"/>
            <a:ext cx="1762920" cy="27720"/>
          </a:xfrm>
          <a:prstGeom prst="straightConnector1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25" name=""/>
          <p:cNvCxnSpPr/>
          <p:nvPr/>
        </p:nvCxnSpPr>
        <p:spPr>
          <a:xfrm>
            <a:off x="3850920" y="4149720"/>
            <a:ext cx="1080" cy="496080"/>
          </a:xfrm>
          <a:prstGeom prst="straightConnector1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4CAE8-1857-456B-A4DE-89C6F38BF9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129440" cy="5085000"/>
          </a:xfrm>
          <a:prstGeom prst="rect">
            <a:avLst/>
          </a:prstGeom>
          <a:ln w="25560">
            <a:solidFill>
              <a:srgbClr val="3366ff"/>
            </a:solidFill>
            <a:miter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285840"/>
            <a:ext cx="7010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画面结构</a:t>
            </a: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4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254160" y="6440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559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4782960" y="429264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6"/>
                </a:solidFill>
                <a:latin typeface="굴림"/>
                <a:ea typeface="宋体"/>
              </a:rPr>
              <a:t>    </a:t>
            </a:r>
            <a:r>
              <a:rPr b="1" lang="zh-CN" sz="1200" spc="-1" strike="noStrike">
                <a:solidFill>
                  <a:srgbClr val="000066"/>
                </a:solidFill>
                <a:latin typeface="굴림"/>
                <a:ea typeface="宋体"/>
              </a:rPr>
              <a:t>电路设计窗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1940040" y="542124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6"/>
                </a:solidFill>
                <a:latin typeface="굴림"/>
                <a:ea typeface="宋体"/>
              </a:rPr>
              <a:t>    </a:t>
            </a:r>
            <a:r>
              <a:rPr b="1" lang="zh-CN" sz="1200" spc="-1" strike="noStrike">
                <a:solidFill>
                  <a:srgbClr val="000066"/>
                </a:solidFill>
                <a:latin typeface="굴림"/>
                <a:ea typeface="宋体"/>
              </a:rPr>
              <a:t>选项窗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1689120" y="34480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6"/>
                </a:solidFill>
                <a:latin typeface="굴림"/>
                <a:ea typeface="宋体"/>
              </a:rPr>
              <a:t>     </a:t>
            </a:r>
            <a:r>
              <a:rPr b="1" lang="zh-CN" sz="1200" spc="-1" strike="noStrike">
                <a:solidFill>
                  <a:srgbClr val="000066"/>
                </a:solidFill>
                <a:latin typeface="굴림"/>
                <a:ea typeface="宋体"/>
              </a:rPr>
              <a:t>列表窗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5470560" y="161280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6"/>
                </a:solidFill>
                <a:latin typeface="굴림"/>
                <a:ea typeface="宋体"/>
              </a:rPr>
              <a:t>快捷键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76120" y="133668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6"/>
                </a:solidFill>
                <a:latin typeface="굴림"/>
                <a:ea typeface="宋体"/>
              </a:rPr>
              <a:t>菜单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29720" y="1498680"/>
            <a:ext cx="36036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948360" y="522936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6"/>
                </a:solidFill>
                <a:latin typeface="굴림"/>
                <a:ea typeface="宋体"/>
              </a:rPr>
              <a:t>时间进度窗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4500720" y="58053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66"/>
                </a:solidFill>
                <a:latin typeface="굴림"/>
                <a:ea typeface="宋体"/>
              </a:rPr>
              <a:t>输出窗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DCBBE-32F6-4DB5-B5D4-42EC394AA75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160" y="285840"/>
            <a:ext cx="7010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简单方便的设计功能</a:t>
            </a: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792180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  <a:ea typeface="宋体"/>
              </a:rPr>
              <a:t>采用了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宋体"/>
              </a:rPr>
              <a:t>Drag&amp;Drop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  <a:ea typeface="宋体"/>
              </a:rPr>
              <a:t>方式，设计方式非常简单。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  <a:ea typeface="宋体"/>
              </a:rPr>
              <a:t>提供直流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  <a:ea typeface="宋体"/>
              </a:rPr>
              <a:t>交流原理图的结构以及实际配线原理。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  <a:ea typeface="宋体"/>
              </a:rPr>
              <a:t>以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宋体"/>
              </a:rPr>
              <a:t>Tree View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  <a:ea typeface="宋体"/>
              </a:rPr>
              <a:t>形式提供各种要素。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  <a:ea typeface="宋体"/>
              </a:rPr>
              <a:t>提供直流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宋体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  <a:ea typeface="宋体"/>
              </a:rPr>
              <a:t>交流等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宋体"/>
              </a:rPr>
              <a:t>200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  <a:ea typeface="宋体"/>
              </a:rPr>
              <a:t>多个元件。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  <a:ea typeface="宋体"/>
              </a:rPr>
              <a:t>电源、开关、灯泡、马达、蜂鸣器、继电器、计时器、断路器等。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  <a:ea typeface="宋体"/>
              </a:rPr>
              <a:t>电路设计时，提供方便的网格和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宋体"/>
              </a:rPr>
              <a:t>Snap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  <a:ea typeface="宋体"/>
              </a:rPr>
              <a:t>查看等功能。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1692360" y="6165720"/>
            <a:ext cx="26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      ▶ 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  <a:ea typeface="宋体"/>
              </a:rPr>
              <a:t>发动机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  <a:ea typeface="宋体"/>
              </a:rPr>
              <a:t>Star-Delta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  <a:ea typeface="宋体"/>
              </a:rPr>
              <a:t>控制电路</a:t>
            </a: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516720" y="616572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1" lang="zh-CN" sz="1200" spc="-1" strike="noStrike">
                <a:solidFill>
                  <a:srgbClr val="000000"/>
                </a:solidFill>
                <a:latin typeface="굴림"/>
                <a:ea typeface="宋体"/>
              </a:rPr>
              <a:t>要素列表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87280" y="3500280"/>
            <a:ext cx="3600720" cy="2635560"/>
          </a:xfrm>
          <a:prstGeom prst="rect">
            <a:avLst/>
          </a:prstGeom>
          <a:ln w="25560">
            <a:solidFill>
              <a:srgbClr val="3366ff"/>
            </a:solidFill>
            <a:miter/>
          </a:ln>
        </p:spPr>
      </p:pic>
      <p:grpSp>
        <p:nvGrpSpPr>
          <p:cNvPr id="145" name=""/>
          <p:cNvGrpSpPr/>
          <p:nvPr/>
        </p:nvGrpSpPr>
        <p:grpSpPr>
          <a:xfrm>
            <a:off x="5724360" y="3068640"/>
            <a:ext cx="2711520" cy="3074760"/>
            <a:chOff x="5724360" y="3068640"/>
            <a:chExt cx="2711520" cy="3074760"/>
          </a:xfrm>
        </p:grpSpPr>
        <p:grpSp>
          <p:nvGrpSpPr>
            <p:cNvPr id="146" name=""/>
            <p:cNvGrpSpPr/>
            <p:nvPr/>
          </p:nvGrpSpPr>
          <p:grpSpPr>
            <a:xfrm>
              <a:off x="8339040" y="3068640"/>
              <a:ext cx="360" cy="3240"/>
              <a:chOff x="8339040" y="3068640"/>
              <a:chExt cx="360" cy="3240"/>
            </a:xfrm>
          </p:grpSpPr>
          <p:pic>
            <p:nvPicPr>
              <p:cNvPr id="14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339040" y="3069000"/>
                <a:ext cx="360" cy="2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39040" y="3068640"/>
                <a:ext cx="360" cy="3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339040" y="3069360"/>
                <a:ext cx="360" cy="2160"/>
              </a:xfrm>
              <a:prstGeom prst="rect">
                <a:avLst/>
              </a:prstGeom>
              <a:ln w="0">
                <a:noFill/>
              </a:ln>
              <a:effectLst>
                <a:outerShdw dist="36147" dir="2700000" blurRad="0" rotWithShape="0">
                  <a:srgbClr val="808080">
                    <a:alpha val="50000"/>
                  </a:srgbClr>
                </a:outerShdw>
              </a:effectLst>
            </p:spPr>
          </p:pic>
        </p:grpSp>
        <p:pic>
          <p:nvPicPr>
            <p:cNvPr id="150" name="" descr=""/>
            <p:cNvPicPr/>
            <p:nvPr/>
          </p:nvPicPr>
          <p:blipFill>
            <a:blip r:embed="rId5"/>
            <a:stretch/>
          </p:blipFill>
          <p:spPr>
            <a:xfrm>
              <a:off x="5724360" y="3308400"/>
              <a:ext cx="863640" cy="2808000"/>
            </a:xfrm>
            <a:prstGeom prst="rect">
              <a:avLst/>
            </a:prstGeom>
            <a:ln w="25560">
              <a:solidFill>
                <a:srgbClr val="3366ff"/>
              </a:solidFill>
              <a:miter/>
            </a:ln>
          </p:spPr>
        </p:pic>
        <p:pic>
          <p:nvPicPr>
            <p:cNvPr id="151" name="" descr=""/>
            <p:cNvPicPr/>
            <p:nvPr/>
          </p:nvPicPr>
          <p:blipFill>
            <a:blip r:embed="rId6"/>
            <a:stretch/>
          </p:blipFill>
          <p:spPr>
            <a:xfrm>
              <a:off x="6443640" y="3668760"/>
              <a:ext cx="1130400" cy="24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7"/>
            <a:stretch/>
          </p:blipFill>
          <p:spPr>
            <a:xfrm>
              <a:off x="7308720" y="3668760"/>
              <a:ext cx="1127160" cy="246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FE2D7-B947-47DA-8238-74BA5BD4E2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285840"/>
            <a:ext cx="7010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电气电路设计</a:t>
            </a: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宋体"/>
              </a:rPr>
              <a:t>支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宋体"/>
              </a:rPr>
              <a:t>KS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宋体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宋体"/>
              </a:rPr>
              <a:t>IEC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宋体"/>
              </a:rPr>
              <a:t>标准。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宋体"/>
              </a:rPr>
              <a:t>提供单相和三相元件以及交流、直流元件。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宋体"/>
              </a:rPr>
              <a:t>电源、马达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宋体"/>
              </a:rPr>
              <a:t>LED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宋体"/>
              </a:rPr>
              <a:t>Relay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宋体"/>
              </a:rPr>
              <a:t>等容量设定。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宋体"/>
              </a:rPr>
              <a:t>输入输出装置、反向换流器、安定装置。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宋体"/>
              </a:rPr>
              <a:t>电气配线的颜色和粗细设定。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宋体"/>
              </a:rPr>
              <a:t>可看到内部结构的实际配线图设计。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732720" y="4292640"/>
            <a:ext cx="2251080" cy="1968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916600" y="6164640"/>
            <a:ext cx="189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  <a:ea typeface="宋体"/>
              </a:rPr>
              <a:t>可看到内部结构的实际配线要素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0" y="3716280"/>
            <a:ext cx="4241520" cy="2761920"/>
            <a:chOff x="0" y="3716280"/>
            <a:chExt cx="4241520" cy="2761920"/>
          </a:xfrm>
        </p:grpSpPr>
        <p:sp>
          <p:nvSpPr>
            <p:cNvPr id="158" name=""/>
            <p:cNvSpPr/>
            <p:nvPr/>
          </p:nvSpPr>
          <p:spPr>
            <a:xfrm>
              <a:off x="1685520" y="6171120"/>
              <a:ext cx="188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"/>
                </a:rPr>
                <a:t>▶ </a:t>
              </a:r>
              <a:r>
                <a:rPr b="1" lang="zh-CN" sz="1400" spc="-1" strike="noStrike">
                  <a:solidFill>
                    <a:srgbClr val="000000"/>
                  </a:solidFill>
                  <a:latin typeface="굴림"/>
                  <a:ea typeface="宋体"/>
                </a:rPr>
                <a:t>延迟反馈电路设计画面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"/>
                </a:rPr>
                <a:t>(DC)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2"/>
            <a:stretch/>
          </p:blipFill>
          <p:spPr>
            <a:xfrm>
              <a:off x="997920" y="3716280"/>
              <a:ext cx="3243600" cy="2382480"/>
            </a:xfrm>
            <a:prstGeom prst="rect">
              <a:avLst/>
            </a:prstGeom>
            <a:ln w="25560">
              <a:solidFill>
                <a:srgbClr val="3366ff"/>
              </a:solidFill>
              <a:miter/>
            </a:ln>
          </p:spPr>
        </p:pic>
        <p:sp>
          <p:nvSpPr>
            <p:cNvPr id="160" name=""/>
            <p:cNvSpPr/>
            <p:nvPr/>
          </p:nvSpPr>
          <p:spPr>
            <a:xfrm flipH="1">
              <a:off x="936360" y="5438880"/>
              <a:ext cx="37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0" y="5314680"/>
              <a:ext cx="99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要素设置窗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6443640" y="1700280"/>
            <a:ext cx="1374840" cy="1871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4859280" y="4365720"/>
            <a:ext cx="1871640" cy="17539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494760" y="3643920"/>
            <a:ext cx="136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  <a:ea typeface="宋体"/>
              </a:rPr>
              <a:t>蜂音器实际配线要素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B382C-202E-49CD-B885-1450899D03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285840"/>
            <a:ext cx="7010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模拟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/</a:t>
            </a:r>
            <a:r>
              <a:rPr b="1" i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检测</a:t>
            </a: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187280" y="3789360"/>
            <a:ext cx="3278520" cy="2397240"/>
          </a:xfrm>
          <a:prstGeom prst="rect">
            <a:avLst/>
          </a:prstGeom>
          <a:ln w="25560">
            <a:solidFill>
              <a:srgbClr val="3366ff"/>
            </a:solidFill>
            <a:miter/>
          </a:ln>
        </p:spPr>
      </p:pic>
      <p:sp>
        <p:nvSpPr>
          <p:cNvPr id="167" name=""/>
          <p:cNvSpPr/>
          <p:nvPr/>
        </p:nvSpPr>
        <p:spPr>
          <a:xfrm>
            <a:off x="755640" y="1197000"/>
            <a:ext cx="763272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굴림"/>
                <a:ea typeface="宋体"/>
              </a:rPr>
              <a:t>显示电路运作状态 </a:t>
            </a:r>
            <a:r>
              <a:rPr b="0" lang="en-US" sz="1900" spc="-1" strike="noStrike">
                <a:solidFill>
                  <a:srgbClr val="000000"/>
                </a:solidFill>
                <a:latin typeface="굴림"/>
                <a:ea typeface="宋体"/>
              </a:rPr>
              <a:t>/ </a:t>
            </a:r>
            <a:r>
              <a:rPr b="0" lang="zh-CN" sz="1900" spc="-1" strike="noStrike">
                <a:solidFill>
                  <a:srgbClr val="000000"/>
                </a:solidFill>
                <a:latin typeface="굴림"/>
                <a:ea typeface="宋体"/>
              </a:rPr>
              <a:t>查看电流流程。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굴림"/>
                <a:ea typeface="宋体"/>
              </a:rPr>
              <a:t>查看各电气电路元件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zh-CN" sz="1900" spc="-1" strike="noStrike">
                <a:solidFill>
                  <a:srgbClr val="000000"/>
                </a:solidFill>
                <a:latin typeface="굴림"/>
                <a:ea typeface="宋体"/>
              </a:rPr>
              <a:t>显示随颜色而变化的电气回路。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굴림"/>
                <a:ea typeface="宋体"/>
              </a:rPr>
              <a:t>确认电气电路配件的内部接点运作状态。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굴림"/>
                <a:ea typeface="宋体"/>
              </a:rPr>
              <a:t>显示各要素的时间变位及功能图。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굴림"/>
                <a:ea typeface="宋体"/>
              </a:rPr>
              <a:t>过电流、过电压检测。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굴림"/>
                <a:ea typeface="宋体"/>
              </a:rPr>
              <a:t>显示</a:t>
            </a:r>
            <a:r>
              <a:rPr b="0" lang="zh-CN" sz="1900" spc="-1" strike="noStrike">
                <a:solidFill>
                  <a:srgbClr val="000000"/>
                </a:solidFill>
                <a:latin typeface="굴림"/>
                <a:ea typeface="宋体"/>
              </a:rPr>
              <a:t>短路现象。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굴림"/>
                <a:ea typeface="宋体"/>
              </a:rPr>
              <a:t>查看电路的正常与否。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1828800" y="6164640"/>
            <a:ext cx="189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  <a:ea typeface="宋体"/>
              </a:rPr>
              <a:t>发动机正逆转控制电路模拟画面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076720" y="3789360"/>
            <a:ext cx="3257640" cy="2384280"/>
          </a:xfrm>
          <a:prstGeom prst="rect">
            <a:avLst/>
          </a:prstGeom>
          <a:ln w="25560">
            <a:solidFill>
              <a:srgbClr val="3366ff"/>
            </a:solidFill>
            <a:miter/>
          </a:ln>
        </p:spPr>
      </p:pic>
      <p:sp>
        <p:nvSpPr>
          <p:cNvPr id="170" name=""/>
          <p:cNvSpPr/>
          <p:nvPr/>
        </p:nvSpPr>
        <p:spPr>
          <a:xfrm>
            <a:off x="5556960" y="6164640"/>
            <a:ext cx="22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▶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  <a:ea typeface="宋体"/>
              </a:rPr>
              <a:t>电容器发动机正逆转控制电路检测画面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36F46-699C-42BF-87B5-4B78C3F928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160" y="285840"/>
            <a:ext cx="7010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支持学习功能</a:t>
            </a: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160" y="1125360"/>
            <a:ext cx="64148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宋体"/>
              </a:rPr>
              <a:t>提供多媒体学习课程。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宋体"/>
              </a:rPr>
              <a:t>提供学习期间为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宋体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宋体"/>
              </a:rPr>
              <a:t>周的教材、教案。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宋体"/>
              </a:rPr>
              <a:t>提供各阶段学习课程和实习习题集。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宋体"/>
              </a:rPr>
              <a:t>提供与模拟互动的实习习题集。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宋体"/>
              </a:rPr>
              <a:t>收录了电气仪器及电气施工技能师资格证习题。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2124000" y="616572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▶ 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  <a:ea typeface="宋体"/>
              </a:rPr>
              <a:t>实习习题集画面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55640" y="3284640"/>
            <a:ext cx="2987640" cy="22827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340000" y="4005360"/>
            <a:ext cx="3016080" cy="2187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516720" y="1484280"/>
            <a:ext cx="2330280" cy="33847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020000" y="494172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▶ 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  <a:ea typeface="宋体"/>
              </a:rPr>
              <a:t>教案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  <a:ea typeface="宋体"/>
              </a:rPr>
              <a:t>教材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4643280" y="4581360"/>
            <a:ext cx="1694160" cy="179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60F4E-E200-4777-BAB6-0827E12886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160" y="285840"/>
            <a:ext cx="7010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选择功能</a:t>
            </a:r>
            <a:endParaRPr b="1" i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3515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宋体"/>
              </a:rPr>
              <a:t>为让你学习自动控制，提供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宋体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宋体"/>
              </a:rPr>
              <a:t>汽缸、传送带、传感器、机器人等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19429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PLC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程序功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GLOFA, MASTER-K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宋体"/>
              </a:rPr>
              <a:t>等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宋体"/>
              </a:rPr>
              <a:t>提供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LD,SFC,FB,FBD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宋体"/>
              </a:rPr>
              <a:t>程序语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187280" y="3500280"/>
            <a:ext cx="3125880" cy="2286000"/>
          </a:xfrm>
          <a:prstGeom prst="rect">
            <a:avLst/>
          </a:prstGeom>
          <a:ln w="25560">
            <a:solidFill>
              <a:srgbClr val="3366ff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3780000" y="4653000"/>
            <a:ext cx="2170080" cy="1463760"/>
          </a:xfrm>
          <a:prstGeom prst="rect">
            <a:avLst/>
          </a:prstGeom>
          <a:ln w="25560">
            <a:solidFill>
              <a:srgbClr val="3366ff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2268360" y="6165720"/>
            <a:ext cx="28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▶ 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  <a:ea typeface="宋体"/>
              </a:rPr>
              <a:t>电梯控制实习画面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6084720" y="4076640"/>
            <a:ext cx="2808360" cy="16160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5724360" y="1628640"/>
            <a:ext cx="3168720" cy="1668600"/>
          </a:xfrm>
          <a:prstGeom prst="rect">
            <a:avLst/>
          </a:prstGeom>
          <a:ln w="25560">
            <a:solidFill>
              <a:srgbClr val="3366ff"/>
            </a:solidFill>
            <a:miter/>
          </a:ln>
        </p:spPr>
      </p:pic>
      <p:sp>
        <p:nvSpPr>
          <p:cNvPr id="186" name=""/>
          <p:cNvSpPr/>
          <p:nvPr/>
        </p:nvSpPr>
        <p:spPr>
          <a:xfrm>
            <a:off x="6443640" y="3429000"/>
            <a:ext cx="27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▶ 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  <a:ea typeface="宋体"/>
              </a:rPr>
              <a:t>虚拟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PLC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  <a:ea typeface="宋体"/>
              </a:rPr>
              <a:t>画面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6732720" y="5734080"/>
            <a:ext cx="27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▶ 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  <a:ea typeface="宋体"/>
              </a:rPr>
              <a:t>复动汽缸画面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6C827-82D2-481E-8DBB-F5517A243A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8T23:55:22Z</dcterms:created>
  <dc:creator>Powersun</dc:creator>
  <dc:description/>
  <dc:language>en-US</dc:language>
  <cp:lastModifiedBy>sld</cp:lastModifiedBy>
  <dcterms:modified xsi:type="dcterms:W3CDTF">2005-01-10T02:39:25Z</dcterms:modified>
  <cp:revision>183</cp:revision>
  <dc:subject/>
  <dc:title>슬라이드 1</dc:title>
</cp:coreProperties>
</file>