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03280" y="38304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324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724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3156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0328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724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3156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24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03280" y="38304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324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6724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3156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40328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6724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73156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8324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403280" y="38304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8324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6724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73156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40328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6724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73156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24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403280" y="38304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8324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6724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31560" y="34290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40328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6724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731560" y="383040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240" y="38304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342900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03280" y="38304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  <a:p>
            <a:pPr lvl="1" marL="294840" indent="-294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  <a:p>
            <a:pPr lvl="2" marL="294840" indent="-2948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  <a:p>
            <a:pPr lvl="3" marL="294840" indent="-294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  <a:p>
            <a:pPr lvl="4" marL="294840" indent="-294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  <a:p>
            <a:pPr lvl="5" marL="294840" indent="-294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  <a:p>
            <a:pPr lvl="6" marL="294840" indent="-294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earn.tze.cn/Course/Index/24836" TargetMode="External"/><Relationship Id="rId3" Type="http://schemas.openxmlformats.org/officeDocument/2006/relationships/hyperlink" Target="http://learn.tze.cn/Course/Index/24836" TargetMode="External"/><Relationship Id="rId4" Type="http://schemas.openxmlformats.org/officeDocument/2006/relationships/hyperlink" Target="http://learn.tze.cn/Course/Index/24793" TargetMode="External"/><Relationship Id="rId5" Type="http://schemas.openxmlformats.org/officeDocument/2006/relationships/hyperlink" Target="http://learn.tze.cn/Course/Index/24793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640" y="2346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泰微课”平台微课程制作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32000" y="3645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泰州市教育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3.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泰微课”微课程制作发布流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209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一、注册发布账号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二、下载安装制作工具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三、制作工具“选项设置”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四、微课程录制编码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五、编制配套习题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六、上传发布微课程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、注册泰微课资源发布账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泰微课”资源管理网——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sp.tze.cn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账号注册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按照页面提示，逐步输入您的个人实名信息。每位老师仅限注册一个账号。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、下载安装“泰微课”平台微课程制作工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2276280"/>
            <a:ext cx="7561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</a:rPr>
              <a:t>安装制作工具前，请先关闭计算机上的所有杀毒软件及防火墙。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</a:rPr>
              <a:t>在安装“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ncoder 4”</a:t>
            </a:r>
            <a:r>
              <a:rPr b="0" lang="zh-CN" sz="2400" spc="-1" strike="noStrike">
                <a:solidFill>
                  <a:srgbClr val="008000"/>
                </a:solidFill>
                <a:latin typeface="Arial"/>
              </a:rPr>
              <a:t>组件时，可能会弹出英文对话框，请按照英文安装提示，一步步点击进行安装。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</a:rPr>
              <a:t>安装过程中如遇防火墙拦截，请选择允许运行。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三、制作工具“选项设置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77744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</a:rPr>
              <a:t>启动软件后，首先用在资源管理网注册的账号登陆。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</a:rPr>
              <a:t>点击软件主界面右上方“选项”按钮，弹出“选项”对话框。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四、微课程录制编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77770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点击主界面“录制”按钮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点击录制工具条上“开始”按钮，即可开始屏幕录制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可利用工具条或快捷键在录制区域绘图，对屏幕内容进行标注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通过工具条上的“摄像头”列表，可以随时切换到“摄像头”录制模式，录制摄像头画面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点击工具条上的“停止”按钮，即可停止录制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勾选该视频，点击“视频编码”按钮，将视频编码为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mp4</a:t>
            </a: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格式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五、编制配套习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7777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每道习题分为两页，第一页为题目，第二页为解析。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如没有解析则第二页留空，依次往后编制。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在试题分页时要注意使用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trl+</a:t>
            </a:r>
            <a:r>
              <a:rPr b="0" lang="zh-CN" sz="2800" spc="-1" strike="noStrike">
                <a:solidFill>
                  <a:srgbClr val="008000"/>
                </a:solidFill>
                <a:latin typeface="Arial"/>
              </a:rPr>
              <a:t>回车键来进行分页，而不要使用若干回车键分页。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27800" y="5537160"/>
            <a:ext cx="855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2"/>
              </a:rPr>
              <a:t>习题示例</a:t>
            </a: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3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6880" y="5516640"/>
            <a:ext cx="855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4"/>
              </a:rPr>
              <a:t>习题示例</a:t>
            </a:r>
            <a:r>
              <a:rPr b="0" lang="en-US" sz="1800" spc="-1" strike="noStrike" u="sng">
                <a:solidFill>
                  <a:srgbClr val="080808"/>
                </a:solidFill>
                <a:uFillTx/>
                <a:latin typeface="Arial"/>
                <a:ea typeface="黑体"/>
                <a:hlinkClick r:id="rId5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六、上传发布微课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555560"/>
            <a:ext cx="7777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点击软件主界面“上传”按钮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在“上传资源”窗口中，点击工具条“添加资源”按钮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依次设置微课程的“所属目录”、“标题”、“关键字”等信息，在“媒体资源”中，选择刚才录制好的微课程视频文件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点击右上角“添加”按钮给微课程上传配套习题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给每道客观题设置正确答案，在左侧框中选中题号，下面选择对应的答案，依次设置即可。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如审核不通过，在资源列表中会出现审核不通过的原因，可以进一步对资源进行修改更新，直到通过审核。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300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66"/>
                </a:solidFill>
                <a:latin typeface="Arial"/>
                <a:ea typeface="微软雅黑"/>
              </a:rPr>
              <a:t>谢谢大家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493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技术服务联系方式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34920" y="2206800"/>
            <a:ext cx="914400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电话：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0523-869998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E-mail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：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2444449@qq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cp:keywords/>
  <dc:language>en-US</dc:language>
  <cp:lastModifiedBy>雨林木风</cp:lastModifiedBy>
  <cp:lastPrinted>1899-12-30T00:00:00Z</cp:lastPrinted>
  <dcterms:modified xsi:type="dcterms:W3CDTF">2014-04-11T00:51:41Z</dcterms:modified>
  <cp:revision>81</cp:revision>
  <dc:subject/>
  <dc:title>微视频制作管理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