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24A-0153-49E9-814D-BB3435DE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905-4717-4B1D-AD1F-867D2578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54B-F7CD-47AF-8771-4D8E8BF5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D4F-AE1E-4345-B154-58DAC6FD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32C-A1F9-4C27-BB93-E62767E5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9DA-3107-4636-84DA-9C646266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FB3-7D69-46C8-AC63-F9080A2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711-7E1E-44D5-AE6F-FF6CB908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F79-A579-497C-8117-3AC6EC57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D69-A934-4E6F-9A50-17C981CF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2DB-AE36-48B5-BE1D-45ED7DDB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F1E-C6C5-4938-A39B-176350D5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AABD-97CE-4EEE-97F5-59F166BB0D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00280" y="200016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25002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 flipV="1">
            <a:off x="3643200" y="2503080"/>
            <a:ext cx="2500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211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497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212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498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8548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569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212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4497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140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67125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354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997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069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283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97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97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3354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5690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54979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5283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1-16T05:36:34Z</dcterms:modified>
  <cp:revision>87</cp:revision>
  <dc:subject/>
  <dc:title>幻灯片 1</dc:title>
</cp:coreProperties>
</file>