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9.png" ContentType="image/png"/>
  <Override PartName="/ppt/media/chimes.wav" ContentType="audio/x-wav"/>
  <Override PartName="/ppt/media/image19.jpeg" ContentType="image/jpeg"/>
  <Override PartName="/ppt/media/image18.jpeg" ContentType="image/jpeg"/>
  <Override PartName="/ppt/media/DRIVEBY.WAV" ContentType="audio/x-wav"/>
  <Override PartName="/ppt/media/image6.jpeg" ContentType="image/jpeg"/>
  <Override PartName="/ppt/media/image27.jpeg" ContentType="image/jpeg"/>
  <Override PartName="/ppt/media/image7.wmf" ContentType="image/x-wmf"/>
  <Override PartName="/ppt/media/image20.jpeg" ContentType="image/jpeg"/>
  <Override PartName="/ppt/media/image8.png" ContentType="image/png"/>
  <Override PartName="/ppt/media/image14.jpeg" ContentType="image/jpeg"/>
  <Override PartName="/ppt/media/image12.wmf" ContentType="image/x-wmf"/>
  <Override PartName="/ppt/media/image16.jpeg" ContentType="image/jpeg"/>
  <Override PartName="/ppt/media/TYPE.WAV" ContentType="audio/x-wav"/>
  <Override PartName="/ppt/media/image9.jpeg" ContentType="image/jpeg"/>
  <Override PartName="/ppt/media/image10.jpeg" ContentType="image/jpeg"/>
  <Override PartName="/ppt/media/image2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CAMERA.WAV" ContentType="audio/x-wav"/>
  <Override PartName="/ppt/media/image1.jpeg" ContentType="image/jpeg"/>
  <Override PartName="/ppt/media/image22.jpeg" ContentType="image/jpeg"/>
  <Override PartName="/ppt/media/image13.png" ContentType="image/png"/>
  <Override PartName="/ppt/media/image1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B1C-CC57-4115-99F4-CE78B7F2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BE7-FBAF-45DF-9C28-4AF006E7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8A9-5846-41C1-BD29-041160A1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97D-A8F2-47E3-A843-6E634550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CC8-37F8-452F-9388-37EB2B13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510-945A-4794-90D3-724FE518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855-8DED-4B84-9194-F8AABC18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691-4136-415C-B550-8A2C7F90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331-D808-4D12-B50A-A2FABE24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283-C68A-4269-BF98-D5B7D765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C16-9CCA-4347-9F94-3BB96E15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0AF-7465-45DA-B946-5776E0DA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8207-AB98-445B-9EEB-C0256E6065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" Target="slide11.xml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6.xm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94880" y="838080"/>
            <a:ext cx="4569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爱莲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54720" y="4952880"/>
            <a:ext cx="187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周敦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6146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38480" y="654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文言文学习五步阅读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15238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大声朗读明确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2286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仔细阅读理通文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30481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分析阅读体会形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38098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讲解阅读品味意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4419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背诵阅读加深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6553080" y="160020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6553080" y="23623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之”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6553080" y="32004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习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15200" y="32004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6" action="ppaction://hlinksldjump"/>
          </p:cNvPr>
          <p:cNvSpPr/>
          <p:nvPr/>
        </p:nvSpPr>
        <p:spPr>
          <a:xfrm>
            <a:off x="6629400" y="4648320"/>
            <a:ext cx="1042920" cy="380880"/>
          </a:xfrm>
          <a:custGeom>
            <a:avLst/>
            <a:gdLst>
              <a:gd name="textAreaLeft" fmla="*/ 24480 w 1042920"/>
              <a:gd name="textAreaRight" fmla="*/ 1018440 w 1042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09" h="21600">
                <a:moveTo>
                  <a:pt x="0" y="0"/>
                </a:moveTo>
                <a:lnTo>
                  <a:pt x="59109" y="0"/>
                </a:lnTo>
                <a:lnTo>
                  <a:pt x="59109" y="21600"/>
                </a:lnTo>
                <a:lnTo>
                  <a:pt x="0" y="21600"/>
                </a:lnTo>
                <a:close/>
              </a:path>
              <a:path fill="lightenLess" w="59109" h="21600">
                <a:moveTo>
                  <a:pt x="0" y="0"/>
                </a:moveTo>
                <a:lnTo>
                  <a:pt x="59109" y="0"/>
                </a:lnTo>
                <a:lnTo>
                  <a:pt x="57709" y="1400"/>
                </a:lnTo>
                <a:lnTo>
                  <a:pt x="1400" y="1400"/>
                </a:lnTo>
                <a:close/>
              </a:path>
              <a:path fill="darken" w="59109" h="21600">
                <a:moveTo>
                  <a:pt x="59109" y="0"/>
                </a:moveTo>
                <a:lnTo>
                  <a:pt x="59109" y="21600"/>
                </a:lnTo>
                <a:lnTo>
                  <a:pt x="57709" y="20200"/>
                </a:lnTo>
                <a:lnTo>
                  <a:pt x="57709" y="1400"/>
                </a:lnTo>
                <a:close/>
              </a:path>
              <a:path fill="darkenLess" w="59109" h="21600">
                <a:moveTo>
                  <a:pt x="59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09" y="20200"/>
                </a:lnTo>
                <a:close/>
              </a:path>
              <a:path fill="lighten" w="59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96080" y="990720"/>
            <a:ext cx="137160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81680" y="5867280"/>
            <a:ext cx="1816200" cy="762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82840" y="633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爱莲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88320" y="1166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周敦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676520"/>
            <a:ext cx="7162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水陆草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花，可爱者甚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蕃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。晋陶渊明独爱菊。自李唐来，世人甚爱牡丹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予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独爱莲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出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淤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泥而不染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濯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清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涟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而不妖，中通外直，不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蔓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不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，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益清，亭亭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植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，可远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不可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玩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予谓菊，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逸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者也；牡丹，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富贵者也；莲，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君子者也。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噫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菊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爱，陶后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鲜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有闻。莲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爱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同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予者何人？牡丹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爱，宜乎众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54760" y="16765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蕃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f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95440" y="2141640"/>
            <a:ext cx="8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1920" y="1143000"/>
            <a:ext cx="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颐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y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02640" y="259092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濯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zhu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1560" y="297180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涟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li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01920" y="3429000"/>
            <a:ext cx="91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亵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02640" y="4815000"/>
            <a:ext cx="113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鲜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xi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ǎ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01920" y="3886200"/>
            <a:ext cx="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逸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02640" y="4357800"/>
            <a:ext cx="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噫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81680" y="5867280"/>
            <a:ext cx="1816200" cy="762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82840" y="633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爱莲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8320" y="1166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周敦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76520"/>
            <a:ext cx="7162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水陆草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花，可爱者甚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蕃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。晋陶渊明独爱菊。自李唐来，世人甚爱牡丹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予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独爱莲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出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淤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泥而不染，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濯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清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涟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而不妖，中通外直，不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蔓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不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枝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，香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益清，亭亭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植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，可远观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而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不可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玩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予谓菊，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逸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者也；牡丹，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富贵者也；莲，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君子者也。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噫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菊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爱，陶后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鲜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有闻。莲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爱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同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予者何人？牡丹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爱，宜乎众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228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55627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614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69920" y="6541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文言文朗读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90480" y="1523880"/>
            <a:ext cx="15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8640" y="2286000"/>
            <a:ext cx="9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舒缓一些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0481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注意抑扬顿挫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有高低起伏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骈句、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句结合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5715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读出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160020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6553080" y="320040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78487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6146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150000" y="304920"/>
            <a:ext cx="319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骈句：相接的两个句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字数相同，意思相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（基本对仗，两句成联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多句成排比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90720" y="2743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找出文中的骈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40880" y="3429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出淤泥而不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染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，濯清涟而不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23760" y="4876920"/>
            <a:ext cx="274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菊，花之隐逸者也；牡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花之富贵者也；莲，花之君子者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14600" y="3983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扬一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45200" y="58118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气逐渐加强，层层推进，富有气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5909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46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04156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794880" y="4143240"/>
          <a:ext cx="1098720" cy="1087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94880" y="4143240"/>
                    <a:ext cx="109872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057400" y="944640"/>
            <a:ext cx="47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文言文中“之”的 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4120" y="1690560"/>
            <a:ext cx="17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助词“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66400" y="2589120"/>
            <a:ext cx="410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助词，放在主谓之间取消句子独立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起舒缓语气，协调音节的作用。无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05920" y="4343400"/>
            <a:ext cx="11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代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6320" y="51195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动词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“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到、往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8381880" y="380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18920" y="167652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（水陆草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花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2720" y="3505320"/>
            <a:ext cx="31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（予独爱莲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出淤泥而不染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2920" y="4311720"/>
            <a:ext cx="32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（学而时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跳往助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04840" y="510552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（吾欲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南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16146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82360" y="533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小组合作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560" y="1143000"/>
            <a:ext cx="453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文中哪些句子描写了莲的形象？分别体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了莲怎样的品质？你觉得作者赞美的仅仅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莲花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98640" y="2666880"/>
            <a:ext cx="47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在文中作者对菊花、牡丹、莲的评价如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态度怎样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04240" y="3657600"/>
            <a:ext cx="338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文中为何要写菊花、牡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从中能看出作者怎样的生活态度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343400" y="5486400"/>
            <a:ext cx="457200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让我们讨论一下吧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06880" y="5896080"/>
            <a:ext cx="28573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讨论时间到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32004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213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96080" y="968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8880" y="41911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2" dur="1" fill="hold"/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16146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371600" y="547560"/>
            <a:ext cx="51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环境：出淤泥而不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濯清涟而不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15880" y="2133720"/>
            <a:ext cx="628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体态：中通外直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不蔓不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74796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香气：香远益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95144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风度：亭亭净植，可远观而不可亵玩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5317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不同流合污，洁身自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88000" y="41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高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9586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不妖媚，洁净，朴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94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质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2057400"/>
            <a:ext cx="35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为人正直；不趋炎附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65680" y="2316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正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30680" y="37339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香气清爽悠远，美名远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63960" y="3687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清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5480" y="495288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为人独立，令人敬重不敢玩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33800" y="5211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清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23120" y="601344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7493"/>
                </a:moveTo>
                <a:lnTo>
                  <a:pt x="7308" y="7493"/>
                </a:lnTo>
                <a:lnTo>
                  <a:pt x="7308" y="12828"/>
                </a:lnTo>
                <a:cubicBezTo>
                  <a:pt x="7308" y="13751"/>
                  <a:pt x="8109" y="14482"/>
                  <a:pt x="9145" y="14482"/>
                </a:cubicBezTo>
                <a:lnTo>
                  <a:pt x="10807" y="14482"/>
                </a:lnTo>
                <a:cubicBezTo>
                  <a:pt x="11843" y="14482"/>
                  <a:pt x="12644" y="13751"/>
                  <a:pt x="12644" y="12828"/>
                </a:cubicBezTo>
                <a:lnTo>
                  <a:pt x="12644" y="7493"/>
                </a:lnTo>
                <a:lnTo>
                  <a:pt x="10807" y="7493"/>
                </a:lnTo>
                <a:lnTo>
                  <a:pt x="14315" y="3985"/>
                </a:lnTo>
                <a:lnTo>
                  <a:pt x="17988" y="7493"/>
                </a:lnTo>
                <a:lnTo>
                  <a:pt x="16151" y="7493"/>
                </a:lnTo>
                <a:lnTo>
                  <a:pt x="16151" y="12828"/>
                </a:lnTo>
                <a:cubicBezTo>
                  <a:pt x="16151" y="15596"/>
                  <a:pt x="13575" y="18155"/>
                  <a:pt x="10807" y="18155"/>
                </a:cubicBezTo>
                <a:lnTo>
                  <a:pt x="9145" y="18155"/>
                </a:lnTo>
                <a:cubicBezTo>
                  <a:pt x="6377" y="18155"/>
                  <a:pt x="3801" y="15596"/>
                  <a:pt x="3801" y="12828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657600" y="541008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自李唐来，世人甚爱牡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牡丹之爱，宜乎众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46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321800" y="350532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晋陶渊明独爱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菊之爱，陶后鲜有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51600" y="137160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予独爱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莲之爱，同予者何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8153280" y="152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7493"/>
                </a:moveTo>
                <a:lnTo>
                  <a:pt x="15921" y="7493"/>
                </a:lnTo>
                <a:lnTo>
                  <a:pt x="15921" y="12828"/>
                </a:lnTo>
                <a:cubicBezTo>
                  <a:pt x="15921" y="13751"/>
                  <a:pt x="16721" y="14482"/>
                  <a:pt x="17757" y="14482"/>
                </a:cubicBezTo>
                <a:lnTo>
                  <a:pt x="19420" y="14482"/>
                </a:lnTo>
                <a:cubicBezTo>
                  <a:pt x="20455" y="14482"/>
                  <a:pt x="21256" y="13751"/>
                  <a:pt x="21256" y="12828"/>
                </a:cubicBezTo>
                <a:lnTo>
                  <a:pt x="21256" y="7493"/>
                </a:lnTo>
                <a:lnTo>
                  <a:pt x="19420" y="7493"/>
                </a:lnTo>
                <a:lnTo>
                  <a:pt x="22927" y="3985"/>
                </a:lnTo>
                <a:lnTo>
                  <a:pt x="26600" y="7493"/>
                </a:lnTo>
                <a:lnTo>
                  <a:pt x="24764" y="7493"/>
                </a:lnTo>
                <a:lnTo>
                  <a:pt x="24764" y="12828"/>
                </a:lnTo>
                <a:cubicBezTo>
                  <a:pt x="24764" y="15596"/>
                  <a:pt x="22187" y="18155"/>
                  <a:pt x="19420" y="18155"/>
                </a:cubicBezTo>
                <a:lnTo>
                  <a:pt x="17757" y="18155"/>
                </a:lnTo>
                <a:cubicBezTo>
                  <a:pt x="14989" y="18155"/>
                  <a:pt x="12413" y="15596"/>
                  <a:pt x="12413" y="12828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914400"/>
            <a:ext cx="1218960" cy="838080"/>
          </a:xfrm>
          <a:prstGeom prst="ellipse">
            <a:avLst/>
          </a:prstGeom>
          <a:solidFill>
            <a:srgbClr val="cccc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048120"/>
            <a:ext cx="1219320" cy="914400"/>
          </a:xfrm>
          <a:prstGeom prst="ellipse">
            <a:avLst/>
          </a:prstGeom>
          <a:solidFill>
            <a:srgbClr val="ffffcc"/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5334120"/>
            <a:ext cx="1219320" cy="914400"/>
          </a:xfrm>
          <a:prstGeom prst="ellipse">
            <a:avLst/>
          </a:prstGeom>
          <a:solidFill>
            <a:srgbClr val="ffcccc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牡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32160" y="2819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菊花——隐逸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73760" y="685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莲花——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君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84440" y="4876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牡丹——富贵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00400" y="51055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781680" y="43434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29200" y="45720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1752480" y="5105520"/>
            <a:ext cx="1447920" cy="1523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-76320" y="0"/>
            <a:ext cx="16146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34320" y="449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托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2200" y="6303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21720" y="525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言志（象征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21440" y="1343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50320" y="142416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虽在尘世，但不同流合污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不慕富贵，鄙视趋炎附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47520" y="416232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不愿和统治者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流合污而隐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7800" y="3400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6680" y="416232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贪图富贵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趋炎附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50160" y="3400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牡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22400" y="232740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反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22800" y="248004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正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688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666880" y="1981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86728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80520" y="1592280"/>
            <a:ext cx="15634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清水出芙蓉，天然去雕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李白（唐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2895480" cy="2666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357560" y="539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600200" y="16761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89120" y="1859040"/>
            <a:ext cx="5461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秋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3360" y="1143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冰姿不怕雪霜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羞傍琼楼傍古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格原因独立好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肯教富贵负初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5181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8160" y="459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托物言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76520" y="4572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能力训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46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2200" y="15192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00"/>
                </a:solidFill>
                <a:latin typeface="Times New Roman"/>
              </a:rPr>
              <a:t>模仿例句，用托物言志的方法造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63040" y="2538360"/>
            <a:ext cx="402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句：我爱莲花，因为它出污泥而不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恰如清高正直，人格高尚的君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41148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造句：我爱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因为它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5105520"/>
            <a:ext cx="727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743200" y="46483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943600" y="46483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0" y="4610160"/>
            <a:ext cx="2743200" cy="2247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0" y="2209680"/>
            <a:ext cx="2514600" cy="2438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7162920" y="2209680"/>
            <a:ext cx="1981080" cy="2438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5181480" y="2209680"/>
            <a:ext cx="2133720" cy="2438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2438280" y="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7391520" y="0"/>
            <a:ext cx="1752480" cy="22096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2514600" y="2209680"/>
            <a:ext cx="2666880" cy="2438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1"/>
          <a:stretch/>
        </p:blipFill>
        <p:spPr>
          <a:xfrm>
            <a:off x="5029200" y="0"/>
            <a:ext cx="2362320" cy="2209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070880" y="1295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茶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19720" y="1371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喇叭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93520" y="173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仙人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56040" y="0"/>
            <a:ext cx="729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</a:rPr>
              <a:t>梅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30600" y="2459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日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12960" y="2382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兰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88400" y="2459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紫藤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238284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水仙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2720" y="4897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玫瑰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191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松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45800" y="504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郁金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89680" y="1217520"/>
            <a:ext cx="5629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在理解的基础上背诵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将造句练习扩充为一篇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300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的托物言志的文章。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46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924680" y="571500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4720" y="762120"/>
            <a:ext cx="31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爱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梅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因为它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傲霜雪而不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恰如坚贞顽强，斗志昂然的勇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46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 rot="5400000">
            <a:off x="4800240" y="2209680"/>
            <a:ext cx="4876920" cy="182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谢谢大家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 advTm="9000">
    <p:random/>
    <p:sndAc>
      <p:stSnd>
        <p:snd r:embed="rId2" name="chimes.wav"/>
      </p:stSnd>
    </p:sndAc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6102720" y="0"/>
            <a:ext cx="1994040" cy="6433200"/>
            <a:chOff x="6102720" y="0"/>
            <a:chExt cx="1994040" cy="6433200"/>
          </a:xfrm>
        </p:grpSpPr>
        <p:sp>
          <p:nvSpPr>
            <p:cNvPr id="48" name=""/>
            <p:cNvSpPr/>
            <p:nvPr/>
          </p:nvSpPr>
          <p:spPr>
            <a:xfrm>
              <a:off x="7580880" y="0"/>
              <a:ext cx="51588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天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莲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叶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无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穷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碧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742800" y="0"/>
              <a:ext cx="51588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映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荷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花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别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样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24480" y="3505320"/>
              <a:ext cx="0" cy="10666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02720" y="4876920"/>
              <a:ext cx="424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</a:rPr>
                <a:t>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57360" y="402840"/>
            <a:ext cx="420228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常记溪亭日暮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沉醉不知归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兴尽晚回舟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误入藕花深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争渡，争渡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惊起一滩鸥鹭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38800" y="3056400"/>
            <a:ext cx="127764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李清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《如梦令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79360" y="627120"/>
            <a:ext cx="139932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9900"/>
                </a:solidFill>
                <a:latin typeface="Times New Roman"/>
              </a:rPr>
              <a:t>风前一叶压荷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9900"/>
                </a:solidFill>
                <a:latin typeface="Times New Roman"/>
              </a:rPr>
              <a:t>              </a:t>
            </a:r>
            <a:r>
              <a:rPr b="0" lang="zh-CN" sz="4000" spc="-1" strike="noStrike">
                <a:solidFill>
                  <a:srgbClr val="cc9900"/>
                </a:solidFill>
                <a:latin typeface="Times New Roman"/>
              </a:rPr>
              <a:t>唐      薛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301160" y="1420920"/>
            <a:ext cx="1277640" cy="35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一一风荷举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65440" y="3629880"/>
            <a:ext cx="91152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周邦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962760" y="563400"/>
            <a:ext cx="15210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留得残荷听雨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3124080"/>
            <a:ext cx="761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6320" y="2284920"/>
            <a:ext cx="5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494880" y="838080"/>
            <a:ext cx="45694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爱莲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54720" y="4952880"/>
            <a:ext cx="187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周敦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5105520"/>
            <a:ext cx="1395360" cy="1600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20000"/>
              </a:lnSpc>
              <a:buClr>
                <a:srgbClr val="0066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说”是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议论文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的一种文体，可以直接说明事物或论述道理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也可以借人借事或借物的记叙来论述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146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38080" y="3733920"/>
            <a:ext cx="7925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0066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《爱莲说》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就是说说爱好莲花的问题。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52480" y="1219320"/>
            <a:ext cx="6858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周敦颐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1017-1073)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，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代道洲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现在湖南省道县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字茂叔，哲学家。因他世居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县濂溪，后居庐山莲花峰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峰下有溪，也命名为濂溪，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者就称他为濂溪先生。黄庭坚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称其为“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人品甚高，胸怀洒落，如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光风霁月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（雨过天晴时风清月明的景象，比喻开阔的胸襟和坦白的心地）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46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29400" y="1447920"/>
            <a:ext cx="1857240" cy="2666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700680" y="0"/>
            <a:ext cx="24433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4:36:02Z</dcterms:created>
  <dc:creator>zyc</dc:creator>
  <dc:description/>
  <dc:language>en-US</dc:language>
  <cp:lastModifiedBy>LDC</cp:lastModifiedBy>
  <dcterms:modified xsi:type="dcterms:W3CDTF">2004-10-30T10:40:53Z</dcterms:modified>
  <cp:revision>98</cp:revision>
  <dc:subject/>
  <dc:title>没有幻灯片标题</dc:title>
</cp:coreProperties>
</file>