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B85A-8964-4630-892E-9B90F6AF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27A4-CA33-46E0-9D1D-91A65A92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9C0E-4A46-42BB-9637-4D380037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B98E-B85E-4CA8-B781-D95BEB87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01A1-973F-439C-883D-4D8596CC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3C77-D0AB-4805-A8A9-9D2C61C3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C86F-37C4-43DD-BE77-456EA563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A4C3-4071-4CE2-B2F0-311418EB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F47F-A49F-48EF-B3D2-B0B35B01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347B-B5DF-4017-A205-59512991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A3D8-F3B4-461A-AF4D-C97A49B9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242F-23CC-41D8-9474-372A24DE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7E1D-BFD8-4C55-9C93-7EF415E8AA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图片 2051" descr="200210241051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2052"/>
          <p:cNvSpPr txBox="1"/>
          <p:nvPr/>
        </p:nvSpPr>
        <p:spPr>
          <a:xfrm>
            <a:off x="1763640" y="4076640"/>
            <a:ext cx="3745080" cy="124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安全教育主题班会</a:t>
            </a:r>
            <a:endParaRPr b="1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84 0.06666 C 0.18871 0.11921 0.28576 0.17176 0.35538 0.18194 C 0.425 0.19213 0.45885 0.11736 0.5092 0.12801 C 0.55955 0.13865 0.72049 0.22291 0.65729 0.24606 C 0.5941 0.26921 0.27014 0.2743 0.13038 0.26666 C -0.00938 0.25902 -0.09531 0.22939 -0.18108 0.2 E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1267" descr="200210281454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矩形 11268"/>
          <p:cNvSpPr txBox="1"/>
          <p:nvPr/>
        </p:nvSpPr>
        <p:spPr>
          <a:xfrm>
            <a:off x="4427640" y="404640"/>
            <a:ext cx="410364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紧急电话知多少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?~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5 0.08611 C -0.03247 0.09422 -0.08143 0.11412 -0.08143 0.1301 C -0.08143 0.14468 -0.03351 0.15556 0.03055 0.15556 C 0.09444 0.15556 0.14843 0.14468 0.14843 0.1301 C 0.14843 0.11412 0.09253 0.11019 0.02847 0.12084 C -0.03455 0.13287 -0.08143 0.15278 -0.08143 0.16736 C -0.08143 0.18218 -0.03247 0.19422 0.03055 0.19422 C 0.09444 0.19422 0.14843 0.18218 0.14843 0.16736 C 0.14843 0.15278 0.09253 0.14885 0.02951 0.15949 C -0.03455 0.17014 -0.08143 0.19005 -0.08143 0.20486 C -0.08143 0.22084 -0.03247 0.23287 0.03142 0.23287 C 0.09444 0.23287 0.14843 0.22084 0.14843 0.20486 C 0.14843 0.19144 0.09253 0.1875 0.02951 0.19676 C -0.03351 0.20741 -0.08143 0.22871 -0.08143 0.24352 C -0.08143 0.25811 -0.03143 0.27014 0.03142 0.27014 C 0.09652 0.27014 0.14843 0.25811 0.14843 0.24352 C 0.14843 0.22871 0.09357 0.22477 0.03055 0.23542 C -0.03247 0.24607 -0.08143 0.26621 -0.08143 0.28079 C -0.08143 0.29676 -0.03143 0.30741 0.03246 0.30741 C 0.09652 0.30741 0.14843 0.29537 0.14843 0.28079 C 0.14843 0.26621 0.09357 0.26204 0.03055 0.27269 C -0.03247 0.28334 -0.08143 0.30486 -0.08143 0.31806 C -0.08143 0.33287 -0.03056 0.34468 0.03246 0.34468 C 0.09652 0.34468 0.14843 0.33287 0.14843 0.31806 C 0.14843 0.30486 0.09444 0.3007 0.03055 0.31019 C -0.03247 0.32084 -0.08143 0.34213 -0.08143 0.35672 C -0.08143 0.37014 -0.03056 0.38334 0.0335 0.38334 C 0.09757 0.38334 0.14843 0.37153 0.14843 0.35672 C 0.14843 0.34213 0.09444 0.3382 0.03142 0.34885 C -0.03143 0.35949 -0.08247 0.3794 -0.08143 0.39422 C -0.08056 0.4088 -0.03056 0.41945 0.0335 0.41945 C 0.09757 0.41945 0.14843 0.40741 0.14843 0.39283 C 0.14843 0.3794 0.09652 0.37547 0.0335 0.3875 E">
                                      <p:cBhvr>
                                        <p:cTn id="2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12291" descr="200210151519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矩形 12293"/>
          <p:cNvSpPr txBox="1"/>
          <p:nvPr/>
        </p:nvSpPr>
        <p:spPr>
          <a:xfrm>
            <a:off x="684360" y="765000"/>
            <a:ext cx="10792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宋体"/>
              </a:rPr>
              <a:t>119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  <p:sp>
        <p:nvSpPr>
          <p:cNvPr id="88" name="矩形 12294"/>
          <p:cNvSpPr txBox="1"/>
          <p:nvPr/>
        </p:nvSpPr>
        <p:spPr>
          <a:xfrm>
            <a:off x="611280" y="2205000"/>
            <a:ext cx="100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10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9" name="矩形 12295"/>
          <p:cNvSpPr txBox="1"/>
          <p:nvPr/>
        </p:nvSpPr>
        <p:spPr>
          <a:xfrm>
            <a:off x="611280" y="3500280"/>
            <a:ext cx="108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120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" name="矩形 12296"/>
          <p:cNvSpPr txBox="1"/>
          <p:nvPr/>
        </p:nvSpPr>
        <p:spPr>
          <a:xfrm>
            <a:off x="684360" y="4941720"/>
            <a:ext cx="934920" cy="11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122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矩形 12297"/>
          <p:cNvSpPr txBox="1"/>
          <p:nvPr/>
        </p:nvSpPr>
        <p:spPr>
          <a:xfrm>
            <a:off x="7415280" y="620640"/>
            <a:ext cx="172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匪警</a:t>
            </a:r>
            <a:endParaRPr b="0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" name="矩形 12298"/>
          <p:cNvSpPr txBox="1"/>
          <p:nvPr/>
        </p:nvSpPr>
        <p:spPr>
          <a:xfrm>
            <a:off x="7308720" y="1916280"/>
            <a:ext cx="1584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火警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矩形 12299"/>
          <p:cNvSpPr txBox="1"/>
          <p:nvPr/>
        </p:nvSpPr>
        <p:spPr>
          <a:xfrm>
            <a:off x="6804000" y="3429000"/>
            <a:ext cx="234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交通事故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4" name="矩形 12300"/>
          <p:cNvSpPr txBox="1"/>
          <p:nvPr/>
        </p:nvSpPr>
        <p:spPr>
          <a:xfrm>
            <a:off x="6804000" y="5157720"/>
            <a:ext cx="208908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医疗急救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5" name="MSSN00226A0000[1].wav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46 0.01065 L 0.63386 0.14699 E">
                                      <p:cBhvr>
                                        <p:cTn id="30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2 0.01575 L 0.65382 -0.21527 E">
                                      <p:cBhvr>
                                        <p:cTn id="34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4 0.00555 L 0.50798 0.2574 E">
                                      <p:cBhvr>
                                        <p:cTn id="3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607 -0.00324 C 0.30712 -0.0919 0.50833 -0.18033 0.56805 -0.20602 C 0.62778 -0.23171 0.47031 -0.15417 0.46406 -0.1581 C 0.45781 -0.16204 0.52083 -0.21991 0.53021 -0.23009 C 0.53958 -0.24028 0.52187 -0.21898 0.52014 -0.21945 E">
                                      <p:cBhvr>
                                        <p:cTn id="4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5648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430488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深圳清华实验学校  初一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班主任   肖作坤      班主任助理  洪凝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班长   谢乐川          团支部书记  马国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13315" descr="20021024105244"/>
          <p:cNvPicPr/>
          <p:nvPr/>
        </p:nvPicPr>
        <p:blipFill>
          <a:blip r:embed="rId1"/>
          <a:stretch/>
        </p:blipFill>
        <p:spPr>
          <a:xfrm>
            <a:off x="0" y="-2116080"/>
            <a:ext cx="9144000" cy="8424720"/>
          </a:xfrm>
          <a:prstGeom prst="rect">
            <a:avLst/>
          </a:prstGeom>
          <a:ln w="0">
            <a:noFill/>
          </a:ln>
        </p:spPr>
      </p:pic>
      <p:sp>
        <p:nvSpPr>
          <p:cNvPr id="100" name="矩形 13316"/>
          <p:cNvSpPr txBox="1"/>
          <p:nvPr/>
        </p:nvSpPr>
        <p:spPr>
          <a:xfrm>
            <a:off x="1332000" y="1197000"/>
            <a:ext cx="381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BYE~BYE~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33 L 0.125 -0.16667 L 0.158 -0.04533 L 0.249 0 L 0.158 0.04533 L 0.125 0.16667 L 0.091 0.04533 L 0 0 Z">
                                      <p:cBhvr>
                                        <p:cTn id="51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3075" descr="2004231352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3076"/>
          <p:cNvSpPr txBox="1"/>
          <p:nvPr/>
        </p:nvSpPr>
        <p:spPr>
          <a:xfrm rot="5400000">
            <a:off x="-181080" y="2349360"/>
            <a:ext cx="5113440" cy="165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用电安全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63 -0.11134 C 0.03559 -0.078 0.0967 -0.04861 0.17361 -0.04768 C 0.23455 -0.04467 0.28455 -0.06064 0.28559 -0.08078 C 0.28559 -0.10069 0.23663 -0.11944 0.17466 -0.1206 C 0.14358 -0.1206 0.11563 -0.11805 0.09566 -0.11134 C 0.06667 -0.10208 0.04966 -0.08726 0.04966 -0.0699 C 0.04966 -0.06064 0.05469 -0.05138 0.06372 -0.04328 C 0.08455 -0.02592 0.1257 -0.01412 0.17257 -0.01273 C 0.22761 -0.00995 0.27257 -0.02476 0.27257 -0.04189 C 0.27361 -0.06064 0.22865 -0.07662 0.17361 -0.07939 C 0.14566 -0.07939 0.12066 -0.07662 0.10156 -0.07129 C 0.07656 -0.06203 0.06059 -0.04768 0.06059 -0.03263 C 0.06059 -0.02476 0.06563 -0.01666 0.07361 -0.00856 C 0.09271 0.00602 0.12865 0.01806 0.1717 0.01922 C 0.2217 0.02061 0.26163 0.00718 0.26163 -0.00856 C 0.26268 -0.02476 0.22257 -0.03935 0.17257 -0.04097 C 0.14757 -0.04189 0.12466 -0.03935 0.10764 -0.03402 C 0.08455 -0.02592 0.0717 -0.01412 0.0717 0.0007 C 0.0717 0.00718 0.0757 0.01528 0.08264 0.022 C 0.09966 0.03542 0.13264 0.04607 0.17066 0.04723 C 0.21563 0.04723 0.25156 0.03635 0.25156 0.022 C 0.25156 0.00718 0.21667 -0.00601 0.1717 -0.0074 C 0.14966 -0.0074 0.12865 -0.00463 0.11372 -0.00069 C 0.09271 0.00602 0.08056 0.01806 0.07969 0.02987 C 0.07969 0.03635 0.08455 0.04329 0.09063 0.04862 C 0.10556 0.06204 0.13559 0.0713 0.16962 0.0713 C 0.20955 0.07246 0.24271 0.06343 0.24271 0.04977 C 0.24358 0.03635 0.21059 0.02477 0.17066 0.02338 C 0.1507 0.02338 0.1316 0.02477 0.11858 0.02987 C 0.09966 0.03542 0.08872 0.04607 0.08872 0.05672 C 0.08872 0.06343 0.09167 0.06852 0.09757 0.07385 C 0.11163 0.08588 0.13768 0.09399 0.16858 0.09537 C 0.20556 0.09537 0.23455 0.08727 0.23455 0.07524 C 0.23559 0.06343 0.2066 0.05255 0.16962 0.05116 C 0.15156 0.05116 0.13559 0.05255 0.12361 0.05672 C 0.1066 0.06204 0.0967 0.0713 0.0967 0.08195 C 0.0967 0.08727 0.09966 0.09144 0.10469 0.09676 C 0.11667 0.10741 0.14063 0.11389 0.16858 0.11528 C 0.20156 0.11644 0.22761 0.10857 0.22761 0.09676 C 0.22761 0.08727 0.20261 0.07639 0.16962 0.07639 C 0.15261 0.07524 0.13768 0.07778 0.12656 0.08056 C 0.11163 0.08588 0.10261 0.09399 0.10261 0.10325 C 0.10261 0.10857 0.10556 0.11274 0.11059 0.11644 C 0.1217 0.12593 0.14358 0.13264 0.16771 0.13403 C 0.19757 0.13519 0.2217 0.12732 0.2217 0.11806 C 0.2217 0.10741 0.19757 0.09931 0.16858 0.09792 C 0.15469 0.09792 0.14063 0.09931 0.13056 0.10325 C 0.11667 0.10741 0.10868 0.11389 0.10868 0.12338 C 0.10868 0.12732 0.11163 0.13125 0.11563 0.13519 C 0.1257 0.14306 0.14462 0.15 0.16771 0.15 C 0.19358 0.15139 0.21563 0.14468 0.21563 0.13519 C 0.21563 0.12732 0.19462 0.11922 0.16771 0.11922 C 0.15556 0.11806 0.14271 0.11922 0.13368 0.122 C 0.1217 0.12732 0.11459 0.13403 0.11459 0.14075 C 0.11459 0.14468 0.11667 0.14862 0.12066 0.15139 C 0.12969 0.15926 0.1467 0.16459 0.16771 0.16598 C 0.19167 0.16598 0.21059 0.15926 0.21059 0.15255 C 0.21059 0.14468 0.19167 0.13658 0.16771 0.13658 C 0.15556 0.13658 0.14462 0.13797 0.13768 0.14075 C 0.1257 0.14306 0.11962 0.15 0.11962 0.15672 C 0.11962 0.15926 0.1217 0.16343 0.12466 0.16598 C 0.13264 0.17408 0.14861 0.17801 0.16667 0.1794 C 0.18872 0.1794 0.20556 0.17408 0.20556 0.16737 C 0.20556 0.15926 0.18872 0.15394 0.16771 0.15255 C 0.1566 0.15255 0.1467 0.15394 0.13959 0.15672 C 0.12969 0.15926 0.12361 0.16459 0.12361 0.1713 C 0.12361 0.17408 0.1257 0.17662 0.12865 0.1794 E">
                                      <p:cBhvr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文本占位符 4099" descr="日常生活安全篇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5123" descr="日常生活安全篇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6147" descr="20031221657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6148"/>
          <p:cNvSpPr txBox="1"/>
          <p:nvPr/>
        </p:nvSpPr>
        <p:spPr>
          <a:xfrm>
            <a:off x="2916360" y="0"/>
            <a:ext cx="5256000" cy="11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旅游</a:t>
            </a: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.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打工和交友安全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406 0.01991 C 0.15278 0.03264 0.1908 0.03773 0.23003 0.04653 C 0.24115 0.0537 0.24688 0.06042 0.25608 0.0706 C 0.26979 0.08611 0.25347 0.06342 0.27014 0.08379 C 0.29375 0.11273 0.27795 0.09792 0.29219 0.11042 C 0.29549 0.1243 0.30486 0.13912 0.31215 0.15046 C 0.31406 0.15324 0.31597 0.15625 0.31806 0.15856 C 0.31997 0.16065 0.32413 0.16389 0.32413 0.16412 C 0.23594 0.1625 0.17326 0.15879 0.0941 0.16643 C 0.0901 0.16736 0.08611 0.16805 0.08212 0.16921 C 0.07951 0.16991 0.07413 0.17176 0.07413 0.17199 L 0.08003 0.37986 L -0.17396 0.13727 L -0.50781 0.23055 L -0.42986 0.32917 L -0.04392 0.36111 L -0.00191 0.16389 L -0.38194 0.16921 L -0.25382 0.44907 L -0.14392 0.61713 L -0.07187 0.43842 L -0.24184 0.33727 L -0.2599 0.24653 L 0.01406 0.16643 L 0.01806 0.08125 L -0.26997 0.45972 L -0.34583 0.42523 L -0.23594 0.43055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7171" descr="日常生活安全篇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8195" descr="日常生活安全篇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9219" descr="日常生活安全篇-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10243" descr="日常生活安全篇-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01:43:27Z</dcterms:created>
  <dc:creator>107000</dc:creator>
  <dc:description/>
  <dc:language>en-US</dc:language>
  <cp:lastModifiedBy>wuhan</cp:lastModifiedBy>
  <dcterms:modified xsi:type="dcterms:W3CDTF">2016-05-24T01:22:33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