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B4E-C9D2-4983-9453-2C8A2747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2B8-8392-4352-B4E5-9C03DF1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327-776D-43F7-B1A0-73651A37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2C8-861A-4996-8612-A7B3A2CF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0E6-8681-4582-88E6-7E1B92E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6D5-D13D-4127-9EC9-7C0550E5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1DE-7F20-45F3-9F64-0EDE4120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6DC6-C864-4AB3-B433-B3716F5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CD-9D3C-4EC6-A862-ECF2AB4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3A0-DE1A-441D-9986-486153F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124-1410-460B-99A7-BDD352A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D02-8232-4D67-94A7-21DB5623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04F6-D107-4D7F-B4F2-D89AB408C8A5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0" y="5907240"/>
            <a:ext cx="1979640" cy="95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by_by.avi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file:///by_qj.exe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file:///by_xi.exe" TargetMode="External"/><Relationship Id="rId4" Type="http://schemas.openxmlformats.org/officeDocument/2006/relationships/hyperlink" Target="file:///by_san.exe" TargetMode="External"/><Relationship Id="rId5" Type="http://schemas.openxmlformats.org/officeDocument/2006/relationships/hyperlink" Target="file:///by_fu.exe" TargetMode="External"/><Relationship Id="rId6" Type="http://schemas.openxmlformats.org/officeDocument/2006/relationships/hyperlink" Target="file:///by_shao.exe" TargetMode="External"/><Relationship Id="rId7" Type="http://schemas.openxmlformats.org/officeDocument/2006/relationships/hyperlink" Target="file:///by_jiang.exe" TargetMode="External"/><Relationship Id="rId8" Type="http://schemas.openxmlformats.org/officeDocument/2006/relationships/hyperlink" Target="file:///by_xian.exe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7640" y="1628640"/>
            <a:ext cx="5689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人教新课标 五年级 语文 下册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第一单元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348000" y="3213000"/>
            <a:ext cx="280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白杨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76360" y="1413000"/>
            <a:ext cx="4221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从课文的哪些地方可以看出爸爸“在表白着自己的心”？他表白了自己什么样的心愿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316872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1116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53320" y="1916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朗读课文，想一想：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565360"/>
            <a:ext cx="7391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为什么爸爸看到在一棵高大的白杨树身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边，几棵小树正迎着风沙成长起来，嘴角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浮起一丝微笑？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52480" y="2133720"/>
            <a:ext cx="7391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高大的白杨”象征着爸爸这一代的边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疆建设者，“几棵小树”象征着哥哥和妹妹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一代的边疆建设的接班人。爸爸希望自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己的子女能如小树一样经受锻炼，成为建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设边疆的栋梁之材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3640" y="1052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文小结：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1484280"/>
            <a:ext cx="7451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课文通过一位边疆建设者在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旅途中向子女介绍生长在戈壁滩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上的白杨这件事，赞扬了边疆建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设者扎根边疆、建设边疆的远大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志向和无私奉献的精神。</a:t>
            </a:r>
            <a:br>
              <a:rPr sz="2800"/>
            </a:b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908000" y="2205000"/>
            <a:ext cx="583596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课外阅读茅盾先生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白杨礼赞》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或查找有关白杨的资料，进一步了解挺立北方的白杨树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439416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105264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0360" y="3284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你见过白杨树吗？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16401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111600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rcRect l="0" t="6943" r="58005" b="50007"/>
          <a:stretch/>
        </p:blipFill>
        <p:spPr>
          <a:xfrm>
            <a:off x="2627280" y="1844640"/>
            <a:ext cx="3882960" cy="2867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30320" y="49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白 杨 树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2133720"/>
            <a:ext cx="49467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朗读课文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要求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准字音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不认识的字词查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工具书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通课文，了解课文的主要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内容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198900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74640" y="136512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84480" y="196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写写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213000"/>
            <a:ext cx="45370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清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3"/>
              </a:rPr>
              <a:t>晰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雨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4"/>
              </a:rPr>
              <a:t>伞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5"/>
              </a:rPr>
              <a:t>抚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摸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介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6"/>
              </a:rPr>
              <a:t>绍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新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7"/>
              </a:rPr>
              <a:t>疆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  <a:hlinkClick r:id="rId8"/>
              </a:rPr>
              <a:t>陷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入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58040" y="2133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朗读课文，想一想：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2924280"/>
            <a:ext cx="64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爸爸是怎样介绍白杨的？通过爸爸的介绍可以了解白杨的特点是什么？为什么说爸爸也在表白着自己的心？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47640" y="1052640"/>
            <a:ext cx="3569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白杨高大挺秀，忠诚无私，不怕困难。这些精神也正是边疆建设者们的精神。爸爸以白杨自勉，托物言志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338292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58040" y="20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朗读课文，想一想：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2924280"/>
            <a:ext cx="49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　爸爸只是向孩子们介绍白杨树吗？不是的，他也在表白着自己的心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fqun</dc:creator>
  <dc:description/>
  <dc:language>en-US</dc:language>
  <cp:lastModifiedBy>雨林木风</cp:lastModifiedBy>
  <dcterms:modified xsi:type="dcterms:W3CDTF">2009-05-21T12:17:51Z</dcterms:modified>
  <cp:revision>78</cp:revision>
  <dc:subject/>
  <dc:title>PowerPoint 演示文稿</dc:title>
</cp:coreProperties>
</file>