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3.gif" ContentType="image/gif"/>
  <Override PartName="/ppt/media/image16.jpeg" ContentType="image/jpeg"/>
  <Override PartName="/ppt/media/image17.gif" ContentType="image/gif"/>
  <Override PartName="/ppt/media/image2.jpeg" ContentType="image/jpeg"/>
  <Override PartName="/ppt/media/image14.gif" ContentType="image/gif"/>
  <Override PartName="/ppt/media/image18.png" ContentType="image/png"/>
  <Override PartName="/ppt/media/image15.gif" ContentType="image/gif"/>
  <Override PartName="/ppt/media/image4.png" ContentType="image/pn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1.jpeg" ContentType="image/jpeg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438-F01B-4FE9-B183-734CBCC5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799D-A606-4492-A5C6-753EBE19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3D7-889A-44E4-8582-E3610FF0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578-9175-4D9C-AB35-3495C0DB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CF2-8645-4C2E-B9B0-A8ECE7A8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4B3-05D8-4A56-9841-FC343208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393-0B16-46F8-804B-3CEC5B7C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1D3-B0E0-4C63-BCE1-D9833EB5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7F8-574F-4BCA-BA71-93D348AC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BC8-E73A-4C63-9E91-B98FFBF2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40A-3A92-4A8D-B865-489EB0B4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5E6-3509-4151-AD51-D4E02766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A16B-7C72-4777-98A2-FF398663A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5940360" y="1484280"/>
            <a:ext cx="2747880" cy="3729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朱自清塑像1"/>
          <p:cNvPicPr/>
          <p:nvPr/>
        </p:nvPicPr>
        <p:blipFill>
          <a:blip r:embed="rId2"/>
          <a:stretch/>
        </p:blipFill>
        <p:spPr>
          <a:xfrm>
            <a:off x="3348000" y="685800"/>
            <a:ext cx="2752920" cy="3967200"/>
          </a:xfrm>
          <a:prstGeom prst="rect">
            <a:avLst/>
          </a:prstGeom>
          <a:ln w="0">
            <a:noFill/>
          </a:ln>
        </p:spPr>
      </p:pic>
      <p:pic>
        <p:nvPicPr>
          <p:cNvPr id="43" name="矩形 2" descr=""/>
          <p:cNvPicPr/>
          <p:nvPr/>
        </p:nvPicPr>
        <p:blipFill>
          <a:blip r:embed="rId3"/>
          <a:stretch/>
        </p:blipFill>
        <p:spPr>
          <a:xfrm>
            <a:off x="425520" y="685800"/>
            <a:ext cx="300996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阅读训练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609480" y="182880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5f1a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阅读课文：用下列符号进行圈点批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80880" y="2514600"/>
            <a:ext cx="84582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划分文章部分、层次分别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双竖线、单竖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能理解的词语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横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认为用得好的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方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关键语句（或写得好的语句）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波浪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有疑问的地方，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括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问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2"/>
          <p:cNvSpPr/>
          <p:nvPr/>
        </p:nvSpPr>
        <p:spPr>
          <a:xfrm>
            <a:off x="2773440" y="33336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概括各部分大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982800" y="1211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第一部分（</a:t>
            </a: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段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982800" y="285264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第二部分（</a:t>
            </a: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990099"/>
                </a:solidFill>
                <a:latin typeface="Tahoma"/>
                <a:ea typeface="黑体"/>
              </a:rPr>
              <a:t>—</a:t>
            </a: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段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1020600" y="44830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第三部分（</a:t>
            </a:r>
            <a:r>
              <a:rPr b="1" lang="en-US" sz="2800" spc="-1" strike="noStrike">
                <a:solidFill>
                  <a:srgbClr val="990099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段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579600" y="17305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篇点题，思念父亲，最不能忘记的是他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背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579600" y="33717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忆往事，追述在车站与父亲离别情景，表现父爱子的真挚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579600" y="5003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，在泪光中再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背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抒发深切的怀念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662280" y="1770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惦记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683160" y="27687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悲凉气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700440" y="33559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铺垫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70044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刻画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700440" y="459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惜别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706920" y="55148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现背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490760" y="1752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篇设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490760" y="3718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忆往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490760" y="5451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91908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段落层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23"/>
          <p:cNvGrpSpPr/>
          <p:nvPr/>
        </p:nvGrpSpPr>
        <p:grpSpPr>
          <a:xfrm>
            <a:off x="457200" y="1752480"/>
            <a:ext cx="1090440" cy="3810240"/>
            <a:chOff x="457200" y="1752480"/>
            <a:chExt cx="1090440" cy="3810240"/>
          </a:xfrm>
        </p:grpSpPr>
        <p:sp>
          <p:nvSpPr>
            <p:cNvPr id="138" name="AutoShape 24"/>
            <p:cNvSpPr/>
            <p:nvPr/>
          </p:nvSpPr>
          <p:spPr>
            <a:xfrm>
              <a:off x="457200" y="1752480"/>
              <a:ext cx="1090440" cy="3810240"/>
            </a:xfrm>
            <a:prstGeom prst="upDownArrow">
              <a:avLst>
                <a:gd name="adj1" fmla="val 50000"/>
                <a:gd name="adj2" fmla="val 69884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5e6d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WordArt 25"/>
            <p:cNvSpPr txBox="1"/>
            <p:nvPr/>
          </p:nvSpPr>
          <p:spPr>
            <a:xfrm rot="5400000">
              <a:off x="-255600" y="3376440"/>
              <a:ext cx="2413080" cy="5364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黑体"/>
                </a:rPr>
                <a:t>父子情深</a:t>
              </a:r>
              <a:endParaRPr b="1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140" name="AutoShape 27"/>
          <p:cNvSpPr/>
          <p:nvPr/>
        </p:nvSpPr>
        <p:spPr>
          <a:xfrm>
            <a:off x="3281400" y="2941560"/>
            <a:ext cx="365040" cy="1989360"/>
          </a:xfrm>
          <a:custGeom>
            <a:avLst/>
            <a:gdLst>
              <a:gd name="textAreaLeft" fmla="*/ 233280 w 365040"/>
              <a:gd name="textAreaRight" fmla="*/ 365400 w 365040"/>
              <a:gd name="textAreaTop" fmla="*/ 55080 h 1989360"/>
              <a:gd name="textAreaBottom" fmla="*/ 1934280 h 198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8"/>
                  <a:pt x="10800" y="1915"/>
                </a:cubicBezTo>
                <a:lnTo>
                  <a:pt x="10800" y="8885"/>
                </a:lnTo>
                <a:cubicBezTo>
                  <a:pt x="10800" y="9843"/>
                  <a:pt x="5400" y="10800"/>
                  <a:pt x="0" y="10800"/>
                </a:cubicBezTo>
                <a:cubicBezTo>
                  <a:pt x="5400" y="10800"/>
                  <a:pt x="10800" y="11758"/>
                  <a:pt x="10800" y="12715"/>
                </a:cubicBezTo>
                <a:lnTo>
                  <a:pt x="10800" y="19685"/>
                </a:lnTo>
                <a:cubicBezTo>
                  <a:pt x="10800" y="2064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1"/>
          <p:cNvSpPr/>
          <p:nvPr/>
        </p:nvSpPr>
        <p:spPr>
          <a:xfrm>
            <a:off x="5742000" y="1739880"/>
            <a:ext cx="27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思念父亲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2"/>
          <p:cNvSpPr/>
          <p:nvPr/>
        </p:nvSpPr>
        <p:spPr>
          <a:xfrm>
            <a:off x="5742000" y="2790720"/>
            <a:ext cx="3046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别时家境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3"/>
          <p:cNvSpPr/>
          <p:nvPr/>
        </p:nvSpPr>
        <p:spPr>
          <a:xfrm>
            <a:off x="5778360" y="3419640"/>
            <a:ext cx="304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细心关照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5767560" y="463248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望父买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5"/>
          <p:cNvSpPr/>
          <p:nvPr/>
        </p:nvSpPr>
        <p:spPr>
          <a:xfrm>
            <a:off x="5775480" y="3998880"/>
            <a:ext cx="2589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父子分手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5775480" y="5502240"/>
            <a:ext cx="27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别后怀念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7975440" y="456084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8" descr="026"/>
          <p:cNvPicPr/>
          <p:nvPr/>
        </p:nvPicPr>
        <p:blipFill>
          <a:blip r:embed="rId1"/>
          <a:stretch/>
        </p:blipFill>
        <p:spPr>
          <a:xfrm>
            <a:off x="5119560" y="2965320"/>
            <a:ext cx="631800" cy="125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9" descr="026"/>
          <p:cNvPicPr/>
          <p:nvPr/>
        </p:nvPicPr>
        <p:blipFill>
          <a:blip r:embed="rId2"/>
          <a:stretch/>
        </p:blipFill>
        <p:spPr>
          <a:xfrm>
            <a:off x="5110200" y="3581280"/>
            <a:ext cx="631800" cy="125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0" descr="026"/>
          <p:cNvPicPr/>
          <p:nvPr/>
        </p:nvPicPr>
        <p:blipFill>
          <a:blip r:embed="rId3"/>
          <a:stretch/>
        </p:blipFill>
        <p:spPr>
          <a:xfrm>
            <a:off x="5110200" y="4097160"/>
            <a:ext cx="631800" cy="12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1" descr="026"/>
          <p:cNvPicPr/>
          <p:nvPr/>
        </p:nvPicPr>
        <p:blipFill>
          <a:blip r:embed="rId4"/>
          <a:stretch/>
        </p:blipFill>
        <p:spPr>
          <a:xfrm>
            <a:off x="5110200" y="4788000"/>
            <a:ext cx="631800" cy="125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2" descr="026"/>
          <p:cNvPicPr/>
          <p:nvPr/>
        </p:nvPicPr>
        <p:blipFill>
          <a:blip r:embed="rId5"/>
          <a:stretch/>
        </p:blipFill>
        <p:spPr>
          <a:xfrm>
            <a:off x="5110200" y="5668920"/>
            <a:ext cx="631800" cy="125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3" descr="026"/>
          <p:cNvPicPr/>
          <p:nvPr/>
        </p:nvPicPr>
        <p:blipFill>
          <a:blip r:embed="rId6"/>
          <a:stretch/>
        </p:blipFill>
        <p:spPr>
          <a:xfrm>
            <a:off x="5110200" y="1949400"/>
            <a:ext cx="631800" cy="12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4" descr="026"/>
          <p:cNvPicPr/>
          <p:nvPr/>
        </p:nvPicPr>
        <p:blipFill>
          <a:blip r:embed="rId7"/>
          <a:stretch/>
        </p:blipFill>
        <p:spPr>
          <a:xfrm>
            <a:off x="3044880" y="1967040"/>
            <a:ext cx="617400" cy="125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5" descr="026"/>
          <p:cNvPicPr/>
          <p:nvPr/>
        </p:nvPicPr>
        <p:blipFill>
          <a:blip r:embed="rId8"/>
          <a:stretch/>
        </p:blipFill>
        <p:spPr>
          <a:xfrm>
            <a:off x="3029040" y="5710320"/>
            <a:ext cx="617400" cy="127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6" descr="023"/>
          <p:cNvPicPr/>
          <p:nvPr/>
        </p:nvPicPr>
        <p:blipFill>
          <a:blip r:embed="rId9"/>
          <a:stretch/>
        </p:blipFill>
        <p:spPr>
          <a:xfrm>
            <a:off x="2154240" y="2503440"/>
            <a:ext cx="274680" cy="121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7" descr="023"/>
          <p:cNvPicPr/>
          <p:nvPr/>
        </p:nvPicPr>
        <p:blipFill>
          <a:blip r:embed="rId10"/>
          <a:stretch/>
        </p:blipFill>
        <p:spPr>
          <a:xfrm>
            <a:off x="2262240" y="4357800"/>
            <a:ext cx="2746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1320" y="331920"/>
            <a:ext cx="799452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黑体"/>
              </a:rPr>
              <a:t>背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1600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 思念父亲 点出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背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-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回忆往事 描绘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背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 思念父亲 怀念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背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7165080" y="2674800"/>
            <a:ext cx="1399320" cy="13687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  <a:ea typeface="黑体"/>
              </a:rPr>
              <a:t>线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953400" y="2095560"/>
            <a:ext cx="792000" cy="973080"/>
            <a:chOff x="6953400" y="2095560"/>
            <a:chExt cx="792000" cy="973080"/>
          </a:xfrm>
        </p:grpSpPr>
        <p:sp>
          <p:nvSpPr>
            <p:cNvPr id="162" name="Line 6"/>
            <p:cNvSpPr/>
            <p:nvPr/>
          </p:nvSpPr>
          <p:spPr>
            <a:xfrm>
              <a:off x="6953400" y="2095560"/>
              <a:ext cx="792000" cy="9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6953400" y="2095560"/>
              <a:ext cx="792000" cy="9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953400" y="3359160"/>
            <a:ext cx="792000" cy="360"/>
            <a:chOff x="6953400" y="3359160"/>
            <a:chExt cx="792000" cy="360"/>
          </a:xfrm>
        </p:grpSpPr>
        <p:sp>
          <p:nvSpPr>
            <p:cNvPr id="165" name="Line 7"/>
            <p:cNvSpPr/>
            <p:nvPr/>
          </p:nvSpPr>
          <p:spPr>
            <a:xfrm>
              <a:off x="6953400" y="33591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953400" y="3359160"/>
              <a:ext cx="79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53400" y="3673080"/>
            <a:ext cx="807840" cy="1081080"/>
            <a:chOff x="6953400" y="3673080"/>
            <a:chExt cx="807840" cy="1081080"/>
          </a:xfrm>
        </p:grpSpPr>
        <p:sp>
          <p:nvSpPr>
            <p:cNvPr id="168" name="Line 8"/>
            <p:cNvSpPr/>
            <p:nvPr/>
          </p:nvSpPr>
          <p:spPr>
            <a:xfrm flipV="1">
              <a:off x="6953400" y="3673080"/>
              <a:ext cx="807840" cy="108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 rot="10800000">
              <a:off x="6953400" y="3673080"/>
              <a:ext cx="807840" cy="10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AutoShape 9"/>
          <p:cNvSpPr/>
          <p:nvPr/>
        </p:nvSpPr>
        <p:spPr>
          <a:xfrm>
            <a:off x="517680" y="2021040"/>
            <a:ext cx="502920" cy="2733480"/>
          </a:xfrm>
          <a:custGeom>
            <a:avLst/>
            <a:gdLst>
              <a:gd name="textAreaLeft" fmla="*/ 321480 w 502920"/>
              <a:gd name="textAreaRight" fmla="*/ 503280 w 502920"/>
              <a:gd name="textAreaTop" fmla="*/ 75600 h 2733480"/>
              <a:gd name="textAreaBottom" fmla="*/ 2657880 h 27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6"/>
                  <a:pt x="10800" y="1912"/>
                </a:cubicBezTo>
                <a:lnTo>
                  <a:pt x="10800" y="8888"/>
                </a:lnTo>
                <a:cubicBezTo>
                  <a:pt x="10800" y="9844"/>
                  <a:pt x="5400" y="10800"/>
                  <a:pt x="0" y="10800"/>
                </a:cubicBezTo>
                <a:cubicBezTo>
                  <a:pt x="5400" y="10800"/>
                  <a:pt x="10800" y="11756"/>
                  <a:pt x="10800" y="12712"/>
                </a:cubicBezTo>
                <a:lnTo>
                  <a:pt x="10800" y="19688"/>
                </a:lnTo>
                <a:cubicBezTo>
                  <a:pt x="10800" y="2064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372360" y="2349360"/>
            <a:ext cx="360" cy="648000"/>
            <a:chOff x="6372360" y="2349360"/>
            <a:chExt cx="360" cy="648000"/>
          </a:xfrm>
        </p:grpSpPr>
        <p:sp>
          <p:nvSpPr>
            <p:cNvPr id="172" name="Line 10"/>
            <p:cNvSpPr/>
            <p:nvPr/>
          </p:nvSpPr>
          <p:spPr>
            <a:xfrm>
              <a:off x="6372360" y="2349360"/>
              <a:ext cx="0" cy="64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6372360" y="2349360"/>
              <a:ext cx="360" cy="6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72360" y="3727440"/>
            <a:ext cx="360" cy="647640"/>
            <a:chOff x="6372360" y="3727440"/>
            <a:chExt cx="360" cy="647640"/>
          </a:xfrm>
        </p:grpSpPr>
        <p:sp>
          <p:nvSpPr>
            <p:cNvPr id="175" name="Line 11"/>
            <p:cNvSpPr/>
            <p:nvPr/>
          </p:nvSpPr>
          <p:spPr>
            <a:xfrm>
              <a:off x="6372360" y="37274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6372360" y="3727440"/>
              <a:ext cx="3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7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8" descr="线条6"/>
          <p:cNvPicPr/>
          <p:nvPr/>
        </p:nvPicPr>
        <p:blipFill>
          <a:blip r:embed="rId1"/>
          <a:stretch/>
        </p:blipFill>
        <p:spPr>
          <a:xfrm flipH="1" rot="10800000">
            <a:off x="324000" y="980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9"/>
          <p:cNvSpPr/>
          <p:nvPr/>
        </p:nvSpPr>
        <p:spPr>
          <a:xfrm>
            <a:off x="395280" y="134136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中一共写了父亲几个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0"/>
          <p:cNvSpPr/>
          <p:nvPr/>
        </p:nvSpPr>
        <p:spPr>
          <a:xfrm>
            <a:off x="53352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21"/>
          <p:cNvSpPr/>
          <p:nvPr/>
        </p:nvSpPr>
        <p:spPr>
          <a:xfrm>
            <a:off x="7696080" y="2514600"/>
            <a:ext cx="106704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2"/>
          <p:cNvSpPr/>
          <p:nvPr/>
        </p:nvSpPr>
        <p:spPr>
          <a:xfrm>
            <a:off x="304812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23"/>
          <p:cNvSpPr/>
          <p:nvPr/>
        </p:nvSpPr>
        <p:spPr>
          <a:xfrm>
            <a:off x="548640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2286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念父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26668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52578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父子分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8"/>
          <p:cNvSpPr/>
          <p:nvPr/>
        </p:nvSpPr>
        <p:spPr>
          <a:xfrm>
            <a:off x="74674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别后怀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29" descr="箭头1"/>
          <p:cNvPicPr/>
          <p:nvPr/>
        </p:nvPicPr>
        <p:blipFill>
          <a:blip r:embed="rId3"/>
          <a:stretch/>
        </p:blipFill>
        <p:spPr>
          <a:xfrm>
            <a:off x="1905120" y="5791320"/>
            <a:ext cx="1295280" cy="263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0" descr="箭头1"/>
          <p:cNvPicPr/>
          <p:nvPr/>
        </p:nvPicPr>
        <p:blipFill>
          <a:blip r:embed="rId4"/>
          <a:stretch/>
        </p:blipFill>
        <p:spPr>
          <a:xfrm>
            <a:off x="42670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2" descr="箭头1"/>
          <p:cNvPicPr/>
          <p:nvPr/>
        </p:nvPicPr>
        <p:blipFill>
          <a:blip r:embed="rId5"/>
          <a:stretch/>
        </p:blipFill>
        <p:spPr>
          <a:xfrm>
            <a:off x="6781680" y="5791320"/>
            <a:ext cx="1295640" cy="26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09480" y="1379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本文写的主要事件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09480" y="4621320"/>
            <a:ext cx="8153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哪一次“背影”写得最具体、最感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743040" y="5315040"/>
            <a:ext cx="25146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第二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25320" y="2611440"/>
            <a:ext cx="813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课文哪两个地方着重写父亲的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矩形 1"/>
          <p:cNvSpPr/>
          <p:nvPr/>
        </p:nvSpPr>
        <p:spPr>
          <a:xfrm>
            <a:off x="1459080" y="1963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a0000"/>
                </a:solidFill>
                <a:latin typeface="黑体"/>
              </a:rPr>
              <a:t>父子浦口送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矩形 2"/>
          <p:cNvSpPr/>
          <p:nvPr/>
        </p:nvSpPr>
        <p:spPr>
          <a:xfrm>
            <a:off x="744480" y="3397320"/>
            <a:ext cx="8142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: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父亲买橘子爬月台的时候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b: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父亲送子时，下车往回走，混入人群的时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矩形 3" descr=""/>
          <p:cNvPicPr/>
          <p:nvPr/>
        </p:nvPicPr>
        <p:blipFill>
          <a:blip r:embed="rId1"/>
          <a:stretch/>
        </p:blipFill>
        <p:spPr>
          <a:xfrm>
            <a:off x="466560" y="322200"/>
            <a:ext cx="7242480" cy="7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468360" y="476280"/>
            <a:ext cx="757872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课文写了“我”几次流泪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609480" y="19162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悲哀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609480" y="333684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感动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609480" y="4869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伤心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3246480" y="2044800"/>
            <a:ext cx="4997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父亲，睹家境，想祖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3246480" y="33973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望父买橘，父子离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3246480" y="484668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现背影，泪光莹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4000" y="549360"/>
            <a:ext cx="30891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三次流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1189"/>
                </a:solidFill>
                <a:latin typeface="隶书"/>
                <a:ea typeface="隶书"/>
              </a:rPr>
              <a:t>悲哀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1189"/>
                </a:solidFill>
                <a:latin typeface="隶书"/>
                <a:ea typeface="隶书"/>
              </a:rPr>
              <a:t>感动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1189"/>
                </a:solidFill>
                <a:latin typeface="隶书"/>
                <a:ea typeface="隶书"/>
              </a:rPr>
              <a:t>伤心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462480" y="764640"/>
            <a:ext cx="5502240" cy="36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四个背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惦记背影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隶书"/>
              </a:rPr>
              <a:t>（思念父亲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刻画背影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隶书"/>
              </a:rPr>
              <a:t>（望父买橘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惜别背影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隶书"/>
              </a:rPr>
              <a:t>（父子分手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再现背影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隶书"/>
              </a:rPr>
              <a:t>（别后怀念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1422360" y="4494240"/>
            <a:ext cx="762120" cy="904680"/>
          </a:xfrm>
          <a:prstGeom prst="downArrow">
            <a:avLst>
              <a:gd name="adj1" fmla="val 50000"/>
              <a:gd name="adj2" fmla="val 29671"/>
            </a:avLst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WordArt 7"/>
          <p:cNvSpPr txBox="1"/>
          <p:nvPr/>
        </p:nvSpPr>
        <p:spPr>
          <a:xfrm>
            <a:off x="1574640" y="56386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子</a:t>
            </a:r>
            <a:endParaRPr b="0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6373800" y="4570560"/>
            <a:ext cx="762120" cy="828360"/>
          </a:xfrm>
          <a:prstGeom prst="downArrow">
            <a:avLst>
              <a:gd name="adj1" fmla="val 50000"/>
              <a:gd name="adj2" fmla="val 27168"/>
            </a:avLst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WordArt 9"/>
          <p:cNvSpPr txBox="1"/>
          <p:nvPr/>
        </p:nvSpPr>
        <p:spPr>
          <a:xfrm>
            <a:off x="6553080" y="56386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父</a:t>
            </a:r>
            <a:endParaRPr b="0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5805360"/>
            <a:ext cx="3014640" cy="293760"/>
          </a:xfrm>
          <a:prstGeom prst="leftRightArrow">
            <a:avLst>
              <a:gd name="adj1" fmla="val 50000"/>
              <a:gd name="adj2" fmla="val 205197"/>
            </a:avLst>
          </a:prstGeom>
          <a:solidFill>
            <a:srgbClr val="ccccff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WordArt 11"/>
          <p:cNvSpPr txBox="1"/>
          <p:nvPr/>
        </p:nvSpPr>
        <p:spPr>
          <a:xfrm>
            <a:off x="3348000" y="4581360"/>
            <a:ext cx="2376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fff00"/>
                    </a:gs>
                    <a:gs pos="100000">
                      <a:srgbClr val="ff00ff"/>
                    </a:gs>
                  </a:gsLst>
                  <a:lin ang="0"/>
                </a:gradFill>
                <a:latin typeface="宋体"/>
              </a:rPr>
              <a:t>父子情深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ffff00"/>
                  </a:gs>
                  <a:gs pos="100000">
                    <a:srgbClr val="ff00ff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716040" y="2136600"/>
            <a:ext cx="771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33520" y="1676520"/>
            <a:ext cx="8229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仿宋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要紧，他们去不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仿宋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买几个橘子去，你就在此地，不要走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仿宋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走了，到那边来信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仿宋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进去吧，里边没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6760" y="304920"/>
            <a:ext cx="86104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父亲送儿子上车，前后只说了四句话，请把这四句话找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04920" y="4267080"/>
            <a:ext cx="853416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　　这四句话都很简短，意思也很平常。这样简短平常的话是否缺乏感情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03200" y="52545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不是，朴素的言语中往往含有深挚的爱；平淡的话语里往往有不平静的心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句朴实而简洁的话包含着父亲怎样的深情？请具体说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8600" y="1508040"/>
            <a:ext cx="8686800" cy="16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不要紧，他们去不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父亲当时急于谋事，在生存的巨大压力之下，忧心如焚，但是儿子在他心目中高于一切，惟恐儿子路上有什么闪失，所以最后决定还是由自己亲自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04920" y="313704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我买几个橘子去。你就在此地，不要走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04920" y="3716280"/>
            <a:ext cx="8610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父亲已经把儿子送上车，已经关照得无微不至，儿子也劝父亲可以走了，而父亲还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觉得没有尽够心意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看见站上有卖橘子的，便要去给儿子买橘子。过铁道不容易，自己受点累，能让儿子受用，他是心甘情愿的。他还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生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儿子跟着出来，忘了行李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父亲的关怀真是无微不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附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7170480" y="476280"/>
            <a:ext cx="1521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背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一篇娓娓道来的文字，何以在文坛不朽？正在于它是一记情感的重锤，重重地敲击在人的心灵共鸣点上。父子亲情，深厚如山。但在这里，背影的一瞬化作了永恒，一个背影力敌万语千言的倾诉。背影，恰似一道情感的闪电，照彻千千万万颗赤子之心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6778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我走了，到那边来信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52280" y="99684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惦念路途平安，要等到儿子回到北京来信报平安，才能放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57200" y="194004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④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进去吧，里边没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28600" y="2708280"/>
            <a:ext cx="868680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走了几步就回头，可见心里还是惦记着儿子，依依不舍。又想到儿子所带的行李，叫儿子小心，什么都为儿子着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琥珀简体"/>
              </a:rPr>
              <a:t>提示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写作，要善于用朴素的语言写出深挚的感情；选材，也要善于选择那些平常而又饱含深情的素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矩形 1"/>
          <p:cNvSpPr/>
          <p:nvPr/>
        </p:nvSpPr>
        <p:spPr>
          <a:xfrm>
            <a:off x="3821040" y="319896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8694r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18900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　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写作过程中，朱自清除了写父亲买橘子看到的背影这件事情外，还写了为儿子做了哪些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738360" y="2004840"/>
            <a:ext cx="5489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照看行李      讲定价钱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送我上车      拣定座位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叮嘱儿子　　　嘱托茶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WordArt 4"/>
          <p:cNvSpPr txBox="1"/>
          <p:nvPr/>
        </p:nvSpPr>
        <p:spPr>
          <a:xfrm>
            <a:off x="557280" y="5226120"/>
            <a:ext cx="802944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写作启示：叙事要详略得当</a:t>
            </a:r>
            <a:endParaRPr b="1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5651640" y="2276640"/>
            <a:ext cx="2808000" cy="1944360"/>
          </a:xfrm>
          <a:prstGeom prst="leftArrowCallout">
            <a:avLst>
              <a:gd name="adj1" fmla="val 25002"/>
              <a:gd name="adj2" fmla="val 25000"/>
              <a:gd name="adj3" fmla="val 22037"/>
              <a:gd name="adj4" fmla="val 666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笔带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非常简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3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33" name="Group 4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234" name="Rectangle 5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6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7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237" name="Rectangle 8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9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Rectangle 10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1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2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Text Box 17"/>
          <p:cNvSpPr/>
          <p:nvPr/>
        </p:nvSpPr>
        <p:spPr>
          <a:xfrm>
            <a:off x="1403280" y="549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朱自清父亲读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背影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250920" y="1628640"/>
            <a:ext cx="874872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1928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年，我家已搬至扬州东关街仁丰里一所简陋的屋子。秋日的一天，我接到了开明书店寄赠的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背影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散文集，我手捧书本，不敢怠慢，一口气奔上二楼父亲卧室，让他老人家先睹为快。父亲已行动不便，挪到窗前，依靠在小椅上，戴上了老花眼镜，一字一句诵读着儿子的文章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背影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，只见他的手不住地颤抖，昏黄的眼珠，好像猛然放射出光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2"/>
          <p:cNvSpPr/>
          <p:nvPr/>
        </p:nvSpPr>
        <p:spPr>
          <a:xfrm>
            <a:off x="291960" y="260280"/>
            <a:ext cx="4199040" cy="1297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爱国学者朱自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4854600" y="2133720"/>
            <a:ext cx="974880" cy="3456000"/>
          </a:xfrm>
          <a:custGeom>
            <a:avLst/>
            <a:gdLst>
              <a:gd name="textAreaLeft" fmla="*/ 47520 w 974880"/>
              <a:gd name="textAreaRight" fmla="*/ 927360 w 974880"/>
              <a:gd name="textAreaTop" fmla="*/ 47520 h 3456000"/>
              <a:gd name="textAreaBottom" fmla="*/ 3408480 h 3456000"/>
            </a:gdLst>
            <a:ahLst/>
            <a:rect l="textAreaLeft" t="textAreaTop" r="textAreaRight" b="textAreaBottom"/>
            <a:pathLst>
              <a:path w="21600" h="76553">
                <a:moveTo>
                  <a:pt x="3600" y="0"/>
                </a:moveTo>
                <a:arcTo wR="3600" hR="3600" stAng="16200000" swAng="-5400000"/>
                <a:lnTo>
                  <a:pt x="0" y="72953"/>
                </a:lnTo>
                <a:arcTo wR="3600" hR="3600" stAng="10800000" swAng="-5400000"/>
                <a:lnTo>
                  <a:pt x="18000" y="76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3351240" y="2060640"/>
            <a:ext cx="1143000" cy="35290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529080"/>
              <a:gd name="textAreaBottom" fmla="*/ 3473280 h 3529080"/>
            </a:gdLst>
            <a:ahLst/>
            <a:rect l="textAreaLeft" t="textAreaTop" r="textAreaRight" b="textAreaBottom"/>
            <a:pathLst>
              <a:path w="21600" h="66677">
                <a:moveTo>
                  <a:pt x="3600" y="0"/>
                </a:moveTo>
                <a:arcTo wR="3600" hR="3600" stAng="16200000" swAng="-5400000"/>
                <a:lnTo>
                  <a:pt x="0" y="63077"/>
                </a:lnTo>
                <a:arcTo wR="3600" hR="3600" stAng="10800000" swAng="-5400000"/>
                <a:lnTo>
                  <a:pt x="18000" y="66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朱自清像1"/>
          <p:cNvPicPr/>
          <p:nvPr/>
        </p:nvPicPr>
        <p:blipFill>
          <a:blip r:embed="rId1"/>
          <a:stretch/>
        </p:blipFill>
        <p:spPr>
          <a:xfrm>
            <a:off x="684360" y="1989000"/>
            <a:ext cx="2592360" cy="3600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50" name="Picture 7" descr="朱自清塑像1"/>
          <p:cNvPicPr/>
          <p:nvPr/>
        </p:nvPicPr>
        <p:blipFill>
          <a:blip r:embed="rId2"/>
          <a:stretch/>
        </p:blipFill>
        <p:spPr>
          <a:xfrm>
            <a:off x="5961240" y="2060640"/>
            <a:ext cx="2517480" cy="3529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51" name="AutoShape 10"/>
          <p:cNvSpPr/>
          <p:nvPr/>
        </p:nvSpPr>
        <p:spPr>
          <a:xfrm flipH="1" flipV="1" rot="10800000">
            <a:off x="5061600" y="621360"/>
            <a:ext cx="3384360" cy="1150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品简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横卷形 1" descr=""/>
          <p:cNvPicPr/>
          <p:nvPr/>
        </p:nvPicPr>
        <p:blipFill>
          <a:blip r:embed="rId3"/>
          <a:stretch/>
        </p:blipFill>
        <p:spPr>
          <a:xfrm>
            <a:off x="2773440" y="5759280"/>
            <a:ext cx="374796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324000" y="333360"/>
            <a:ext cx="85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　　朱自清，原名自华，字佩弦，号秋实，原籍浙江绍兴。因三代人定居扬州，自己又毕业于当时设在扬州的江苏第八中学高中，且在扬州做过教师，故自称“扬州人”。他是现代著名的作家和学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50920" y="2205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朱自清的散文主要是叙事性和抒情性的小品文。其作品的题材可分为三个系列：一是以写社会生活抨击黑暗现实为主要内容的一组散文，代表作品有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生命价格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--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七毛钱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、二是以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背影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儿女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悼亡妇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为代表的一组散文，主要描写个人和家庭生活，表现父子、夫妻、朋友间的人伦之情，具有浓厚的人情味。第三，以写自然景物为主的一组借景抒情的小品，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绿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春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桨声灯影里的秦淮河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荷塘月色</a:t>
            </a:r>
            <a:r>
              <a:rPr b="0" lang="en-US" sz="2800" spc="-1" strike="noStrike">
                <a:solidFill>
                  <a:srgbClr val="8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800000"/>
                </a:solidFill>
                <a:latin typeface="隶书"/>
                <a:ea typeface="隶书"/>
              </a:rPr>
              <a:t>等，是其代表佳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返回次2"/>
          <p:cNvPicPr/>
          <p:nvPr/>
        </p:nvPicPr>
        <p:blipFill>
          <a:blip r:embed="rId1"/>
          <a:stretch/>
        </p:blipFill>
        <p:spPr>
          <a:xfrm>
            <a:off x="7885080" y="6237360"/>
            <a:ext cx="10288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4067280" y="620640"/>
            <a:ext cx="475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朱自清故居在今扬州城安乐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号，大门朝东。进门北向，有小院一区，内有客房两间，乃朱自清的住处。此宅二道门内，有上堂屋三间，下堂屋三间和两侧厢房，系朱自清的父母及姐妹们的住所。而今房屋保护良好，环境雅静，已列为扬州市级文物保护单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故居"/>
          <p:cNvPicPr/>
          <p:nvPr/>
        </p:nvPicPr>
        <p:blipFill>
          <a:blip r:embed="rId1"/>
          <a:stretch/>
        </p:blipFill>
        <p:spPr>
          <a:xfrm>
            <a:off x="611280" y="620640"/>
            <a:ext cx="3313080" cy="410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朱自清故居字"/>
          <p:cNvPicPr/>
          <p:nvPr/>
        </p:nvPicPr>
        <p:blipFill>
          <a:blip r:embed="rId2"/>
          <a:stretch/>
        </p:blipFill>
        <p:spPr>
          <a:xfrm>
            <a:off x="5580000" y="3789360"/>
            <a:ext cx="2911680" cy="1131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468360" y="494172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如今，朱自清故居内陈列着朱自清曾经使用过的部分家具、朱自清著作及一些实物照片，正屋内还有朱自清塑像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，朱自清故居正式对外开放，江泽民同志亲笔提写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朱自清故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挂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返回次2"/>
          <p:cNvPicPr/>
          <p:nvPr/>
        </p:nvPicPr>
        <p:blipFill>
          <a:blip r:embed="rId3"/>
          <a:stretch/>
        </p:blipFill>
        <p:spPr>
          <a:xfrm>
            <a:off x="7956720" y="6237360"/>
            <a:ext cx="102852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附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附1"/>
          <p:cNvPicPr/>
          <p:nvPr/>
        </p:nvPicPr>
        <p:blipFill>
          <a:blip r:embed="rId2"/>
          <a:stretch/>
        </p:blipFill>
        <p:spPr>
          <a:xfrm>
            <a:off x="3419640" y="1989000"/>
            <a:ext cx="1944360" cy="259416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395280" y="1197000"/>
            <a:ext cx="274320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背　　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5"/>
          <p:cNvSpPr/>
          <p:nvPr/>
        </p:nvSpPr>
        <p:spPr>
          <a:xfrm>
            <a:off x="5867280" y="2852640"/>
            <a:ext cx="274320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荷  塘  月  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6"/>
          <p:cNvSpPr/>
          <p:nvPr/>
        </p:nvSpPr>
        <p:spPr>
          <a:xfrm>
            <a:off x="324000" y="3068640"/>
            <a:ext cx="274320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7"/>
          <p:cNvSpPr/>
          <p:nvPr/>
        </p:nvSpPr>
        <p:spPr>
          <a:xfrm>
            <a:off x="395280" y="4724280"/>
            <a:ext cx="331164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浆声灯影里的秦淮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8"/>
          <p:cNvSpPr/>
          <p:nvPr/>
        </p:nvSpPr>
        <p:spPr>
          <a:xfrm>
            <a:off x="5724360" y="1268280"/>
            <a:ext cx="274320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5651640" y="4724280"/>
            <a:ext cx="274320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儿　　女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3" descr="返回次2"/>
          <p:cNvPicPr/>
          <p:nvPr/>
        </p:nvPicPr>
        <p:blipFill>
          <a:blip r:embed="rId3"/>
          <a:stretch/>
        </p:blipFill>
        <p:spPr>
          <a:xfrm>
            <a:off x="7848720" y="6172200"/>
            <a:ext cx="1028520" cy="422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6"/>
          <p:cNvSpPr/>
          <p:nvPr/>
        </p:nvSpPr>
        <p:spPr>
          <a:xfrm>
            <a:off x="348696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朱自清散文名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971640" y="47628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预习测评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468360" y="1700280"/>
            <a:ext cx="32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给加点的字注音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" name="Picture 10" descr="线条1"/>
          <p:cNvPicPr/>
          <p:nvPr/>
        </p:nvPicPr>
        <p:blipFill>
          <a:blip r:embed="rId1"/>
          <a:stretch/>
        </p:blipFill>
        <p:spPr>
          <a:xfrm>
            <a:off x="179280" y="1268280"/>
            <a:ext cx="8458200" cy="14760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6"/>
          <p:cNvGrpSpPr/>
          <p:nvPr/>
        </p:nvGrpSpPr>
        <p:grpSpPr>
          <a:xfrm>
            <a:off x="250920" y="2349360"/>
            <a:ext cx="8642160" cy="2379960"/>
            <a:chOff x="250920" y="2349360"/>
            <a:chExt cx="8642160" cy="2379960"/>
          </a:xfrm>
        </p:grpSpPr>
        <p:sp>
          <p:nvSpPr>
            <p:cNvPr id="75" name="Text Box 21"/>
            <p:cNvSpPr/>
            <p:nvPr/>
          </p:nvSpPr>
          <p:spPr>
            <a:xfrm>
              <a:off x="1317600" y="245592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xi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22"/>
            <p:cNvSpPr/>
            <p:nvPr/>
          </p:nvSpPr>
          <p:spPr>
            <a:xfrm>
              <a:off x="3375000" y="245592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sā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23"/>
            <p:cNvSpPr/>
            <p:nvPr/>
          </p:nvSpPr>
          <p:spPr>
            <a:xfrm>
              <a:off x="4586400" y="242568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chóuch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4"/>
            <p:cNvSpPr/>
            <p:nvPr/>
          </p:nvSpPr>
          <p:spPr>
            <a:xfrm>
              <a:off x="6956280" y="234936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yū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5"/>
            <p:cNvSpPr/>
            <p:nvPr/>
          </p:nvSpPr>
          <p:spPr>
            <a:xfrm>
              <a:off x="250920" y="402588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pánshā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26"/>
            <p:cNvSpPr/>
            <p:nvPr/>
          </p:nvSpPr>
          <p:spPr>
            <a:xfrm>
              <a:off x="2841480" y="402588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tu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27"/>
            <p:cNvSpPr/>
            <p:nvPr/>
          </p:nvSpPr>
          <p:spPr>
            <a:xfrm>
              <a:off x="4822920" y="401004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xi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28"/>
            <p:cNvSpPr/>
            <p:nvPr/>
          </p:nvSpPr>
          <p:spPr>
            <a:xfrm>
              <a:off x="7597800" y="394956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yí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47"/>
          <p:cNvGrpSpPr/>
          <p:nvPr/>
        </p:nvGrpSpPr>
        <p:grpSpPr>
          <a:xfrm>
            <a:off x="611280" y="2997360"/>
            <a:ext cx="7929000" cy="2549520"/>
            <a:chOff x="611280" y="2997360"/>
            <a:chExt cx="7929000" cy="2549520"/>
          </a:xfrm>
        </p:grpSpPr>
        <p:grpSp>
          <p:nvGrpSpPr>
            <p:cNvPr id="84" name="Group 29"/>
            <p:cNvGrpSpPr/>
            <p:nvPr/>
          </p:nvGrpSpPr>
          <p:grpSpPr>
            <a:xfrm>
              <a:off x="611280" y="2997360"/>
              <a:ext cx="7929000" cy="2395800"/>
              <a:chOff x="611280" y="2997360"/>
              <a:chExt cx="7929000" cy="2395800"/>
            </a:xfrm>
          </p:grpSpPr>
          <p:sp>
            <p:nvSpPr>
              <p:cNvPr id="85" name="Text Box 13"/>
              <p:cNvSpPr/>
              <p:nvPr/>
            </p:nvSpPr>
            <p:spPr>
              <a:xfrm>
                <a:off x="611280" y="3013200"/>
                <a:ext cx="151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交  卸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14"/>
              <p:cNvSpPr/>
              <p:nvPr/>
            </p:nvSpPr>
            <p:spPr>
              <a:xfrm>
                <a:off x="2876760" y="2997360"/>
                <a:ext cx="151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奔  丧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Text Box 15"/>
              <p:cNvSpPr/>
              <p:nvPr/>
            </p:nvSpPr>
            <p:spPr>
              <a:xfrm>
                <a:off x="4839840" y="2997360"/>
                <a:ext cx="1585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踌  躇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 Box 16"/>
              <p:cNvSpPr/>
              <p:nvPr/>
            </p:nvSpPr>
            <p:spPr>
              <a:xfrm>
                <a:off x="6954480" y="2997360"/>
                <a:ext cx="1585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迂  腐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 Box 17"/>
              <p:cNvSpPr/>
              <p:nvPr/>
            </p:nvSpPr>
            <p:spPr>
              <a:xfrm>
                <a:off x="611280" y="4689720"/>
                <a:ext cx="1812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蹒  跚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 Box 18"/>
              <p:cNvSpPr/>
              <p:nvPr/>
            </p:nvSpPr>
            <p:spPr>
              <a:xfrm>
                <a:off x="6954480" y="4689720"/>
                <a:ext cx="151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晶  莹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9"/>
              <p:cNvSpPr/>
              <p:nvPr/>
            </p:nvSpPr>
            <p:spPr>
              <a:xfrm>
                <a:off x="2876760" y="4689720"/>
                <a:ext cx="1585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颓  唐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20"/>
              <p:cNvSpPr/>
              <p:nvPr/>
            </p:nvSpPr>
            <p:spPr>
              <a:xfrm>
                <a:off x="4839840" y="4673880"/>
                <a:ext cx="1585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琐  屑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3" name="Picture 31" descr="标记点1"/>
            <p:cNvPicPr/>
            <p:nvPr/>
          </p:nvPicPr>
          <p:blipFill>
            <a:blip r:embed="rId2"/>
            <a:stretch/>
          </p:blipFill>
          <p:spPr>
            <a:xfrm>
              <a:off x="1576800" y="3699000"/>
              <a:ext cx="317880" cy="1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2" descr="标记点1"/>
            <p:cNvPicPr/>
            <p:nvPr/>
          </p:nvPicPr>
          <p:blipFill>
            <a:blip r:embed="rId3"/>
            <a:stretch/>
          </p:blipFill>
          <p:spPr>
            <a:xfrm>
              <a:off x="3858120" y="3699000"/>
              <a:ext cx="317880" cy="1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3" descr="标记点1"/>
            <p:cNvPicPr/>
            <p:nvPr/>
          </p:nvPicPr>
          <p:blipFill>
            <a:blip r:embed="rId4"/>
            <a:stretch/>
          </p:blipFill>
          <p:spPr>
            <a:xfrm>
              <a:off x="5050800" y="3699000"/>
              <a:ext cx="317880" cy="1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4" descr="标记点1"/>
            <p:cNvPicPr/>
            <p:nvPr/>
          </p:nvPicPr>
          <p:blipFill>
            <a:blip r:embed="rId5"/>
            <a:stretch/>
          </p:blipFill>
          <p:spPr>
            <a:xfrm>
              <a:off x="5821920" y="3699000"/>
              <a:ext cx="317880" cy="1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35" descr="标记点1"/>
            <p:cNvPicPr/>
            <p:nvPr/>
          </p:nvPicPr>
          <p:blipFill>
            <a:blip r:embed="rId6"/>
            <a:stretch/>
          </p:blipFill>
          <p:spPr>
            <a:xfrm>
              <a:off x="7165440" y="3699000"/>
              <a:ext cx="317520" cy="1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36" descr="标记点1"/>
            <p:cNvPicPr/>
            <p:nvPr/>
          </p:nvPicPr>
          <p:blipFill>
            <a:blip r:embed="rId7"/>
            <a:stretch/>
          </p:blipFill>
          <p:spPr>
            <a:xfrm>
              <a:off x="7930080" y="5375520"/>
              <a:ext cx="3178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7" descr="标记点1"/>
            <p:cNvPicPr/>
            <p:nvPr/>
          </p:nvPicPr>
          <p:blipFill>
            <a:blip r:embed="rId8"/>
            <a:stretch/>
          </p:blipFill>
          <p:spPr>
            <a:xfrm>
              <a:off x="5050800" y="5375520"/>
              <a:ext cx="3178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38" descr="标记点1"/>
            <p:cNvPicPr/>
            <p:nvPr/>
          </p:nvPicPr>
          <p:blipFill>
            <a:blip r:embed="rId9"/>
            <a:stretch/>
          </p:blipFill>
          <p:spPr>
            <a:xfrm>
              <a:off x="3027600" y="5375520"/>
              <a:ext cx="3178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39" descr="标记点1"/>
            <p:cNvPicPr/>
            <p:nvPr/>
          </p:nvPicPr>
          <p:blipFill>
            <a:blip r:embed="rId10"/>
            <a:stretch/>
          </p:blipFill>
          <p:spPr>
            <a:xfrm>
              <a:off x="1517400" y="5375520"/>
              <a:ext cx="3178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40" descr="标记点1"/>
            <p:cNvPicPr/>
            <p:nvPr/>
          </p:nvPicPr>
          <p:blipFill>
            <a:blip r:embed="rId11"/>
            <a:stretch/>
          </p:blipFill>
          <p:spPr>
            <a:xfrm>
              <a:off x="837720" y="5375520"/>
              <a:ext cx="31788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29527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积累词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8920" y="1052280"/>
            <a:ext cx="8713800" cy="55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差使：旧社会在机关里做事叫“当差”，这里指职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狼藉：乱七八糟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簌簌：纷纷落下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典质：把（财产、衣物）典当、抵押出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惨淡：凄惨暗淡，不景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勾留：短时间停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蹒跚：因为腿脚不灵便，走路缓慢摇摆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颓唐：衰颓败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踌躇：犹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情郁于中：感情积聚在心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触目伤怀：看到（家庭败落的情况）心里感到悲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09480" y="23623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这篇文章以什么为线索？ 主要写谁？  反映的主题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899720" y="380880"/>
            <a:ext cx="358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整体感知   理清文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4648320" y="1295280"/>
            <a:ext cx="1828800" cy="914400"/>
            <a:chOff x="4648320" y="1295280"/>
            <a:chExt cx="1828800" cy="914400"/>
          </a:xfrm>
        </p:grpSpPr>
        <p:sp>
          <p:nvSpPr>
            <p:cNvPr id="108" name="AutoShape 5"/>
            <p:cNvSpPr/>
            <p:nvPr/>
          </p:nvSpPr>
          <p:spPr>
            <a:xfrm>
              <a:off x="4648320" y="1295280"/>
              <a:ext cx="1828800" cy="914400"/>
            </a:xfrm>
            <a:prstGeom prst="wedgeRoundRectCallout">
              <a:avLst>
                <a:gd name="adj1" fmla="val -43750"/>
                <a:gd name="adj2" fmla="val 70000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6"/>
            <p:cNvSpPr/>
            <p:nvPr/>
          </p:nvSpPr>
          <p:spPr>
            <a:xfrm>
              <a:off x="4953240" y="1371600"/>
              <a:ext cx="121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背影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7"/>
          <p:cNvGrpSpPr/>
          <p:nvPr/>
        </p:nvGrpSpPr>
        <p:grpSpPr>
          <a:xfrm>
            <a:off x="5773680" y="3749760"/>
            <a:ext cx="2819160" cy="1066680"/>
            <a:chOff x="5773680" y="3749760"/>
            <a:chExt cx="2819160" cy="1066680"/>
          </a:xfrm>
        </p:grpSpPr>
        <p:sp>
          <p:nvSpPr>
            <p:cNvPr id="111" name="AutoShape 8"/>
            <p:cNvSpPr/>
            <p:nvPr/>
          </p:nvSpPr>
          <p:spPr>
            <a:xfrm>
              <a:off x="5773680" y="3749760"/>
              <a:ext cx="2819160" cy="1066680"/>
            </a:xfrm>
            <a:prstGeom prst="wedgeRoundRectCallout">
              <a:avLst>
                <a:gd name="adj1" fmla="val 10680"/>
                <a:gd name="adj2" fmla="val -120046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9"/>
            <p:cNvSpPr/>
            <p:nvPr/>
          </p:nvSpPr>
          <p:spPr>
            <a:xfrm>
              <a:off x="5959440" y="3932280"/>
              <a:ext cx="24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我的父亲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0"/>
          <p:cNvGrpSpPr/>
          <p:nvPr/>
        </p:nvGrpSpPr>
        <p:grpSpPr>
          <a:xfrm>
            <a:off x="1562040" y="4405320"/>
            <a:ext cx="2971800" cy="1295280"/>
            <a:chOff x="1562040" y="4405320"/>
            <a:chExt cx="2971800" cy="1295280"/>
          </a:xfrm>
        </p:grpSpPr>
        <p:sp>
          <p:nvSpPr>
            <p:cNvPr id="114" name="AutoShape 11"/>
            <p:cNvSpPr/>
            <p:nvPr/>
          </p:nvSpPr>
          <p:spPr>
            <a:xfrm>
              <a:off x="1562040" y="4405320"/>
              <a:ext cx="2971800" cy="1295280"/>
            </a:xfrm>
            <a:prstGeom prst="cloudCallout">
              <a:avLst>
                <a:gd name="adj1" fmla="val -21296"/>
                <a:gd name="adj2" fmla="val -11811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2266920" y="470196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父爱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13:23:16Z</dcterms:created>
  <dc:creator>任俊文</dc:creator>
  <dc:description/>
  <dc:language>en-US</dc:language>
  <cp:lastModifiedBy>wuhan</cp:lastModifiedBy>
  <dcterms:modified xsi:type="dcterms:W3CDTF">2016-04-18T05:14:57Z</dcterms:modified>
  <cp:revision>45</cp:revision>
  <dc:subject/>
  <dc:title>《背影》课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