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98A8-009B-4DD5-ACE0-D2C13112E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12C8-DE01-491F-A2D7-5933CF22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64DD-E5D0-48C1-A359-72DD3435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F93B-7E72-4DDA-AC68-B80C1179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9F47-72B6-4A42-B921-D0B19108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AA26-5A7A-4F36-A846-57ACC2D5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7A07-FE51-4515-B822-333C90B5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684A-4D4F-4B62-82D0-93B9C5AA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AF39-BCE0-45B3-BA5F-207084B2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396A-EE7F-41B2-84BC-D4F16A23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7817-B87F-4A4C-B015-7855DB57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3CA8-A318-48BD-907C-55864ACF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A99C-10D0-4695-8768-56B318CA4723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712(8188_8191_8192SU)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12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make 8712 USB Linux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712_8188_8191_8192SU_usb_linux_v2.6.xxxx.2010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tar zxvf</a:t>
            </a:r>
            <a:r>
              <a:rPr b="0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rtl8712_8188_8191_8192SU_usb_linux_v2.6.0006.20100601.tar.g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make 8712 USB driver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./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4) step4: insert 8712 USB mod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nsmod 8712u.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5) step5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wlan0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6) step6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art 2: Site Survey &amp; connect to AP without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albert_wang</cp:lastModifiedBy>
  <dcterms:modified xsi:type="dcterms:W3CDTF">2010-06-01T02:30:16Z</dcterms:modified>
  <cp:revision>97</cp:revision>
  <dc:subject/>
  <dc:title>投影片 1</dc:title>
</cp:coreProperties>
</file>