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1E79-7497-4292-96F2-EC474B4AD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7F48-07E8-4B08-9740-BF5DFBC3A6D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A1307E-7877-42E9-A425-95CD1740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53440E-8666-4AA8-A46C-3234C643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DBDA1F-2D56-42A7-BE7B-E0EE57B4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9E35D2-C172-47D3-B257-41CEB536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EC18C4-4DA6-4373-8708-1F8A34EE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EAB77F-296B-41F3-9C58-5F01FC12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0B3B6C-266D-4756-8785-5B367578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D73E0C-E2F6-4ACD-92DB-013E9F3E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324646-19AF-4686-A23C-158874AE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E5B22-FFEB-4139-8721-A7615308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1740-E463-4C75-AFAF-BE1F8A613D4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070EF-A2E6-4E3E-9988-D38D0211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5432A-D38A-4115-BCF5-1785AB76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29406-D3C1-479D-A3B8-E0647296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81E1D-348E-4106-888D-FCFB0F5C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07E1E-2FE0-44C6-8673-628EE51B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D9EE2-976B-44A6-80D0-826EFBBB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53F38-33E4-49AE-BBAE-E4FC3E2E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66798-1445-4FF4-8D76-823CFDB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F5947-48CE-48DF-8319-301307D4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DAE02-9E46-4B9B-9284-2F3D7700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CE4D4-4254-4C48-A4EE-1547D9D902A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89F53-D1FE-4792-BC1D-D311CE27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62E43-7086-4A01-8256-1ADCB69F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6BCBF-FE70-4CBF-AAA9-12A58363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911D8-AC82-4863-8118-7AADF5A4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A48F9-72EB-4139-A48B-A88931AF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8C6CA-CE40-4173-97E6-34729A67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81376-4633-4A53-ABA6-E1CF86C0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DA7A8-A46F-46B1-9C05-ED957547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06C12-2F18-4906-847F-BD3E345A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87D4E8-A035-4648-81A5-BD03B11D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71DB6-27D7-40CE-9C2C-26448D52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0867E9-53B0-4D0D-BCC2-A633F7F9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515F8-C2C8-4287-AA29-F73A9452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6B1B4A-8A1D-45F0-86AD-FEE93526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FEE5B6-AC36-4751-B6F0-18732DBA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858A27-14F1-4A6E-B109-3F4A1147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920A9C-A909-49BF-8B64-3269B9ED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12F316-D84C-401F-BF68-2916FF9A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C98CB3-F2DF-4FE6-B233-9D6E5A05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8E20A1-26C9-4396-BF9F-2C8E914B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DCCDD6-31EE-46FC-B41C-BE1FCEB5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A12637-6F92-4441-8FEB-EF04FB0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E437C2-2A8F-405B-8924-8FE4C0EA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5C4D66-99D0-4310-8F60-159229F3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7EA9C5-7785-44BD-B228-4214E29C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A6DEA1-B083-42DE-93F0-054339FB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ACDC2-879D-48A5-B495-9CE67B5C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15FA5-8499-47A5-B50D-641A9D1D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3C7070-2930-488E-8A3A-50A77945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8175E-CD90-4EFA-B986-E87AE622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BEA61-15F4-4359-8B9F-CD7FC4DB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ECA48-4AA0-454D-88D7-7E6E09B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9C8B9-116F-447E-9FF0-8D8B576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0A47EC-F4FA-4A8B-992B-76E81AC3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08657-A2C1-4B13-9E6B-02E81F60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019E0-7F32-407B-BF85-9361108A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9A2E79-8C51-46FE-A897-ECFE3DD5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8C65-B29B-47CA-A27D-8F0E8CC65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A9C00-48B4-414C-A8A3-11D1FBA1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9A0F9-1A1B-4754-97B1-B0702D1B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07ACC-B3D8-4591-A733-604CA5B4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24F17-134F-4A70-9E20-C2435892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DD9F7-78AB-4B25-B157-BE167821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7FA0-BDCD-42F6-82CA-8AF3709098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4241A-25FC-4098-81FE-C928B305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EB8B6-7479-4B2F-9251-ED1E0B4C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D8198-9081-40D3-A839-C883EAAE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81B20-1EE2-4EA4-942E-9DE3A8DF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35BB8-917B-471D-B477-D6078DF1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45D8D-C775-4DD4-8DF0-624F27D6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9C4FC-132B-42A6-92ED-8EBEB407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9CC99-DD2B-4735-8E16-4F1760E0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D23348-5A82-415C-A7EC-C4078158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BA777A-D584-46C7-AE1A-9F8E786A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9E37-D891-45B1-80D1-44FC14BCDB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B540C-200B-4E44-9797-DF645E8F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AE859-2000-4EFA-BE45-2B29BB6F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84750-C7A8-4986-9D94-CBE6F24F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91A95-2CC0-4958-B087-B98995D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B954A-3413-40F2-9BF4-91931086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B1E86-5531-4AFE-B109-534DC043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7CE352-1A32-44F7-BE3D-77ACACD9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F4702-E0D6-4DB7-AA44-D8FF47E3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6827A2-6005-45EA-A4E2-685925A6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9FFADC-0CA6-42DC-9F0C-28415CC0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03CA-6031-48E8-892E-EC4F144F3DB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4D8456-B5CC-4483-9ADB-B112221E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8191D-B3F8-4B11-B068-FFCE0CFC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A4E81-AF6C-4B70-B65C-8801DA5C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57CD99-633C-42DC-B14D-AA763E43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09D777-5F8A-47FC-84B7-AE4A035B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D2DED-7533-4C69-AC77-BA4E1A98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D22A6-E3C8-4A61-804F-68DC6A6E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8D976C-7F2D-41DC-ADC9-69848ED7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A5A6A-DB37-4096-845C-40253692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135D2-8B7E-47A0-B9A7-E415A406F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448F-1E4E-45DD-AF75-269902207E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5D28F-8582-420A-98C3-13284586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B9801E-4965-4B32-8DAB-C8EB7D6F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C41AE4-D929-4CC3-9833-F5E9073D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70F2D1-AFA3-4DF4-9746-CE8A1FD1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F5AE76-C806-421B-BAE3-9C4704AE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129AAD-11C4-4A83-8B52-4744445E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EC7094-5992-4E48-87AE-FA9748EB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ED4075-EA97-4855-A882-1FE514B6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EEC498-6FCD-48A0-B240-90F67020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0A32B0-A122-40EC-9E6E-4137E6BC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2FC4-8FC3-4C3C-8499-9F308C941E3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7C44CE-0965-4782-BDFF-9146532B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5C3067-75CA-4763-99FE-83B54889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B1F95-464B-4D2F-A118-7AA58237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75FD23-DB1B-46A1-9447-55B004DC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13ACE5-6E25-4210-A667-54E1F3C1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54069A-A18C-4279-851C-78CE87CF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6C0E64-05FF-40FC-9412-3A934368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7F0EC0-6DD1-403D-ABA3-7983B2DF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B4E576-A7B0-402D-86AD-5FABECB5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485A38-7A78-46DE-B755-CB38DC05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D241-CD24-418D-9D11-051720BA8D8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D4D598-1E7D-4377-8FC6-9A7C7B04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50F671-EB57-46A3-994E-6B7821E1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2B34F8-CD1F-4345-A1D2-B6A0578F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5A10C0-1B2A-40D1-9F78-576F4089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C4C490-4C44-41DE-A5EB-508509A6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0F454A-1425-4DEE-9C1C-CDA794C1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5B022F-29B8-4ED4-BDCC-A3F7C384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169554-0DA2-4823-847E-F11D07DC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BA0355-A414-4EC3-AB2B-8694BCA6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AE3F4E-13E6-4BF8-A1D8-D8BD3C57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6B0D-8B1B-467A-A160-61F575FA3D1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E4C211-36A1-4C19-B25A-E75DA2C3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F3EC02-E324-4BF3-ABA6-7AD1BAA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4131B-F3D8-4767-875B-726E211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C39CB7-0565-4ECE-8C75-9235A476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0FA01-28E6-406D-81CE-4506AE49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534D94-A6C2-4863-B2A1-0C0E71D9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9BF98C-F42D-4DAE-9B43-2224E53C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9CF3C2-B529-4438-A124-9714FB79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2373BA-C8A4-4543-B966-BDD7CFD8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F820B7-107E-4F5B-B403-8950F46C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857640" y="6286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D9CA-441D-491F-8D51-0451C31F6CE7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D88E-130B-49A3-B318-783A61140312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A636-E0BD-4CE0-9080-D57167A9A88E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4B48-15A5-4A6F-9C8A-1EF6CA582C83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682F-ABE0-4ABE-9889-44A413DFCAC0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1282-D140-4B7E-B7DA-9B85CABF983D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7"/>
          </p:nvPr>
        </p:nvSpPr>
        <p:spPr>
          <a:xfrm>
            <a:off x="642888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12C6-6357-4388-88E4-5CF0C87B4395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28CC-7ADC-4BC1-9800-60E319467BA2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8E93-EF27-4801-9272-A74EDDE0EB54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CB5F-9E7C-4D1A-946F-B23C1455C414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5F81-0885-4B52-8972-A0E97935FB07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8760" y="5786280"/>
            <a:ext cx="8286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85480" y="356760"/>
            <a:ext cx="8372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5681-A0EF-49B0-A3AB-A6683BBC929A}" type="slidenum">
              <a:rPr b="0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3714840" y="492912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286240" y="5715000"/>
            <a:ext cx="27687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灯片编号占位符 3"/>
          <p:cNvSpPr/>
          <p:nvPr/>
        </p:nvSpPr>
        <p:spPr>
          <a:xfrm>
            <a:off x="6429240" y="6350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F1FD-1ED9-40B2-98F0-BCC2574DF298}" type="slidenum">
              <a:rPr b="0" i="1" lang="zh-CN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7120" y="585792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</a:rPr>
              <a:t>模板的使用</a:t>
            </a:r>
            <a:endParaRPr b="0" lang="en-US" sz="28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357120" y="714240"/>
            <a:ext cx="820728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Box 3"/>
          <p:cNvSpPr/>
          <p:nvPr/>
        </p:nvSpPr>
        <p:spPr>
          <a:xfrm>
            <a:off x="285840" y="64296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9"/>
          <p:cNvSpPr/>
          <p:nvPr/>
        </p:nvSpPr>
        <p:spPr>
          <a:xfrm>
            <a:off x="3714840" y="5286240"/>
            <a:ext cx="450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581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583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xym148</dc:creator>
  <dc:description/>
  <cp:keywords>lxym148</cp:keywords>
  <dc:language>en-US</dc:language>
  <cp:lastModifiedBy>内酷PPT</cp:lastModifiedBy>
  <dcterms:modified xsi:type="dcterms:W3CDTF">2011-06-18T01:52:46Z</dcterms:modified>
  <cp:revision>9</cp:revision>
  <dc:subject>lxym148</dc:subject>
  <dc:title>RESUME</dc:title>
</cp:coreProperties>
</file>