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8E4-1959-4CBB-9351-E5C6C152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60D-D63A-4AE7-9340-81C594E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ACC-441B-439F-8C1F-50C19ADC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8292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08948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27636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518292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08948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22D-0915-4FCC-8997-67F3C0F3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E339-D0B7-4C64-8787-8127E471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AC4C-3756-422B-9C30-C664699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680B-F614-42DB-98CF-8EB2498C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FA41-197B-40E5-9CB0-5850AE7B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1B4-D2F1-44FE-8B1D-AD879043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76360" y="2130120"/>
            <a:ext cx="5638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4BE6-ACF3-4527-A0D0-39C0305D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0A2-A75B-404B-9423-A453EDCF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308-DA0E-48E6-9594-009E7128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C533-1DF5-4849-B095-352AB7E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756A-809D-4AED-8964-FC9F8B31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C70C-546B-4175-8F42-E2699C48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40B5-7C8B-41DB-A475-B42C65DF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8292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089480" y="457200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7636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518292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089480" y="4850640"/>
            <a:ext cx="1815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6C03-1AD5-4261-B7E6-06DFD6E5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3895-4F84-4671-8984-75D514B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EC0-E55E-430F-928B-0A0A93F2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177D-7AC1-4E25-8374-8DC1FD26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276360" y="2130120"/>
            <a:ext cx="563868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A57-B205-4F46-8AEE-DBD829B3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770-B663-4AB1-86FA-067FB47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65720" y="485064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7AA-45CA-4E8B-9C97-1F24357D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7636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65720" y="4572000"/>
            <a:ext cx="275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76360" y="4850640"/>
            <a:ext cx="5638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A2B-9C3A-4201-874C-B2818492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14c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14c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851280" y="0"/>
            <a:ext cx="4463640" cy="836280"/>
            <a:chOff x="3851280" y="0"/>
            <a:chExt cx="4463640" cy="836280"/>
          </a:xfrm>
        </p:grpSpPr>
        <p:sp>
          <p:nvSpPr>
            <p:cNvPr id="7" name="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8868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2130120"/>
            <a:ext cx="5638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371-A505-411A-A4DA-D10EF5D537A9}" type="slidenum">
              <a:rPr b="0" lang="zh-CN" sz="1400" spc="-1" strike="noStrike">
                <a:solidFill>
                  <a:srgbClr val="fefefe"/>
                </a:solidFill>
                <a:latin typeface="Times New Roman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b5b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175b5b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5b5b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175b5b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5b5b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175b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>微软用户</dc:creator>
  <dc:description/>
  <dc:language>en-US</dc:language>
  <cp:lastModifiedBy>USER</cp:lastModifiedBy>
  <dcterms:modified xsi:type="dcterms:W3CDTF">2010-05-09T13:44:19Z</dcterms:modified>
  <cp:revision>3</cp:revision>
  <dc:subject/>
  <dc:title>论文名称</dc:title>
</cp:coreProperties>
</file>