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2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5280" y="3873600"/>
            <a:ext cx="8352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05264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5280" y="387360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960" y="387360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2689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19480" y="1052640"/>
            <a:ext cx="2689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43320" y="1052640"/>
            <a:ext cx="2689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5280" y="3873600"/>
            <a:ext cx="2689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19480" y="3873600"/>
            <a:ext cx="2689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43320" y="3873600"/>
            <a:ext cx="26892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95280" y="1052640"/>
            <a:ext cx="8352000" cy="540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835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75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960" y="1052640"/>
            <a:ext cx="4075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960" y="1052640"/>
            <a:ext cx="4075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95280" y="387360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755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05264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960" y="387360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052640"/>
            <a:ext cx="407556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5280" y="3873600"/>
            <a:ext cx="8352000" cy="257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395280" y="1052640"/>
            <a:ext cx="8352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3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qycn.com/kf" TargetMode="External"/><Relationship Id="rId2" Type="http://schemas.openxmlformats.org/officeDocument/2006/relationships/hyperlink" Target="http://www.qycn.com/kf" TargetMode="External"/><Relationship Id="rId3" Type="http://schemas.openxmlformats.org/officeDocument/2006/relationships/hyperlink" Target="http://www.qycn.com/kf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" descr=""/>
          <p:cNvPicPr/>
          <p:nvPr/>
        </p:nvPicPr>
        <p:blipFill>
          <a:blip r:embed="rId1"/>
          <a:stretch/>
        </p:blipFill>
        <p:spPr>
          <a:xfrm>
            <a:off x="2484360" y="5516640"/>
            <a:ext cx="4286160" cy="666720"/>
          </a:xfrm>
          <a:prstGeom prst="rect">
            <a:avLst/>
          </a:prstGeom>
          <a:ln w="0">
            <a:noFill/>
          </a:ln>
        </p:spPr>
      </p:pic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1620720" y="981000"/>
            <a:ext cx="5688000" cy="1522440"/>
          </a:xfrm>
          <a:prstGeom prst="rect">
            <a:avLst/>
          </a:prstGeom>
          <a:ln w="0">
            <a:noFill/>
          </a:ln>
        </p:spPr>
      </p:pic>
      <p:sp>
        <p:nvSpPr>
          <p:cNvPr id="41" name=""/>
          <p:cNvSpPr/>
          <p:nvPr/>
        </p:nvSpPr>
        <p:spPr>
          <a:xfrm>
            <a:off x="3348000" y="2565360"/>
            <a:ext cx="489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9385f"/>
                </a:solidFill>
                <a:latin typeface="微软雅黑"/>
                <a:ea typeface="微软雅黑"/>
              </a:rPr>
              <a:t>专业在线客服软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d9e1e3">
              <a:alpha val="7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3789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微软雅黑"/>
                <a:ea typeface="微软雅黑"/>
              </a:rPr>
              <a:t>新版客服工作台使用指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96080" cy="42386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5435640" y="2492280"/>
            <a:ext cx="2808360" cy="21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圆角矩形标注 21"/>
          <p:cNvSpPr/>
          <p:nvPr/>
        </p:nvSpPr>
        <p:spPr>
          <a:xfrm>
            <a:off x="1692360" y="2131920"/>
            <a:ext cx="3384360" cy="865440"/>
          </a:xfrm>
          <a:prstGeom prst="wedgeRoundRectCallout">
            <a:avLst>
              <a:gd name="adj1" fmla="val 58347"/>
              <a:gd name="adj2" fmla="val 8898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话过程中，客服人员双击预先设置好的常用语，即可快速回复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辅助对话：常用语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1628640"/>
            <a:ext cx="107964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2484360" y="2781360"/>
            <a:ext cx="2952720" cy="201600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55640" y="1773360"/>
            <a:ext cx="7677000" cy="41716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227640" y="1700280"/>
            <a:ext cx="1224000" cy="4334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七、辅助对话：常用文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4643280" y="2349360"/>
            <a:ext cx="649440" cy="13669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5640" y="3718080"/>
            <a:ext cx="3887640" cy="287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标注 21"/>
          <p:cNvSpPr/>
          <p:nvPr/>
        </p:nvSpPr>
        <p:spPr>
          <a:xfrm>
            <a:off x="2700360" y="1197000"/>
            <a:ext cx="3095640" cy="863640"/>
          </a:xfrm>
          <a:prstGeom prst="wedgeRoundRectCallout">
            <a:avLst>
              <a:gd name="adj1" fmla="val 60717"/>
              <a:gd name="adj2" fmla="val 36398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管理员可在后台设置一些常用的资料，可供所有客服使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292720" y="2205000"/>
            <a:ext cx="3095640" cy="287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圆角矩形标注 21"/>
          <p:cNvSpPr/>
          <p:nvPr/>
        </p:nvSpPr>
        <p:spPr>
          <a:xfrm>
            <a:off x="5364000" y="3068640"/>
            <a:ext cx="3240360" cy="1728720"/>
          </a:xfrm>
          <a:prstGeom prst="wedgeRoundRectCallout">
            <a:avLst>
              <a:gd name="adj1" fmla="val -2277"/>
              <a:gd name="adj2" fmla="val -80027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话过程中，客服人员双击预先设置好的常用文件，或选中常用文单击图标“   ”，即可快速把相关资料发送给客户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237440" y="4087800"/>
            <a:ext cx="142920" cy="1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55640" y="1628640"/>
            <a:ext cx="7658280" cy="4191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八、辅助对话：访客轨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219640" y="1785960"/>
            <a:ext cx="3276720" cy="4103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圆角矩形标注 21"/>
          <p:cNvSpPr/>
          <p:nvPr/>
        </p:nvSpPr>
        <p:spPr>
          <a:xfrm>
            <a:off x="1258920" y="3586320"/>
            <a:ext cx="3527280" cy="1655640"/>
          </a:xfrm>
          <a:prstGeom prst="wedgeRoundRectCallout">
            <a:avLst>
              <a:gd name="adj1" fmla="val 62287"/>
              <a:gd name="adj2" fmla="val -47125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话过程中，客服人员可以实时查看访客的活动轨迹，也可以查看其历史浏览页面情况，快速把握客户关注的信息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39640" y="1757520"/>
            <a:ext cx="8153640" cy="469584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九、进入后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268360" y="1685880"/>
            <a:ext cx="1151280" cy="503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圆角矩形标注 21"/>
          <p:cNvSpPr/>
          <p:nvPr/>
        </p:nvSpPr>
        <p:spPr>
          <a:xfrm>
            <a:off x="2484360" y="3054240"/>
            <a:ext cx="3382920" cy="1295640"/>
          </a:xfrm>
          <a:prstGeom prst="wedgeRoundRectCallout">
            <a:avLst>
              <a:gd name="adj1" fmla="val -59055"/>
              <a:gd name="adj2" fmla="val -36518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管理人员可进入后台设置客服人员、装扮客服窗口等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标注 21"/>
          <p:cNvSpPr/>
          <p:nvPr/>
        </p:nvSpPr>
        <p:spPr>
          <a:xfrm>
            <a:off x="3348000" y="1109520"/>
            <a:ext cx="1297080" cy="505080"/>
          </a:xfrm>
          <a:prstGeom prst="wedgeRoundRectCallout">
            <a:avLst>
              <a:gd name="adj1" fmla="val -44615"/>
              <a:gd name="adj2" fmla="val 85222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后台入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4360" y="2478240"/>
            <a:ext cx="1439640" cy="201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645000"/>
            <a:ext cx="9144000" cy="3213000"/>
          </a:xfrm>
          <a:prstGeom prst="rect">
            <a:avLst/>
          </a:prstGeom>
          <a:solidFill>
            <a:srgbClr val="d9e1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843280" y="1844640"/>
            <a:ext cx="3673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9385f"/>
                </a:solidFill>
                <a:latin typeface="Arial"/>
                <a:ea typeface="微软雅黑"/>
              </a:rPr>
              <a:t>谢谢观看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4076640"/>
            <a:ext cx="61214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385f"/>
                </a:solidFill>
                <a:latin typeface="微软雅黑"/>
                <a:ea typeface="微软雅黑"/>
              </a:rPr>
              <a:t>广东群英网络有限公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385f"/>
                </a:solidFill>
                <a:latin typeface="微软雅黑"/>
                <a:ea typeface="微软雅黑"/>
              </a:rPr>
              <a:t>联系电话：</a:t>
            </a:r>
            <a:r>
              <a:rPr b="1" lang="en-US" sz="2400" spc="-1" strike="noStrike">
                <a:solidFill>
                  <a:srgbClr val="09385f"/>
                </a:solidFill>
                <a:latin typeface="微软雅黑"/>
                <a:ea typeface="微软雅黑"/>
              </a:rPr>
              <a:t>020-3888 881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385f"/>
                </a:solidFill>
                <a:latin typeface="微软雅黑"/>
                <a:ea typeface="微软雅黑"/>
              </a:rPr>
              <a:t>传真：</a:t>
            </a:r>
            <a:r>
              <a:rPr b="1" lang="en-US" sz="2400" spc="-1" strike="noStrike">
                <a:solidFill>
                  <a:srgbClr val="09385f"/>
                </a:solidFill>
                <a:latin typeface="微软雅黑"/>
                <a:ea typeface="微软雅黑"/>
              </a:rPr>
              <a:t>020 - 3888 8819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6165720"/>
            <a:ext cx="60120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9385f"/>
                </a:solidFill>
                <a:latin typeface="微软雅黑"/>
                <a:ea typeface="微软雅黑"/>
              </a:rPr>
              <a:t>更多信息：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1"/>
              </a:rPr>
              <a:t>CC</a:t>
            </a:r>
            <a:r>
              <a:rPr b="0" lang="zh-CN" sz="1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2"/>
              </a:rPr>
              <a:t>客服官方网站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微软雅黑"/>
                <a:ea typeface="微软雅黑"/>
                <a:hlinkClick r:id="rId3"/>
              </a:rPr>
              <a:t>http://www.qycn.com/k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139920"/>
            <a:ext cx="4897440" cy="32497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2770200" y="1916280"/>
            <a:ext cx="1657440" cy="288720"/>
            <a:chOff x="2770200" y="1916280"/>
            <a:chExt cx="1657440" cy="288720"/>
          </a:xfrm>
        </p:grpSpPr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2770200" y="1917720"/>
              <a:ext cx="16574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2986200" y="1916280"/>
              <a:ext cx="287280" cy="2887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"/>
          <p:cNvGrpSpPr/>
          <p:nvPr/>
        </p:nvGrpSpPr>
        <p:grpSpPr>
          <a:xfrm>
            <a:off x="466560" y="907920"/>
            <a:ext cx="4537080" cy="865080"/>
            <a:chOff x="466560" y="907920"/>
            <a:chExt cx="4537080" cy="865080"/>
          </a:xfrm>
        </p:grpSpPr>
        <p:sp>
          <p:nvSpPr>
            <p:cNvPr id="49" name="圆角矩形标注 21"/>
            <p:cNvSpPr/>
            <p:nvPr/>
          </p:nvSpPr>
          <p:spPr>
            <a:xfrm>
              <a:off x="466560" y="907920"/>
              <a:ext cx="4537080" cy="865080"/>
            </a:xfrm>
            <a:prstGeom prst="wedgeRoundRectCallout">
              <a:avLst>
                <a:gd name="adj1" fmla="val -3814"/>
                <a:gd name="adj2" fmla="val 76606"/>
                <a:gd name="adj3" fmla="val 16667"/>
              </a:avLst>
            </a:prstGeom>
            <a:solidFill>
              <a:srgbClr val="09385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登录成功后，具有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C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服权限的用户，右下角任务栏中会出现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C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服的小图标     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3924000" y="1412640"/>
              <a:ext cx="192240" cy="192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"/>
          <p:cNvGrpSpPr/>
          <p:nvPr/>
        </p:nvGrpSpPr>
        <p:grpSpPr>
          <a:xfrm>
            <a:off x="466560" y="2205000"/>
            <a:ext cx="2016000" cy="792360"/>
            <a:chOff x="466560" y="2205000"/>
            <a:chExt cx="2016000" cy="792360"/>
          </a:xfrm>
        </p:grpSpPr>
        <p:sp>
          <p:nvSpPr>
            <p:cNvPr id="52" name="圆角矩形标注 21"/>
            <p:cNvSpPr/>
            <p:nvPr/>
          </p:nvSpPr>
          <p:spPr>
            <a:xfrm>
              <a:off x="466560" y="2205000"/>
              <a:ext cx="2016000" cy="792360"/>
            </a:xfrm>
            <a:prstGeom prst="wedgeRoundRectCallout">
              <a:avLst>
                <a:gd name="adj1" fmla="val -2046"/>
                <a:gd name="adj2" fmla="val 66032"/>
                <a:gd name="adj3" fmla="val 16667"/>
              </a:avLst>
            </a:prstGeom>
            <a:solidFill>
              <a:srgbClr val="09385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双击小图标     即可打开客服工作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1725480" y="2373480"/>
              <a:ext cx="191880" cy="191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"/>
          <p:cNvSpPr/>
          <p:nvPr/>
        </p:nvSpPr>
        <p:spPr>
          <a:xfrm>
            <a:off x="4067280" y="2421000"/>
            <a:ext cx="431640" cy="504720"/>
          </a:xfrm>
          <a:prstGeom prst="downArrow">
            <a:avLst>
              <a:gd name="adj1" fmla="val 32352"/>
              <a:gd name="adj2" fmla="val 4764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6084720" y="907920"/>
            <a:ext cx="2808360" cy="5524560"/>
            <a:chOff x="6084720" y="907920"/>
            <a:chExt cx="2808360" cy="5524560"/>
          </a:xfrm>
        </p:grpSpPr>
        <p:pic>
          <p:nvPicPr>
            <p:cNvPr id="56" name="" descr=""/>
            <p:cNvPicPr/>
            <p:nvPr/>
          </p:nvPicPr>
          <p:blipFill>
            <a:blip r:embed="rId5"/>
            <a:stretch/>
          </p:blipFill>
          <p:spPr>
            <a:xfrm>
              <a:off x="6084720" y="907920"/>
              <a:ext cx="2476800" cy="552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6805440" y="3290760"/>
              <a:ext cx="1224000" cy="50508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圆角矩形标注 21"/>
            <p:cNvSpPr/>
            <p:nvPr/>
          </p:nvSpPr>
          <p:spPr>
            <a:xfrm>
              <a:off x="6372360" y="4371840"/>
              <a:ext cx="2520720" cy="1297080"/>
            </a:xfrm>
            <a:prstGeom prst="wedgeRoundRectCallout">
              <a:avLst>
                <a:gd name="adj1" fmla="val -5606"/>
                <a:gd name="adj2" fmla="val -75337"/>
                <a:gd name="adj3" fmla="val 16667"/>
              </a:avLst>
            </a:prstGeom>
            <a:solidFill>
              <a:srgbClr val="09385f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6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若任务栏中找不到小图标     ，可点击以上按钮启动</a:t>
              </a:r>
              <a:r>
                <a:rPr b="1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CC</a:t>
              </a:r>
              <a:r>
                <a:rPr b="1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客服工作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" name="" descr=""/>
            <p:cNvPicPr/>
            <p:nvPr/>
          </p:nvPicPr>
          <p:blipFill>
            <a:blip r:embed="rId6"/>
            <a:stretch/>
          </p:blipFill>
          <p:spPr>
            <a:xfrm>
              <a:off x="6877080" y="4948200"/>
              <a:ext cx="191880" cy="1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6084720" y="2139840"/>
              <a:ext cx="360360" cy="358920"/>
            </a:xfrm>
            <a:prstGeom prst="rect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4920" y="765000"/>
            <a:ext cx="91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新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CC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客服工作台，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监控、对话、辅助对话等，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客服接待访客提供支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95280" y="1292400"/>
            <a:ext cx="8388360" cy="55656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1557360"/>
            <a:ext cx="8353440" cy="1728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圆角矩形标注 21"/>
          <p:cNvSpPr/>
          <p:nvPr/>
        </p:nvSpPr>
        <p:spPr>
          <a:xfrm>
            <a:off x="5508720" y="1700280"/>
            <a:ext cx="2016000" cy="792000"/>
          </a:xfrm>
          <a:prstGeom prst="wedgeRoundRectCallout">
            <a:avLst>
              <a:gd name="adj1" fmla="val -41101"/>
              <a:gd name="adj2" fmla="val -65430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站访客监控区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3357720"/>
            <a:ext cx="5761080" cy="3500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圆角矩形标注 21"/>
          <p:cNvSpPr/>
          <p:nvPr/>
        </p:nvSpPr>
        <p:spPr>
          <a:xfrm>
            <a:off x="3348000" y="5734080"/>
            <a:ext cx="2016000" cy="792000"/>
          </a:xfrm>
          <a:prstGeom prst="wedgeRoundRectCallout">
            <a:avLst>
              <a:gd name="adj1" fmla="val -42361"/>
              <a:gd name="adj2" fmla="val -73449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整合式对话区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084720" y="3357720"/>
            <a:ext cx="2664000" cy="3500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圆角矩形标注 21"/>
          <p:cNvSpPr/>
          <p:nvPr/>
        </p:nvSpPr>
        <p:spPr>
          <a:xfrm>
            <a:off x="4500720" y="4365720"/>
            <a:ext cx="2016000" cy="792000"/>
          </a:xfrm>
          <a:prstGeom prst="wedgeRoundRectCallout">
            <a:avLst>
              <a:gd name="adj1" fmla="val 47717"/>
              <a:gd name="adj2" fmla="val -75050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辅助对话区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1341360"/>
            <a:ext cx="7467480" cy="4896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611280" y="2779560"/>
            <a:ext cx="1225440" cy="289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556000" y="2781360"/>
            <a:ext cx="5095800" cy="39052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11280" y="1557360"/>
            <a:ext cx="1225440" cy="719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圆角矩形标注 21"/>
          <p:cNvSpPr/>
          <p:nvPr/>
        </p:nvSpPr>
        <p:spPr>
          <a:xfrm>
            <a:off x="2124000" y="1628640"/>
            <a:ext cx="2016360" cy="792360"/>
          </a:xfrm>
          <a:prstGeom prst="wedgeRoundRectCallout">
            <a:avLst>
              <a:gd name="adj1" fmla="val -61888"/>
              <a:gd name="adj2" fmla="val -36171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设置客服在线状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908000" y="2781360"/>
            <a:ext cx="649440" cy="288720"/>
          </a:xfrm>
          <a:prstGeom prst="rightArrow">
            <a:avLst>
              <a:gd name="adj1" fmla="val 50000"/>
              <a:gd name="adj2" fmla="val 56234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21"/>
          <p:cNvSpPr/>
          <p:nvPr/>
        </p:nvSpPr>
        <p:spPr>
          <a:xfrm>
            <a:off x="250920" y="3357720"/>
            <a:ext cx="2016000" cy="792000"/>
          </a:xfrm>
          <a:prstGeom prst="wedgeRoundRectCallout">
            <a:avLst>
              <a:gd name="adj1" fmla="val -2046"/>
              <a:gd name="adj2" fmla="val -77856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可在此设置是否启用各类消息提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765000"/>
            <a:ext cx="86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、系统设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二、邀请对话与直接对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1292400"/>
            <a:ext cx="8388360" cy="55656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524720" y="2492280"/>
            <a:ext cx="1224000" cy="289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圆角矩形标注 21"/>
          <p:cNvSpPr/>
          <p:nvPr/>
        </p:nvSpPr>
        <p:spPr>
          <a:xfrm>
            <a:off x="3132000" y="1413000"/>
            <a:ext cx="4680000" cy="792000"/>
          </a:xfrm>
          <a:prstGeom prst="wedgeRoundRectCallout">
            <a:avLst>
              <a:gd name="adj1" fmla="val 48675"/>
              <a:gd name="adj2" fmla="val 82064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服人员可以实时监控到进入网站的访客，单击按钮即可对其发起手动邀请或直接对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26920" y="1773360"/>
            <a:ext cx="6886800" cy="4267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三、各类消息提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2060640"/>
            <a:ext cx="287280" cy="1224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圆角矩形标注 21"/>
          <p:cNvSpPr/>
          <p:nvPr/>
        </p:nvSpPr>
        <p:spPr>
          <a:xfrm>
            <a:off x="826920" y="3502080"/>
            <a:ext cx="1944720" cy="431640"/>
          </a:xfrm>
          <a:prstGeom prst="wedgeRoundRectCallout">
            <a:avLst>
              <a:gd name="adj1" fmla="val 39796"/>
              <a:gd name="adj2" fmla="val -98162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各类消息提醒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755640" y="1270080"/>
            <a:ext cx="1728720" cy="276480"/>
            <a:chOff x="755640" y="1270080"/>
            <a:chExt cx="1728720" cy="276480"/>
          </a:xfrm>
        </p:grpSpPr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755640" y="1341360"/>
              <a:ext cx="14292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971280" y="127008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示访客请求对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8" name=""/>
          <p:cNvGrpSpPr/>
          <p:nvPr/>
        </p:nvGrpSpPr>
        <p:grpSpPr>
          <a:xfrm>
            <a:off x="2556000" y="1268280"/>
            <a:ext cx="1728720" cy="276480"/>
            <a:chOff x="2556000" y="1268280"/>
            <a:chExt cx="1728720" cy="276480"/>
          </a:xfrm>
        </p:grpSpPr>
        <p:pic>
          <p:nvPicPr>
            <p:cNvPr id="89" name="" descr=""/>
            <p:cNvPicPr/>
            <p:nvPr/>
          </p:nvPicPr>
          <p:blipFill>
            <a:blip r:embed="rId3"/>
            <a:stretch/>
          </p:blipFill>
          <p:spPr>
            <a:xfrm>
              <a:off x="2556000" y="1326960"/>
              <a:ext cx="142920" cy="13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2771640" y="1268280"/>
              <a:ext cx="151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示有未读消息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300720" y="1268280"/>
            <a:ext cx="2736720" cy="276480"/>
            <a:chOff x="6300720" y="1268280"/>
            <a:chExt cx="2736720" cy="276480"/>
          </a:xfrm>
        </p:grpSpPr>
        <p:pic>
          <p:nvPicPr>
            <p:cNvPr id="92" name="" descr=""/>
            <p:cNvPicPr/>
            <p:nvPr/>
          </p:nvPicPr>
          <p:blipFill>
            <a:blip r:embed="rId4"/>
            <a:stretch/>
          </p:blipFill>
          <p:spPr>
            <a:xfrm>
              <a:off x="6300720" y="1326960"/>
              <a:ext cx="15228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6516360" y="1268280"/>
              <a:ext cx="2521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示其他客服转交访客给你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4284720" y="1268280"/>
            <a:ext cx="2376360" cy="276480"/>
            <a:chOff x="4284720" y="1268280"/>
            <a:chExt cx="2376360" cy="276480"/>
          </a:xfrm>
        </p:grpSpPr>
        <p:pic>
          <p:nvPicPr>
            <p:cNvPr id="95" name="" descr=""/>
            <p:cNvPicPr/>
            <p:nvPr/>
          </p:nvPicPr>
          <p:blipFill>
            <a:blip r:embed="rId5"/>
            <a:stretch/>
          </p:blipFill>
          <p:spPr>
            <a:xfrm>
              <a:off x="4284720" y="1326960"/>
              <a:ext cx="133200" cy="1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4500360" y="1268280"/>
              <a:ext cx="2160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示访客发送了文件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82520" y="1217520"/>
            <a:ext cx="8658360" cy="5667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249800" y="1722600"/>
            <a:ext cx="4714920" cy="44766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666880" y="3594240"/>
            <a:ext cx="1224000" cy="431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890880" y="3666960"/>
            <a:ext cx="358920" cy="289080"/>
          </a:xfrm>
          <a:prstGeom prst="rightArrow">
            <a:avLst>
              <a:gd name="adj1" fmla="val 50000"/>
              <a:gd name="adj2" fmla="val 31040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圆角矩形标注 21"/>
          <p:cNvSpPr/>
          <p:nvPr/>
        </p:nvSpPr>
        <p:spPr>
          <a:xfrm>
            <a:off x="179280" y="2060640"/>
            <a:ext cx="3889440" cy="1224000"/>
          </a:xfrm>
          <a:prstGeom prst="wedgeRoundRectCallout">
            <a:avLst>
              <a:gd name="adj1" fmla="val 37263"/>
              <a:gd name="adj2" fmla="val 76976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话过程中，系统可自动收集访客手机、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QQ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、邮箱等信息；客服人员还可随时查看或编辑访客名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四、查看或编辑访客名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5080" y="1217520"/>
            <a:ext cx="8658000" cy="5667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4122720" y="2874960"/>
            <a:ext cx="4714920" cy="3657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330720" y="4025880"/>
            <a:ext cx="360360" cy="36036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62360" y="4098960"/>
            <a:ext cx="358920" cy="288720"/>
          </a:xfrm>
          <a:prstGeom prst="rightArrow">
            <a:avLst>
              <a:gd name="adj1" fmla="val 50000"/>
              <a:gd name="adj2" fmla="val 31079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圆角矩形标注 21"/>
          <p:cNvSpPr/>
          <p:nvPr/>
        </p:nvSpPr>
        <p:spPr>
          <a:xfrm>
            <a:off x="468360" y="2852640"/>
            <a:ext cx="3456000" cy="865440"/>
          </a:xfrm>
          <a:prstGeom prst="wedgeRoundRectCallout">
            <a:avLst>
              <a:gd name="adj1" fmla="val 38837"/>
              <a:gd name="adj2" fmla="val 86148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对话过程中，可随时把正在接待的访客转给其他客服人员跟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五、转接客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696080" cy="42386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5292720" y="2565360"/>
            <a:ext cx="1224000" cy="287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765000"/>
            <a:ext cx="864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六、辅助对话：常用语（</a:t>
            </a: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791720" y="1412640"/>
            <a:ext cx="2929680" cy="3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3480" rIns="0" tIns="6192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常用语主要分为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微软雅黑"/>
              </a:rPr>
              <a:t>公用常用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和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  <a:ea typeface="微软雅黑"/>
              </a:rPr>
              <a:t>个人常用语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圆角矩形标注 21"/>
          <p:cNvSpPr/>
          <p:nvPr/>
        </p:nvSpPr>
        <p:spPr>
          <a:xfrm>
            <a:off x="1187280" y="2492280"/>
            <a:ext cx="3816360" cy="865440"/>
          </a:xfrm>
          <a:prstGeom prst="wedgeRoundRectCallout">
            <a:avLst>
              <a:gd name="adj1" fmla="val 57402"/>
              <a:gd name="adj2" fmla="val 8898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个人常用语：各客服人员可在客服端对话窗口中设置自己使用的常用语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395280" y="3789360"/>
            <a:ext cx="4191120" cy="28576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292720" y="5950080"/>
            <a:ext cx="2303640" cy="2872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571640" y="5300640"/>
            <a:ext cx="863640" cy="64944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292720" y="3500280"/>
            <a:ext cx="1224000" cy="28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圆角矩形标注 21"/>
          <p:cNvSpPr/>
          <p:nvPr/>
        </p:nvSpPr>
        <p:spPr>
          <a:xfrm>
            <a:off x="6300720" y="3933720"/>
            <a:ext cx="2519280" cy="1295640"/>
          </a:xfrm>
          <a:prstGeom prst="wedgeRoundRectCallout">
            <a:avLst>
              <a:gd name="adj1" fmla="val -40421"/>
              <a:gd name="adj2" fmla="val -70833"/>
              <a:gd name="adj3" fmla="val 16667"/>
            </a:avLst>
          </a:prstGeom>
          <a:solidFill>
            <a:srgbClr val="09385f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公用常用语：即管理员在后台设置常用语，可供所有客服使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6T02:16:52Z</dcterms:created>
  <dc:creator>MC SYSTEM</dc:creator>
  <dc:description/>
  <cp:keywords/>
  <dc:language>en-US</dc:language>
  <cp:lastModifiedBy>yangdongcai</cp:lastModifiedBy>
  <dcterms:modified xsi:type="dcterms:W3CDTF">2013-12-20T08:09:39Z</dcterms:modified>
  <cp:revision>11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05</vt:lpwstr>
  </property>
</Properties>
</file>