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D0FC4-949B-4842-B951-605AD107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87A22-DDCD-4E4C-AD1A-88457835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2A1B4-D99F-4E74-86AA-08D18BA4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16090-3C1D-4644-B9A3-93C8267D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96132-FC95-46D9-90B7-8550CC20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36E44-434C-4A5B-AFFA-1321FF25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F595B-6CB8-4671-940F-065532D4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4C3FD-2181-4BB8-9B79-D6BF50695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A43D2-4FAD-4C7F-873B-C72A0E0A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BC195-072C-4C61-918D-0AFA33D7B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69635-5D73-4829-8755-4AB793A6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324A9-77D1-4526-B8A9-06C6C04E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7112D-842A-4502-97EB-0AFC0F6C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4F1FC-F0A6-43BA-9A1C-21951B30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BCDDB-D50C-42F8-AB99-ED9EBEF7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1CED7-EC52-44A9-BA9F-F7FD694D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0D21D-41E3-4549-96CB-0301D0E6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D714D-A326-4BCD-9992-77B9B7A8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C13B5-D7F1-46CB-A0E9-D1240FD4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3EA45-0670-4A37-B9C3-E870E51F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12201-C238-4855-8198-9645B55D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FB734-18D1-47F4-A658-CE4C6DC33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AFE2D-7E37-4B55-9A0C-F94AE2FF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DA24F-98D7-4B90-B0E1-428ABB01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345A8-99BA-4277-A22C-01D08EED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021C1-B081-4727-8D57-0E9CEA1E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74FFE-9881-4BA2-9354-7ED7B7C0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1F660-5078-4155-BC5C-B3B6F2C8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D5233-6C9A-423F-B3A6-5B26E9C4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CD945-295F-495F-8339-96121D17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6FAB-40E8-4A3F-BD40-D5C457889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C50D7-6A1E-4A42-B2EA-D3FD42FF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8B2FF-9781-4329-8D8A-1625E686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9B410-114A-485E-B568-0B3D0812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78FCB1-1610-439E-869F-BCACD012A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7FF1DB-D5C9-4B84-95BC-BCB27901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FDE1FF-5760-44B0-AB0E-55B5351A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BC347-348A-4A24-B219-D75CF278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2E0FD-B466-4A03-846C-90BC56D3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FDDE6B-363D-4F20-A316-6026F14B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C4F0D-CBF7-4A38-9A9F-747F4903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03B6-A8C1-4636-9ECB-424AE432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6EB13-616E-493C-8419-E46D0C6A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D6C79-9835-4C58-9BB7-8A6218E8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5785F-6D73-4C78-A951-DD766024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F88AC-3140-4252-A594-DFEB53E3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37C4C-CB34-4D9F-967F-8FD4E66C5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4261D-4739-492D-A091-55AC556DA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0944D-6384-448C-9B43-2DD99BF6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E1529-238E-45E1-B034-137FE895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0BD14-1D2C-4BFB-9E96-349FA627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2004A-0CDC-4F6B-9043-45BF6FDF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3113-AEF3-4C80-80EF-F84EFDAF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86BEC-7531-4AA8-9156-4B61BEC3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5795B-723A-4723-B80D-CE8298F8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5D15B-0A2E-4C72-AF0F-2F561ECD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C575A-08CB-41C5-A996-6200EDCB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2F77C-BF86-47ED-BFEF-B6EF4E73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B97A4-C8FD-41E9-901B-1638E3E1B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4DD56-1768-4D2E-8412-2B6B69F25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6A42F-E373-456F-BBB2-1CEC11D7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36DC7-2DA6-4B58-A6A0-F0974968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306B4-B7B1-4D2A-8CE6-28E3CDD8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9534-F613-41E3-AD16-C154CA4F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8B601D-3948-45F3-BE23-08BA3A45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2AABC-6973-4F8A-A8F3-BBC901BD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E3214A-C560-4592-9514-D1016E35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25CA40-C2C7-473C-B7DE-5558BC82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9A18C-D151-428A-B7A4-AE4A43C2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9E796-7A67-4D75-A35A-78F282CF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696E2-85C9-4B06-8D9D-67CEFA22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7315E-C548-413D-882E-7B0D5F50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B5A2A0-E65D-4B08-923E-46011223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29CD-007E-4E85-831D-9EF0D09F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9FB2-99A8-41D9-8674-D7B270D7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E27D-B820-429A-82BC-4F07B417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1EC5-A948-4471-AD96-407D7901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11DE-670C-4C5E-9157-7B133E3A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F56E-170B-4E5F-B40C-A13111AB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1876-2BDC-40C7-8613-EB73C0F92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9CB1-E9E7-4884-B0B0-FCDD7327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545B-7FA4-4305-8DD6-395C68DEB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ECD1-3530-4FB1-9448-3ECA7B24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6E81-22EF-424C-9C91-6BE4A600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1235-07FA-4C7F-AE68-3988A082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25AC-DA63-46E7-A2D7-334BE102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681C-64F7-4FB1-8C08-CDD45E3D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6CC4-EABA-43C5-9CF4-38C81A33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2413-989A-49CC-A368-C980C023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6B16-12DC-4D9F-8E18-2B97D7AB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AE89-E4CF-4F59-A83E-BDB0F895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6F26-7A98-4037-824D-0BD5C5DA3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73C3-AAF7-4F90-B5C2-DB7B7B0F1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003A3-1599-479C-B167-53FCA952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D46A7-D1FA-4DCC-868D-79ABA9A0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351FD-41EF-4955-A748-3A3B1BCD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931CE-13CA-4BC3-9DA7-4258C371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74914-045D-41DC-8E5F-B473520D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5E4A5-9054-4693-AD68-87A4FF85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A54C5-565A-400F-BB9C-345356A0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1889A-7905-4EB0-95C6-599F1F47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D353D-DF5C-43B4-956C-2490D151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64F8B-E4AE-4168-939F-D62E4273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14A8D-6E98-430A-BAA3-8CD79B077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5FA20-0973-4382-AB58-025061149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CAC40-BC0E-40BB-9774-8462DA11D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6185F-FBE7-46BF-AC74-7439AE47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07E8A-F9CA-440E-B739-C552037B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0502F-E13A-49FB-8231-AD8590DD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143EC-2A55-40BC-90D7-78DE682D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E2D7B-63A5-4EA3-AE64-E3F20E2A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F48B6-6A08-4CA6-A39D-A3447AB9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734FA-814E-4423-9E8F-CE51F110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9EC02-9480-4231-AC49-8D0A4A95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AAEA1-9296-44CA-AE4A-A7E91AB4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FB79D-5030-48CE-BF55-93AC391C1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041C9-FEC4-4A64-850E-BC62AEE87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7B157-87F2-4C77-AEFF-4F853DB17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99406-6680-4C12-B835-70C17543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423AD-8DB2-4DDA-8F42-9C6DE1B5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992F6-F70E-4317-8A1B-6896AAA8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F94F1-850D-4F2B-8918-A031B603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928E3-5977-4DAA-880A-17BFF895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8ACE9-F722-4518-9B89-D29867F1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4D4D2-6DC8-4B26-8798-26AE29CF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BFADB-811E-47F4-B99C-06AF7D22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B3A86-8998-4022-AEC9-43A4DE99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46B4C-2D7D-42DF-9084-54E9469EE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8A635-F2AF-4AC8-8054-C165D6BB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5DE9E-442C-4EEC-AAAE-A87AEAA15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0A730-2319-4A89-A76E-1F8737F6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E8F49-B0EA-43BD-A118-E136FB22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AECE8-33B4-40A5-AFEA-C6F7DAA5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A6E3A-A7CD-4BF6-B6F9-71EA5356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2DD33-C510-4735-8BD1-094E3E91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0631E-4237-4484-BE67-B9FB2594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22AE0-1768-46DA-954A-A2DC9142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C2681-9075-4219-9B1E-FFED4D92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499C4-858E-4F10-B396-87F7D226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7647F-9E22-4A67-8E2B-0B5580D92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6AC12-9F73-4DBC-92CE-5067D22F2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9030B-85E2-4E7E-B2C6-EDF1BA355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C2287-9E10-44C3-96A0-996D19DB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A38D4-509C-437E-B1AF-6FF20425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流程图: 可选过程 1025"/>
          <p:cNvSpPr/>
          <p:nvPr/>
        </p:nvSpPr>
        <p:spPr>
          <a:xfrm>
            <a:off x="0" y="304920"/>
            <a:ext cx="9144000" cy="990360"/>
          </a:xfrm>
          <a:prstGeom prst="flowChartAlternateProcess">
            <a:avLst/>
          </a:prstGeom>
          <a:gradFill rotWithShape="0">
            <a:gsLst>
              <a:gs pos="0">
                <a:srgbClr val="ffe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新月形 1026"/>
          <p:cNvSpPr/>
          <p:nvPr/>
        </p:nvSpPr>
        <p:spPr>
          <a:xfrm rot="10800000">
            <a:off x="0" y="1447920"/>
            <a:ext cx="1905120" cy="320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510" y="614"/>
                  <a:pt x="3420" y="5080"/>
                  <a:pt x="3420" y="10800"/>
                </a:cubicBezTo>
                <a:cubicBezTo>
                  <a:pt x="3420" y="16520"/>
                  <a:pt x="12510" y="2098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2ff8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新月形 1027"/>
          <p:cNvSpPr/>
          <p:nvPr/>
        </p:nvSpPr>
        <p:spPr>
          <a:xfrm rot="10800000">
            <a:off x="0" y="685800"/>
            <a:ext cx="1676520" cy="541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29" y="656"/>
                  <a:pt x="3658" y="5080"/>
                  <a:pt x="3658" y="10800"/>
                </a:cubicBezTo>
                <a:cubicBezTo>
                  <a:pt x="3658" y="16520"/>
                  <a:pt x="12629" y="209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新月形 1028"/>
          <p:cNvSpPr/>
          <p:nvPr/>
        </p:nvSpPr>
        <p:spPr>
          <a:xfrm rot="10800000">
            <a:off x="0" y="1295280"/>
            <a:ext cx="1219320" cy="373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769" y="706"/>
                  <a:pt x="3937" y="5080"/>
                  <a:pt x="3937" y="10800"/>
                </a:cubicBezTo>
                <a:cubicBezTo>
                  <a:pt x="3937" y="16520"/>
                  <a:pt x="12769" y="2089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流程图: 可选过程 1029"/>
          <p:cNvSpPr/>
          <p:nvPr/>
        </p:nvSpPr>
        <p:spPr>
          <a:xfrm>
            <a:off x="1752480" y="1600200"/>
            <a:ext cx="7020000" cy="4495680"/>
          </a:xfrm>
          <a:prstGeom prst="flowChartAlternateProcess">
            <a:avLst/>
          </a:prstGeom>
          <a:solidFill>
            <a:srgbClr val="ffcc9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0DC9-386C-4B9E-8A7C-FAD4301913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BC51-90D4-493B-BD9B-E4AD044F98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72D4-1B14-417C-BCA0-E1F17FA062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82B0-6B14-44EA-B6E9-353CD8B180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9C92-C9E8-41EA-B030-1012112A76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58A9-D940-4AE0-9273-C0682F1213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流程图: 可选过程 2049"/>
          <p:cNvSpPr/>
          <p:nvPr/>
        </p:nvSpPr>
        <p:spPr>
          <a:xfrm>
            <a:off x="0" y="2590920"/>
            <a:ext cx="9144000" cy="1218960"/>
          </a:xfrm>
          <a:prstGeom prst="flowChartAlternateProcess">
            <a:avLst/>
          </a:prstGeom>
          <a:gradFill rotWithShape="0">
            <a:gsLst>
              <a:gs pos="0">
                <a:srgbClr val="ffd9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新月形 2050"/>
          <p:cNvSpPr/>
          <p:nvPr/>
        </p:nvSpPr>
        <p:spPr>
          <a:xfrm rot="10800000">
            <a:off x="0" y="1447920"/>
            <a:ext cx="1905120" cy="320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510" y="614"/>
                  <a:pt x="3420" y="5080"/>
                  <a:pt x="3420" y="10800"/>
                </a:cubicBezTo>
                <a:cubicBezTo>
                  <a:pt x="3420" y="16520"/>
                  <a:pt x="12510" y="2098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2ff8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新月形 2051"/>
          <p:cNvSpPr/>
          <p:nvPr/>
        </p:nvSpPr>
        <p:spPr>
          <a:xfrm rot="10800000">
            <a:off x="0" y="685800"/>
            <a:ext cx="1676520" cy="541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29" y="656"/>
                  <a:pt x="3658" y="5080"/>
                  <a:pt x="3658" y="10800"/>
                </a:cubicBezTo>
                <a:cubicBezTo>
                  <a:pt x="3658" y="16520"/>
                  <a:pt x="12629" y="209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新月形 2052"/>
          <p:cNvSpPr/>
          <p:nvPr/>
        </p:nvSpPr>
        <p:spPr>
          <a:xfrm rot="10800000">
            <a:off x="0" y="1295280"/>
            <a:ext cx="1219320" cy="373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769" y="706"/>
                  <a:pt x="3937" y="5080"/>
                  <a:pt x="3937" y="10800"/>
                </a:cubicBezTo>
                <a:cubicBezTo>
                  <a:pt x="3937" y="16520"/>
                  <a:pt x="12769" y="2089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9ABA-11A9-4ACB-8E5D-517F1048C0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2F09-D379-497F-A950-6861010C20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E423-3A92-4044-A14F-4E7E8C4592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E69F-E7D9-4A9B-840D-9D7515C9A7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4518-5ED5-4304-9765-1CA8AB5A90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399C-6256-4635-89A2-CEF29DE573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264,5,&#8212;&#8212;&#20102;&#35299;&#21592;&#24037;&#20351;&#29992;&#30005;&#33041;&#26102;&#27491;&#22312;&#20570;&#20160;&#20040;&#12290;" TargetMode="External"/><Relationship Id="rId2" Type="http://schemas.openxmlformats.org/officeDocument/2006/relationships/hyperlink" Target="265,6,&#8212;&#8212;&#20102;&#35299;&#21592;&#24037;&#20570;&#36807;&#20160;&#20040;&#65292;&#20197;&#20415;&#32771;&#23519;&#12290;" TargetMode="External"/><Relationship Id="rId3" Type="http://schemas.openxmlformats.org/officeDocument/2006/relationships/hyperlink" Target="266,7,&#8212;&#8212;&#35753;&#21592;&#24037;&#19978;&#29677;&#26102;&#38388;&#21482;&#33021;&#20570;&#19982;&#24037;&#20316;&#30456;&#20851;&#30340;&#20107;&#24773;&#65292;&#25552;&#39640;&#24037;&#20316;&#25928;&#29575;&#12290;" TargetMode="External"/><Relationship Id="rId4" Type="http://schemas.openxmlformats.org/officeDocument/2006/relationships/hyperlink" Target="274,8,&#31995;&#32479;&#21629;&#20196;&#65306;&#x0d;&#36828;&#31243;&#23545;&#21592;&#24037;&#31471;&#36827;&#34892;&#20851;&#26426;&#12289;&#37325;&#21551;&#12289;&#27880;&#38144;&#31561;&#25805;&#20316;&#65307;&#21521;&#36873;&#20013;&#21592;&#24037;&#31471;&#21457;&#36865;&#24191;&#25773;&#28040;&#24687;&#12290;" TargetMode="External"/><Relationship Id="rId5" Type="http://schemas.openxmlformats.org/officeDocument/2006/relationships/hyperlink" Target="275,9,&#33258;&#23450;&#20041;&#25253;&#35686;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超  级  眼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副标题 5122" descr=""/>
          <p:cNvPicPr/>
          <p:nvPr/>
        </p:nvPicPr>
        <p:blipFill>
          <a:blip r:embed="rId1"/>
          <a:stretch/>
        </p:blipFill>
        <p:spPr>
          <a:xfrm>
            <a:off x="1371600" y="3809880"/>
            <a:ext cx="64785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7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产品优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流程图: 可选过程 5"/>
          <p:cNvSpPr/>
          <p:nvPr/>
        </p:nvSpPr>
        <p:spPr>
          <a:xfrm rot="5400000">
            <a:off x="4909320" y="1111680"/>
            <a:ext cx="382320" cy="151128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文本框 2"/>
          <p:cNvSpPr/>
          <p:nvPr/>
        </p:nvSpPr>
        <p:spPr>
          <a:xfrm>
            <a:off x="4703040" y="1676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产品优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组合 7"/>
          <p:cNvGrpSpPr/>
          <p:nvPr/>
        </p:nvGrpSpPr>
        <p:grpSpPr>
          <a:xfrm>
            <a:off x="3124080" y="2133720"/>
            <a:ext cx="3834000" cy="228600"/>
            <a:chOff x="3124080" y="2133720"/>
            <a:chExt cx="3834000" cy="228600"/>
          </a:xfrm>
        </p:grpSpPr>
        <p:sp>
          <p:nvSpPr>
            <p:cNvPr id="674" name="左中括号 6"/>
            <p:cNvSpPr/>
            <p:nvPr/>
          </p:nvSpPr>
          <p:spPr>
            <a:xfrm rot="5400000">
              <a:off x="5002920" y="406800"/>
              <a:ext cx="76320" cy="383400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320 h 3834000"/>
                <a:gd name="textAreaBottom" fmla="*/ 3829680 h 38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5"/>
                    <a:pt x="0" y="50"/>
                  </a:cubicBezTo>
                  <a:lnTo>
                    <a:pt x="0" y="21550"/>
                  </a:lnTo>
                  <a:cubicBezTo>
                    <a:pt x="0" y="21575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直接连接符 14"/>
            <p:cNvSpPr/>
            <p:nvPr/>
          </p:nvSpPr>
          <p:spPr>
            <a:xfrm>
              <a:off x="5060520" y="2133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直接连接符 3"/>
            <p:cNvSpPr/>
            <p:nvPr/>
          </p:nvSpPr>
          <p:spPr>
            <a:xfrm>
              <a:off x="5600880" y="2286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直接连接符 4"/>
            <p:cNvSpPr/>
            <p:nvPr/>
          </p:nvSpPr>
          <p:spPr>
            <a:xfrm>
              <a:off x="4200480" y="2286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文本框 8"/>
          <p:cNvSpPr/>
          <p:nvPr/>
        </p:nvSpPr>
        <p:spPr>
          <a:xfrm>
            <a:off x="2746080" y="2476440"/>
            <a:ext cx="6066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隐蔽性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被控端毫无察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9"/>
          <p:cNvSpPr/>
          <p:nvPr/>
        </p:nvSpPr>
        <p:spPr>
          <a:xfrm>
            <a:off x="3828960" y="2514600"/>
            <a:ext cx="60660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功能全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安全稳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10"/>
          <p:cNvSpPr/>
          <p:nvPr/>
        </p:nvSpPr>
        <p:spPr>
          <a:xfrm>
            <a:off x="5337000" y="2514600"/>
            <a:ext cx="6066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支持多种电脑系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硬件要求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文本框 11"/>
          <p:cNvSpPr/>
          <p:nvPr/>
        </p:nvSpPr>
        <p:spPr>
          <a:xfrm>
            <a:off x="6632280" y="2562120"/>
            <a:ext cx="6066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耐心的售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贴心的售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12"/>
          <p:cNvSpPr/>
          <p:nvPr/>
        </p:nvSpPr>
        <p:spPr>
          <a:xfrm>
            <a:off x="4343400" y="685800"/>
            <a:ext cx="410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为什么选择超级眼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右弧形箭头 15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6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应用范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2"/>
          <p:cNvSpPr/>
          <p:nvPr/>
        </p:nvSpPr>
        <p:spPr>
          <a:xfrm>
            <a:off x="5181480" y="685800"/>
            <a:ext cx="33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我们能用吗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右弧形箭头 5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2"/>
          <p:cNvSpPr/>
          <p:nvPr/>
        </p:nvSpPr>
        <p:spPr>
          <a:xfrm>
            <a:off x="4191120" y="3124080"/>
            <a:ext cx="1450800" cy="1121040"/>
          </a:xfrm>
          <a:prstGeom prst="ellipse">
            <a:avLst/>
          </a:prstGeom>
          <a:solidFill>
            <a:srgbClr val="cecee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文本框 3"/>
          <p:cNvSpPr/>
          <p:nvPr/>
        </p:nvSpPr>
        <p:spPr>
          <a:xfrm>
            <a:off x="4343400" y="3505320"/>
            <a:ext cx="11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Arial"/>
                <a:ea typeface="宋体"/>
              </a:rPr>
              <a:t>超级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11"/>
          <p:cNvSpPr/>
          <p:nvPr/>
        </p:nvSpPr>
        <p:spPr>
          <a:xfrm>
            <a:off x="1981080" y="2286000"/>
            <a:ext cx="131616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12"/>
          <p:cNvSpPr/>
          <p:nvPr/>
        </p:nvSpPr>
        <p:spPr>
          <a:xfrm>
            <a:off x="4191120" y="914400"/>
            <a:ext cx="131580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私营企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13"/>
          <p:cNvSpPr/>
          <p:nvPr/>
        </p:nvSpPr>
        <p:spPr>
          <a:xfrm>
            <a:off x="6553080" y="2438280"/>
            <a:ext cx="131616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14"/>
          <p:cNvSpPr/>
          <p:nvPr/>
        </p:nvSpPr>
        <p:spPr>
          <a:xfrm>
            <a:off x="5943600" y="4800600"/>
            <a:ext cx="131616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椭圆 15"/>
          <p:cNvSpPr/>
          <p:nvPr/>
        </p:nvSpPr>
        <p:spPr>
          <a:xfrm>
            <a:off x="2590920" y="4724280"/>
            <a:ext cx="131580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政府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行政单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右箭头 16"/>
          <p:cNvSpPr/>
          <p:nvPr/>
        </p:nvSpPr>
        <p:spPr>
          <a:xfrm rot="7880400">
            <a:off x="3891240" y="4523400"/>
            <a:ext cx="471600" cy="43164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右箭头 17"/>
          <p:cNvSpPr/>
          <p:nvPr/>
        </p:nvSpPr>
        <p:spPr>
          <a:xfrm rot="11703600">
            <a:off x="3399840" y="3101400"/>
            <a:ext cx="471240" cy="43308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右箭头 18"/>
          <p:cNvSpPr/>
          <p:nvPr/>
        </p:nvSpPr>
        <p:spPr>
          <a:xfrm rot="16200000">
            <a:off x="4705920" y="2379960"/>
            <a:ext cx="468360" cy="43200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右箭头 19"/>
          <p:cNvSpPr/>
          <p:nvPr/>
        </p:nvSpPr>
        <p:spPr>
          <a:xfrm rot="20425800">
            <a:off x="6001920" y="3114360"/>
            <a:ext cx="471600" cy="43164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右箭头 20"/>
          <p:cNvSpPr/>
          <p:nvPr/>
        </p:nvSpPr>
        <p:spPr>
          <a:xfrm rot="2928600">
            <a:off x="5645160" y="4522680"/>
            <a:ext cx="471600" cy="4334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12"/>
          <p:cNvSpPr/>
          <p:nvPr/>
        </p:nvSpPr>
        <p:spPr>
          <a:xfrm>
            <a:off x="6950160" y="2819520"/>
            <a:ext cx="60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台资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外资企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13"/>
          <p:cNvSpPr/>
          <p:nvPr/>
        </p:nvSpPr>
        <p:spPr>
          <a:xfrm>
            <a:off x="6317640" y="5181480"/>
            <a:ext cx="60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学校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教育机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14"/>
          <p:cNvSpPr/>
          <p:nvPr/>
        </p:nvSpPr>
        <p:spPr>
          <a:xfrm>
            <a:off x="2279160" y="27432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国有企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椭圆 4"/>
          <p:cNvSpPr/>
          <p:nvPr/>
        </p:nvSpPr>
        <p:spPr>
          <a:xfrm>
            <a:off x="4724280" y="5334120"/>
            <a:ext cx="658800" cy="609480"/>
          </a:xfrm>
          <a:prstGeom prst="ellipse">
            <a:avLst/>
          </a:prstGeom>
          <a:solidFill>
            <a:srgbClr val="ceceef"/>
          </a:solidFill>
          <a:ln w="12600">
            <a:solidFill>
              <a:srgbClr val="cece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椭圆 6"/>
          <p:cNvSpPr/>
          <p:nvPr/>
        </p:nvSpPr>
        <p:spPr>
          <a:xfrm>
            <a:off x="4952880" y="4495680"/>
            <a:ext cx="76320" cy="76320"/>
          </a:xfrm>
          <a:prstGeom prst="ellipse">
            <a:avLst/>
          </a:prstGeom>
          <a:solidFill>
            <a:srgbClr val="ceceef"/>
          </a:solidFill>
          <a:ln w="25560">
            <a:solidFill>
              <a:srgbClr val="cece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椭圆 7"/>
          <p:cNvSpPr/>
          <p:nvPr/>
        </p:nvSpPr>
        <p:spPr>
          <a:xfrm>
            <a:off x="4952880" y="4952880"/>
            <a:ext cx="152640" cy="152640"/>
          </a:xfrm>
          <a:prstGeom prst="ellipse">
            <a:avLst/>
          </a:prstGeom>
          <a:solidFill>
            <a:srgbClr val="ceceef"/>
          </a:solidFill>
          <a:ln w="25560">
            <a:solidFill>
              <a:srgbClr val="cece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74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成功客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2"/>
          <p:cNvSpPr/>
          <p:nvPr/>
        </p:nvSpPr>
        <p:spPr>
          <a:xfrm>
            <a:off x="4952880" y="685800"/>
            <a:ext cx="392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选择超级眼 选择成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文本框 3"/>
          <p:cNvSpPr/>
          <p:nvPr/>
        </p:nvSpPr>
        <p:spPr>
          <a:xfrm>
            <a:off x="2209680" y="1981080"/>
            <a:ext cx="28130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宜兴市国税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扬州联通线缆电器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金华鼎鑫汽车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如皋市金陵化工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泰山玻璃纤维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重庆建设雅马哈摩托车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北京中研信息咨询管理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沈阳索华电子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廊坊菊龙五金磨具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天津赛象科技股份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三方集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豪州万福房地产经营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东省清远灵龙房地产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省博宇电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北京金三航科技发展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永康般若进出口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辽宁省锦州中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4"/>
          <p:cNvSpPr/>
          <p:nvPr/>
        </p:nvSpPr>
        <p:spPr>
          <a:xfrm>
            <a:off x="5715000" y="2057400"/>
            <a:ext cx="29923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成都正力佳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海顺商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重庆吉力芸峰实业集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建省大宏电子开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今天计算机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安市速达计算机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烟台市质量技术监督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泰电子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山东科瑞石油装备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方根数码微控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中央储备粮济南直属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鼎成信息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徐州市铜山供电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佛山市高明福家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山东威海光威集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杭州中软安人网络通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28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成功客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文本框 2"/>
          <p:cNvSpPr/>
          <p:nvPr/>
        </p:nvSpPr>
        <p:spPr>
          <a:xfrm>
            <a:off x="5105520" y="762120"/>
            <a:ext cx="348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选择超级眼 选择成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4"/>
          <p:cNvSpPr/>
          <p:nvPr/>
        </p:nvSpPr>
        <p:spPr>
          <a:xfrm>
            <a:off x="2057400" y="2286000"/>
            <a:ext cx="30481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建永强永强岩土工程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市铭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华北制药集团动物保健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大连威兰德国际物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赢政工艺制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海安县精诚电子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宁波长丰热电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北京市中国航空信息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锐众软件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重庆亚通集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江苏东光微电子股份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余姚舜政电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天津市通告高压泵制造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银兆网络科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建同盛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5"/>
          <p:cNvSpPr/>
          <p:nvPr/>
        </p:nvSpPr>
        <p:spPr>
          <a:xfrm>
            <a:off x="5257800" y="2286000"/>
            <a:ext cx="33498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金信知识产权代理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佳易计算机科技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中科同向科技（北京）有限责任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宁波海曙中启网络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重庆赢山倍科贸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常州武进亚星卫生用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恒策投资咨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中国科技大学产学研基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建泉州市通典文化传播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嘉兴市伊清网络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易材数码图文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大连威兰德国际物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天津天讯成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六度设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宁波华力电脑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6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成功客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2"/>
          <p:cNvSpPr/>
          <p:nvPr/>
        </p:nvSpPr>
        <p:spPr>
          <a:xfrm>
            <a:off x="5181480" y="685800"/>
            <a:ext cx="33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选择超级眼 选择成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文本框 4"/>
          <p:cNvSpPr/>
          <p:nvPr/>
        </p:nvSpPr>
        <p:spPr>
          <a:xfrm>
            <a:off x="2133720" y="2057400"/>
            <a:ext cx="33112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深辉酒店用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东航泰电子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辽宁省锦州市中信网络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成都双禾科技发展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山东省淄博市中关村科技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东中山市雅思家具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石家庄海星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中山环威实业发展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珠海中润靖杰打印机耗材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绥化市泰伦英语学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哈尔滨市奇凯信息咨询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黑龙江广名会计师事务所有限责任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佛山德龙企业管理咨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河北林南仓中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东莞市延邑制模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5"/>
          <p:cNvSpPr/>
          <p:nvPr/>
        </p:nvSpPr>
        <p:spPr>
          <a:xfrm>
            <a:off x="5638680" y="2057400"/>
            <a:ext cx="30402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市花都易大机械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省蓝天航空经济开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杭州博斯软件开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南方竹木制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北京市普庆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温州市康伟实业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泉州市迪光科技发展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四川警察学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东莞市三屯钜熙鞋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宁波力德国际贸易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长春大成生化饲料开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市海诺曼奥信息科技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温州天翔网络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抚顺中宇建设（集团）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展盈计算机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文本框 6"/>
          <p:cNvSpPr/>
          <p:nvPr/>
        </p:nvSpPr>
        <p:spPr>
          <a:xfrm>
            <a:off x="1600200" y="6095880"/>
            <a:ext cx="686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提示：以上是一部分应用成功的客户，如不想再公开，请联系客服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右弧形箭头 8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6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关于我们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文本框 2"/>
          <p:cNvSpPr/>
          <p:nvPr/>
        </p:nvSpPr>
        <p:spPr>
          <a:xfrm>
            <a:off x="4876920" y="762120"/>
            <a:ext cx="352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99"/>
          <p:cNvSpPr/>
          <p:nvPr/>
        </p:nvSpPr>
        <p:spPr>
          <a:xfrm>
            <a:off x="1905120" y="1371600"/>
            <a:ext cx="6352920" cy="39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   </a:t>
            </a:r>
            <a:r>
              <a:rPr b="1" sz="1200" spc="-1" strike="noStrike">
                <a:solidFill>
                  <a:srgbClr val="7f7f7f"/>
                </a:solidFill>
                <a:latin typeface="宋体"/>
              </a:rPr>
              <a:t>深圳市超时代软件有限公司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成立于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2005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年，总部设于深圳，专业从事数据安全监控产品的研发和销售，致力于为个人用户与单位企业提供全面的数据安全保护方案。 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(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超级眼监控软件是超时代软件公司旗下的主要产品，公司主站为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www.360drm.com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  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超时代软件是国内较早从事加密安全领域研究的机构之一，拥有全面的信息防泄密产品线和解决方案，为客户提供安全、稳定、可靠的产品和服务。凭借核心研发团队多年的行业积累，超时代软件已申请多项技术发明专利，并拥有全部自主知识产权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  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超时代软件目前有多款企业级应用软件： 共享文件夹加密专家、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U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盘防拷贝系统、超级眼监控软件（分内网版和外网版）、视频加密器和文档透明加密系统等。 公司将始终专注于提高企业员工工作效率方面的新产品研发和推广，坚持不懈地贯彻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"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精品战略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"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思想，带给客户更多的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"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全新产品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"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  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超时代软件专注于信息安全领域，坚持高品质、高科技、高效率的原则，先后取得软件企业、高新企业等证书，产品通过了信息安全测试部门测评，取得了著作权和产品登记证书。一直以来，超时代软件不懈努力，竭诚为企业信息化管理建设奉献出一份力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sz="1400" spc="-1" strike="noStrike">
                <a:solidFill>
                  <a:srgbClr val="000000"/>
                </a:solidFill>
                <a:latin typeface="宋体"/>
              </a:rPr>
              <a:t>联系方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全国统一服务热线 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: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4000-186-3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工作时间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: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周一至周五 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(9:00 - 18: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公司地址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: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广东省深圳市南山区科技文化广场华富洋大厦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4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楼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A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周末如果需要技术支持，请直接联系我们客服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QQ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，客服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QQ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周末通常也保持在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4"/>
          <p:cNvSpPr/>
          <p:nvPr/>
        </p:nvSpPr>
        <p:spPr>
          <a:xfrm>
            <a:off x="2057400" y="1447920"/>
            <a:ext cx="13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公司简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右弧形箭头 8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矩形 8193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gradFill rotWithShape="0">
            <a:gsLst>
              <a:gs pos="0">
                <a:srgbClr val="ffdeab"/>
              </a:gs>
              <a:gs pos="100000">
                <a:srgbClr val="ff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文本框 8194"/>
          <p:cNvSpPr/>
          <p:nvPr/>
        </p:nvSpPr>
        <p:spPr>
          <a:xfrm>
            <a:off x="2666880" y="1905120"/>
            <a:ext cx="38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谢谢</a:t>
            </a:r>
            <a:r>
              <a:rPr b="1" i="1" lang="zh-CN" sz="6000" spc="-1" strike="noStrike">
                <a:solidFill>
                  <a:srgbClr val="ffdeab"/>
                </a:solidFill>
                <a:latin typeface="Arial"/>
                <a:ea typeface="微软雅黑"/>
              </a:rPr>
              <a:t>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5"/>
          <p:cNvSpPr/>
          <p:nvPr/>
        </p:nvSpPr>
        <p:spPr>
          <a:xfrm>
            <a:off x="324000" y="44370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超级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6"/>
          <p:cNvSpPr/>
          <p:nvPr/>
        </p:nvSpPr>
        <p:spPr>
          <a:xfrm>
            <a:off x="248040" y="52578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  <a:ea typeface="宋体"/>
              </a:rPr>
              <a:t>Super 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页脚占位符 1"/>
          <p:cNvSpPr/>
          <p:nvPr/>
        </p:nvSpPr>
        <p:spPr>
          <a:xfrm>
            <a:off x="6019920" y="60958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MH_Others_1"/>
          <p:cNvSpPr/>
          <p:nvPr/>
        </p:nvSpPr>
        <p:spPr>
          <a:xfrm>
            <a:off x="3597120" y="1297080"/>
            <a:ext cx="0" cy="4492440"/>
          </a:xfrm>
          <a:prstGeom prst="line">
            <a:avLst/>
          </a:prstGeom>
          <a:ln w="25560">
            <a:solidFill>
              <a:srgbClr val="e4f3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MH_Entry_1"/>
          <p:cNvSpPr/>
          <p:nvPr/>
        </p:nvSpPr>
        <p:spPr>
          <a:xfrm>
            <a:off x="3794040" y="1628640"/>
            <a:ext cx="399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软件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MH_Number_2"/>
          <p:cNvSpPr/>
          <p:nvPr/>
        </p:nvSpPr>
        <p:spPr>
          <a:xfrm>
            <a:off x="3398760" y="2919240"/>
            <a:ext cx="397080" cy="4604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MH_Others_2"/>
          <p:cNvSpPr/>
          <p:nvPr/>
        </p:nvSpPr>
        <p:spPr>
          <a:xfrm>
            <a:off x="754200" y="2808360"/>
            <a:ext cx="1765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bbe0e3"/>
                </a:solidFill>
                <a:latin typeface="华文中宋"/>
                <a:ea typeface="华文中宋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MH_Others_3"/>
          <p:cNvSpPr/>
          <p:nvPr/>
        </p:nvSpPr>
        <p:spPr>
          <a:xfrm>
            <a:off x="754200" y="3332160"/>
            <a:ext cx="1765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华文细黑"/>
                <a:ea typeface="华文细黑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MH_Number_2"/>
          <p:cNvSpPr/>
          <p:nvPr/>
        </p:nvSpPr>
        <p:spPr>
          <a:xfrm>
            <a:off x="3398760" y="1655640"/>
            <a:ext cx="397080" cy="4604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MH_Number_2"/>
          <p:cNvSpPr/>
          <p:nvPr/>
        </p:nvSpPr>
        <p:spPr>
          <a:xfrm>
            <a:off x="3398760" y="2303640"/>
            <a:ext cx="397080" cy="46008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MH_Number_2"/>
          <p:cNvSpPr/>
          <p:nvPr/>
        </p:nvSpPr>
        <p:spPr>
          <a:xfrm>
            <a:off x="3398760" y="3567240"/>
            <a:ext cx="397080" cy="46008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MH_Number_2"/>
          <p:cNvSpPr/>
          <p:nvPr/>
        </p:nvSpPr>
        <p:spPr>
          <a:xfrm>
            <a:off x="3398760" y="4222800"/>
            <a:ext cx="397080" cy="4604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MH_Number_2"/>
          <p:cNvSpPr/>
          <p:nvPr/>
        </p:nvSpPr>
        <p:spPr>
          <a:xfrm>
            <a:off x="3398760" y="4876920"/>
            <a:ext cx="397080" cy="46008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MH_Entry_1"/>
          <p:cNvSpPr/>
          <p:nvPr/>
        </p:nvSpPr>
        <p:spPr>
          <a:xfrm>
            <a:off x="3794040" y="2295360"/>
            <a:ext cx="399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功能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MH_Entry_1"/>
          <p:cNvSpPr/>
          <p:nvPr/>
        </p:nvSpPr>
        <p:spPr>
          <a:xfrm>
            <a:off x="3798720" y="2892600"/>
            <a:ext cx="39960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产品优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MH_Entry_1"/>
          <p:cNvSpPr/>
          <p:nvPr/>
        </p:nvSpPr>
        <p:spPr>
          <a:xfrm>
            <a:off x="3814920" y="3559320"/>
            <a:ext cx="3995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用范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MH_Entry_1"/>
          <p:cNvSpPr/>
          <p:nvPr/>
        </p:nvSpPr>
        <p:spPr>
          <a:xfrm>
            <a:off x="3814920" y="4183200"/>
            <a:ext cx="399564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客户案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MH_Entry_1"/>
          <p:cNvSpPr/>
          <p:nvPr/>
        </p:nvSpPr>
        <p:spPr>
          <a:xfrm>
            <a:off x="3809880" y="4836960"/>
            <a:ext cx="399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关于我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标题 7169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51920" cy="114300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2" descr="图片1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581280" y="2133720"/>
            <a:ext cx="5457960" cy="4092480"/>
          </a:xfrm>
          <a:prstGeom prst="rect">
            <a:avLst/>
          </a:prstGeom>
          <a:ln w="0">
            <a:noFill/>
          </a:ln>
        </p:spPr>
      </p:pic>
      <p:sp>
        <p:nvSpPr>
          <p:cNvPr id="596" name="文本框 5"/>
          <p:cNvSpPr/>
          <p:nvPr/>
        </p:nvSpPr>
        <p:spPr>
          <a:xfrm>
            <a:off x="2209680" y="2362320"/>
            <a:ext cx="36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超级眼 计算机管理系统</a:t>
            </a:r>
            <a:r>
              <a:rPr b="0" lang="en-US" sz="1800" spc="-1" strike="noStrike">
                <a:solidFill>
                  <a:srgbClr val="000000"/>
                </a:solidFill>
                <a:latin typeface="仿宋"/>
                <a:ea typeface="仿宋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是超时代软件自主研发的，对计算机操作行为进行全面监控和管理的一款软件，可监控计算机所有操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网址：</a:t>
            </a:r>
            <a:r>
              <a:rPr b="0" lang="en-US" sz="1800" spc="-1" strike="noStrike">
                <a:solidFill>
                  <a:srgbClr val="000000"/>
                </a:solidFill>
                <a:latin typeface="仿宋"/>
                <a:ea typeface="仿宋"/>
              </a:rPr>
              <a:t>www.360mon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右弧形箭头 3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905120" y="1676160"/>
            <a:ext cx="2982960" cy="21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一、实时监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二、历史监控记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三、限制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四、远程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五、实时报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标注 15"/>
          <p:cNvSpPr/>
          <p:nvPr/>
        </p:nvSpPr>
        <p:spPr>
          <a:xfrm rot="10800000">
            <a:off x="5105160" y="1904400"/>
            <a:ext cx="3429000" cy="28573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14"/>
          <p:cNvSpPr/>
          <p:nvPr/>
        </p:nvSpPr>
        <p:spPr>
          <a:xfrm>
            <a:off x="5257800" y="2438280"/>
            <a:ext cx="3127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Arial"/>
                <a:ea typeface="宋体"/>
              </a:rPr>
              <a:t>超级眼软件分为内网版、外网版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Arial"/>
                <a:ea typeface="宋体"/>
              </a:rPr>
              <a:t>内网版是局域网内部监控，外网版是异地远程监控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Arial"/>
                <a:ea typeface="宋体"/>
              </a:rPr>
              <a:t>除此差异之外，二者功能完全相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右弧形箭头 4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标题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3605040" cy="1143000"/>
          </a:xfrm>
          <a:prstGeom prst="rect">
            <a:avLst/>
          </a:prstGeom>
          <a:ln w="0">
            <a:noFill/>
          </a:ln>
        </p:spPr>
      </p:pic>
      <p:sp>
        <p:nvSpPr>
          <p:cNvPr id="604" name="流程图: 可选过程 4"/>
          <p:cNvSpPr/>
          <p:nvPr/>
        </p:nvSpPr>
        <p:spPr>
          <a:xfrm>
            <a:off x="2135160" y="2754360"/>
            <a:ext cx="382680" cy="151128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文本框 5"/>
          <p:cNvSpPr/>
          <p:nvPr/>
        </p:nvSpPr>
        <p:spPr>
          <a:xfrm>
            <a:off x="2094480" y="277164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实时监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左中括号 7"/>
          <p:cNvSpPr/>
          <p:nvPr/>
        </p:nvSpPr>
        <p:spPr>
          <a:xfrm>
            <a:off x="2819520" y="2085840"/>
            <a:ext cx="139680" cy="3108600"/>
          </a:xfrm>
          <a:custGeom>
            <a:avLst/>
            <a:gdLst>
              <a:gd name="textAreaLeft" fmla="*/ 41040 w 139680"/>
              <a:gd name="textAreaRight" fmla="*/ 140040 w 139680"/>
              <a:gd name="textAreaTop" fmla="*/ 5400 h 3108600"/>
              <a:gd name="textAreaBottom" fmla="*/ 3103200 h 310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0"/>
                  <a:pt x="0" y="80"/>
                </a:cubicBezTo>
                <a:lnTo>
                  <a:pt x="0" y="21520"/>
                </a:lnTo>
                <a:cubicBezTo>
                  <a:pt x="0" y="2156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文本框 9"/>
          <p:cNvSpPr/>
          <p:nvPr/>
        </p:nvSpPr>
        <p:spPr>
          <a:xfrm>
            <a:off x="3200400" y="1905120"/>
            <a:ext cx="50324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①</a:t>
            </a: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实时远程桌面监控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宋体"/>
                <a:ea typeface="宋体"/>
              </a:rPr>
              <a:t>管理者及时了解所有员工动向，可通过实时桌面监控，或者多画面桌面监控可以了解员工当前的电脑桌面情况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文本框 10"/>
          <p:cNvSpPr/>
          <p:nvPr/>
        </p:nvSpPr>
        <p:spPr>
          <a:xfrm>
            <a:off x="3200400" y="3429000"/>
            <a:ext cx="510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②</a:t>
            </a: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实时远程摄像头监控</a:t>
            </a:r>
            <a:r>
              <a:rPr b="1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实时查看被监控计算机摄像头的画面，可多画面实时监控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文本框 11"/>
          <p:cNvSpPr/>
          <p:nvPr/>
        </p:nvSpPr>
        <p:spPr>
          <a:xfrm>
            <a:off x="3200400" y="4952880"/>
            <a:ext cx="25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③</a:t>
            </a: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实时流量监控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文本框 2"/>
          <p:cNvSpPr/>
          <p:nvPr/>
        </p:nvSpPr>
        <p:spPr>
          <a:xfrm>
            <a:off x="3124080" y="5257800"/>
            <a:ext cx="523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可对员工计算机的流量进行实时监控，及时发现流量的异常情况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直接连接符 12"/>
          <p:cNvSpPr/>
          <p:nvPr/>
        </p:nvSpPr>
        <p:spPr>
          <a:xfrm>
            <a:off x="27432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2"/>
          <p:cNvSpPr/>
          <p:nvPr/>
        </p:nvSpPr>
        <p:spPr>
          <a:xfrm>
            <a:off x="4267080" y="685800"/>
            <a:ext cx="461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了解员工使用电脑时正在做什么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右弧形箭头 5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历史记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流程图: 可选过程 4"/>
          <p:cNvSpPr/>
          <p:nvPr/>
        </p:nvSpPr>
        <p:spPr>
          <a:xfrm>
            <a:off x="1946160" y="2773440"/>
            <a:ext cx="384120" cy="189216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5"/>
          <p:cNvSpPr/>
          <p:nvPr/>
        </p:nvSpPr>
        <p:spPr>
          <a:xfrm>
            <a:off x="1913400" y="2640960"/>
            <a:ext cx="48528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历史监控记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左中括号 6"/>
          <p:cNvSpPr/>
          <p:nvPr/>
        </p:nvSpPr>
        <p:spPr>
          <a:xfrm>
            <a:off x="2514600" y="1676520"/>
            <a:ext cx="76320" cy="4495680"/>
          </a:xfrm>
          <a:custGeom>
            <a:avLst/>
            <a:gdLst>
              <a:gd name="textAreaLeft" fmla="*/ 22320 w 76320"/>
              <a:gd name="textAreaRight" fmla="*/ 76320 w 76320"/>
              <a:gd name="textAreaTop" fmla="*/ 2880 h 4495680"/>
              <a:gd name="textAreaBottom" fmla="*/ 4492800 h 449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"/>
                  <a:pt x="0" y="30"/>
                </a:cubicBezTo>
                <a:lnTo>
                  <a:pt x="0" y="21570"/>
                </a:lnTo>
                <a:cubicBezTo>
                  <a:pt x="0" y="2158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直接连接符 10"/>
          <p:cNvSpPr/>
          <p:nvPr/>
        </p:nvSpPr>
        <p:spPr>
          <a:xfrm>
            <a:off x="2514600" y="167652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直接连接符 11"/>
          <p:cNvSpPr/>
          <p:nvPr/>
        </p:nvSpPr>
        <p:spPr>
          <a:xfrm>
            <a:off x="2514600" y="617220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直接连接符 12"/>
          <p:cNvSpPr/>
          <p:nvPr/>
        </p:nvSpPr>
        <p:spPr>
          <a:xfrm>
            <a:off x="2516040" y="342900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直接连接符 13"/>
          <p:cNvSpPr/>
          <p:nvPr/>
        </p:nvSpPr>
        <p:spPr>
          <a:xfrm>
            <a:off x="2516040" y="220968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直接连接符 14"/>
          <p:cNvSpPr/>
          <p:nvPr/>
        </p:nvSpPr>
        <p:spPr>
          <a:xfrm>
            <a:off x="2516040" y="281952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直接连接符 15"/>
          <p:cNvSpPr/>
          <p:nvPr/>
        </p:nvSpPr>
        <p:spPr>
          <a:xfrm>
            <a:off x="2514600" y="419112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直接连接符 16"/>
          <p:cNvSpPr/>
          <p:nvPr/>
        </p:nvSpPr>
        <p:spPr>
          <a:xfrm>
            <a:off x="2516040" y="472428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直接连接符 17"/>
          <p:cNvSpPr/>
          <p:nvPr/>
        </p:nvSpPr>
        <p:spPr>
          <a:xfrm>
            <a:off x="2514600" y="541008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文本框 18"/>
          <p:cNvSpPr/>
          <p:nvPr/>
        </p:nvSpPr>
        <p:spPr>
          <a:xfrm>
            <a:off x="2819520" y="1523880"/>
            <a:ext cx="5478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①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聊天监控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可以查看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QQ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、旺旺、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SKYPE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等常用聊天软件的聊天记录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文本框 19"/>
          <p:cNvSpPr/>
          <p:nvPr/>
        </p:nvSpPr>
        <p:spPr>
          <a:xfrm>
            <a:off x="2820960" y="2057400"/>
            <a:ext cx="5357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②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程序运行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详细记录用户电脑上软件的使用时间，包括启动与结束时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文本框 21"/>
          <p:cNvSpPr/>
          <p:nvPr/>
        </p:nvSpPr>
        <p:spPr>
          <a:xfrm>
            <a:off x="2820960" y="2666880"/>
            <a:ext cx="5415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③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屏幕监控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对员工计算机屏幕画面进行记录，再现员工之前在计算机上的一举一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文本框 22"/>
          <p:cNvSpPr/>
          <p:nvPr/>
        </p:nvSpPr>
        <p:spPr>
          <a:xfrm>
            <a:off x="2820960" y="3276720"/>
            <a:ext cx="54468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④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网址访问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详细记录各种浏览器的网页访问记录，自动记下网页的标题，网址以及访问   时间，方便管理者考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23"/>
          <p:cNvSpPr/>
          <p:nvPr/>
        </p:nvSpPr>
        <p:spPr>
          <a:xfrm>
            <a:off x="2820960" y="4038480"/>
            <a:ext cx="54435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⑤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文件操作记录</a:t>
            </a:r>
            <a:r>
              <a:rPr b="0" lang="zh-CN" sz="1400" spc="-1" strike="noStrike">
                <a:solidFill>
                  <a:srgbClr val="262626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记录被控端所有的文件操作，包括创建，删除或复制文件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文本框 24"/>
          <p:cNvSpPr/>
          <p:nvPr/>
        </p:nvSpPr>
        <p:spPr>
          <a:xfrm>
            <a:off x="2820960" y="4572000"/>
            <a:ext cx="54720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宋体"/>
              </a:rPr>
              <a:t>⑥ </a:t>
            </a:r>
            <a:r>
              <a:rPr b="1" lang="en-US" sz="1400" spc="-1" strike="noStrike">
                <a:solidFill>
                  <a:srgbClr val="262626"/>
                </a:solidFill>
                <a:latin typeface="宋体"/>
              </a:rPr>
              <a:t>U</a:t>
            </a:r>
            <a:r>
              <a:rPr b="1" lang="zh-CN" sz="1400" spc="-1" strike="noStrike">
                <a:solidFill>
                  <a:srgbClr val="262626"/>
                </a:solidFill>
                <a:latin typeface="宋体"/>
              </a:rPr>
              <a:t>盘使用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清晰记录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U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盘和光盘的使用记录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文本框 25"/>
          <p:cNvSpPr/>
          <p:nvPr/>
        </p:nvSpPr>
        <p:spPr>
          <a:xfrm>
            <a:off x="2819520" y="5280120"/>
            <a:ext cx="55101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⑦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邮件收发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记录员工计算机所有收发的邮件，记录包括收发时间、收件人、发件人、标题和内容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文本框 26"/>
          <p:cNvSpPr/>
          <p:nvPr/>
        </p:nvSpPr>
        <p:spPr>
          <a:xfrm>
            <a:off x="2819520" y="6006960"/>
            <a:ext cx="545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⑧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其他：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开关机记录、键盘记录、剪贴板记录、报警记录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文本框 2"/>
          <p:cNvSpPr/>
          <p:nvPr/>
        </p:nvSpPr>
        <p:spPr>
          <a:xfrm>
            <a:off x="4343400" y="685800"/>
            <a:ext cx="45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了解员工做过什么，以便考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右弧形箭头 8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82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限制功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流程图: 可选过程 5"/>
          <p:cNvSpPr/>
          <p:nvPr/>
        </p:nvSpPr>
        <p:spPr>
          <a:xfrm>
            <a:off x="1817640" y="3071880"/>
            <a:ext cx="384120" cy="151128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文本框 6"/>
          <p:cNvSpPr/>
          <p:nvPr/>
        </p:nvSpPr>
        <p:spPr>
          <a:xfrm>
            <a:off x="1767240" y="305748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限制功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左中括号 8"/>
          <p:cNvSpPr/>
          <p:nvPr/>
        </p:nvSpPr>
        <p:spPr>
          <a:xfrm>
            <a:off x="2286000" y="2209680"/>
            <a:ext cx="76320" cy="3581640"/>
          </a:xfrm>
          <a:custGeom>
            <a:avLst/>
            <a:gdLst>
              <a:gd name="textAreaLeft" fmla="*/ 22320 w 76320"/>
              <a:gd name="textAreaRight" fmla="*/ 76320 w 76320"/>
              <a:gd name="textAreaTop" fmla="*/ 2880 h 3581640"/>
              <a:gd name="textAreaBottom" fmla="*/ 3578760 h 358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"/>
                  <a:pt x="0" y="38"/>
                </a:cubicBezTo>
                <a:lnTo>
                  <a:pt x="0" y="21562"/>
                </a:lnTo>
                <a:cubicBezTo>
                  <a:pt x="0" y="21581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文本框 2"/>
          <p:cNvSpPr/>
          <p:nvPr/>
        </p:nvSpPr>
        <p:spPr>
          <a:xfrm>
            <a:off x="2514600" y="2133720"/>
            <a:ext cx="336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软件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3"/>
          <p:cNvSpPr/>
          <p:nvPr/>
        </p:nvSpPr>
        <p:spPr>
          <a:xfrm>
            <a:off x="2517840" y="4929120"/>
            <a:ext cx="23619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硬件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可对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U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盘、光驱进行禁用，以避免员工使用与工作无关的计算机设备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6"/>
          <p:cNvSpPr/>
          <p:nvPr/>
        </p:nvSpPr>
        <p:spPr>
          <a:xfrm>
            <a:off x="3124080" y="1917720"/>
            <a:ext cx="10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程序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7"/>
          <p:cNvSpPr/>
          <p:nvPr/>
        </p:nvSpPr>
        <p:spPr>
          <a:xfrm>
            <a:off x="3124080" y="2422440"/>
            <a:ext cx="1522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网页访问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文件操作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图片 -2147482613" descr=""/>
          <p:cNvPicPr/>
          <p:nvPr/>
        </p:nvPicPr>
        <p:blipFill>
          <a:blip r:embed="rId1"/>
          <a:stretch/>
        </p:blipFill>
        <p:spPr>
          <a:xfrm>
            <a:off x="5029200" y="3962520"/>
            <a:ext cx="3645000" cy="2479680"/>
          </a:xfrm>
          <a:prstGeom prst="rect">
            <a:avLst/>
          </a:prstGeom>
          <a:ln w="0">
            <a:noFill/>
          </a:ln>
        </p:spPr>
      </p:pic>
      <p:pic>
        <p:nvPicPr>
          <p:cNvPr id="645" name="图片 -2147482614" descr=""/>
          <p:cNvPicPr/>
          <p:nvPr/>
        </p:nvPicPr>
        <p:blipFill>
          <a:blip r:embed="rId2"/>
          <a:stretch/>
        </p:blipFill>
        <p:spPr>
          <a:xfrm>
            <a:off x="5029200" y="1447920"/>
            <a:ext cx="3641760" cy="2503440"/>
          </a:xfrm>
          <a:prstGeom prst="rect">
            <a:avLst/>
          </a:prstGeom>
          <a:ln w="0">
            <a:noFill/>
          </a:ln>
        </p:spPr>
      </p:pic>
      <p:sp>
        <p:nvSpPr>
          <p:cNvPr id="646" name="文本框 9"/>
          <p:cNvSpPr/>
          <p:nvPr/>
        </p:nvSpPr>
        <p:spPr>
          <a:xfrm>
            <a:off x="4038480" y="762120"/>
            <a:ext cx="50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让员工上班时间只能做与工作相关的事情，提高工作效率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组合 11"/>
          <p:cNvGrpSpPr/>
          <p:nvPr/>
        </p:nvGrpSpPr>
        <p:grpSpPr>
          <a:xfrm>
            <a:off x="2876400" y="2057400"/>
            <a:ext cx="247680" cy="1136520"/>
            <a:chOff x="2876400" y="2057400"/>
            <a:chExt cx="247680" cy="1136520"/>
          </a:xfrm>
        </p:grpSpPr>
        <p:sp>
          <p:nvSpPr>
            <p:cNvPr id="648" name="左中括号 4"/>
            <p:cNvSpPr/>
            <p:nvPr/>
          </p:nvSpPr>
          <p:spPr>
            <a:xfrm>
              <a:off x="3028680" y="2057400"/>
              <a:ext cx="75960" cy="113652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2880 h 1136520"/>
                <a:gd name="textAreaBottom" fmla="*/ 1133640 h 113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60"/>
                    <a:pt x="0" y="120"/>
                  </a:cubicBezTo>
                  <a:lnTo>
                    <a:pt x="0" y="21480"/>
                  </a:lnTo>
                  <a:cubicBezTo>
                    <a:pt x="0" y="2154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直接连接符 14"/>
            <p:cNvSpPr/>
            <p:nvPr/>
          </p:nvSpPr>
          <p:spPr>
            <a:xfrm>
              <a:off x="2876400" y="25905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右弧形箭头 12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3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远程管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流程图: 可选过程 5"/>
          <p:cNvSpPr/>
          <p:nvPr/>
        </p:nvSpPr>
        <p:spPr>
          <a:xfrm>
            <a:off x="2514600" y="2971800"/>
            <a:ext cx="384120" cy="120636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文本框 3"/>
          <p:cNvSpPr/>
          <p:nvPr/>
        </p:nvSpPr>
        <p:spPr>
          <a:xfrm>
            <a:off x="2170440" y="3048120"/>
            <a:ext cx="79020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远程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组合 11"/>
          <p:cNvGrpSpPr/>
          <p:nvPr/>
        </p:nvGrpSpPr>
        <p:grpSpPr>
          <a:xfrm>
            <a:off x="2971800" y="2209680"/>
            <a:ext cx="247680" cy="2714760"/>
            <a:chOff x="2971800" y="2209680"/>
            <a:chExt cx="247680" cy="2714760"/>
          </a:xfrm>
        </p:grpSpPr>
        <p:sp>
          <p:nvSpPr>
            <p:cNvPr id="655" name="左中括号 4"/>
            <p:cNvSpPr/>
            <p:nvPr/>
          </p:nvSpPr>
          <p:spPr>
            <a:xfrm>
              <a:off x="3124080" y="2209680"/>
              <a:ext cx="76320" cy="271476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2880 h 2714760"/>
                <a:gd name="textAreaBottom" fmla="*/ 2711880 h 271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5"/>
                    <a:pt x="0" y="50"/>
                  </a:cubicBezTo>
                  <a:lnTo>
                    <a:pt x="0" y="21550"/>
                  </a:lnTo>
                  <a:cubicBezTo>
                    <a:pt x="0" y="21575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直接连接符 14"/>
            <p:cNvSpPr/>
            <p:nvPr/>
          </p:nvSpPr>
          <p:spPr>
            <a:xfrm>
              <a:off x="2971800" y="358092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文本框 6"/>
          <p:cNvSpPr/>
          <p:nvPr/>
        </p:nvSpPr>
        <p:spPr>
          <a:xfrm>
            <a:off x="3200400" y="2057400"/>
            <a:ext cx="55609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远程文件管理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超级眼的文件管理功能，不仅可对员工文件进行远程复制、删除、删除、重命名等操作，还可以上传、下载，为批量下载员工端文件到管理端提供便利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文本框 7"/>
          <p:cNvSpPr/>
          <p:nvPr/>
        </p:nvSpPr>
        <p:spPr>
          <a:xfrm>
            <a:off x="4419720" y="762120"/>
            <a:ext cx="444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轻松远程管理员工的计算机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文本框 8"/>
          <p:cNvSpPr/>
          <p:nvPr/>
        </p:nvSpPr>
        <p:spPr>
          <a:xfrm>
            <a:off x="3276720" y="3352680"/>
            <a:ext cx="5329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进程管理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在进程列表查看员工当前正在运行的进程，并可以结束选中的进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9"/>
          <p:cNvSpPr/>
          <p:nvPr/>
        </p:nvSpPr>
        <p:spPr>
          <a:xfrm>
            <a:off x="3276720" y="4572000"/>
            <a:ext cx="5235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系统命令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远程对员工端进行关机、重启、注销等操作；向选中员工端发送广播消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右弧形箭头 12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图片 -2147482609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5784840" cy="39924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11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实时报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文本框 2"/>
          <p:cNvSpPr/>
          <p:nvPr/>
        </p:nvSpPr>
        <p:spPr>
          <a:xfrm>
            <a:off x="4343400" y="609480"/>
            <a:ext cx="44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全力保护企业利益：对员工的敏感操作实时报警、防泄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文本框 11"/>
          <p:cNvSpPr/>
          <p:nvPr/>
        </p:nvSpPr>
        <p:spPr>
          <a:xfrm>
            <a:off x="2286000" y="5791320"/>
            <a:ext cx="167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插入</a:t>
            </a:r>
            <a:r>
              <a:rPr b="1" lang="en-US" sz="1400" spc="-1" strike="noStrike">
                <a:solidFill>
                  <a:srgbClr val="7f7f7f"/>
                </a:solidFill>
                <a:latin typeface="宋体"/>
              </a:rPr>
              <a:t>U</a:t>
            </a: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盘报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文本框 12"/>
          <p:cNvSpPr/>
          <p:nvPr/>
        </p:nvSpPr>
        <p:spPr>
          <a:xfrm>
            <a:off x="3809880" y="5791320"/>
            <a:ext cx="159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拷贝带走报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文本框 13"/>
          <p:cNvSpPr/>
          <p:nvPr/>
        </p:nvSpPr>
        <p:spPr>
          <a:xfrm>
            <a:off x="5181480" y="5791320"/>
            <a:ext cx="202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硬件变动自动报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文本框 15"/>
          <p:cNvSpPr/>
          <p:nvPr/>
        </p:nvSpPr>
        <p:spPr>
          <a:xfrm>
            <a:off x="6858000" y="5791320"/>
            <a:ext cx="182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自定义报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右弧形箭头 17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6T07:22:00Z</dcterms:created>
  <dc:creator/>
  <dc:description/>
  <dc:language>en-US</dc:language>
  <cp:lastModifiedBy>hopo</cp:lastModifiedBy>
  <dcterms:modified xsi:type="dcterms:W3CDTF">2016-06-21T10:19:08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  <property fmtid="{D5CDD505-2E9C-101B-9397-08002B2CF9AE}" pid="3" name="Version">
    <vt:r8>1</vt:r8>
  </property>
</Properties>
</file>