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272-2B1E-450F-A943-01F014A6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204-8BC6-4163-8FE6-2E5DAAC1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CEF-7D3F-44F4-8B2E-61951DD3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D4B-6C50-43DC-AEF0-C7E14106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695-A2A2-4274-8310-28B9979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C8B-1D4F-4136-9C95-78A81296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AB0-877E-4F7F-A544-0EE72F3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96E-F7B0-4055-B068-A8CC0426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A95-26FB-4165-9FEC-CD353AF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BC0-88B5-446F-94A6-D37AFBE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C2E-9996-440E-B325-4F5F740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FB6-37EF-41E9-A9A9-9198142B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31770B6D-9913-420F-89C7-0962AD8A1825}" type="slidenum">
              <a:rPr b="0" lang="zh-CN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45080" y="360360"/>
            <a:ext cx="9648720" cy="126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640" y="1270080"/>
            <a:ext cx="16040160" cy="104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0360" y="1368360"/>
            <a:ext cx="15289200" cy="99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8480" y="1496880"/>
            <a:ext cx="15143040" cy="9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31760" y="1469880"/>
            <a:ext cx="15216480" cy="10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23840" y="1479600"/>
            <a:ext cx="15233760" cy="1000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00" y="1440000"/>
            <a:ext cx="15399000" cy="100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7760" y="1506600"/>
            <a:ext cx="15325920" cy="99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5400" y="1460520"/>
            <a:ext cx="15289200" cy="100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32360" y="504720"/>
            <a:ext cx="8893080" cy="11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2360" y="504720"/>
            <a:ext cx="8789760" cy="115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41400" y="1487520"/>
            <a:ext cx="15398640" cy="99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2000" y="1512720"/>
            <a:ext cx="15416280" cy="9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081080"/>
            <a:ext cx="16002000" cy="10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9280" y="1368360"/>
            <a:ext cx="15379560" cy="99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280" y="1512720"/>
            <a:ext cx="15435000" cy="99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22320" y="1523880"/>
            <a:ext cx="15435360" cy="9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58680" y="1479600"/>
            <a:ext cx="15362280" cy="1000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50:33Z</dcterms:created>
  <dc:creator>新教育</dc:creator>
  <dc:description/>
  <dc:language>en-US</dc:language>
  <cp:lastModifiedBy>liuminghui</cp:lastModifiedBy>
  <dcterms:modified xsi:type="dcterms:W3CDTF">2009-08-28T03:38:28Z</dcterms:modified>
  <cp:revision>22</cp:revision>
  <dc:subject/>
  <dc:title>幻灯片 1</dc:title>
</cp:coreProperties>
</file>