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D3D-8F6E-48DA-9BE3-CE4C99A6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5E5-DEF1-4BAE-BC96-088257F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A1C-34AE-42D3-B03E-29A2EECA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6F0-1372-4360-BC3B-505BDBE2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470-8264-46CF-A5EE-D6DCCA4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895-166B-47F4-A473-52823F0F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ED8-FB68-4EE0-A63E-45766BE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15F-ADF9-4CB5-896A-9A90273A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A31-2214-4DAF-9C68-C19C0ADA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B11-71A5-4CE1-916D-6CDF43C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2B1-ACC9-490B-A72F-3D504CA5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D3D-BE05-46BE-8414-AE956A5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7781-7CF9-47E7-B8F6-0F9EA49CE7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es1.age06.com/FileStore/PortalIPSForQX/User/jctgj/e05d0579-7147-46f1-beec-a8e6b11f1d69/3179259861947640387_%B8%B1%B1%BE.jpg"/>
          <p:cNvPicPr/>
          <p:nvPr/>
        </p:nvPicPr>
        <p:blipFill>
          <a:blip r:embed="rId1"/>
          <a:stretch/>
        </p:blipFill>
        <p:spPr>
          <a:xfrm>
            <a:off x="611280" y="333360"/>
            <a:ext cx="8020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res1.age06.com/filestore/portalipsforqx/user/jctgj/e05d0579-7147-46f1-beec-a8e6b11f1d69/3179259861947640389_%B8%B1%B1%BE.jpg"/>
          <p:cNvPicPr/>
          <p:nvPr/>
        </p:nvPicPr>
        <p:blipFill>
          <a:blip r:embed="rId1"/>
          <a:stretch/>
        </p:blipFill>
        <p:spPr>
          <a:xfrm>
            <a:off x="324000" y="404640"/>
            <a:ext cx="843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res1.age06.com/FileStore/PortalIPSForQX/User/jctgj/e05d0579-7147-46f1-beec-a8e6b11f1d69/3179259861947640390_%B8%B1%B1%BE.jpg"/>
          <p:cNvPicPr/>
          <p:nvPr/>
        </p:nvPicPr>
        <p:blipFill>
          <a:blip r:embed="rId1"/>
          <a:stretch/>
        </p:blipFill>
        <p:spPr>
          <a:xfrm>
            <a:off x="1116000" y="189000"/>
            <a:ext cx="6696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es1.age06.com/filestore/portalipsforqx/user/niqin/210196d1-6958-4169-b8f4-c6b86ce5ff04/33.jpg"/>
          <p:cNvPicPr/>
          <p:nvPr/>
        </p:nvPicPr>
        <p:blipFill>
          <a:blip r:embed="rId1"/>
          <a:stretch/>
        </p:blipFill>
        <p:spPr>
          <a:xfrm>
            <a:off x="826920" y="476280"/>
            <a:ext cx="77058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1:56:02Z</dcterms:created>
  <dc:creator>hp</dc:creator>
  <dc:description/>
  <dc:language>en-US</dc:language>
  <cp:lastModifiedBy>hp</cp:lastModifiedBy>
  <dcterms:modified xsi:type="dcterms:W3CDTF">2012-02-12T12:08:01Z</dcterms:modified>
  <cp:revision>2</cp:revision>
  <dc:subject/>
  <dc:title>幻灯片 1</dc:title>
</cp:coreProperties>
</file>