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9B0-0647-4158-B5FA-E56219A57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B53-3803-4712-847B-6EBC4450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484-B0AF-4815-8442-4DBF51B9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B6BC-743E-4045-AF5C-5DD59847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87C-8DE4-4E5C-9B05-C877E2B7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0F5-965D-4A9B-B431-EC42B72B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140F-6C71-4B1B-AF0F-8D08D0A2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0F3-A018-4FBF-B65F-9605A6ED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CA0-89C3-468C-9363-24A1AB3C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9CB-0FDE-45F7-8357-DE6DA7FB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6AD-5860-46D4-A950-CF0B4860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E44-DA1F-4E22-823B-7C12D722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23AD-B792-4C52-B47E-BFF54C13A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悬艾叶菖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在端午节，人们把插艾和菖蒲作为重要内容之一。家家都洒扫庭除，以菖蒲、艾条插于门眉，悬于堂中。并用菖蒲、艾叶、榴花、蒜头、龙船花，制成人形或虎形，称为艾人、艾虎；制成花环、佩饰，美丽芬芳，妇人争相佩戴，用以驱瘴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 rot="537000">
            <a:off x="2700000" y="0"/>
            <a:ext cx="5688000" cy="6869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50920" y="6922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rcRect l="0" t="0" r="0" b="13865"/>
          <a:stretch/>
        </p:blipFill>
        <p:spPr>
          <a:xfrm>
            <a:off x="1476360" y="692280"/>
            <a:ext cx="58262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"/>
              </a:rPr>
              <a:t>谢谢观看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5564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端午节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农历五月初五，是中国民间的传统节日——端午节，它是中华民族古老的传统节日之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端午亦称端五，是我国最大的传统节日之一。“端”的意思和“初”相同，称“端五”也就如称“初五”；端五的“五”字又与“午”相通，按地支顺序推算，五月正是“午”月。又因午时为“阳辰”，所以端五也叫“端阳”。五月五日，月、日都是五，故称重五，也称重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端午节由来与传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于端午节来源之说众多，其中纪念屈原之说最为广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屈原，是春秋时期楚怀王的大臣。公元前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78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，秦军攻破楚国京都。屈原眼看自己的祖国被侵略，心如刀割，但是始终不忍舍弃自己的祖国，于五月五日，在写下了绝笔作《怀沙》之后，抱石投汨罗江身死，以自己的生命谱写了一曲壮丽的爱国主义乐章。传说屈原死后，楚国百姓哀痛异常，纷纷涌到汨罗江边去凭吊屈原。渔夫们划起船只，在江上来回打捞他的真身。有位渔夫拿出为屈原准备的饭团、鸡蛋等食物，“扑通、扑通”地丢进江里，说是让鱼龙虾蟹吃饱了，就不会去咬屈大夫的身体了。人们见后纷纷仿效。一位老医师则拿来一坛雄黄酒倒进江里，说是要药晕蛟龙水兽，以免伤害屈大夫。后来为怕饭团为蛟龙所食，人们想出用楝树叶包饭，外缠彩丝，发展成棕子。以后，在每年的五月初五，就有了龙舟竞渡、吃粽子、喝雄黄酒的风俗；以此来纪念爱国诗人屈原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51280" y="1413000"/>
            <a:ext cx="337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端午节习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赛龙舟，是端午节的主要习俗。相传起源于古时楚国人因舍不得贤臣屈原投江死去，许多人划船追赶拯救。他们争先恐后，追至洞庭湖时不见踪迹。之后每年五月五日划龙舟以纪念之。借划龙舟驱散江中之鱼，以免鱼吃掉屈原的身体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每到五月五，各地都会举行赛龙舟比赛，气氛浓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8604360" cy="5738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681000">
            <a:off x="250560" y="692280"/>
            <a:ext cx="8223120" cy="5754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24000" y="907920"/>
            <a:ext cx="838188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端午食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端午节吃粽子，这是中国人民的又一传统习俗。粽子，又叫“角黍”、“筒粽”。其由来已久，花样繁多。据记载，早在春秋时期，用菰叶（茭白叶）包黍米成牛角状，称“角黍”；用竹筒装米密封烤熟，称“筒粽”。东汉末年，以草木灰水浸泡黍米，因水中含碱，用菰叶包黍米成四角形，煮熟，成为广东碱水粽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年五月初，中国百姓家家都要浸糯米、洗粽叶、包粽子，其花色品种更为繁多。从馅料看，北方多包小枣的北京枣粽；南方则有豆沙、鲜肉、火腿、蛋黄等多种馅料，其中以浙江嘉兴粽子为代表。吃粽子的风俗，千百年来，在中国盛行不衰，而且流传到朝鲜、日本及东南亚诸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843280" y="1611360"/>
            <a:ext cx="590400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411280" y="765000"/>
            <a:ext cx="5402520" cy="3908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788000" y="1484280"/>
            <a:ext cx="3959280" cy="5113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187280" y="1844640"/>
            <a:ext cx="5193000" cy="3444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050920" y="1268280"/>
            <a:ext cx="5400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佩香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端午节小孩佩香囊，传说有避邪驱瘟之意，实际是用于襟头点缀装饰。香囊内有朱砂、雄黄、香药，外包以丝布，清香四溢，再以五色丝线弦扣成索，作各种不同形状，结成一串，形形色色，玲珑可爱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 rot="476400">
            <a:off x="3851280" y="433440"/>
            <a:ext cx="4508640" cy="642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 rot="21057600">
            <a:off x="971280" y="980640"/>
            <a:ext cx="77040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547640" y="765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07:09:51Z</dcterms:created>
  <dc:creator/>
  <dc:description>三联素材-www.3lian.com</dc:description>
  <dc:language>en-US</dc:language>
  <cp:lastModifiedBy>GZB</cp:lastModifiedBy>
  <dcterms:modified xsi:type="dcterms:W3CDTF">2013-05-24T00:44:42Z</dcterms:modified>
  <cp:revision>5</cp:revision>
  <dc:subject/>
  <dc:title>三联素材-www.3lia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415000000000001024140</vt:lpwstr>
  </property>
</Properties>
</file>