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95A6-7880-4065-9871-DDC263B3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6419-5B98-4D85-A8E3-7DCF8AC5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9A8BB-9B87-403A-8777-D71CAB9F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27A9D-7F64-46A6-B2B8-5A81B011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0CE2B-E6A1-4FE0-A38B-39B3CA58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4D8FC-7AA9-4067-AC0C-F7ECF047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A199B-460D-476C-BA8F-7C87343F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D7FEE-332D-496A-85CE-10DCA7D7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75A22-C5EE-428E-BB21-4A25982B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6AD8C-D942-4594-A59F-D20F204D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95743-C342-44FE-91F1-C410671B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AA913-3D0D-4FD1-BFFC-FC66B71D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44CB-2A31-4166-B4E5-35CB1BAA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684EA-7153-482C-8111-4C30914B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0F117-B82E-4775-8835-9F8BE3F3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8834F-E850-4AB0-82A8-6C9B545A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25D83-4A14-4927-A06B-1077D1B1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B129F-F2A9-4DFF-98FD-2D1B55A3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97952-B4E1-43D4-8CF0-DF16DAE4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EA645-5C01-4398-B58F-3F595FB0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E360D-D694-4330-9F9B-6D5649CB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BD3E1-4E51-4400-B4EC-8D205BA1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04147-2295-40B0-AC75-E82E4EC5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EB41-FDF1-490D-9DE3-D9E2B030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9D1DE-DA4C-4B0C-8111-9DA5E2FA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4727B-00EF-467F-A7A1-B03D5ECB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8416B-E197-482E-B1B9-C991A798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A27F8-A241-4859-A7C9-BF1B358D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F2BBF-39C7-42EC-878E-0509E054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75543-C210-4F6C-AFED-1B6911AA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38E80-B66A-44F9-853A-B7ED25D6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6B4EB-B9E3-47E9-B9A5-6F3010F3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A6348-D31A-4204-A3DD-2886ACE9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E4129-A1F6-471F-B8D6-25341661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63A1-A61E-473F-B7B1-40F83425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077F9-3AC6-495E-8FD9-034510FC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BBF72-7381-4B30-9D16-EBE5210F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9FAAB-2761-4336-A190-E42E33A0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7DD27-8E63-49F1-844B-5F7A4AE5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A167F-B8E0-44EE-8DAB-C1951C92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F4D0A-C3B7-4B0A-B859-DB8BBD6D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B1A22-4628-42C0-8DA0-D40C268F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CD7FD-7443-4B48-9E65-0969C2F2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CD68E-129D-42D9-B74C-3FEA8652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76DB1-B52E-4BB4-96EE-DC82B1A7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C6B8-20FB-4C98-A3F4-86D09F93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F108D-D57E-40A5-8816-96710DAC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661D8-2EEA-4F74-B06E-F66E0A36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561B2-1662-4D1D-B23B-3D1A509C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B9DB6-AEBD-456E-8947-9EAD0AAB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9F10D-299D-4E3D-A405-271A5A1B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F25CDE-DF3C-411E-89E2-BB73A552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F5B21C-E2B4-4BEB-BC33-2721AE04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E6099-F373-4FFD-9539-A3C73864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13944-362E-4093-8D0E-DF17CDDD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D77855-27F3-445B-AB9B-F2EC9F50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D9DF-86CC-481B-9115-97F362FF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38CB3-3590-4177-9023-95914E8B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7045B8-5BA5-4ECC-B793-75A7533C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D694B8-4758-4279-9FE2-90B2A5CB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8A585-FEE8-4573-A3B2-88FBF46A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75B8EC-C9BD-4257-88BA-1E476344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213C5-7A6F-4954-A718-E45B1345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A4EB84-0E7E-439F-9A45-5FECCE5C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6A4C-46F8-4921-AC19-42670E78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6A90-C07F-4905-96F4-0C01D66B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D55A-EB9A-44D3-9CB5-2B56B417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543C-D1A0-4393-A1C1-15BEA4F1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3366-64B7-4A8A-B6F2-554358F1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707B-2A7C-4C0D-9B49-F21CEB4B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3238-BBAD-4386-A748-2082C4BA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1C4C-6AD8-4FA8-9EAB-CDFE9CFE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E2F9-D762-4354-AD98-F320EFF4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E558-0100-4143-8FEB-04E396A4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88F97-5704-4146-B162-D773A158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6395A-540A-475E-BAF5-FCC4AF86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1535C-58EE-4A06-AB27-E9783D37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E8EA3-B337-41EB-BAAD-2943F2CD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45C04-188C-42DF-8F2F-8215676C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868-E6D1-464D-A59C-FBF292CF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3465F-C733-4BEB-9B45-12E7D287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AF94B-3940-4C29-831C-E2057B02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E6B71-167E-4E00-B3C9-AC522985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2198A-03A8-498A-8783-ED685451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6A6DA-5A59-4034-9182-9BD02FCF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D39EF-CA45-44B5-A620-2268AEC2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CD4E1-2109-4A39-B9AD-7B7DC61E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64A91-E82D-4DF1-A6E5-DA57BF83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D6E83-DD6F-41F7-B818-CA58184A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C1E00-62E5-466D-B7D3-05FF5B3F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3BC2-F1C4-48DD-AC39-257E9998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23F84-8162-4C06-A2AA-39B81EA2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0311B-0CBE-49A7-9239-5D2BE650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A747D-8A94-4AA8-B982-395191C2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4FC94-CE36-48A8-A54F-1D1F3445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F78A2-41D8-4DE2-BBFF-22111B91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C1F6D-56F7-4566-AF63-0CE4F37E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BB443-4BEA-4344-978E-44EDF5B0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8B003-195E-4169-975E-B0762450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1BE7C-5261-4049-86C7-5D838ADB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EB0D4-A9FF-42BB-81D5-F9B5318F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AD2D-7F90-4425-8794-45D94876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D118C-A889-4C23-84C5-8D498384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ABA04-4C40-450E-9266-DD3ABAB7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261EB-4E3C-41CC-A41F-EFFAC650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48A0B-2491-42A7-8301-807FCD19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AE9C1-2CBB-4776-A3E9-72976F24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1C28A-1196-4C42-AD2F-F24F2967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2AFB6-60A2-4631-BEB7-CC6A01ED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08FE6-C1F5-4533-A61E-39610C79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E9882-77CA-45A8-A135-37339B57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16E04-13E6-4B18-8E6A-E56354DA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4FF8-BBAD-4438-B039-5B8A9FAF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ACDC3-FF41-4A2D-918C-E98998B3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A7B05-8842-43E1-BA94-655E398B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4D4EE-BDF1-4220-8480-0C4C9285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D0A49-8641-4A65-BBB3-49CC950C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6E50F-6FC1-421D-B36D-5EA0D782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A299A-4C38-4E60-B909-0AB7FC78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38393-274E-4EB0-943B-A2E8DBBE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4EDA1-E93B-4050-8E60-737BC4BD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F1FE5-6430-47E0-9AB1-224CBB4A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7D374-3EF3-4D47-8965-2419E1E3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7981-A63C-44AD-8BAB-5C7022A2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AFF52-34FB-4FC4-9FFD-58D1A08E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76E65-E820-480E-B942-923F70AD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C7C68-7DA4-4B85-A30F-6A0CE11F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BCC43-27A3-471D-83E1-1FD895FD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9163C-CE81-4415-9ED3-27CECF8A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63999-63CD-4997-8825-8ED05004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4DC51-0384-4169-AF87-76E19155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4EB40-0A7A-4CBF-ACD9-8C15F627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41472-1343-43E8-A951-27F1DFE8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781EC-43F7-4827-89A3-F1B343B4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97A0-AF52-4ECE-A839-410004D1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CC33B-8F24-4F35-9538-F006C801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67F94-CDCE-49A3-9EA3-4C473189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4E5E7-6B84-4D90-A282-E3ECEF3B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B0AE0-E4E3-4A51-804C-6998C336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0E1C6-7DB1-403B-ACB8-0921070F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1377C-D027-4E5D-8EA6-FF7BCEAE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C31BF-9E8C-42C7-8F2C-A4DE9EDC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69A6E-6F4F-4ECB-AE6E-ED963418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AFED7-AF87-4A46-B3C9-1C7831BE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4C2F8-0575-4376-95C5-6C03AFDC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E00F-6555-45BF-8422-9D2402BB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15E1D-B603-4BBC-94C6-F1342A36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57318-940A-4D33-AABA-EDFD8FFD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398B0-F93E-45CF-917B-4D72D3DE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997BB-403E-4BC0-B941-DA32AB20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96EF4-7B7B-4E3A-87F6-C50679F3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FB5C3-B2A5-4BA2-8482-EF7AE3CA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C85CF-ED77-4774-B7D1-754415E5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F517D-B184-4AE9-846A-A3AE73EA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F630C-D139-45A7-8507-B307D045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2C41F-44D7-4536-AEB1-D9C3D69E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06AD-C37E-45CA-A5EA-28AF9DDF8BEB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B91B-A348-4179-B48F-2DA1F9AB8CF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20E1-CDC0-413C-BA09-E42B6E88FCC5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24AC-F481-4BFC-91C1-1F4A3E70D08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B65E-99D7-4839-B52B-9DEF38D6B92C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7F2C-A4FA-4A18-9E42-601BEFB0A5F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C828-A1D0-415D-BC11-0853E0B22DA5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3AEC-E4C5-4AF3-A85C-E3B0F7B31EE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0E1C-23DB-40C2-A931-83861A669318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E5EE-9094-4967-ACCC-091B60DEA60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BAAC-4C83-4488-8B12-A3030A88F8B5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B626-B358-455C-AECA-4C703D3B4FA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5B26-673E-43CB-BD79-887E623D0573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DAF6-5E9B-426D-9A54-1AADA5DE5A0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A45B-6B0A-42AC-AB91-A1702BD3889F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7162-48DE-4D0F-BA4D-730C8A29C1E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AAF8-9DBE-4DC8-9187-41D06176EA3C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C031-F299-48D6-AA98-2C8CA0BF72D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E4B0-ED2D-4AE7-8B92-F1E4196AA384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95E8-48FD-48BD-928B-FE9FE39489D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9F34-D59C-4885-9B9B-19FE47A6BFE5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56ED-5955-4E40-B8FE-D9315E43345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EA07-B373-41C5-8A80-3F9D9A2F7D7A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3367-9D6A-4741-B45C-EE80251C3F8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7EBF-79CF-4CA4-B966-0F914B7970F4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A94F-B7EE-4110-BFDB-AB932E725D4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5" descr=""/>
          <p:cNvPicPr/>
          <p:nvPr/>
        </p:nvPicPr>
        <p:blipFill>
          <a:blip r:embed="rId2"/>
          <a:stretch/>
        </p:blipFill>
        <p:spPr>
          <a:xfrm>
            <a:off x="0" y="2697120"/>
            <a:ext cx="3908520" cy="244656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9" descr=""/>
          <p:cNvPicPr/>
          <p:nvPr/>
        </p:nvPicPr>
        <p:blipFill>
          <a:blip r:embed="rId3"/>
          <a:stretch/>
        </p:blipFill>
        <p:spPr>
          <a:xfrm>
            <a:off x="0" y="4251240"/>
            <a:ext cx="8582040" cy="89244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10" descr=""/>
          <p:cNvPicPr/>
          <p:nvPr/>
        </p:nvPicPr>
        <p:blipFill>
          <a:blip r:embed="rId4"/>
          <a:stretch/>
        </p:blipFill>
        <p:spPr>
          <a:xfrm>
            <a:off x="0" y="2982960"/>
            <a:ext cx="4057560" cy="216072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13" descr=""/>
          <p:cNvPicPr/>
          <p:nvPr/>
        </p:nvPicPr>
        <p:blipFill>
          <a:blip r:embed="rId5"/>
          <a:stretch/>
        </p:blipFill>
        <p:spPr>
          <a:xfrm>
            <a:off x="1260360" y="843120"/>
            <a:ext cx="2068560" cy="163512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14" descr=""/>
          <p:cNvPicPr/>
          <p:nvPr/>
        </p:nvPicPr>
        <p:blipFill>
          <a:blip r:embed="rId6"/>
          <a:stretch/>
        </p:blipFill>
        <p:spPr>
          <a:xfrm>
            <a:off x="3132000" y="1276200"/>
            <a:ext cx="2880000" cy="114300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15" descr=""/>
          <p:cNvPicPr/>
          <p:nvPr/>
        </p:nvPicPr>
        <p:blipFill>
          <a:blip r:embed="rId7"/>
          <a:stretch/>
        </p:blipFill>
        <p:spPr>
          <a:xfrm>
            <a:off x="4140360" y="2427120"/>
            <a:ext cx="3456000" cy="1467000"/>
          </a:xfrm>
          <a:prstGeom prst="rect">
            <a:avLst/>
          </a:prstGeom>
          <a:ln w="0">
            <a:noFill/>
          </a:ln>
        </p:spPr>
      </p:pic>
      <p:grpSp>
        <p:nvGrpSpPr>
          <p:cNvPr id="540" name="Group 9"/>
          <p:cNvGrpSpPr/>
          <p:nvPr/>
        </p:nvGrpSpPr>
        <p:grpSpPr>
          <a:xfrm>
            <a:off x="0" y="2011320"/>
            <a:ext cx="1187280" cy="4087800"/>
            <a:chOff x="0" y="2011320"/>
            <a:chExt cx="1187280" cy="4087800"/>
          </a:xfrm>
        </p:grpSpPr>
        <p:pic>
          <p:nvPicPr>
            <p:cNvPr id="541" name="图片 11" descr=""/>
            <p:cNvPicPr/>
            <p:nvPr/>
          </p:nvPicPr>
          <p:blipFill>
            <a:blip r:embed="rId8"/>
            <a:stretch/>
          </p:blipFill>
          <p:spPr>
            <a:xfrm>
              <a:off x="0" y="2011320"/>
              <a:ext cx="1176840" cy="199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矩形 17"/>
            <p:cNvSpPr/>
            <p:nvPr/>
          </p:nvSpPr>
          <p:spPr>
            <a:xfrm>
              <a:off x="0" y="4011120"/>
              <a:ext cx="1187280" cy="20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3" name="Group 12"/>
          <p:cNvGrpSpPr/>
          <p:nvPr/>
        </p:nvGrpSpPr>
        <p:grpSpPr>
          <a:xfrm>
            <a:off x="7236000" y="2560680"/>
            <a:ext cx="1908000" cy="5154480"/>
            <a:chOff x="7236000" y="2560680"/>
            <a:chExt cx="1908000" cy="5154480"/>
          </a:xfrm>
        </p:grpSpPr>
        <p:pic>
          <p:nvPicPr>
            <p:cNvPr id="544" name="图片 12" descr=""/>
            <p:cNvPicPr/>
            <p:nvPr/>
          </p:nvPicPr>
          <p:blipFill>
            <a:blip r:embed="rId9"/>
            <a:stretch/>
          </p:blipFill>
          <p:spPr>
            <a:xfrm>
              <a:off x="7246440" y="2560680"/>
              <a:ext cx="1897560" cy="25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矩形 19"/>
            <p:cNvSpPr/>
            <p:nvPr/>
          </p:nvSpPr>
          <p:spPr>
            <a:xfrm>
              <a:off x="7236000" y="5143320"/>
              <a:ext cx="19080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36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0A71-3C68-4AC8-9B76-A4DC628CD8A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48" name="Group 3"/>
          <p:cNvGrpSpPr/>
          <p:nvPr/>
        </p:nvGrpSpPr>
        <p:grpSpPr>
          <a:xfrm>
            <a:off x="250560" y="339840"/>
            <a:ext cx="8714160" cy="4464000"/>
            <a:chOff x="250560" y="339840"/>
            <a:chExt cx="8714160" cy="4464000"/>
          </a:xfrm>
        </p:grpSpPr>
        <p:sp>
          <p:nvSpPr>
            <p:cNvPr id="549" name="AutoShape 5"/>
            <p:cNvSpPr/>
            <p:nvPr/>
          </p:nvSpPr>
          <p:spPr>
            <a:xfrm>
              <a:off x="250920" y="424800"/>
              <a:ext cx="8713800" cy="4279320"/>
            </a:xfrm>
            <a:prstGeom prst="roundRect">
              <a:avLst>
                <a:gd name="adj" fmla="val 1079"/>
              </a:avLst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0" name="Picture 6" descr=""/>
            <p:cNvPicPr/>
            <p:nvPr/>
          </p:nvPicPr>
          <p:blipFill>
            <a:blip r:embed="rId2"/>
            <a:stretch/>
          </p:blipFill>
          <p:spPr>
            <a:xfrm>
              <a:off x="250920" y="339840"/>
              <a:ext cx="8711640" cy="9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7" descr=""/>
            <p:cNvPicPr/>
            <p:nvPr/>
          </p:nvPicPr>
          <p:blipFill>
            <a:blip r:embed="rId3"/>
            <a:stretch/>
          </p:blipFill>
          <p:spPr>
            <a:xfrm rot="10800000">
              <a:off x="250560" y="4709160"/>
              <a:ext cx="8711640" cy="94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53" name="Group 3"/>
          <p:cNvGrpSpPr/>
          <p:nvPr/>
        </p:nvGrpSpPr>
        <p:grpSpPr>
          <a:xfrm>
            <a:off x="1835280" y="3651120"/>
            <a:ext cx="5472000" cy="648000"/>
            <a:chOff x="1835280" y="3651120"/>
            <a:chExt cx="5472000" cy="648000"/>
          </a:xfrm>
        </p:grpSpPr>
        <p:sp>
          <p:nvSpPr>
            <p:cNvPr id="554" name="AutoShape 3"/>
            <p:cNvSpPr/>
            <p:nvPr/>
          </p:nvSpPr>
          <p:spPr>
            <a:xfrm>
              <a:off x="1835280" y="3651120"/>
              <a:ext cx="5472000" cy="64800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AutoShape 3"/>
            <p:cNvSpPr/>
            <p:nvPr/>
          </p:nvSpPr>
          <p:spPr>
            <a:xfrm>
              <a:off x="1835280" y="3747600"/>
              <a:ext cx="5472000" cy="4546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单击添加标题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6" name="Group 6"/>
          <p:cNvGrpSpPr/>
          <p:nvPr/>
        </p:nvGrpSpPr>
        <p:grpSpPr>
          <a:xfrm>
            <a:off x="1835280" y="2139840"/>
            <a:ext cx="5472000" cy="647640"/>
            <a:chOff x="1835280" y="2139840"/>
            <a:chExt cx="5472000" cy="647640"/>
          </a:xfrm>
        </p:grpSpPr>
        <p:sp>
          <p:nvSpPr>
            <p:cNvPr id="557" name="AutoShape 3"/>
            <p:cNvSpPr/>
            <p:nvPr/>
          </p:nvSpPr>
          <p:spPr>
            <a:xfrm>
              <a:off x="1835280" y="2139840"/>
              <a:ext cx="5472000" cy="64764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AutoShape 3"/>
            <p:cNvSpPr/>
            <p:nvPr/>
          </p:nvSpPr>
          <p:spPr>
            <a:xfrm>
              <a:off x="1835280" y="2236320"/>
              <a:ext cx="5472000" cy="4546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单击添加标题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9" name="Group 9"/>
          <p:cNvGrpSpPr/>
          <p:nvPr/>
        </p:nvGrpSpPr>
        <p:grpSpPr>
          <a:xfrm>
            <a:off x="1835280" y="700200"/>
            <a:ext cx="5472000" cy="647640"/>
            <a:chOff x="1835280" y="700200"/>
            <a:chExt cx="5472000" cy="647640"/>
          </a:xfrm>
        </p:grpSpPr>
        <p:sp>
          <p:nvSpPr>
            <p:cNvPr id="560" name="AutoShape 3"/>
            <p:cNvSpPr/>
            <p:nvPr/>
          </p:nvSpPr>
          <p:spPr>
            <a:xfrm>
              <a:off x="1835280" y="700200"/>
              <a:ext cx="5472000" cy="64764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AutoShape 3"/>
            <p:cNvSpPr/>
            <p:nvPr/>
          </p:nvSpPr>
          <p:spPr>
            <a:xfrm>
              <a:off x="1835280" y="796680"/>
              <a:ext cx="5472000" cy="4546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单击添加标题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63" name="Group 3"/>
          <p:cNvGrpSpPr/>
          <p:nvPr/>
        </p:nvGrpSpPr>
        <p:grpSpPr>
          <a:xfrm>
            <a:off x="250560" y="339840"/>
            <a:ext cx="8714160" cy="4464000"/>
            <a:chOff x="250560" y="339840"/>
            <a:chExt cx="8714160" cy="4464000"/>
          </a:xfrm>
        </p:grpSpPr>
        <p:sp>
          <p:nvSpPr>
            <p:cNvPr id="564" name="AutoShape 5"/>
            <p:cNvSpPr/>
            <p:nvPr/>
          </p:nvSpPr>
          <p:spPr>
            <a:xfrm>
              <a:off x="250920" y="424800"/>
              <a:ext cx="8713800" cy="4279320"/>
            </a:xfrm>
            <a:prstGeom prst="roundRect">
              <a:avLst>
                <a:gd name="adj" fmla="val 1079"/>
              </a:avLst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5" name="Picture 6" descr=""/>
            <p:cNvPicPr/>
            <p:nvPr/>
          </p:nvPicPr>
          <p:blipFill>
            <a:blip r:embed="rId2"/>
            <a:stretch/>
          </p:blipFill>
          <p:spPr>
            <a:xfrm>
              <a:off x="250920" y="339840"/>
              <a:ext cx="8711640" cy="9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7" descr=""/>
            <p:cNvPicPr/>
            <p:nvPr/>
          </p:nvPicPr>
          <p:blipFill>
            <a:blip r:embed="rId3"/>
            <a:stretch/>
          </p:blipFill>
          <p:spPr>
            <a:xfrm rot="10800000">
              <a:off x="250560" y="4709160"/>
              <a:ext cx="8711640" cy="9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"/>
          <p:cNvSpPr/>
          <p:nvPr/>
        </p:nvSpPr>
        <p:spPr>
          <a:xfrm>
            <a:off x="3353760" y="238932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三联素材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3lian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69" name="Group 3"/>
          <p:cNvGrpSpPr/>
          <p:nvPr/>
        </p:nvGrpSpPr>
        <p:grpSpPr>
          <a:xfrm>
            <a:off x="1042920" y="1995480"/>
            <a:ext cx="6985080" cy="649440"/>
            <a:chOff x="1042920" y="1995480"/>
            <a:chExt cx="6985080" cy="649440"/>
          </a:xfrm>
        </p:grpSpPr>
        <p:sp>
          <p:nvSpPr>
            <p:cNvPr id="570" name="AutoShape 3"/>
            <p:cNvSpPr/>
            <p:nvPr/>
          </p:nvSpPr>
          <p:spPr>
            <a:xfrm>
              <a:off x="1042920" y="1995480"/>
              <a:ext cx="6985080" cy="64944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AutoShape 3"/>
            <p:cNvSpPr/>
            <p:nvPr/>
          </p:nvSpPr>
          <p:spPr>
            <a:xfrm>
              <a:off x="1042920" y="2092320"/>
              <a:ext cx="6985080" cy="4557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单击添加标题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2" name="Group 6"/>
          <p:cNvGrpSpPr/>
          <p:nvPr/>
        </p:nvGrpSpPr>
        <p:grpSpPr>
          <a:xfrm>
            <a:off x="1116000" y="-8586720"/>
            <a:ext cx="846000" cy="12276000"/>
            <a:chOff x="1116000" y="-8586720"/>
            <a:chExt cx="846000" cy="12276000"/>
          </a:xfrm>
        </p:grpSpPr>
        <p:pic>
          <p:nvPicPr>
            <p:cNvPr id="573" name="Picture 14" descr=""/>
            <p:cNvPicPr/>
            <p:nvPr/>
          </p:nvPicPr>
          <p:blipFill>
            <a:blip r:embed="rId2"/>
            <a:stretch/>
          </p:blipFill>
          <p:spPr>
            <a:xfrm>
              <a:off x="1116000" y="-2643840"/>
              <a:ext cx="846000" cy="63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Rectangle 15"/>
            <p:cNvSpPr/>
            <p:nvPr/>
          </p:nvSpPr>
          <p:spPr>
            <a:xfrm>
              <a:off x="1420920" y="-8586720"/>
              <a:ext cx="228600" cy="59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Group 9"/>
          <p:cNvGrpSpPr/>
          <p:nvPr/>
        </p:nvGrpSpPr>
        <p:grpSpPr>
          <a:xfrm>
            <a:off x="1332000" y="-2227320"/>
            <a:ext cx="903240" cy="4457880"/>
            <a:chOff x="1332000" y="-2227320"/>
            <a:chExt cx="903240" cy="4457880"/>
          </a:xfrm>
        </p:grpSpPr>
        <p:pic>
          <p:nvPicPr>
            <p:cNvPr id="576" name="Picture 20" descr=""/>
            <p:cNvPicPr/>
            <p:nvPr/>
          </p:nvPicPr>
          <p:blipFill>
            <a:blip r:embed="rId3"/>
            <a:stretch/>
          </p:blipFill>
          <p:spPr>
            <a:xfrm>
              <a:off x="1332000" y="-18000"/>
              <a:ext cx="903240" cy="22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Rectangle 21"/>
            <p:cNvSpPr/>
            <p:nvPr/>
          </p:nvSpPr>
          <p:spPr>
            <a:xfrm>
              <a:off x="1560600" y="-2227320"/>
              <a:ext cx="152280" cy="22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73" dur="3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4" dur="3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5" dur="3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348C-638D-4AC0-B0AB-FAC25B6F832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80" name="Group 3"/>
          <p:cNvGrpSpPr/>
          <p:nvPr/>
        </p:nvGrpSpPr>
        <p:grpSpPr>
          <a:xfrm>
            <a:off x="250560" y="339840"/>
            <a:ext cx="8714160" cy="4464000"/>
            <a:chOff x="250560" y="339840"/>
            <a:chExt cx="8714160" cy="4464000"/>
          </a:xfrm>
        </p:grpSpPr>
        <p:sp>
          <p:nvSpPr>
            <p:cNvPr id="581" name="AutoShape 5"/>
            <p:cNvSpPr/>
            <p:nvPr/>
          </p:nvSpPr>
          <p:spPr>
            <a:xfrm>
              <a:off x="250920" y="424800"/>
              <a:ext cx="8713800" cy="4279320"/>
            </a:xfrm>
            <a:prstGeom prst="roundRect">
              <a:avLst>
                <a:gd name="adj" fmla="val 1079"/>
              </a:avLst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82" name="Picture 6" descr=""/>
            <p:cNvPicPr/>
            <p:nvPr/>
          </p:nvPicPr>
          <p:blipFill>
            <a:blip r:embed="rId2"/>
            <a:stretch/>
          </p:blipFill>
          <p:spPr>
            <a:xfrm>
              <a:off x="250920" y="339840"/>
              <a:ext cx="8711640" cy="9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7" descr=""/>
            <p:cNvPicPr/>
            <p:nvPr/>
          </p:nvPicPr>
          <p:blipFill>
            <a:blip r:embed="rId3"/>
            <a:stretch/>
          </p:blipFill>
          <p:spPr>
            <a:xfrm rot="10800000">
              <a:off x="250560" y="4709160"/>
              <a:ext cx="8711640" cy="94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3"/>
          <p:cNvGrpSpPr/>
          <p:nvPr/>
        </p:nvGrpSpPr>
        <p:grpSpPr>
          <a:xfrm>
            <a:off x="1042920" y="1779480"/>
            <a:ext cx="6985080" cy="647640"/>
            <a:chOff x="1042920" y="1779480"/>
            <a:chExt cx="6985080" cy="647640"/>
          </a:xfrm>
        </p:grpSpPr>
        <p:sp>
          <p:nvSpPr>
            <p:cNvPr id="586" name="AutoShape 3"/>
            <p:cNvSpPr/>
            <p:nvPr/>
          </p:nvSpPr>
          <p:spPr>
            <a:xfrm>
              <a:off x="1042920" y="1779480"/>
              <a:ext cx="6985080" cy="64764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AutoShape 3"/>
            <p:cNvSpPr/>
            <p:nvPr/>
          </p:nvSpPr>
          <p:spPr>
            <a:xfrm>
              <a:off x="1042920" y="1875960"/>
              <a:ext cx="6985080" cy="4546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单击添加标题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8" name="Group 6"/>
          <p:cNvGrpSpPr/>
          <p:nvPr/>
        </p:nvGrpSpPr>
        <p:grpSpPr>
          <a:xfrm>
            <a:off x="1332000" y="-2227320"/>
            <a:ext cx="903240" cy="4457880"/>
            <a:chOff x="1332000" y="-2227320"/>
            <a:chExt cx="903240" cy="4457880"/>
          </a:xfrm>
        </p:grpSpPr>
        <p:pic>
          <p:nvPicPr>
            <p:cNvPr id="589" name="Picture 20" descr=""/>
            <p:cNvPicPr/>
            <p:nvPr/>
          </p:nvPicPr>
          <p:blipFill>
            <a:blip r:embed="rId2"/>
            <a:stretch/>
          </p:blipFill>
          <p:spPr>
            <a:xfrm>
              <a:off x="1332000" y="-18000"/>
              <a:ext cx="903240" cy="22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Rectangle 21"/>
            <p:cNvSpPr/>
            <p:nvPr/>
          </p:nvSpPr>
          <p:spPr>
            <a:xfrm>
              <a:off x="1560600" y="-2227320"/>
              <a:ext cx="152280" cy="22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1" name="Group 9"/>
          <p:cNvGrpSpPr/>
          <p:nvPr/>
        </p:nvGrpSpPr>
        <p:grpSpPr>
          <a:xfrm>
            <a:off x="826920" y="-6138720"/>
            <a:ext cx="846000" cy="12276000"/>
            <a:chOff x="826920" y="-6138720"/>
            <a:chExt cx="846000" cy="12276000"/>
          </a:xfrm>
        </p:grpSpPr>
        <p:pic>
          <p:nvPicPr>
            <p:cNvPr id="592" name="Picture 14" descr=""/>
            <p:cNvPicPr/>
            <p:nvPr/>
          </p:nvPicPr>
          <p:blipFill>
            <a:blip r:embed="rId3"/>
            <a:stretch/>
          </p:blipFill>
          <p:spPr>
            <a:xfrm>
              <a:off x="826920" y="-195840"/>
              <a:ext cx="846000" cy="63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Rectangle 15"/>
            <p:cNvSpPr/>
            <p:nvPr/>
          </p:nvSpPr>
          <p:spPr>
            <a:xfrm>
              <a:off x="1131840" y="-6138720"/>
              <a:ext cx="228600" cy="59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3353760" y="238932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三联素材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3lian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1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95" dur="3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6" dur="3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7" dur="3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FA4A-3D41-478B-BAEA-9599ED04B0CC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97" name="Group 3"/>
          <p:cNvGrpSpPr/>
          <p:nvPr/>
        </p:nvGrpSpPr>
        <p:grpSpPr>
          <a:xfrm>
            <a:off x="250560" y="339840"/>
            <a:ext cx="8714160" cy="4464000"/>
            <a:chOff x="250560" y="339840"/>
            <a:chExt cx="8714160" cy="4464000"/>
          </a:xfrm>
        </p:grpSpPr>
        <p:sp>
          <p:nvSpPr>
            <p:cNvPr id="598" name="AutoShape 5"/>
            <p:cNvSpPr/>
            <p:nvPr/>
          </p:nvSpPr>
          <p:spPr>
            <a:xfrm>
              <a:off x="250920" y="424800"/>
              <a:ext cx="8713800" cy="4279320"/>
            </a:xfrm>
            <a:prstGeom prst="roundRect">
              <a:avLst>
                <a:gd name="adj" fmla="val 1079"/>
              </a:avLst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9" name="Picture 6" descr=""/>
            <p:cNvPicPr/>
            <p:nvPr/>
          </p:nvPicPr>
          <p:blipFill>
            <a:blip r:embed="rId2"/>
            <a:stretch/>
          </p:blipFill>
          <p:spPr>
            <a:xfrm>
              <a:off x="250920" y="339840"/>
              <a:ext cx="8711640" cy="9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7" descr=""/>
            <p:cNvPicPr/>
            <p:nvPr/>
          </p:nvPicPr>
          <p:blipFill>
            <a:blip r:embed="rId3"/>
            <a:stretch/>
          </p:blipFill>
          <p:spPr>
            <a:xfrm rot="10800000">
              <a:off x="250560" y="4709160"/>
              <a:ext cx="8711640" cy="94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5" descr=""/>
          <p:cNvPicPr/>
          <p:nvPr/>
        </p:nvPicPr>
        <p:blipFill>
          <a:blip r:embed="rId2"/>
          <a:stretch/>
        </p:blipFill>
        <p:spPr>
          <a:xfrm>
            <a:off x="0" y="2697120"/>
            <a:ext cx="3908520" cy="244656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9" descr=""/>
          <p:cNvPicPr/>
          <p:nvPr/>
        </p:nvPicPr>
        <p:blipFill>
          <a:blip r:embed="rId3"/>
          <a:stretch/>
        </p:blipFill>
        <p:spPr>
          <a:xfrm>
            <a:off x="0" y="4251240"/>
            <a:ext cx="8582040" cy="89244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10" descr=""/>
          <p:cNvPicPr/>
          <p:nvPr/>
        </p:nvPicPr>
        <p:blipFill>
          <a:blip r:embed="rId4"/>
          <a:stretch/>
        </p:blipFill>
        <p:spPr>
          <a:xfrm>
            <a:off x="0" y="2982960"/>
            <a:ext cx="4057560" cy="216072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13" descr=""/>
          <p:cNvPicPr/>
          <p:nvPr/>
        </p:nvPicPr>
        <p:blipFill>
          <a:blip r:embed="rId5"/>
          <a:stretch/>
        </p:blipFill>
        <p:spPr>
          <a:xfrm>
            <a:off x="1260360" y="843120"/>
            <a:ext cx="2068560" cy="163512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14" descr=""/>
          <p:cNvPicPr/>
          <p:nvPr/>
        </p:nvPicPr>
        <p:blipFill>
          <a:blip r:embed="rId6"/>
          <a:stretch/>
        </p:blipFill>
        <p:spPr>
          <a:xfrm>
            <a:off x="3132000" y="1276200"/>
            <a:ext cx="2880000" cy="11430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15" descr=""/>
          <p:cNvPicPr/>
          <p:nvPr/>
        </p:nvPicPr>
        <p:blipFill>
          <a:blip r:embed="rId7"/>
          <a:stretch/>
        </p:blipFill>
        <p:spPr>
          <a:xfrm>
            <a:off x="4140360" y="2427120"/>
            <a:ext cx="3456000" cy="1467000"/>
          </a:xfrm>
          <a:prstGeom prst="rect">
            <a:avLst/>
          </a:prstGeom>
          <a:ln w="0">
            <a:noFill/>
          </a:ln>
        </p:spPr>
      </p:pic>
      <p:grpSp>
        <p:nvGrpSpPr>
          <p:cNvPr id="608" name="Group 9"/>
          <p:cNvGrpSpPr/>
          <p:nvPr/>
        </p:nvGrpSpPr>
        <p:grpSpPr>
          <a:xfrm>
            <a:off x="0" y="2011320"/>
            <a:ext cx="1187280" cy="4087800"/>
            <a:chOff x="0" y="2011320"/>
            <a:chExt cx="1187280" cy="4087800"/>
          </a:xfrm>
        </p:grpSpPr>
        <p:pic>
          <p:nvPicPr>
            <p:cNvPr id="609" name="图片 11" descr=""/>
            <p:cNvPicPr/>
            <p:nvPr/>
          </p:nvPicPr>
          <p:blipFill>
            <a:blip r:embed="rId8"/>
            <a:stretch/>
          </p:blipFill>
          <p:spPr>
            <a:xfrm>
              <a:off x="0" y="2011320"/>
              <a:ext cx="1176840" cy="199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矩形 17"/>
            <p:cNvSpPr/>
            <p:nvPr/>
          </p:nvSpPr>
          <p:spPr>
            <a:xfrm>
              <a:off x="0" y="4011120"/>
              <a:ext cx="1187280" cy="20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1" name="Group 12"/>
          <p:cNvGrpSpPr/>
          <p:nvPr/>
        </p:nvGrpSpPr>
        <p:grpSpPr>
          <a:xfrm>
            <a:off x="7236000" y="2560680"/>
            <a:ext cx="1908000" cy="5154480"/>
            <a:chOff x="7236000" y="2560680"/>
            <a:chExt cx="1908000" cy="5154480"/>
          </a:xfrm>
        </p:grpSpPr>
        <p:pic>
          <p:nvPicPr>
            <p:cNvPr id="612" name="图片 12" descr=""/>
            <p:cNvPicPr/>
            <p:nvPr/>
          </p:nvPicPr>
          <p:blipFill>
            <a:blip r:embed="rId9"/>
            <a:stretch/>
          </p:blipFill>
          <p:spPr>
            <a:xfrm>
              <a:off x="7246440" y="2560680"/>
              <a:ext cx="1897560" cy="25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矩形 19"/>
            <p:cNvSpPr/>
            <p:nvPr/>
          </p:nvSpPr>
          <p:spPr>
            <a:xfrm>
              <a:off x="7236000" y="5143320"/>
              <a:ext cx="19080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2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36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5:46:00Z</dcterms:created>
  <dc:creator>三联素材  www.3lian.com</dc:creator>
  <dc:description>三联素材  www.3lian.com</dc:description>
  <cp:keywords/>
  <dc:language>en-US</dc:language>
  <cp:lastModifiedBy>news</cp:lastModifiedBy>
  <cp:lastPrinted>1899-12-30T00:00:00Z</cp:lastPrinted>
  <dcterms:modified xsi:type="dcterms:W3CDTF">2012-04-21T03:27:21Z</dcterms:modified>
  <cp:revision>19</cp:revision>
  <dc:subject/>
  <dc:title>三联素材  www.3l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