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7BD-B2FF-4823-B3AC-C5686C13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6E3-F125-40A3-A455-60466A0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7A7-750E-4CE0-BF88-5155BD9B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A8D-0D65-4244-8028-9D3C691C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4B7D-A8CA-46D6-90BE-1D0F5A7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4C3-6BA8-4D0A-83B0-E9B7DF9C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0202-23E4-4478-A0AF-1658BDA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CAA2-1982-4F9C-8356-D7005A74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EF9-8B17-43B6-BE7E-198201C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EB1-716E-4723-8D3D-869D822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BD3-6F93-4E0C-9C22-5373053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29F-74AC-4755-A5EC-5DAD582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8F3A-64A9-463F-9584-39FBAD1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5B6-EFE3-4783-ABF9-DA93F47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4F0-407D-4384-8827-7950F24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F02-EA75-4C43-9323-A070FCB2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E78-3C7F-4AC2-AF38-9F9F0E3A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A3D6-3940-4037-9F2A-73FD98B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9D8D-7DD6-4F17-AE5B-E0C287FD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180D-9A02-4ECD-B6A6-1FC97B28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97B3-6DE5-4058-A095-04928A9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4DC9-B0F0-4066-9C95-A4A0463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162-5A7F-469A-86BD-6CF6CBEE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A6E6-83C3-4B9B-BE33-8CD4789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9140-E33B-4447-A3A4-9F62D7F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FDE5-ECA4-419E-8D9C-63A1456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D01F-CE05-4443-819F-A72BE11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F2D0-4E6B-4BC6-96D2-3965C12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D3ED-9391-48AD-BD21-092D7506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AF67-3D98-495B-9A94-51B10881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160-3615-439E-8F30-D7749286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93C-71E8-4E77-8B24-B11E1753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2B3-7FD8-4EAE-832E-EB21099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232-14B0-45AB-BE9E-C25A2FB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3F7-BE0F-4D76-9706-11F9AB3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E11-36A9-428A-82E5-3AEF373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6FE-52AD-4B9B-B315-56BEDD5E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224"/>
          <p:cNvPicPr/>
          <p:nvPr/>
        </p:nvPicPr>
        <p:blipFill>
          <a:blip r:embed="rId2"/>
          <a:stretch/>
        </p:blipFill>
        <p:spPr>
          <a:xfrm>
            <a:off x="11160" y="0"/>
            <a:ext cx="9132840" cy="415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46E5-C6E0-4A70-81F7-54D4D5B2AC9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9328-B421-4536-9D79-3E36C598BBE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20060624164825394"/>
          <p:cNvPicPr/>
          <p:nvPr/>
        </p:nvPicPr>
        <p:blipFill>
          <a:blip r:embed="rId1"/>
          <a:stretch/>
        </p:blipFill>
        <p:spPr>
          <a:xfrm>
            <a:off x="108000" y="117360"/>
            <a:ext cx="8945640" cy="672804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4" descr=""/>
          <p:cNvPicPr/>
          <p:nvPr/>
        </p:nvPicPr>
        <p:blipFill>
          <a:blip r:embed="rId2"/>
          <a:stretch/>
        </p:blipFill>
        <p:spPr>
          <a:xfrm>
            <a:off x="1176480" y="755640"/>
            <a:ext cx="6314760" cy="156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236040" y="3573360"/>
            <a:ext cx="195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临沭县实验小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沈 庆 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35480" y="414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87280" y="220680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孩子，你得把它放回湖里去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38600" y="3500280"/>
            <a:ext cx="2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爸爸！为什么？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48800" y="2349360"/>
            <a:ext cx="12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你还会钓到别的鱼的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64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是不会钓到这么大的鱼了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15640" y="2276640"/>
            <a:ext cx="7056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抬头看了一下四周，到处都是静悄悄的，皎洁的月光下，看不见其他人和船的影子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我再次把乞求的目光投向了父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R5002"/>
          <p:cNvPicPr/>
          <p:nvPr/>
        </p:nvPicPr>
        <p:blipFill>
          <a:blip r:embed="rId1"/>
          <a:stretch/>
        </p:blipFill>
        <p:spPr>
          <a:xfrm>
            <a:off x="-792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000080" y="27860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，你得把它放回湖里去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76720" y="2781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32000" y="364500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87280" y="2349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盯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鲈鱼看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好一会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然后把目光转向了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，你得把它放回湖里去。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68360" y="213372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道德只是个简单的是与非的问题，实践起来却很难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20000" y="4437000"/>
            <a:ext cx="1614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36360" y="-324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35640" y="1268280"/>
            <a:ext cx="33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慢慢地把鱼钩从大鲈鱼的嘴唇上取下来，依依不舍地把它放回湖里。大鲈鱼有力地摆动着身子，一转眼便消失在湖水中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2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8709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68360" y="213372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道德只是个简单的是与非的问题，实践起来却很难。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61040" y="4365720"/>
            <a:ext cx="1597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360" y="46080"/>
            <a:ext cx="9118800" cy="6840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3213000"/>
            <a:ext cx="820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衡量人的真正品德，是看他在知道没有人发觉的时候做些什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孟德斯鸠（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ji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68360" y="21337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道德只是个简单的是与非的问题，实践起来却很难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58160" y="4653000"/>
            <a:ext cx="1671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727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鲈鱼    鱼鳃    鱼饵     翕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沮丧    诱惑     抉择    告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实践    启示     操纵    皎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小心翼翼     不容争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260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鲈鱼：体长可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厘米，侧扁，口大，下颌突出。银灰色，背部和背鳍上有小黑斑。以鱼虾为食，生长快，肉嫩味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37180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保证鲈鱼的繁衍，产卵期间禁捕。禁捕结束的日子被称为——捕捞开放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3429000"/>
            <a:ext cx="2235240" cy="3086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68360" y="213372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德只是个简单的是与非的问题，实践起来却很难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7920" y="54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FR5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2640" y="2356920"/>
            <a:ext cx="684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啊，好大的鱼！我从来没有见过这么大的鲈鱼。我和父亲得意地欣赏着这条漂亮的大鲈鱼，看着鱼鳃在银色的月光下轻轻翕动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2060640"/>
            <a:ext cx="6840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啊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大的鱼！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来没有见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么大的鲈鱼。我和父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地欣赏着这条漂亮的大鲈鱼，看着鱼鳃在银色的月光下轻轻翕动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R5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619280" y="206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了好长时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鱼竿突然剧烈地抖动了一下，一定是个大家伙上钩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68360" y="2133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9640" y="98100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好长时间，鱼竿突然剧烈地抖动了一下，一定是个大家伙上钩了。我小心翼翼地一收一放，熟练地操纵着。也许是鱼想摆脱我的鱼钩，不停地甩动着鱼尾并跳跃着，湖面上不时发出“啪啪”的声音，溅起不少水花。我等那条鱼挣扎得筋疲力尽了，迅速把它拉上岸来。啊，好大的鱼！我从来没见过这么大的鲈鱼。我和父亲得意地欣赏着这条漂亮的大鲈鱼，看着鱼鳃在银色的月光下轻轻翕动着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7440" y="5589720"/>
            <a:ext cx="100332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9:10:19Z</dcterms:created>
  <dc:creator>lichengquan</dc:creator>
  <dc:description/>
  <dc:language>en-US</dc:language>
  <cp:lastModifiedBy>yt</cp:lastModifiedBy>
  <cp:lastPrinted>1899-12-30T00:00:00Z</cp:lastPrinted>
  <dcterms:modified xsi:type="dcterms:W3CDTF">2009-10-12T00:52:50Z</dcterms:modified>
  <cp:revision>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