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984b99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4d3574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83252890"/>
        <c:axId val="29178831"/>
      </c:barChart>
      <c:catAx>
        <c:axId val="83252890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29178831"/>
        <c:crossesAt val="0"/>
        <c:auto val="1"/>
        <c:lblAlgn val="ctr"/>
        <c:lblOffset val="100"/>
        <c:noMultiLvlLbl val="0"/>
      </c:catAx>
      <c:valAx>
        <c:axId val="29178831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4d3574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83252890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B79CD-6DF8-4946-9358-7AA0BDA35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57BEB-9EA1-48EC-ACF2-A3BD054AE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B5D3E-525D-4DB0-9774-C8B41F290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CA951-AE19-4E50-95FF-687B8E4E6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991C5-789C-4713-A306-D6CBE75D7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A5B1E-7E61-4166-9268-6A2876751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5252F-765E-4219-8A95-F54925F02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9E491-4183-45E3-9D6B-DC53CE32D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C1A66-AF21-4A08-8BAE-F4CDC8BD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89B0B-08DC-44E8-9953-FB89C73C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B60E7-41A3-44AE-8AD3-901CB6BFD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14F7-796E-4D7A-8D04-8C1AF884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67-7535-4D8C-A385-BFB3535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840A-00DC-440D-AE40-A8FB2623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7FF-491F-4D5A-AE9B-61EC182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708-86D1-422A-B155-D943E0F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D08-482C-4BCB-9DCE-8B5F5D06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15E-0812-4004-A863-AB7A6F86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CC2-0223-4264-ADB3-D1F595EB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5CD-CB3A-4CBE-A343-A69510D0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315-E519-4D9E-BC19-523027C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592-9884-4D20-8F25-044D35E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448-9152-478C-916B-8D20500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C77022-0B63-402C-A45A-409F3B4E5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360" y="54468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rt Presentation Title Here</a:t>
            </a:r>
            <a:br>
              <a:rPr sz="44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04720" y="81720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AutoShape 5"/>
          <p:cNvCxnSpPr>
            <a:stCxn id="64" idx="0"/>
            <a:endCxn id="62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"/>
          <p:cNvCxnSpPr>
            <a:stCxn id="62" idx="5"/>
            <a:endCxn id="63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984b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1"/>
          <p:cNvSpPr/>
          <p:nvPr/>
        </p:nvSpPr>
        <p:spPr>
          <a:xfrm>
            <a:off x="1179360" y="3357720"/>
            <a:ext cx="1686240" cy="1685880"/>
          </a:xfrm>
          <a:prstGeom prst="ellipse">
            <a:avLst/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"/>
          <p:cNvSpPr/>
          <p:nvPr/>
        </p:nvSpPr>
        <p:spPr>
          <a:xfrm>
            <a:off x="3827520" y="3622680"/>
            <a:ext cx="1168200" cy="116856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"/>
          <p:cNvSpPr/>
          <p:nvPr/>
        </p:nvSpPr>
        <p:spPr>
          <a:xfrm>
            <a:off x="3575160" y="518328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"/>
          <p:cNvSpPr/>
          <p:nvPr/>
        </p:nvSpPr>
        <p:spPr>
          <a:xfrm>
            <a:off x="3575160" y="2055960"/>
            <a:ext cx="1168200" cy="1168200"/>
          </a:xfrm>
          <a:prstGeom prst="ellips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180040" y="205740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6"/>
          <p:cNvCxnSpPr>
            <a:stCxn id="75" idx="7"/>
            <a:endCxn id="78" idx="2"/>
          </p:cNvCxnSpPr>
          <p:nvPr/>
        </p:nvCxnSpPr>
        <p:spPr>
          <a:xfrm flipV="1">
            <a:off x="2616120" y="2639160"/>
            <a:ext cx="959760" cy="96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7"/>
          <p:cNvCxnSpPr>
            <a:stCxn id="75" idx="5"/>
            <a:endCxn id="77" idx="2"/>
          </p:cNvCxnSpPr>
          <p:nvPr/>
        </p:nvCxnSpPr>
        <p:spPr>
          <a:xfrm>
            <a:off x="2616120" y="479412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AutoShape 8"/>
          <p:cNvCxnSpPr>
            <a:stCxn id="75" idx="6"/>
            <a:endCxn id="76" idx="2"/>
          </p:cNvCxnSpPr>
          <p:nvPr/>
        </p:nvCxnSpPr>
        <p:spPr>
          <a:xfrm>
            <a:off x="2863440" y="419904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AutoShape 9"/>
          <p:cNvSpPr/>
          <p:nvPr/>
        </p:nvSpPr>
        <p:spPr>
          <a:xfrm>
            <a:off x="5180040" y="36212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5180040" y="5153040"/>
            <a:ext cx="3535200" cy="1117440"/>
          </a:xfrm>
          <a:prstGeom prst="roundRect">
            <a:avLst>
              <a:gd name="adj" fmla="val 8153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984b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9"/>
          <p:cNvCxnSpPr>
            <a:stCxn id="92" idx="2"/>
            <a:endCxn id="93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97979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84b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4d35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 flipV="1">
            <a:off x="1030320" y="5295240"/>
            <a:ext cx="4683240" cy="111132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1320"/>
              <a:gd name="textAreaBottom" fmla="*/ 94356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V="1">
            <a:off x="1697040" y="4132440"/>
            <a:ext cx="3370320" cy="107928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280"/>
              <a:gd name="textAreaBottom" fmla="*/ 8946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84b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4d35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18" name="AutoShape 2"/>
          <p:cNvCxnSpPr>
            <a:endCxn id="119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4d3574"/>
            </a:solidFill>
            <a:miter/>
            <a:tailEnd len="med" type="triangle" w="med"/>
          </a:ln>
        </p:spPr>
      </p:cxnSp>
      <p:sp>
        <p:nvSpPr>
          <p:cNvPr id="119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5"/>
          <p:cNvCxnSpPr>
            <a:stCxn id="120" idx="0"/>
            <a:endCxn id="120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" name="AutoShape 6"/>
          <p:cNvCxnSpPr>
            <a:endCxn id="120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23" name="Text Box 7"/>
          <p:cNvSpPr/>
          <p:nvPr/>
        </p:nvSpPr>
        <p:spPr>
          <a:xfrm>
            <a:off x="720720" y="144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39Z</dcterms:created>
  <dc:creator>User</dc:creator>
  <dc:description/>
  <dc:language>en-US</dc:language>
  <cp:lastModifiedBy>Administrator</cp:lastModifiedBy>
  <dcterms:modified xsi:type="dcterms:W3CDTF">2015-03-02T02:55:21Z</dcterms:modified>
  <cp:revision>6</cp:revision>
  <dc:subject/>
  <dc:title>Insert Presentation Title Here Insert Presentation Summary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icense">
    <vt:lpwstr>&lt;a href="http://templates.services.openoffice.org/bsd-license"&gt;BSD&lt;/a&gt;</vt:lpwstr>
  </property>
</Properties>
</file>