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B57-792A-4B34-B875-2F5F7876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4EA-D613-4831-8F24-46F3AECD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A9D-CEA9-4378-8012-3C8C2818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EF0-E245-4508-B1F8-0117D7E1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2A9-938A-4FAE-99F5-C13DE4AB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D14-9F94-47EB-A26B-84C83E8A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A7F4-ED58-49EF-B546-350B934D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BB1-614D-44BD-9BAB-CD043480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C501-0E3A-46F8-B5D3-9198AA9C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D22-AAC1-459D-BDE2-3C47FD12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C04-325D-4501-A2AB-D0BC6412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657-FD87-4D7E-B92F-13CDB744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C97D-2DB6-4CE0-8EA3-752EC31FE4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657072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02120" y="1571760"/>
            <a:ext cx="14742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绿色资源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 flipH="1">
            <a:off x="1352520" y="1643040"/>
            <a:ext cx="1440" cy="3000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55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000160" y="857160"/>
            <a:ext cx="6067440" cy="28083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2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2000160" y="71280"/>
            <a:ext cx="6067440" cy="28083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3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2143080" y="2428920"/>
            <a:ext cx="6067440" cy="2808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4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000160" y="1643040"/>
            <a:ext cx="606744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4"/>
          <p:cNvSpPr/>
          <p:nvPr/>
        </p:nvSpPr>
        <p:spPr>
          <a:xfrm>
            <a:off x="2221920" y="16714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be69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36"/>
          <p:cNvSpPr/>
          <p:nvPr/>
        </p:nvSpPr>
        <p:spPr>
          <a:xfrm>
            <a:off x="2928960" y="1636560"/>
            <a:ext cx="0" cy="649440"/>
          </a:xfrm>
          <a:prstGeom prst="line">
            <a:avLst/>
          </a:prstGeom>
          <a:ln w="12600">
            <a:solidFill>
              <a:srgbClr val="6b402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8"/>
          <p:cNvSpPr/>
          <p:nvPr/>
        </p:nvSpPr>
        <p:spPr>
          <a:xfrm>
            <a:off x="2221920" y="23572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4234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38"/>
          <p:cNvSpPr/>
          <p:nvPr/>
        </p:nvSpPr>
        <p:spPr>
          <a:xfrm>
            <a:off x="2928960" y="2422440"/>
            <a:ext cx="0" cy="649440"/>
          </a:xfrm>
          <a:prstGeom prst="line">
            <a:avLst/>
          </a:prstGeom>
          <a:ln w="12600">
            <a:solidFill>
              <a:srgbClr val="9f804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1"/>
          <p:cNvSpPr/>
          <p:nvPr/>
        </p:nvSpPr>
        <p:spPr>
          <a:xfrm>
            <a:off x="2221920" y="31431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be69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40"/>
          <p:cNvSpPr/>
          <p:nvPr/>
        </p:nvSpPr>
        <p:spPr>
          <a:xfrm>
            <a:off x="2928960" y="3208320"/>
            <a:ext cx="0" cy="649440"/>
          </a:xfrm>
          <a:prstGeom prst="line">
            <a:avLst/>
          </a:prstGeom>
          <a:ln w="12600">
            <a:solidFill>
              <a:srgbClr val="6b402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34"/>
          <p:cNvSpPr/>
          <p:nvPr/>
        </p:nvSpPr>
        <p:spPr>
          <a:xfrm>
            <a:off x="2221920" y="40068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4234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42"/>
          <p:cNvSpPr/>
          <p:nvPr/>
        </p:nvSpPr>
        <p:spPr>
          <a:xfrm>
            <a:off x="2928960" y="3994200"/>
            <a:ext cx="0" cy="649080"/>
          </a:xfrm>
          <a:prstGeom prst="line">
            <a:avLst/>
          </a:prstGeom>
          <a:ln w="12600">
            <a:solidFill>
              <a:srgbClr val="9f804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3"/>
          <p:cNvSpPr/>
          <p:nvPr/>
        </p:nvSpPr>
        <p:spPr>
          <a:xfrm>
            <a:off x="3067200" y="1714680"/>
            <a:ext cx="4071960" cy="500040"/>
          </a:xfrm>
          <a:prstGeom prst="rect">
            <a:avLst/>
          </a:prstGeom>
          <a:solidFill>
            <a:srgbClr val="f0b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4"/>
          <p:cNvSpPr/>
          <p:nvPr/>
        </p:nvSpPr>
        <p:spPr>
          <a:xfrm>
            <a:off x="3067200" y="2500200"/>
            <a:ext cx="4071960" cy="500040"/>
          </a:xfrm>
          <a:prstGeom prst="rect">
            <a:avLst/>
          </a:prstGeom>
          <a:solidFill>
            <a:srgbClr val="664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5"/>
          <p:cNvSpPr/>
          <p:nvPr/>
        </p:nvSpPr>
        <p:spPr>
          <a:xfrm>
            <a:off x="3067200" y="3286080"/>
            <a:ext cx="4071960" cy="500040"/>
          </a:xfrm>
          <a:prstGeom prst="rect">
            <a:avLst/>
          </a:prstGeom>
          <a:solidFill>
            <a:srgbClr val="f0b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6"/>
          <p:cNvSpPr/>
          <p:nvPr/>
        </p:nvSpPr>
        <p:spPr>
          <a:xfrm>
            <a:off x="3067200" y="4071960"/>
            <a:ext cx="4071960" cy="500040"/>
          </a:xfrm>
          <a:prstGeom prst="rect">
            <a:avLst/>
          </a:prstGeom>
          <a:solidFill>
            <a:srgbClr val="664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0"/>
          <p:cNvSpPr/>
          <p:nvPr/>
        </p:nvSpPr>
        <p:spPr>
          <a:xfrm>
            <a:off x="44931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1"/>
          <p:cNvSpPr/>
          <p:nvPr/>
        </p:nvSpPr>
        <p:spPr>
          <a:xfrm>
            <a:off x="4494600" y="1773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2"/>
          <p:cNvSpPr/>
          <p:nvPr/>
        </p:nvSpPr>
        <p:spPr>
          <a:xfrm>
            <a:off x="45644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1"/>
          <p:cNvSpPr/>
          <p:nvPr/>
        </p:nvSpPr>
        <p:spPr>
          <a:xfrm>
            <a:off x="4493160" y="3416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5437080" y="2484360"/>
            <a:ext cx="2563920" cy="2659320"/>
          </a:xfrm>
          <a:custGeom>
            <a:avLst/>
            <a:gdLst>
              <a:gd name="textAreaLeft" fmla="*/ 0 w 2563920"/>
              <a:gd name="textAreaRight" fmla="*/ 2564280 w 2563920"/>
              <a:gd name="textAreaTop" fmla="*/ 0 h 2659320"/>
              <a:gd name="textAreaBottom" fmla="*/ 2659680 h 265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664234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3290760" y="2484360"/>
            <a:ext cx="2702160" cy="2659320"/>
          </a:xfrm>
          <a:custGeom>
            <a:avLst/>
            <a:gdLst>
              <a:gd name="textAreaLeft" fmla="*/ 0 w 2702160"/>
              <a:gd name="textAreaRight" fmla="*/ 2702520 w 2702160"/>
              <a:gd name="textAreaTop" fmla="*/ 0 h 2659320"/>
              <a:gd name="textAreaBottom" fmla="*/ 2659680 h 265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8" y="0"/>
                </a:lnTo>
                <a:lnTo>
                  <a:pt x="21600" y="10800"/>
                </a:lnTo>
                <a:lnTo>
                  <a:pt x="17808" y="21600"/>
                </a:lnTo>
                <a:lnTo>
                  <a:pt x="0" y="21600"/>
                </a:lnTo>
                <a:lnTo>
                  <a:pt x="3792" y="10800"/>
                </a:lnTo>
                <a:close/>
              </a:path>
            </a:pathLst>
          </a:custGeom>
          <a:solidFill>
            <a:srgbClr val="f0be6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1143000" y="2484360"/>
            <a:ext cx="2701800" cy="2659320"/>
          </a:xfrm>
          <a:custGeom>
            <a:avLst/>
            <a:gdLst>
              <a:gd name="textAreaLeft" fmla="*/ 0 w 2701800"/>
              <a:gd name="textAreaRight" fmla="*/ 2701800 w 2701800"/>
              <a:gd name="textAreaTop" fmla="*/ 0 h 2659320"/>
              <a:gd name="textAreaBottom" fmla="*/ 2659680 h 265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8" y="0"/>
                </a:lnTo>
                <a:lnTo>
                  <a:pt x="21600" y="10800"/>
                </a:lnTo>
                <a:lnTo>
                  <a:pt x="17808" y="21600"/>
                </a:lnTo>
                <a:lnTo>
                  <a:pt x="0" y="21600"/>
                </a:lnTo>
                <a:lnTo>
                  <a:pt x="3792" y="10800"/>
                </a:lnTo>
                <a:close/>
              </a:path>
            </a:pathLst>
          </a:custGeom>
          <a:solidFill>
            <a:srgbClr val="664234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1351080" y="1714680"/>
            <a:ext cx="1869840" cy="527040"/>
          </a:xfrm>
          <a:prstGeom prst="roundRect">
            <a:avLst>
              <a:gd name="adj" fmla="val 50000"/>
            </a:avLst>
          </a:prstGeom>
          <a:solidFill>
            <a:srgbClr val="f0be69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3459240" y="1714680"/>
            <a:ext cx="1869840" cy="527040"/>
          </a:xfrm>
          <a:prstGeom prst="roundRect">
            <a:avLst>
              <a:gd name="adj" fmla="val 50000"/>
            </a:avLst>
          </a:prstGeom>
          <a:solidFill>
            <a:srgbClr val="664234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5576760" y="1714680"/>
            <a:ext cx="1870200" cy="527040"/>
          </a:xfrm>
          <a:prstGeom prst="roundRect">
            <a:avLst>
              <a:gd name="adj" fmla="val 50000"/>
            </a:avLst>
          </a:prstGeom>
          <a:solidFill>
            <a:srgbClr val="f0be69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0"/>
          <p:cNvSpPr/>
          <p:nvPr/>
        </p:nvSpPr>
        <p:spPr>
          <a:xfrm>
            <a:off x="2288160" y="3581280"/>
            <a:ext cx="100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4431240" y="3510000"/>
            <a:ext cx="100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6503040" y="3510000"/>
            <a:ext cx="100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6"/>
          <p:cNvSpPr/>
          <p:nvPr/>
        </p:nvSpPr>
        <p:spPr>
          <a:xfrm>
            <a:off x="2203560" y="4929120"/>
            <a:ext cx="1084320" cy="214560"/>
          </a:xfrm>
          <a:prstGeom prst="roundRect">
            <a:avLst>
              <a:gd name="adj" fmla="val 50000"/>
            </a:avLst>
          </a:prstGeom>
          <a:solidFill>
            <a:srgbClr val="664234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7"/>
          <p:cNvSpPr/>
          <p:nvPr/>
        </p:nvSpPr>
        <p:spPr>
          <a:xfrm>
            <a:off x="2077920" y="5214960"/>
            <a:ext cx="1363680" cy="214200"/>
          </a:xfrm>
          <a:prstGeom prst="roundRect">
            <a:avLst>
              <a:gd name="adj" fmla="val 50000"/>
            </a:avLst>
          </a:prstGeom>
          <a:solidFill>
            <a:srgbClr val="f0be69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8"/>
          <p:cNvSpPr/>
          <p:nvPr/>
        </p:nvSpPr>
        <p:spPr>
          <a:xfrm>
            <a:off x="2203560" y="5500800"/>
            <a:ext cx="1084320" cy="214200"/>
          </a:xfrm>
          <a:prstGeom prst="roundRect">
            <a:avLst>
              <a:gd name="adj" fmla="val 50000"/>
            </a:avLst>
          </a:prstGeom>
          <a:solidFill>
            <a:srgbClr val="664234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9"/>
          <p:cNvSpPr/>
          <p:nvPr/>
        </p:nvSpPr>
        <p:spPr>
          <a:xfrm>
            <a:off x="2392200" y="5786280"/>
            <a:ext cx="739800" cy="214560"/>
          </a:xfrm>
          <a:prstGeom prst="roundRect">
            <a:avLst>
              <a:gd name="adj" fmla="val 50000"/>
            </a:avLst>
          </a:prstGeom>
          <a:solidFill>
            <a:srgbClr val="f0be69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21"/>
          <p:cNvGrpSpPr/>
          <p:nvPr/>
        </p:nvGrpSpPr>
        <p:grpSpPr>
          <a:xfrm>
            <a:off x="3597120" y="3000240"/>
            <a:ext cx="2214720" cy="2311560"/>
            <a:chOff x="3597120" y="3000240"/>
            <a:chExt cx="2214720" cy="2311560"/>
          </a:xfrm>
        </p:grpSpPr>
        <p:sp>
          <p:nvSpPr>
            <p:cNvPr id="93" name="直接连接符 11"/>
            <p:cNvSpPr/>
            <p:nvPr/>
          </p:nvSpPr>
          <p:spPr>
            <a:xfrm>
              <a:off x="4757760" y="3000240"/>
              <a:ext cx="1054080" cy="1440"/>
            </a:xfrm>
            <a:prstGeom prst="line">
              <a:avLst/>
            </a:prstGeom>
            <a:ln w="19080">
              <a:solidFill>
                <a:srgbClr val="f0be6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12"/>
            <p:cNvSpPr/>
            <p:nvPr/>
          </p:nvSpPr>
          <p:spPr>
            <a:xfrm>
              <a:off x="3597120" y="5310360"/>
              <a:ext cx="1170000" cy="1440"/>
            </a:xfrm>
            <a:prstGeom prst="line">
              <a:avLst/>
            </a:prstGeom>
            <a:ln w="19080">
              <a:solidFill>
                <a:srgbClr val="f0be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13"/>
            <p:cNvSpPr/>
            <p:nvPr/>
          </p:nvSpPr>
          <p:spPr>
            <a:xfrm flipH="1">
              <a:off x="4771800" y="3000240"/>
              <a:ext cx="2880" cy="2303640"/>
            </a:xfrm>
            <a:prstGeom prst="line">
              <a:avLst/>
            </a:prstGeom>
            <a:ln w="19080">
              <a:solidFill>
                <a:srgbClr val="f0be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22"/>
          <p:cNvGrpSpPr/>
          <p:nvPr/>
        </p:nvGrpSpPr>
        <p:grpSpPr>
          <a:xfrm>
            <a:off x="3529080" y="4643280"/>
            <a:ext cx="2293920" cy="963720"/>
            <a:chOff x="3529080" y="4643280"/>
            <a:chExt cx="2293920" cy="963720"/>
          </a:xfrm>
        </p:grpSpPr>
        <p:sp>
          <p:nvSpPr>
            <p:cNvPr id="97" name="直接连接符 15"/>
            <p:cNvSpPr/>
            <p:nvPr/>
          </p:nvSpPr>
          <p:spPr>
            <a:xfrm>
              <a:off x="5247000" y="4643280"/>
              <a:ext cx="576000" cy="0"/>
            </a:xfrm>
            <a:prstGeom prst="line">
              <a:avLst/>
            </a:prstGeom>
            <a:ln w="19080">
              <a:solidFill>
                <a:srgbClr val="664234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16"/>
            <p:cNvSpPr/>
            <p:nvPr/>
          </p:nvSpPr>
          <p:spPr>
            <a:xfrm>
              <a:off x="3529080" y="5607000"/>
              <a:ext cx="1730520" cy="0"/>
            </a:xfrm>
            <a:prstGeom prst="line">
              <a:avLst/>
            </a:prstGeom>
            <a:ln w="19080">
              <a:solidFill>
                <a:srgbClr val="6642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17"/>
            <p:cNvSpPr/>
            <p:nvPr/>
          </p:nvSpPr>
          <p:spPr>
            <a:xfrm flipH="1">
              <a:off x="5247000" y="4643280"/>
              <a:ext cx="1440" cy="960840"/>
            </a:xfrm>
            <a:prstGeom prst="line">
              <a:avLst/>
            </a:prstGeom>
            <a:ln w="19080">
              <a:solidFill>
                <a:srgbClr val="6642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12"/>
          <p:cNvSpPr/>
          <p:nvPr/>
        </p:nvSpPr>
        <p:spPr>
          <a:xfrm>
            <a:off x="62852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6213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20"/>
          <p:cNvSpPr/>
          <p:nvPr/>
        </p:nvSpPr>
        <p:spPr>
          <a:xfrm>
            <a:off x="1287360" y="1428840"/>
            <a:ext cx="3000600" cy="3357360"/>
          </a:xfrm>
          <a:prstGeom prst="ellipse">
            <a:avLst/>
          </a:prstGeom>
          <a:solidFill>
            <a:srgbClr val="f0b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4"/>
          <p:cNvSpPr/>
          <p:nvPr/>
        </p:nvSpPr>
        <p:spPr>
          <a:xfrm>
            <a:off x="22863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6"/>
          <p:cNvGrpSpPr/>
          <p:nvPr/>
        </p:nvGrpSpPr>
        <p:grpSpPr>
          <a:xfrm>
            <a:off x="2080080" y="720000"/>
            <a:ext cx="5278320" cy="5549040"/>
            <a:chOff x="2080080" y="720000"/>
            <a:chExt cx="5278320" cy="5549040"/>
          </a:xfrm>
        </p:grpSpPr>
        <p:grpSp>
          <p:nvGrpSpPr>
            <p:cNvPr id="110" name="组合 22"/>
            <p:cNvGrpSpPr/>
            <p:nvPr/>
          </p:nvGrpSpPr>
          <p:grpSpPr>
            <a:xfrm>
              <a:off x="2080080" y="720000"/>
              <a:ext cx="5278320" cy="5549040"/>
              <a:chOff x="2080080" y="720000"/>
              <a:chExt cx="5278320" cy="5549040"/>
            </a:xfrm>
          </p:grpSpPr>
          <p:grpSp>
            <p:nvGrpSpPr>
              <p:cNvPr id="111" name="组合 7"/>
              <p:cNvGrpSpPr/>
              <p:nvPr/>
            </p:nvGrpSpPr>
            <p:grpSpPr>
              <a:xfrm>
                <a:off x="3550680" y="720000"/>
                <a:ext cx="2325240" cy="5549040"/>
                <a:chOff x="3550680" y="720000"/>
                <a:chExt cx="2325240" cy="5549040"/>
              </a:xfrm>
            </p:grpSpPr>
            <p:sp>
              <p:nvSpPr>
                <p:cNvPr id="112" name="泪滴形 38"/>
                <p:cNvSpPr/>
                <p:nvPr/>
              </p:nvSpPr>
              <p:spPr>
                <a:xfrm rot="8160000">
                  <a:off x="3890880" y="1060200"/>
                  <a:ext cx="1644480" cy="1644480"/>
                </a:xfrm>
                <a:custGeom>
                  <a:avLst/>
                  <a:gdLst/>
                  <a:ahLst/>
                  <a:rect l="l" t="t" r="r" b="b"/>
                  <a:pathLst>
                    <a:path w="1644664" h="1644900">
                      <a:moveTo>
                        <a:pt x="0" y="822450"/>
                      </a:moveTo>
                      <a:cubicBezTo>
                        <a:pt x="0" y="368223"/>
                        <a:pt x="368171" y="0"/>
                        <a:pt x="822332" y="0"/>
                      </a:cubicBezTo>
                      <a:cubicBezTo>
                        <a:pt x="1203090" y="0"/>
                        <a:pt x="1583849" y="-106663"/>
                        <a:pt x="1964608" y="-319990"/>
                      </a:cubicBezTo>
                      <a:cubicBezTo>
                        <a:pt x="1751312" y="60822"/>
                        <a:pt x="1644664" y="441636"/>
                        <a:pt x="1644664" y="822450"/>
                      </a:cubicBezTo>
                      <a:cubicBezTo>
                        <a:pt x="1644664" y="1276677"/>
                        <a:pt x="1276493" y="1644900"/>
                        <a:pt x="822332" y="1644900"/>
                      </a:cubicBezTo>
                      <a:cubicBezTo>
                        <a:pt x="368171" y="1644900"/>
                        <a:pt x="0" y="1276677"/>
                        <a:pt x="0" y="822450"/>
                      </a:cubicBezTo>
                      <a:close/>
                    </a:path>
                  </a:pathLst>
                </a:custGeom>
                <a:solidFill>
                  <a:srgbClr val="f0be69"/>
                </a:soli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2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泪滴形 39"/>
                <p:cNvSpPr/>
                <p:nvPr/>
              </p:nvSpPr>
              <p:spPr>
                <a:xfrm flipV="1" rot="13440000">
                  <a:off x="3890880" y="4283640"/>
                  <a:ext cx="1644480" cy="1644480"/>
                </a:xfrm>
                <a:custGeom>
                  <a:avLst/>
                  <a:gdLst/>
                  <a:ahLst/>
                  <a:rect l="l" t="t" r="r" b="b"/>
                  <a:pathLst>
                    <a:path w="1644664" h="1644900">
                      <a:moveTo>
                        <a:pt x="0" y="822450"/>
                      </a:moveTo>
                      <a:cubicBezTo>
                        <a:pt x="0" y="368223"/>
                        <a:pt x="368171" y="0"/>
                        <a:pt x="822332" y="0"/>
                      </a:cubicBezTo>
                      <a:cubicBezTo>
                        <a:pt x="1203090" y="0"/>
                        <a:pt x="1583849" y="-106663"/>
                        <a:pt x="1964608" y="-319990"/>
                      </a:cubicBezTo>
                      <a:cubicBezTo>
                        <a:pt x="1751312" y="60822"/>
                        <a:pt x="1644664" y="441636"/>
                        <a:pt x="1644664" y="822450"/>
                      </a:cubicBezTo>
                      <a:cubicBezTo>
                        <a:pt x="1644664" y="1276677"/>
                        <a:pt x="1276493" y="1644900"/>
                        <a:pt x="822332" y="1644900"/>
                      </a:cubicBezTo>
                      <a:cubicBezTo>
                        <a:pt x="368171" y="1644900"/>
                        <a:pt x="0" y="1276677"/>
                        <a:pt x="0" y="82245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组合 20"/>
              <p:cNvGrpSpPr/>
              <p:nvPr/>
            </p:nvGrpSpPr>
            <p:grpSpPr>
              <a:xfrm>
                <a:off x="2817000" y="1294920"/>
                <a:ext cx="3817080" cy="4374360"/>
                <a:chOff x="2817000" y="1294920"/>
                <a:chExt cx="3817080" cy="4374360"/>
              </a:xfrm>
            </p:grpSpPr>
            <p:sp>
              <p:nvSpPr>
                <p:cNvPr id="115" name="泪滴形 36"/>
                <p:cNvSpPr/>
                <p:nvPr/>
              </p:nvSpPr>
              <p:spPr>
                <a:xfrm rot="21240000">
                  <a:off x="2898360" y="3943080"/>
                  <a:ext cx="1643040" cy="1644480"/>
                </a:xfrm>
                <a:custGeom>
                  <a:avLst/>
                  <a:gdLst/>
                  <a:ahLst/>
                  <a:rect l="l" t="t" r="r" b="b"/>
                  <a:pathLst>
                    <a:path w="1643077" h="1644900">
                      <a:moveTo>
                        <a:pt x="0" y="822450"/>
                      </a:moveTo>
                      <a:cubicBezTo>
                        <a:pt x="0" y="368223"/>
                        <a:pt x="367815" y="0"/>
                        <a:pt x="821538" y="0"/>
                      </a:cubicBezTo>
                      <a:cubicBezTo>
                        <a:pt x="1201929" y="0"/>
                        <a:pt x="1582320" y="-106663"/>
                        <a:pt x="1962712" y="-319990"/>
                      </a:cubicBezTo>
                      <a:cubicBezTo>
                        <a:pt x="1749622" y="60822"/>
                        <a:pt x="1643077" y="441636"/>
                        <a:pt x="1643077" y="822450"/>
                      </a:cubicBezTo>
                      <a:cubicBezTo>
                        <a:pt x="1643077" y="1276677"/>
                        <a:pt x="1275262" y="1644900"/>
                        <a:pt x="821539" y="1644900"/>
                      </a:cubicBezTo>
                      <a:cubicBezTo>
                        <a:pt x="367816" y="1644900"/>
                        <a:pt x="1" y="1276677"/>
                        <a:pt x="1" y="822450"/>
                      </a:cubicBezTo>
                      <a:close/>
                    </a:path>
                  </a:pathLst>
                </a:custGeom>
                <a:solidFill>
                  <a:srgbClr val="f0be69"/>
                </a:soli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2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泪滴形 37"/>
                <p:cNvSpPr/>
                <p:nvPr/>
              </p:nvSpPr>
              <p:spPr>
                <a:xfrm flipV="1" rot="4920000">
                  <a:off x="4883400" y="1401480"/>
                  <a:ext cx="1644480" cy="1643040"/>
                </a:xfrm>
                <a:custGeom>
                  <a:avLst/>
                  <a:gdLst/>
                  <a:ahLst/>
                  <a:rect l="l" t="t" r="r" b="b"/>
                  <a:pathLst>
                    <a:path w="1644900" h="1643076">
                      <a:moveTo>
                        <a:pt x="0" y="821538"/>
                      </a:moveTo>
                      <a:cubicBezTo>
                        <a:pt x="0" y="367815"/>
                        <a:pt x="368223" y="0"/>
                        <a:pt x="822450" y="0"/>
                      </a:cubicBezTo>
                      <a:cubicBezTo>
                        <a:pt x="1203263" y="0"/>
                        <a:pt x="1584076" y="-106545"/>
                        <a:pt x="1964890" y="-319635"/>
                      </a:cubicBezTo>
                      <a:cubicBezTo>
                        <a:pt x="1751563" y="60755"/>
                        <a:pt x="1644900" y="441146"/>
                        <a:pt x="1644900" y="821538"/>
                      </a:cubicBezTo>
                      <a:cubicBezTo>
                        <a:pt x="1644900" y="1275261"/>
                        <a:pt x="1276677" y="1643076"/>
                        <a:pt x="822450" y="1643076"/>
                      </a:cubicBezTo>
                      <a:cubicBezTo>
                        <a:pt x="368223" y="1643076"/>
                        <a:pt x="0" y="1275261"/>
                        <a:pt x="0" y="821538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组合 24"/>
              <p:cNvGrpSpPr/>
              <p:nvPr/>
            </p:nvGrpSpPr>
            <p:grpSpPr>
              <a:xfrm>
                <a:off x="2817000" y="1320480"/>
                <a:ext cx="3816720" cy="4373640"/>
                <a:chOff x="2817000" y="1320480"/>
                <a:chExt cx="3816720" cy="4373640"/>
              </a:xfrm>
            </p:grpSpPr>
            <p:sp>
              <p:nvSpPr>
                <p:cNvPr id="118" name="泪滴形 34"/>
                <p:cNvSpPr/>
                <p:nvPr/>
              </p:nvSpPr>
              <p:spPr>
                <a:xfrm rot="16680000">
                  <a:off x="4883400" y="3943800"/>
                  <a:ext cx="1644480" cy="1643040"/>
                </a:xfrm>
                <a:custGeom>
                  <a:avLst/>
                  <a:gdLst/>
                  <a:ahLst/>
                  <a:rect l="l" t="t" r="r" b="b"/>
                  <a:pathLst>
                    <a:path w="1644900" h="1643076">
                      <a:moveTo>
                        <a:pt x="0" y="821538"/>
                      </a:moveTo>
                      <a:cubicBezTo>
                        <a:pt x="0" y="367815"/>
                        <a:pt x="368223" y="0"/>
                        <a:pt x="822450" y="0"/>
                      </a:cubicBezTo>
                      <a:cubicBezTo>
                        <a:pt x="1203263" y="0"/>
                        <a:pt x="1584076" y="-106545"/>
                        <a:pt x="1964890" y="-319635"/>
                      </a:cubicBezTo>
                      <a:cubicBezTo>
                        <a:pt x="1751563" y="60755"/>
                        <a:pt x="1644900" y="441146"/>
                        <a:pt x="1644900" y="821538"/>
                      </a:cubicBezTo>
                      <a:cubicBezTo>
                        <a:pt x="1644900" y="1275261"/>
                        <a:pt x="1276677" y="1643076"/>
                        <a:pt x="822450" y="1643076"/>
                      </a:cubicBezTo>
                      <a:cubicBezTo>
                        <a:pt x="368223" y="1643076"/>
                        <a:pt x="0" y="1275261"/>
                        <a:pt x="0" y="821538"/>
                      </a:cubicBezTo>
                      <a:close/>
                    </a:path>
                  </a:pathLst>
                </a:custGeom>
                <a:solidFill>
                  <a:srgbClr val="f0be69"/>
                </a:soli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2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泪滴形 35"/>
                <p:cNvSpPr/>
                <p:nvPr/>
              </p:nvSpPr>
              <p:spPr>
                <a:xfrm flipV="1" rot="360000">
                  <a:off x="2898360" y="1401480"/>
                  <a:ext cx="1643040" cy="1644480"/>
                </a:xfrm>
                <a:custGeom>
                  <a:avLst/>
                  <a:gdLst/>
                  <a:ahLst/>
                  <a:rect l="l" t="t" r="r" b="b"/>
                  <a:pathLst>
                    <a:path w="1643077" h="1644900">
                      <a:moveTo>
                        <a:pt x="0" y="822450"/>
                      </a:moveTo>
                      <a:cubicBezTo>
                        <a:pt x="0" y="368223"/>
                        <a:pt x="367815" y="0"/>
                        <a:pt x="821538" y="0"/>
                      </a:cubicBezTo>
                      <a:cubicBezTo>
                        <a:pt x="1201929" y="0"/>
                        <a:pt x="1582320" y="-106663"/>
                        <a:pt x="1962712" y="-319990"/>
                      </a:cubicBezTo>
                      <a:cubicBezTo>
                        <a:pt x="1749622" y="60822"/>
                        <a:pt x="1643077" y="441636"/>
                        <a:pt x="1643077" y="822450"/>
                      </a:cubicBezTo>
                      <a:cubicBezTo>
                        <a:pt x="1643077" y="1276677"/>
                        <a:pt x="1275262" y="1644900"/>
                        <a:pt x="821539" y="1644900"/>
                      </a:cubicBezTo>
                      <a:cubicBezTo>
                        <a:pt x="367816" y="1644900"/>
                        <a:pt x="1" y="1276677"/>
                        <a:pt x="1" y="82245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组合 21"/>
              <p:cNvGrpSpPr/>
              <p:nvPr/>
            </p:nvGrpSpPr>
            <p:grpSpPr>
              <a:xfrm>
                <a:off x="2080080" y="1897560"/>
                <a:ext cx="5278320" cy="3206880"/>
                <a:chOff x="2080080" y="1897560"/>
                <a:chExt cx="5278320" cy="3206880"/>
              </a:xfrm>
            </p:grpSpPr>
            <p:sp>
              <p:nvSpPr>
                <p:cNvPr id="121" name="泪滴形 32"/>
                <p:cNvSpPr/>
                <p:nvPr/>
              </p:nvSpPr>
              <p:spPr>
                <a:xfrm rot="3840000">
                  <a:off x="2357640" y="2174040"/>
                  <a:ext cx="1643040" cy="1644480"/>
                </a:xfrm>
                <a:custGeom>
                  <a:avLst/>
                  <a:gdLst/>
                  <a:ahLst/>
                  <a:rect l="l" t="t" r="r" b="b"/>
                  <a:pathLst>
                    <a:path w="1643313" h="1644664">
                      <a:moveTo>
                        <a:pt x="0" y="822332"/>
                      </a:moveTo>
                      <a:cubicBezTo>
                        <a:pt x="0" y="368171"/>
                        <a:pt x="367868" y="0"/>
                        <a:pt x="821656" y="0"/>
                      </a:cubicBezTo>
                      <a:cubicBezTo>
                        <a:pt x="1202102" y="0"/>
                        <a:pt x="1582548" y="-106648"/>
                        <a:pt x="1962994" y="-319944"/>
                      </a:cubicBezTo>
                      <a:cubicBezTo>
                        <a:pt x="1749873" y="60814"/>
                        <a:pt x="1643313" y="441572"/>
                        <a:pt x="1643313" y="822332"/>
                      </a:cubicBezTo>
                      <a:cubicBezTo>
                        <a:pt x="1643313" y="1276493"/>
                        <a:pt x="1275445" y="1644664"/>
                        <a:pt x="821657" y="1644664"/>
                      </a:cubicBezTo>
                      <a:cubicBezTo>
                        <a:pt x="367869" y="1644664"/>
                        <a:pt x="1" y="1276493"/>
                        <a:pt x="1" y="822332"/>
                      </a:cubicBezTo>
                      <a:close/>
                    </a:path>
                  </a:pathLst>
                </a:custGeom>
                <a:solidFill>
                  <a:srgbClr val="f0be69"/>
                </a:soli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2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泪滴形 33"/>
                <p:cNvSpPr/>
                <p:nvPr/>
              </p:nvSpPr>
              <p:spPr>
                <a:xfrm flipV="1" rot="9120000">
                  <a:off x="5424120" y="3171600"/>
                  <a:ext cx="1644480" cy="1642680"/>
                </a:xfrm>
                <a:custGeom>
                  <a:avLst/>
                  <a:gdLst/>
                  <a:ahLst/>
                  <a:rect l="l" t="t" r="r" b="b"/>
                  <a:pathLst>
                    <a:path w="1644664" h="1643313">
                      <a:moveTo>
                        <a:pt x="0" y="821656"/>
                      </a:moveTo>
                      <a:cubicBezTo>
                        <a:pt x="0" y="367868"/>
                        <a:pt x="368171" y="0"/>
                        <a:pt x="822332" y="0"/>
                      </a:cubicBezTo>
                      <a:cubicBezTo>
                        <a:pt x="1203090" y="0"/>
                        <a:pt x="1583849" y="-106560"/>
                        <a:pt x="1964608" y="-319681"/>
                      </a:cubicBezTo>
                      <a:cubicBezTo>
                        <a:pt x="1751312" y="60764"/>
                        <a:pt x="1644664" y="441210"/>
                        <a:pt x="1644664" y="821656"/>
                      </a:cubicBezTo>
                      <a:cubicBezTo>
                        <a:pt x="1644664" y="1275444"/>
                        <a:pt x="1276493" y="1643312"/>
                        <a:pt x="822332" y="1643312"/>
                      </a:cubicBezTo>
                      <a:cubicBezTo>
                        <a:pt x="368171" y="1643312"/>
                        <a:pt x="0" y="1275444"/>
                        <a:pt x="0" y="821656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组合 18"/>
              <p:cNvGrpSpPr/>
              <p:nvPr/>
            </p:nvGrpSpPr>
            <p:grpSpPr>
              <a:xfrm>
                <a:off x="2080080" y="1884960"/>
                <a:ext cx="5278320" cy="3206880"/>
                <a:chOff x="2080080" y="1884960"/>
                <a:chExt cx="5278320" cy="3206880"/>
              </a:xfrm>
            </p:grpSpPr>
            <p:sp>
              <p:nvSpPr>
                <p:cNvPr id="124" name="泪滴形 30"/>
                <p:cNvSpPr/>
                <p:nvPr/>
              </p:nvSpPr>
              <p:spPr>
                <a:xfrm rot="12480000">
                  <a:off x="5424120" y="2174400"/>
                  <a:ext cx="1644480" cy="1643040"/>
                </a:xfrm>
                <a:custGeom>
                  <a:avLst/>
                  <a:gdLst/>
                  <a:ahLst/>
                  <a:rect l="l" t="t" r="r" b="b"/>
                  <a:pathLst>
                    <a:path w="1644664" h="1643313">
                      <a:moveTo>
                        <a:pt x="0" y="821656"/>
                      </a:moveTo>
                      <a:cubicBezTo>
                        <a:pt x="0" y="367868"/>
                        <a:pt x="368171" y="0"/>
                        <a:pt x="822332" y="0"/>
                      </a:cubicBezTo>
                      <a:cubicBezTo>
                        <a:pt x="1203090" y="0"/>
                        <a:pt x="1583849" y="-106560"/>
                        <a:pt x="1964608" y="-319681"/>
                      </a:cubicBezTo>
                      <a:cubicBezTo>
                        <a:pt x="1751312" y="60764"/>
                        <a:pt x="1644664" y="441210"/>
                        <a:pt x="1644664" y="821656"/>
                      </a:cubicBezTo>
                      <a:cubicBezTo>
                        <a:pt x="1644664" y="1275444"/>
                        <a:pt x="1276493" y="1643312"/>
                        <a:pt x="822332" y="1643312"/>
                      </a:cubicBezTo>
                      <a:cubicBezTo>
                        <a:pt x="368171" y="1643312"/>
                        <a:pt x="0" y="1275444"/>
                        <a:pt x="0" y="821656"/>
                      </a:cubicBezTo>
                      <a:close/>
                    </a:path>
                  </a:pathLst>
                </a:custGeom>
                <a:solidFill>
                  <a:srgbClr val="f0be69"/>
                </a:soli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2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泪滴形 31"/>
                <p:cNvSpPr/>
                <p:nvPr/>
              </p:nvSpPr>
              <p:spPr>
                <a:xfrm flipV="1" rot="17760000">
                  <a:off x="2357640" y="3170160"/>
                  <a:ext cx="1643040" cy="1644840"/>
                </a:xfrm>
                <a:custGeom>
                  <a:avLst/>
                  <a:gdLst/>
                  <a:ahLst/>
                  <a:rect l="l" t="t" r="r" b="b"/>
                  <a:pathLst>
                    <a:path w="1643313" h="1644664">
                      <a:moveTo>
                        <a:pt x="0" y="822332"/>
                      </a:moveTo>
                      <a:cubicBezTo>
                        <a:pt x="0" y="368171"/>
                        <a:pt x="367868" y="0"/>
                        <a:pt x="821656" y="0"/>
                      </a:cubicBezTo>
                      <a:cubicBezTo>
                        <a:pt x="1202102" y="0"/>
                        <a:pt x="1582548" y="-106648"/>
                        <a:pt x="1962994" y="-319944"/>
                      </a:cubicBezTo>
                      <a:cubicBezTo>
                        <a:pt x="1749873" y="60814"/>
                        <a:pt x="1643313" y="441572"/>
                        <a:pt x="1643313" y="822332"/>
                      </a:cubicBezTo>
                      <a:cubicBezTo>
                        <a:pt x="1643313" y="1276493"/>
                        <a:pt x="1275445" y="1644664"/>
                        <a:pt x="821657" y="1644664"/>
                      </a:cubicBezTo>
                      <a:cubicBezTo>
                        <a:pt x="367869" y="1644664"/>
                        <a:pt x="1" y="1276493"/>
                        <a:pt x="1" y="822332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" name="椭圆 22"/>
            <p:cNvSpPr/>
            <p:nvPr/>
          </p:nvSpPr>
          <p:spPr>
            <a:xfrm>
              <a:off x="3844800" y="2627280"/>
              <a:ext cx="1736640" cy="1734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椭圆 23" descr=""/>
            <p:cNvPicPr/>
            <p:nvPr/>
          </p:nvPicPr>
          <p:blipFill>
            <a:blip r:embed="rId1"/>
            <a:stretch/>
          </p:blipFill>
          <p:spPr>
            <a:xfrm>
              <a:off x="3854160" y="2635920"/>
              <a:ext cx="171792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椭圆 24"/>
            <p:cNvSpPr/>
            <p:nvPr/>
          </p:nvSpPr>
          <p:spPr>
            <a:xfrm>
              <a:off x="3817800" y="2600280"/>
              <a:ext cx="1790640" cy="1788840"/>
            </a:xfrm>
            <a:prstGeom prst="ellipse">
              <a:avLst/>
            </a:prstGeom>
            <a:solidFill>
              <a:srgbClr val="664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矩形 14"/>
          <p:cNvSpPr/>
          <p:nvPr/>
        </p:nvSpPr>
        <p:spPr>
          <a:xfrm>
            <a:off x="26406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52120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4"/>
          <p:cNvSpPr/>
          <p:nvPr/>
        </p:nvSpPr>
        <p:spPr>
          <a:xfrm>
            <a:off x="46407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3211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右箭头 16"/>
          <p:cNvSpPr/>
          <p:nvPr/>
        </p:nvSpPr>
        <p:spPr>
          <a:xfrm>
            <a:off x="1357200" y="2055960"/>
            <a:ext cx="1143000" cy="1373040"/>
          </a:xfrm>
          <a:custGeom>
            <a:avLst/>
            <a:gdLst/>
            <a:ahLst/>
            <a:rect l="l" t="t" r="r" b="b"/>
            <a:pathLst>
              <a:path w="1143000" h="1373187">
                <a:moveTo>
                  <a:pt x="0" y="1373187"/>
                </a:moveTo>
                <a:lnTo>
                  <a:pt x="0" y="467944"/>
                </a:lnTo>
                <a:cubicBezTo>
                  <a:pt x="0" y="262879"/>
                  <a:pt x="166238" y="96641"/>
                  <a:pt x="371303" y="96641"/>
                </a:cubicBezTo>
                <a:lnTo>
                  <a:pt x="905530" y="96640"/>
                </a:lnTo>
                <a:lnTo>
                  <a:pt x="905530" y="0"/>
                </a:lnTo>
                <a:lnTo>
                  <a:pt x="1143000" y="108710"/>
                </a:lnTo>
                <a:lnTo>
                  <a:pt x="905530" y="217421"/>
                </a:lnTo>
                <a:lnTo>
                  <a:pt x="905530" y="120780"/>
                </a:lnTo>
                <a:lnTo>
                  <a:pt x="371303" y="120780"/>
                </a:lnTo>
                <a:cubicBezTo>
                  <a:pt x="179570" y="120780"/>
                  <a:pt x="24140" y="276210"/>
                  <a:pt x="24140" y="467943"/>
                </a:cubicBezTo>
                <a:lnTo>
                  <a:pt x="24140" y="1373187"/>
                </a:lnTo>
                <a:close/>
              </a:path>
            </a:pathLst>
          </a:custGeom>
          <a:solidFill>
            <a:srgbClr val="664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折角形 17"/>
          <p:cNvSpPr/>
          <p:nvPr/>
        </p:nvSpPr>
        <p:spPr>
          <a:xfrm>
            <a:off x="2643120" y="1643040"/>
            <a:ext cx="2786040" cy="642960"/>
          </a:xfrm>
          <a:prstGeom prst="foldedCorner">
            <a:avLst>
              <a:gd name="adj" fmla="val 16666"/>
            </a:avLst>
          </a:prstGeom>
          <a:solidFill>
            <a:srgbClr val="f0b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折角形 18"/>
          <p:cNvSpPr/>
          <p:nvPr/>
        </p:nvSpPr>
        <p:spPr>
          <a:xfrm>
            <a:off x="1214280" y="4071960"/>
            <a:ext cx="2786400" cy="642960"/>
          </a:xfrm>
          <a:prstGeom prst="foldedCorner">
            <a:avLst>
              <a:gd name="adj" fmla="val 16666"/>
            </a:avLst>
          </a:prstGeom>
          <a:solidFill>
            <a:srgbClr val="f0b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右箭头 19"/>
          <p:cNvSpPr/>
          <p:nvPr/>
        </p:nvSpPr>
        <p:spPr>
          <a:xfrm rot="5400000">
            <a:off x="5599800" y="1599480"/>
            <a:ext cx="1143000" cy="1373040"/>
          </a:xfrm>
          <a:custGeom>
            <a:avLst/>
            <a:gdLst/>
            <a:ahLst/>
            <a:rect l="l" t="t" r="r" b="b"/>
            <a:pathLst>
              <a:path w="1143000" h="1373187">
                <a:moveTo>
                  <a:pt x="0" y="1373187"/>
                </a:moveTo>
                <a:lnTo>
                  <a:pt x="0" y="467944"/>
                </a:lnTo>
                <a:cubicBezTo>
                  <a:pt x="0" y="262879"/>
                  <a:pt x="166238" y="96641"/>
                  <a:pt x="371303" y="96641"/>
                </a:cubicBezTo>
                <a:lnTo>
                  <a:pt x="905530" y="96640"/>
                </a:lnTo>
                <a:lnTo>
                  <a:pt x="905530" y="0"/>
                </a:lnTo>
                <a:lnTo>
                  <a:pt x="1143000" y="108710"/>
                </a:lnTo>
                <a:lnTo>
                  <a:pt x="905530" y="217421"/>
                </a:lnTo>
                <a:lnTo>
                  <a:pt x="905530" y="120780"/>
                </a:lnTo>
                <a:lnTo>
                  <a:pt x="371303" y="120780"/>
                </a:lnTo>
                <a:cubicBezTo>
                  <a:pt x="179570" y="120780"/>
                  <a:pt x="24140" y="276210"/>
                  <a:pt x="24140" y="467943"/>
                </a:cubicBezTo>
                <a:lnTo>
                  <a:pt x="24140" y="1373187"/>
                </a:lnTo>
                <a:close/>
              </a:path>
            </a:pathLst>
          </a:custGeom>
          <a:solidFill>
            <a:srgbClr val="664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折角形 20"/>
          <p:cNvSpPr/>
          <p:nvPr/>
        </p:nvSpPr>
        <p:spPr>
          <a:xfrm>
            <a:off x="5429160" y="3071880"/>
            <a:ext cx="2786040" cy="642960"/>
          </a:xfrm>
          <a:prstGeom prst="foldedCorner">
            <a:avLst>
              <a:gd name="adj" fmla="val 16666"/>
            </a:avLst>
          </a:prstGeom>
          <a:solidFill>
            <a:srgbClr val="f0b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角右箭头 21"/>
          <p:cNvSpPr/>
          <p:nvPr/>
        </p:nvSpPr>
        <p:spPr>
          <a:xfrm rot="10800000">
            <a:off x="4500360" y="3785760"/>
            <a:ext cx="1143000" cy="1373400"/>
          </a:xfrm>
          <a:custGeom>
            <a:avLst/>
            <a:gdLst/>
            <a:ahLst/>
            <a:rect l="l" t="t" r="r" b="b"/>
            <a:pathLst>
              <a:path w="1143000" h="1373187">
                <a:moveTo>
                  <a:pt x="0" y="1373187"/>
                </a:moveTo>
                <a:lnTo>
                  <a:pt x="0" y="467944"/>
                </a:lnTo>
                <a:cubicBezTo>
                  <a:pt x="0" y="262879"/>
                  <a:pt x="166238" y="96641"/>
                  <a:pt x="371303" y="96641"/>
                </a:cubicBezTo>
                <a:lnTo>
                  <a:pt x="905530" y="96640"/>
                </a:lnTo>
                <a:lnTo>
                  <a:pt x="905530" y="0"/>
                </a:lnTo>
                <a:lnTo>
                  <a:pt x="1143000" y="108710"/>
                </a:lnTo>
                <a:lnTo>
                  <a:pt x="905530" y="217421"/>
                </a:lnTo>
                <a:lnTo>
                  <a:pt x="905530" y="120780"/>
                </a:lnTo>
                <a:lnTo>
                  <a:pt x="371303" y="120780"/>
                </a:lnTo>
                <a:cubicBezTo>
                  <a:pt x="179570" y="120780"/>
                  <a:pt x="24140" y="276210"/>
                  <a:pt x="24140" y="467943"/>
                </a:cubicBezTo>
                <a:lnTo>
                  <a:pt x="24140" y="1373187"/>
                </a:lnTo>
                <a:close/>
              </a:path>
            </a:pathLst>
          </a:custGeom>
          <a:solidFill>
            <a:srgbClr val="664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635508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371196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21405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 形 19"/>
          <p:cNvSpPr/>
          <p:nvPr/>
        </p:nvSpPr>
        <p:spPr>
          <a:xfrm>
            <a:off x="1285920" y="1638360"/>
            <a:ext cx="3405240" cy="2576520"/>
          </a:xfrm>
          <a:custGeom>
            <a:avLst/>
            <a:gdLst/>
            <a:ahLst/>
            <a:rect l="l" t="t" r="r" b="b"/>
            <a:pathLst>
              <a:path w="3405187" h="2576512">
                <a:moveTo>
                  <a:pt x="0" y="0"/>
                </a:moveTo>
                <a:lnTo>
                  <a:pt x="2887626" y="0"/>
                </a:lnTo>
                <a:lnTo>
                  <a:pt x="2887626" y="1288256"/>
                </a:lnTo>
                <a:lnTo>
                  <a:pt x="3405187" y="1288256"/>
                </a:lnTo>
                <a:lnTo>
                  <a:pt x="3405187" y="2576512"/>
                </a:lnTo>
                <a:lnTo>
                  <a:pt x="0" y="2576512"/>
                </a:lnTo>
                <a:close/>
              </a:path>
            </a:pathLst>
          </a:custGeom>
          <a:solidFill>
            <a:srgbClr val="f0b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 形 20"/>
          <p:cNvSpPr/>
          <p:nvPr/>
        </p:nvSpPr>
        <p:spPr>
          <a:xfrm flipH="1" flipV="1">
            <a:off x="4737960" y="2923560"/>
            <a:ext cx="3405240" cy="2576520"/>
          </a:xfrm>
          <a:custGeom>
            <a:avLst/>
            <a:gdLst/>
            <a:ahLst/>
            <a:rect l="l" t="t" r="r" b="b"/>
            <a:pathLst>
              <a:path w="3405187" h="2576512">
                <a:moveTo>
                  <a:pt x="0" y="0"/>
                </a:moveTo>
                <a:lnTo>
                  <a:pt x="2887626" y="0"/>
                </a:lnTo>
                <a:lnTo>
                  <a:pt x="2887626" y="1288256"/>
                </a:lnTo>
                <a:lnTo>
                  <a:pt x="3405187" y="1288256"/>
                </a:lnTo>
                <a:lnTo>
                  <a:pt x="3405187" y="2576512"/>
                </a:lnTo>
                <a:lnTo>
                  <a:pt x="0" y="2576512"/>
                </a:lnTo>
                <a:close/>
              </a:path>
            </a:pathLst>
          </a:custGeom>
          <a:solidFill>
            <a:srgbClr val="f0b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2354760" y="3138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5"/>
          <p:cNvSpPr/>
          <p:nvPr/>
        </p:nvSpPr>
        <p:spPr>
          <a:xfrm>
            <a:off x="5997960" y="356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3"/>
          <p:cNvSpPr/>
          <p:nvPr/>
        </p:nvSpPr>
        <p:spPr>
          <a:xfrm>
            <a:off x="4214880" y="1643040"/>
            <a:ext cx="3929040" cy="1214640"/>
          </a:xfrm>
          <a:prstGeom prst="rect">
            <a:avLst/>
          </a:prstGeom>
          <a:solidFill>
            <a:srgbClr val="664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4"/>
          <p:cNvSpPr/>
          <p:nvPr/>
        </p:nvSpPr>
        <p:spPr>
          <a:xfrm>
            <a:off x="1285920" y="4286160"/>
            <a:ext cx="3929040" cy="1214640"/>
          </a:xfrm>
          <a:prstGeom prst="rect">
            <a:avLst/>
          </a:prstGeom>
          <a:solidFill>
            <a:srgbClr val="664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uhan</cp:lastModifiedBy>
  <dcterms:modified xsi:type="dcterms:W3CDTF">2016-03-17T00:57:30Z</dcterms:modified>
  <cp:revision>2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