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BE8C-8370-4767-9C2B-55D44EECA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9BB0-5AC3-4A05-A3F3-1E039D67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C770-D21B-488D-BF71-5C10F50EF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3426-77F5-4B2B-B653-11F3AAB6F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5DFB-68BA-42FD-B5FD-35F599D0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663A-D2B6-4D41-9DDE-E3827184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4AE9-1AB6-468B-A207-0ACE6DD8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F175-3582-475B-8789-B2666704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B9BB-DDA5-40C5-8C81-5E66AFD0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BC32-1288-4142-AD5C-8CDAFDBA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5727-4132-4665-8E1F-AA9DE943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A248-DA14-49E3-9D92-BBBF9E59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F067-F9C6-4D58-9683-CAC4EAF81F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48720" cy="6280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95640" y="4508640"/>
            <a:ext cx="1584360" cy="43308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 flipV="1">
            <a:off x="4066920" y="4723920"/>
            <a:ext cx="93636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32360" y="5157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进去查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2924280"/>
            <a:ext cx="4608720" cy="35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当插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接口时系统会出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OS58GU/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08360" y="1341360"/>
            <a:ext cx="51116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串口、并口打印机则直接从第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页开始安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369720"/>
            <a:ext cx="9648720" cy="6488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619280" y="2133720"/>
            <a:ext cx="4537080" cy="64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61800"/>
            <a:ext cx="9586800" cy="6496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564000" y="3716280"/>
            <a:ext cx="2016000" cy="28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219280" y="4005360"/>
            <a:ext cx="86508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96000" y="4581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选择端口时必须与前面生成的端口一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229600" cy="6154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300720" y="4149720"/>
            <a:ext cx="1224000" cy="57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8360" y="622440"/>
            <a:ext cx="9083520" cy="62355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443640" y="4149720"/>
            <a:ext cx="1081080" cy="57456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442800"/>
            <a:ext cx="9228240" cy="6415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340000" y="4149720"/>
            <a:ext cx="1727280" cy="503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64000" y="3141720"/>
            <a:ext cx="3240000" cy="785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目录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64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位系统驱动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Ver0.01\58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8360" y="423720"/>
            <a:ext cx="9370800" cy="6434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411280" y="2997360"/>
            <a:ext cx="1656000" cy="43164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659640" y="4797360"/>
            <a:ext cx="1225440" cy="21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95640" y="3513240"/>
            <a:ext cx="1800360" cy="785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文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TP_58mm.i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29600" cy="5721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796000" y="4941720"/>
            <a:ext cx="1152360" cy="50328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9520" cy="6923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835280" y="2997360"/>
            <a:ext cx="4105080" cy="79200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229600" cy="6126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763640" y="2276640"/>
            <a:ext cx="1944720" cy="64764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924000" y="2923920"/>
            <a:ext cx="143964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3645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点击能打印出测试页就是安装驱动成功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981000"/>
            <a:ext cx="8229600" cy="6624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00360" y="4365720"/>
            <a:ext cx="172728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-387360"/>
            <a:ext cx="9072360" cy="8640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835280" y="3789360"/>
            <a:ext cx="3528720" cy="1079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-243000"/>
            <a:ext cx="8229600" cy="7488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588000" y="5734080"/>
            <a:ext cx="936720" cy="503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51280" y="2924280"/>
            <a:ext cx="3600360" cy="785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目录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64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位系统驱动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Ver0.01\USB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驱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836640"/>
            <a:ext cx="8229600" cy="5289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08000" y="2997360"/>
            <a:ext cx="3384720" cy="71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296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11426760" cy="9436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332000" y="3500280"/>
            <a:ext cx="2087640" cy="28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924360" y="2924280"/>
            <a:ext cx="1008000" cy="50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87840" y="2425680"/>
            <a:ext cx="44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08720" y="256536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看到此信息说明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SB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驱动已经安装成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3779640" y="3933360"/>
            <a:ext cx="1368360" cy="5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92720" y="422100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注意这里生成的是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COM3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口，后机在安装打印机驱动时选择的端口必须与该端口一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229600" cy="6154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03640" y="3860640"/>
            <a:ext cx="1800000" cy="36036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932360" y="2997360"/>
            <a:ext cx="122400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27640" y="2637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击进去增加打印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29600" cy="5821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476360" y="907920"/>
            <a:ext cx="93492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410920" y="1196640"/>
            <a:ext cx="2016360" cy="8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00720" y="20606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点击进去增加打印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2T07:14:20Z</dcterms:created>
  <dc:creator>MC SYSTEM</dc:creator>
  <dc:description/>
  <dc:language>en-US</dc:language>
  <cp:lastModifiedBy>彭凯</cp:lastModifiedBy>
  <dcterms:modified xsi:type="dcterms:W3CDTF">2015-10-08T03:26:12Z</dcterms:modified>
  <cp:revision>16</cp:revision>
  <dc:subject/>
  <dc:title>幻灯片 1</dc:title>
</cp:coreProperties>
</file>