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0F5-599E-47D6-91A6-FC6A8AF8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B44-694B-4650-8309-4CC4680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895-A9DE-4AD9-BB2B-07EAAA0A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BD3-5A2F-4815-8C13-4E3555F7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2CC-1AF2-4788-84CD-E76677D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827-A2E7-4882-ACD9-75ECE1A4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F9F-B091-4178-8A8F-4394BC18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179-144A-4859-BD6B-15586C1C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478-C4E4-4852-8673-03A4AD32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591-4911-4764-9108-8B14721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EAE-4A40-41DB-9153-E731832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2D7-C61E-4759-9CC0-9AEF7D8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0" descr="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1747-D5A6-4ABE-8EEC-07289A31C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4" name="Picture 2" descr="山寺背景"/>
          <p:cNvPicPr/>
          <p:nvPr/>
        </p:nvPicPr>
        <p:blipFill>
          <a:blip r:embed="rId1"/>
          <a:stretch/>
        </p:blipFill>
        <p:spPr>
          <a:xfrm>
            <a:off x="-971640" y="-100080"/>
            <a:ext cx="10153800" cy="6918480"/>
          </a:xfrm>
          <a:prstGeom prst="rect">
            <a:avLst/>
          </a:prstGeom>
          <a:ln w="0">
            <a:noFill/>
          </a:ln>
        </p:spPr>
      </p:pic>
      <p:sp>
        <p:nvSpPr>
          <p:cNvPr id="45" name="Oval 5"/>
          <p:cNvSpPr/>
          <p:nvPr/>
        </p:nvSpPr>
        <p:spPr>
          <a:xfrm>
            <a:off x="3583080" y="928800"/>
            <a:ext cx="96840" cy="96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7066080" y="5389560"/>
            <a:ext cx="96840" cy="96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-457200" y="5334120"/>
            <a:ext cx="96840" cy="96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6075360" y="990720"/>
            <a:ext cx="96840" cy="96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1752480" y="99072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4653000" y="160488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5127480" y="144792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8099280" y="15238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4"/>
          <p:cNvSpPr/>
          <p:nvPr/>
        </p:nvSpPr>
        <p:spPr>
          <a:xfrm>
            <a:off x="8632800" y="114300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6858000" y="91440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6"/>
          <p:cNvSpPr/>
          <p:nvPr/>
        </p:nvSpPr>
        <p:spPr>
          <a:xfrm>
            <a:off x="5562720" y="10666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7"/>
          <p:cNvSpPr/>
          <p:nvPr/>
        </p:nvSpPr>
        <p:spPr>
          <a:xfrm>
            <a:off x="5889600" y="12412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4648320" y="12952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3962520" y="10666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7184880" y="121932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7794720" y="114300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9013680" y="131760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9166320" y="99072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-304920" y="5846760"/>
            <a:ext cx="96840" cy="96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ext Box 25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4210200" cy="100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9"/>
          <p:cNvPicPr/>
          <p:nvPr/>
        </p:nvPicPr>
        <p:blipFill>
          <a:blip r:embed="rId3"/>
          <a:stretch/>
        </p:blipFill>
        <p:spPr>
          <a:xfrm>
            <a:off x="-1219320" y="914400"/>
            <a:ext cx="16099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1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26" repeatCount="indefinite">
                                  <p:stCondLst>
                                    <p:cond delay="27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0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1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0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0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3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0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0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51" dur="2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1.94444E-006 -4.56647E-006 C -0.02777 0.00578 -0.08455 0.01503 -0.11823 0.00879 C -0.15173 0.00255 -0.16041 -0.03006 -0.20191 -0.03699 C -0.24323 -0.04393 -0.31059 -0.04046 -0.36718 -0.03283 C -0.42378 -0.0252 -0.56284 -0.000229999999999999 -0.54097 0.00879 C -0.51909 0.01781 -0.27222 0.02567 -0.23628 0.02197 C -0.2 0.01827 -0.26927 -0.00347 -0.32465 -0.01318 C -0.38003 -0.02289 -0.50364 -0.03584 -0.56892 -0.03699 C -0.6342 -0.03815 -0.71163 -0.02589 -0.71649 -0.01965 C -0.72135 -0.01341 -0.62986 0.00578 -0.59843 -4.56647E-006 C -0.56701 -0.00578 -0.55972 -0.03306 -0.52795 -0.05456 C -0.49618 -0.07607 -0.44566 -0.12046 -0.40816 -0.12878 C -0.37066 -0.13711 -0.33906 -0.1237 -0.3033 -0.10474 C -0.2677 -0.08578 -0.25642 -0.0393 -0.1934 -0.01526 C -0.13073 0.00879 0.02466 0.03931 0.07361 0.03931 C 0.12275 0.03931 0.10573 -0.00439 0.10157 -0.01526 C 0.0974 -0.02613 0.0658 -0.02797 0.04914 -0.02613 C 0.0323 -0.02428 0.02778 -0.00578 -1.94444E-006 -4.56647E-006 Z">
                                      <p:cBhvr>
                                        <p:cTn id="53" dur="2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1.38889E-006 1.50289E-006 C 0.07361 -0.00347 0.14739 -0.00694 0.16406 -0.01966 C 0.18073 -0.03237 0.07864 -0.06058 0.1 -0.0763 C 0.12135 -0.09203 0.24114 -0.11862 0.29184 -0.11353 C 0.34236 -0.10844 0.41284 -0.05665 0.4033 -0.04578 C 0.39375 -0.03492 0.25052 -0.04139 0.23437 -0.04787 C 0.2184 -0.05434 0.25885 -0.07862 0.30659 -0.08509 C 0.35434 -0.09157 0.45903 -0.08717 0.52135 -0.08717 C 0.58368 -0.08717 0.6217 -0.09781 0.68038 -0.08509 C 0.73889 -0.07237 0.83368 -0.00948 0.87222 -0.01087 C 0.91076 -0.01226 0.95816 -0.0881 0.91146 -0.09388 C 0.86475 -0.09966 0.67812 -0.06035 0.59184 -0.04578 C 0.50555 -0.03122 0.46163 -0.00278 0.39357 -0.00648 C 0.32552 -0.01018 0.25555 -0.04856 0.18368 -0.06752 C 0.11163 -0.08648 0.03611 -0.10336 -0.03924 -0.12 E">
                                      <p:cBhvr>
                                        <p:cTn id="55" dur="18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28207E-006 L 1.21268 -0.01249 E">
                                      <p:cBhvr>
                                        <p:cTn id="57" dur="250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79873" descr="图片2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3360" y="1218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日的物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日的声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日的色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9875"/>
          <p:cNvSpPr/>
          <p:nvPr/>
        </p:nvSpPr>
        <p:spPr>
          <a:xfrm>
            <a:off x="990720" y="38862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Arial"/>
              </a:rPr>
              <a:t>摹形、绘色、写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i="1" lang="zh-CN" sz="3200" spc="-1" strike="noStrike">
                <a:solidFill>
                  <a:srgbClr val="0000cc"/>
                </a:solidFill>
                <a:latin typeface="Arial"/>
              </a:rPr>
              <a:t>通过形态、声音、色调，传达出自我内心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80897" descr="无标题4 (2)"/>
          <p:cNvPicPr/>
          <p:nvPr/>
        </p:nvPicPr>
        <p:blipFill>
          <a:blip r:embed="rId1"/>
          <a:srcRect l="0" t="0" r="0" b="-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破屋浓茶小院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漏光鸽声碧天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秋草秋槐残垣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落蕊铺地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今日难得清闲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0899"/>
          <p:cNvSpPr/>
          <p:nvPr/>
        </p:nvSpPr>
        <p:spPr>
          <a:xfrm>
            <a:off x="4495680" y="1066680"/>
            <a:ext cx="4648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飒飒西风秋正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枯树结得寒蝉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桥头斜影叹秋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枝上秋果传胜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zhwang\Pictures\20080608005021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3000" y="838080"/>
            <a:ext cx="831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的不远千里，要从杭州赶上青岛，更要从青岛赶上北平来的理由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这念错的岐韵，倒来得正好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可是这秋的深味，尤其是中国的秋的深味，非要在北方，才能感受得到底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比起北国的秋来，正像是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愿意把寿命的三分之二折去，换得一个三分之一的零头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82945"/>
          <p:cNvSpPr/>
          <p:nvPr/>
        </p:nvSpPr>
        <p:spPr>
          <a:xfrm>
            <a:off x="380880" y="609480"/>
            <a:ext cx="4038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江南之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慢、润、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饱、不透、不足、不浓、不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稀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鲈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2946"/>
          <p:cNvSpPr/>
          <p:nvPr/>
        </p:nvSpPr>
        <p:spPr>
          <a:xfrm>
            <a:off x="5257800" y="609480"/>
            <a:ext cx="31240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故都的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、静、悲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饱尝、十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馍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幻灯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00400" y="13712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故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隶书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乡，故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国不堪回首月明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都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隶书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幻灯封面no3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81" name="文本占位符 84994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432640" cy="76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6017" descr="2010-11-25_180217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秋士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Arial"/>
              </a:rPr>
              <a:t>客观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100" spc="-1" strike="noStrike">
                <a:solidFill>
                  <a:srgbClr val="ffffff"/>
                </a:solidFill>
                <a:latin typeface="Arial"/>
              </a:rPr>
              <a:t>秋天景物的自然色彩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100" spc="-1" strike="noStrike">
                <a:solidFill>
                  <a:srgbClr val="ffffff"/>
                </a:solidFill>
                <a:latin typeface="Arial"/>
              </a:rPr>
              <a:t>秋本来就容易引起人的悲凉之感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7041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Arial"/>
              </a:rPr>
              <a:t>主观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100" spc="-1" strike="noStrike">
                <a:solidFill>
                  <a:srgbClr val="ffffff"/>
                </a:solidFill>
                <a:latin typeface="Arial"/>
              </a:rPr>
              <a:t>）社会环境的黑暗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100" spc="-1" strike="noStrike">
                <a:solidFill>
                  <a:srgbClr val="ffffff"/>
                </a:solidFill>
                <a:latin typeface="Arial"/>
              </a:rPr>
              <a:t>）个人气质的抑郁善感。文人见落花而伤春，流水而感时。他需要这样的景物来排遣、净化内心的忧郁烦闷，把复杂微妙而又难言的情怀寄寓秀丽的幽邃的自然景物之中，委婉而又曲折的表达出来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6:01Z</dcterms:created>
  <dc:creator>微软系统</dc:creator>
  <dc:description>3edu教育网【www.3edu.net】</dc:description>
  <cp:keywords>3edu教育网【www.3edu.net】教学课件、教学试题、教案学案、教学素材</cp:keywords>
  <dc:language>en-US</dc:language>
  <cp:lastModifiedBy>wuhan</cp:lastModifiedBy>
  <dcterms:modified xsi:type="dcterms:W3CDTF">2016-04-19T03:44:44Z</dcterms:modified>
  <cp:revision>11</cp:revision>
  <dc:subject>3edu教育网【www.3edu.net】教师助手，学生帮手，家长朋友，三星数学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