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2D54-82AD-4272-BEC6-C220B423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345-E31D-4571-B764-1AC03CA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835-905B-4927-86A1-24AB1E3F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7E7-F3B8-4869-B379-18755077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4E3-C11E-430B-8838-52A0593A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6B0-743F-43A4-B3A1-FFB961E3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94F-DA1F-4817-8659-3682E821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78B-A499-4118-A58F-25C3DB79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0C5-2260-4758-A044-9598ED6E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D46-FDA4-4336-B676-80708C2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F52-899D-47D0-8311-17C3C5DC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9EC-1461-403A-9333-BCE93DB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B125-A004-4931-90C0-77F7E38E83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5079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262160"/>
            <a:ext cx="761976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228680"/>
            <a:ext cx="7619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1252440"/>
            <a:ext cx="76197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62120" y="1233360"/>
            <a:ext cx="761976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4867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210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48800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26020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549360"/>
            <a:ext cx="33940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要饭前要洗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619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张开小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2723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43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细嚼慢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33744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90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放入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33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746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吞入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6408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674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擦干小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309680"/>
            <a:ext cx="7619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1319040"/>
            <a:ext cx="7619760" cy="42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300320"/>
            <a:ext cx="7619760" cy="42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343160"/>
            <a:ext cx="761976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2120" y="1352520"/>
            <a:ext cx="7619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01:56:24Z</dcterms:created>
  <dc:creator>Sky123.Org</dc:creator>
  <dc:description/>
  <dc:language>en-US</dc:language>
  <cp:lastModifiedBy>Sky123.Org</cp:lastModifiedBy>
  <dcterms:modified xsi:type="dcterms:W3CDTF">2013-09-05T06:46:11Z</dcterms:modified>
  <cp:revision>5</cp:revision>
  <dc:subject/>
  <dc:title>幻灯片 1</dc:title>
</cp:coreProperties>
</file>