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A832-E43A-4D7C-9AE4-BF0FEC9D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5B8-9D81-4E8B-987E-2480FDE1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11D-265F-4F5C-A28A-BE931FB6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883-958B-41D2-ABF1-ED5128F1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0530-04ED-4691-BDB8-BC7D3F62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617D-C3DD-4037-BF0E-5BA95FA6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A3C0-07F9-4A57-9AF8-87D13AD8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0C1F-F99C-4721-8792-420C48D5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542E-00DC-44B6-8118-0FA9D808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79A9-0945-460C-AE90-A420CC0B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0F3C-F735-4D24-85D4-21A0C3C2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CB2-C170-40DE-BEEE-E1E33D9A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CF37-6F3B-40E7-9DCD-10B8234C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FD9A-EDCE-4458-AD12-B9C03BAD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F1FF-5BA3-4D3C-9176-00F37777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E274-6EB4-4970-8AFF-D98B65B8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2D8C-B12C-4953-AA28-0D289FE5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E04C-22D0-4C07-B742-36A87B41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157-7C0C-4FC5-A353-D11B6EB6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40E-7625-4400-8099-FEF2B835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F06-823B-4EEE-96E8-B1CAF13A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2EC-83E9-4C2D-87FB-FB924665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D65-E0B3-45F7-BF31-1894611C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236-4FC5-4F21-BE22-4525A7B3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72C8-0059-47BD-BEA9-3DF6510AD83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39" name="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E95E-D1AD-4FB8-A747-605FFB64869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6160" y="4318200"/>
            <a:ext cx="980640" cy="1159920"/>
            <a:chOff x="7796160" y="4318200"/>
            <a:chExt cx="980640" cy="1159920"/>
          </a:xfrm>
        </p:grpSpPr>
        <p:sp>
          <p:nvSpPr>
            <p:cNvPr id="103" name="未知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 rot="7320000">
              <a:off x="776772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7320000">
              <a:off x="7934400" y="462168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6160" y="4318200"/>
              <a:ext cx="980640" cy="1159920"/>
              <a:chOff x="7796160" y="4318200"/>
              <a:chExt cx="980640" cy="1159920"/>
            </a:xfrm>
          </p:grpSpPr>
          <p:sp>
            <p:nvSpPr>
              <p:cNvPr id="107" name="未知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 rot="7320000">
                <a:off x="7756920" y="4650840"/>
                <a:ext cx="1058760" cy="4946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 rot="7320000">
                <a:off x="8036280" y="47577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 rot="7320000">
                <a:off x="8514000" y="45597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 rot="7320000">
                <a:off x="8152920" y="475956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omic Sans MS"/>
              </a:rPr>
              <a:t>登陆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5933880" cy="1133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057400" y="2438280"/>
            <a:ext cx="2438280" cy="781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523880" y="3581280"/>
            <a:ext cx="6000840" cy="590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124080" y="4876920"/>
            <a:ext cx="16858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580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设置单位基本信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571500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Comic Sans MS"/>
              </a:rPr>
              <a:t>双击发票图标进入，点击“单位信息设置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24816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580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设置单位基本信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6933960" cy="4117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905120" y="525780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5257800"/>
            <a:ext cx="6477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CN" sz="1700" spc="-1" strike="noStrike">
                <a:solidFill>
                  <a:srgbClr val="000000"/>
                </a:solidFill>
                <a:latin typeface="Comic Sans MS"/>
              </a:rPr>
              <a:t>输入微机管理编码（为企业地税税务登记证副本右上的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1" lang="zh-CN" sz="1700" spc="-1" strike="noStrike">
                <a:solidFill>
                  <a:srgbClr val="000000"/>
                </a:solidFill>
                <a:latin typeface="Comic Sans MS"/>
              </a:rPr>
              <a:t>位微机管理编码）保存后不可修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1700" spc="-1" strike="noStrike">
                <a:solidFill>
                  <a:srgbClr val="000000"/>
                </a:solidFill>
                <a:latin typeface="Comic Sans MS"/>
              </a:rPr>
              <a:t>密码提示问题：设置成与密码相关的问题，是为了帮助想起密码，密码忘记将不能找回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zh-CN" sz="1700" spc="-1" strike="noStrike">
                <a:solidFill>
                  <a:srgbClr val="000000"/>
                </a:solidFill>
                <a:latin typeface="Comic Sans MS"/>
              </a:rPr>
              <a:t>基本信息设置完毕，点击“保存”，输入密码重新进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580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发票主界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分为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块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1371600"/>
            <a:ext cx="6705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1387080"/>
            <a:ext cx="601992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发票开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发票查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发票作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领用存报表生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查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常用信息设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打印设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8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数据库备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9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口令设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0.</a:t>
            </a:r>
            <a:r>
              <a:rPr b="1" lang="zh-CN" sz="2200" spc="-1" strike="noStrike">
                <a:solidFill>
                  <a:srgbClr val="000000"/>
                </a:solidFill>
                <a:latin typeface="Comic Sans MS"/>
              </a:rPr>
              <a:t>帮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发票开具前先设置常用信息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开票单位信息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发票领购信息录入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当前使用发票设置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发票图片设置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以上常用的只有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124080"/>
            <a:ext cx="74833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点击“发票领购信息录入”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输入电子认证密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次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位）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点击“显示电子认证内容”按钮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核对管理编码、发票代码、数量、发票号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核对无误点击“导入”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点击“退出”按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点击“当前使用发票设置”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单击“已导入的电子认证密码记录”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点击“添加到当前等开具”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点击“启用”（发票信息就导入完毕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44372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发票开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发票开具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通用格式发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输入“付款人名称”、“经营项目”、“单位”（可不录）、“数量”、“单价”、“金额”自动生成，核对无误，点击“保存”（未打印，点击下一张，此张发票将无法打印，只能作废），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点击“打印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773680"/>
            <a:ext cx="647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Comic Sans MS"/>
              </a:rPr>
              <a:t>注：先查看电脑日期，核对发票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6960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发票作废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通用格式发票作废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输入要作废的发票代码和发票号码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点击“查询”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核对是要作废的发票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点击“作废”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是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确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发票作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查询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发票开具查询（根据日期查询发票开具情况）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输入区间日期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点击“查询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发票查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0240" y="3225960"/>
            <a:ext cx="7696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查询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领用存报表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根据日期查询未打印出来领用存报表）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输入区间日期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点击“查询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购买发票用所需操作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领用存报表生成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领用存报表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查询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保存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打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领用存报表生成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明细上报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生成数据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保存（自己能找到的路径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明细表上传到哈尔滨地方税务局网站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网上办税服务大厅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地税发票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发票数据采集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输入用户名（管理编码前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位），输入密码（用户名后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位）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发票票上报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浏览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上传（显示上传成功）就完成上传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上报查询一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购买发票用所需资料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发票领购簿、领用存报表、发票明细表、企业地税营业执照复印件、发票存根联和作废发票要三联（装订成册，标明发票号码起止号断、公司名称，开具发票的起止日期、标明发票份数）（所有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4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纸加盖公章）去哈尔宾地税局（中宣街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号）购买发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1685880" cy="552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553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62940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9320" y="1041480"/>
            <a:ext cx="678168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162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66680" y="1015920"/>
            <a:ext cx="6782040" cy="4645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8580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38080" y="1154160"/>
            <a:ext cx="7391520" cy="4503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248160" cy="4908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8580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安装发票软件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162920" cy="4329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162920" y="5562720"/>
            <a:ext cx="7142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01:38:32Z</dcterms:created>
  <dc:creator/>
  <dc:description/>
  <dc:language>en-US</dc:language>
  <cp:lastModifiedBy>USER</cp:lastModifiedBy>
  <dcterms:modified xsi:type="dcterms:W3CDTF">2014-03-31T01:40:5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  <property fmtid="{D5CDD505-2E9C-101B-9397-08002B2CF9AE}" pid="3" name="Version">
    <vt:r8>1</vt:r8>
  </property>
</Properties>
</file>