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4A4-5F5F-4596-80F9-C2AA05A0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902-63AE-442F-B7FD-6755FB5A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85D-82CB-4A19-BBDA-0BA8BD6D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73E-9953-4037-A2B6-A0AFF7E1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C7C-471A-41FE-9CA1-9F88DADD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168-9F71-42F8-A1C9-530D92AD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1AF-6398-4DB5-B156-0BDA34C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263-6E66-4E76-9A9A-7F6107A9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08B-17DE-4EA5-AEB2-D298090A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689-9E2A-4B8C-8568-44FD631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6B7-2B8B-4CA7-BD8A-E5B232D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D8C-B7AB-4D35-A479-C8FE0D0C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6402-552F-4F91-81A9-D212A82E1D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未标题-1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508720" y="1413000"/>
            <a:ext cx="865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1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380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564000" y="148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  <a:ea typeface="黑体"/>
              </a:rPr>
              <a:t>行车记录仪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黑体"/>
              </a:rPr>
              <a:t>D1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564000" y="119700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三条引线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柱饰板引入中控台内部与车辆电器系统建立连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UF7KO6Z143X9K3PJ3R@90CD"/>
          <p:cNvPicPr/>
          <p:nvPr/>
        </p:nvPicPr>
        <p:blipFill>
          <a:blip r:embed="rId1"/>
          <a:stretch/>
        </p:blipFill>
        <p:spPr>
          <a:xfrm>
            <a:off x="1258920" y="1557360"/>
            <a:ext cx="60498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黄色的视频输出线被接到带视频输入接口的一体机的视频输入端，这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18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视频信号能够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体机的屏幕播放。如果你的车辆没有带液晶屏的一体机，则无需接此线。在不连接视频输出线时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18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录像回放还能通过电脑或其他设备通过读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卡实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D:/Program Files/Tencent/QQ/Users/415209914/Image/AW$`BXEH95%WNQRXJC4G~EL.jpg"/>
          <p:cNvPicPr/>
          <p:nvPr/>
        </p:nvPicPr>
        <p:blipFill>
          <a:blip r:embed="rId1"/>
          <a:stretch/>
        </p:blipFill>
        <p:spPr>
          <a:xfrm>
            <a:off x="1692360" y="2421000"/>
            <a:ext cx="633708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36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188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采用人体视觉的视角镜头，非常好的距离感以及录像视角。从图像中，我们可以清晰看到车辆的引擎盖以及路面分道线。对于交通事故取证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18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镜头视角恰到好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未命名"/>
          <p:cNvPicPr/>
          <p:nvPr/>
        </p:nvPicPr>
        <p:blipFill>
          <a:blip r:embed="rId1"/>
          <a:stretch/>
        </p:blipFill>
        <p:spPr>
          <a:xfrm>
            <a:off x="1476360" y="2276640"/>
            <a:ext cx="5975280" cy="36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9800" y="836280"/>
            <a:ext cx="5184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白天录像截图：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万高清录像，边角清晰不变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4车牌"/>
          <p:cNvPicPr/>
          <p:nvPr/>
        </p:nvPicPr>
        <p:blipFill>
          <a:blip r:embed="rId1"/>
          <a:stretch/>
        </p:blipFill>
        <p:spPr>
          <a:xfrm>
            <a:off x="971640" y="1844640"/>
            <a:ext cx="721044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0920" y="1889280"/>
            <a:ext cx="8229600" cy="420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59236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68360" y="838080"/>
            <a:ext cx="8064360" cy="53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操作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功能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共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个功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电源开关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汽车启动点火自动录像，长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秒“功能键”关机并保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录像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开始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暂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开机自动录像；录像状态下轻短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功能键”暂停录像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暂停录像同时进入移动侦测模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回放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长按三秒“功能键”进入回放模式，再轻按“功能键”开始回放录制片段（默认回放最后一段录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11280" y="692280"/>
            <a:ext cx="784836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复位键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功能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机器死机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任何模式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键强制断开电源关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循环录制覆盖录制档功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机器开启并自动录制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支持循环录制和覆盖录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低电检测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机器在检测到低电时电源指示灯会快速闪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机器将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秒保存录制档后自动关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415341"/>
          <p:cNvPicPr/>
          <p:nvPr/>
        </p:nvPicPr>
        <p:blipFill>
          <a:blip r:embed="rId1"/>
          <a:stretch/>
        </p:blipFill>
        <p:spPr>
          <a:xfrm>
            <a:off x="4284720" y="765000"/>
            <a:ext cx="1368360" cy="139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5131"/>
          <p:cNvPicPr/>
          <p:nvPr/>
        </p:nvPicPr>
        <p:blipFill>
          <a:blip r:embed="rId2"/>
          <a:stretch/>
        </p:blipFill>
        <p:spPr>
          <a:xfrm>
            <a:off x="6300720" y="1052640"/>
            <a:ext cx="582840" cy="5475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4932360" y="1123920"/>
            <a:ext cx="1512720" cy="289080"/>
            <a:chOff x="4932360" y="1123920"/>
            <a:chExt cx="1512720" cy="289080"/>
          </a:xfrm>
        </p:grpSpPr>
        <p:sp>
          <p:nvSpPr>
            <p:cNvPr id="80" name="箭头 125"/>
            <p:cNvSpPr/>
            <p:nvPr/>
          </p:nvSpPr>
          <p:spPr>
            <a:xfrm>
              <a:off x="4932360" y="1123920"/>
              <a:ext cx="1512720" cy="28908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32360" y="1123920"/>
              <a:ext cx="15127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000" y="1053720"/>
            <a:ext cx="7777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示灯状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通电自动开机，开机键七彩灯循环闪烁，开机录像七彩灯停止循环，绿灯常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图形1"/>
          <p:cNvPicPr/>
          <p:nvPr/>
        </p:nvPicPr>
        <p:blipFill>
          <a:blip r:embed="rId1"/>
          <a:stretch/>
        </p:blipFill>
        <p:spPr>
          <a:xfrm>
            <a:off x="835200" y="2637000"/>
            <a:ext cx="693576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00000" y="1198440"/>
            <a:ext cx="748836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用场合：请严格遵守国家相关法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得将此产品用于其他非法用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否则后果自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用环境：请在人类适宜的生活环境湿度下使用，请勿将产品至于潮湿的工作环境中，产品不具备防水功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拍摄环境：请在有充足的光源环境下使用，请勿将摄像头对着太阳等超强光源，以免光学器件收到损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保洁要求：请勿在粉尘密度过大的环境下使用，以免镜头或其它部件沾染粉尘，影响摄像效果，镜头保持洁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其他事项：该产品属于精密电子产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勿使其受到强烈撞击、震动；请勿在强磁场、强电场下使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95280" y="836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行车记录仪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撞车"/>
          <p:cNvPicPr/>
          <p:nvPr/>
        </p:nvPicPr>
        <p:blipFill>
          <a:blip r:embed="rId1"/>
          <a:stretch/>
        </p:blipFill>
        <p:spPr>
          <a:xfrm>
            <a:off x="3635280" y="1700280"/>
            <a:ext cx="5318280" cy="304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字幕"/>
          <p:cNvPicPr/>
          <p:nvPr/>
        </p:nvPicPr>
        <p:blipFill>
          <a:blip r:embed="rId2"/>
          <a:stretch/>
        </p:blipFill>
        <p:spPr>
          <a:xfrm>
            <a:off x="539640" y="1700280"/>
            <a:ext cx="2808360" cy="1749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851280" y="486900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9900"/>
                </a:solidFill>
                <a:latin typeface="Arial"/>
              </a:rPr>
              <a:t>事故总在不经意间发生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338560" y="537372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9900"/>
                </a:solidFill>
                <a:latin typeface="Arial"/>
              </a:rPr>
              <a:t>但我们需要真相，承担我们该承担的责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D188产品"/>
          <p:cNvPicPr/>
          <p:nvPr/>
        </p:nvPicPr>
        <p:blipFill>
          <a:blip r:embed="rId3"/>
          <a:stretch/>
        </p:blipFill>
        <p:spPr>
          <a:xfrm>
            <a:off x="539640" y="3429000"/>
            <a:ext cx="2808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95280" y="836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产品图片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D18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行车记录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95280" y="981000"/>
            <a:ext cx="331308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  </a:t>
            </a: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时尚精致外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  </a:t>
            </a: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与</a:t>
            </a:r>
            <a:r>
              <a:rPr b="1" lang="en-US" sz="1400" spc="-1" strike="noStrike">
                <a:solidFill>
                  <a:srgbClr val="0066cc"/>
                </a:solidFill>
                <a:latin typeface="黑体"/>
                <a:ea typeface="黑体"/>
              </a:rPr>
              <a:t>DVD</a:t>
            </a: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导航完美匹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  </a:t>
            </a: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独家隐藏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黑体"/>
                <a:ea typeface="黑体"/>
              </a:rPr>
              <a:t>  </a:t>
            </a:r>
            <a:r>
              <a:rPr b="1" lang="en-US" sz="1400" spc="-1" strike="noStrike">
                <a:solidFill>
                  <a:srgbClr val="0066cc"/>
                </a:solidFill>
                <a:latin typeface="黑体"/>
                <a:ea typeface="黑体"/>
              </a:rPr>
              <a:t>140</a:t>
            </a: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度广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  </a:t>
            </a: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高清分辨率</a:t>
            </a:r>
            <a:r>
              <a:rPr b="1" lang="en-US" sz="1400" spc="-1" strike="noStrike">
                <a:solidFill>
                  <a:srgbClr val="0066cc"/>
                </a:solidFill>
                <a:latin typeface="黑体"/>
                <a:ea typeface="黑体"/>
              </a:rPr>
              <a:t>1280*720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  </a:t>
            </a:r>
            <a:r>
              <a:rPr b="1" lang="zh-CN" sz="1400" spc="-1" strike="noStrike">
                <a:solidFill>
                  <a:srgbClr val="0066cc"/>
                </a:solidFill>
                <a:latin typeface="黑体"/>
                <a:ea typeface="黑体"/>
              </a:rPr>
              <a:t>内置锂电池防掉电保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cc"/>
                </a:solidFill>
                <a:latin typeface="Arial"/>
                <a:ea typeface="黑体"/>
              </a:rPr>
              <a:t>    </a:t>
            </a:r>
            <a:r>
              <a:rPr b="1" lang="zh-CN" sz="1400" spc="-1" strike="noStrike">
                <a:solidFill>
                  <a:srgbClr val="0066cc"/>
                </a:solidFill>
                <a:latin typeface="Arial"/>
                <a:ea typeface="黑体"/>
              </a:rPr>
              <a:t>三轴立体重力感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b09d9251c2188b9d3983e81003ee89e"/>
          <p:cNvPicPr/>
          <p:nvPr/>
        </p:nvPicPr>
        <p:blipFill>
          <a:blip r:embed="rId1"/>
          <a:stretch/>
        </p:blipFill>
        <p:spPr>
          <a:xfrm>
            <a:off x="3419640" y="2133720"/>
            <a:ext cx="4895640" cy="242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1280" y="1052640"/>
            <a:ext cx="784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维护司机的合法权益，对不少横穿公路的人及骑自行车、摩托车在道路上乱窜者，或者其他违章车辆，司机可为自己提供有效的证据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放监控录像记录，澄清事实，减少不必要的纠纷，便于交警快速准确地了解事故现场，分清事故责任，交警处理事故快速准确，更趋于人性化、法理化，既可快速撤离现场恢复交通，又可保留事发时的有效证据，营造安全畅通的交通环境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每辆车上都安装行车记录仪，驾驶员不敢随便违章行驶，行车更加规范和更加遵守交通规则安全行驶，事故发生率也会大幅度下降，肇事逃逸的行为大大降低（被过往车辆拍摄到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院在审理道路交通事故案件时，谁负主要责任，次要责任一目了然，更利于法院在量刑和赔偿上将更加准确和有据可依，也给保险公司的理赔提供了证据，让保险公司理赔更加准确、快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9640" y="765000"/>
            <a:ext cx="7920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碰到专业碰瓷的和拦路抢劫的，行车记录仪将会给破案带来决定性的证据，交警部门工作效率将极大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对出现刮车等事件进行拍摄取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证据，防止“撞车党”假撞车真敲诈，提供现场有效证据，使行车事故扯皮减少，杜绝“撞车党”的滋生，提高道路利用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喜欢自驾游的朋友，可以用它来记录征服艰难险阻的过程，也可在家用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拍摄生活乐趣，或者做为家用监控使用，平时还可以做停车监控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56534"/>
          <p:cNvPicPr/>
          <p:nvPr/>
        </p:nvPicPr>
        <p:blipFill>
          <a:blip r:embed="rId1"/>
          <a:stretch/>
        </p:blipFill>
        <p:spPr>
          <a:xfrm>
            <a:off x="685800" y="981000"/>
            <a:ext cx="777096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80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行车记录仪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功能是行车时自动记录车辆前方的情况并实时存储，如遇到行车意外或交通事故，通过回放事故录像，为责任认定提供有利的证据，以此保护车主利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行车记录仪（俗称“黑匣子”）是一种能对车辆行驶速度、时间、里程以及有关车辆行驶的其他状态信息进行记录、存储并通过接口实现数据输出的数字式电子记录装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于记录仪能够实时地记录车辆运行和驾驶员驾驶活动的有关信息，它可以遏止疲劳驾驶、车辆超速等严重交通违章、约束驾驶人员的不良驾驶行为，预防道路交通事故、保障车辆行驶安全， 提高营运管理水平等诸多方面发挥重要的作用， 并且作为事故分析和鉴定提供原始数据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汽车行驶记录仪同时也提供显著的社会效益：提高行车安全，更好的保障社会群众及乘客的生命安全。 将可大幅减少车辆违规肇事、废弃物倾倒或司机监守自盗等社会案件。 遇到交通事故，记录仪上留下的数据为公安交警部门的事故处理、协助破案提供了有效的手段和依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836640"/>
            <a:ext cx="88200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产品功能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品牌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JAD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捷渡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重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80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含包装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0 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含包装重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型号：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188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尺寸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3mm * 32mm *  32m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长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类： 便携式行车记录仪                重力感应：三轴立体碰撞加速传感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视角度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4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度超广角镜头              电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压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v 200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录影模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录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移动侦测            电流频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0HZ/6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显示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720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清显示独创可接车载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VD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电载体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置耐高温聚合物锂电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拍摄感应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 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万像素                  视频画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HD(1280*720)  S/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压缩方式：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H.264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视频格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视频格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视频片段时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分分钟                  分辨率大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HD(1280*7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存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TF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最大支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2G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盘功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19280" y="1274760"/>
            <a:ext cx="770544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24000" y="1339920"/>
            <a:ext cx="88200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195640" y="2997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981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24000" y="9810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行车记录仪功能键示意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916360" y="551664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OK"/>
          <p:cNvPicPr/>
          <p:nvPr/>
        </p:nvPicPr>
        <p:blipFill>
          <a:blip r:embed="rId1"/>
          <a:stretch/>
        </p:blipFill>
        <p:spPr>
          <a:xfrm>
            <a:off x="665280" y="1484280"/>
            <a:ext cx="7867440" cy="4629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11280" y="1197000"/>
            <a:ext cx="7489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产品使用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安装记录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关闭引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将锁匙从点火器中取出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在光线充足、安全的地方安装记录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卡插进记录仪卡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将记录仪放在合适的位置并调整摄像位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将记录仪的接口与汽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电源连接起来（需专业人员操作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发动引擎，检查机器是否已安装正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188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安装步骤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18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第一步是把摄像头固定于车辆内后视镜前方，基本矫正一下仪器水平，精确调整需结合实时输出的影像进行。摄像头从驾驶座上看几乎是隐藏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AA"/>
          <p:cNvPicPr/>
          <p:nvPr/>
        </p:nvPicPr>
        <p:blipFill>
          <a:blip r:embed="rId1"/>
          <a:stretch/>
        </p:blipFill>
        <p:spPr>
          <a:xfrm>
            <a:off x="1266840" y="2276640"/>
            <a:ext cx="59277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D18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行车录像仪通过三条线与车辆连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电源线、地线以及视频输出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BP@LNG}O}XIKE06[EEHU_%1"/>
          <p:cNvPicPr/>
          <p:nvPr/>
        </p:nvPicPr>
        <p:blipFill>
          <a:blip r:embed="rId1"/>
          <a:stretch/>
        </p:blipFill>
        <p:spPr>
          <a:xfrm>
            <a:off x="1042920" y="155736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14:23Z</dcterms:created>
  <dc:creator>雨林木风</dc:creator>
  <dc:description/>
  <dc:language>en-US</dc:language>
  <cp:lastModifiedBy>wuhan</cp:lastModifiedBy>
  <dcterms:modified xsi:type="dcterms:W3CDTF">2016-06-27T01:03:32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