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chimes.wav" ContentType="audio/x-wav"/>
  <Override PartName="/ppt/media/image4.gif" ContentType="image/gif"/>
  <Override PartName="/ppt/media/image6.jpeg" ContentType="image/jpeg"/>
  <Override PartName="/ppt/media/camera.wav" ContentType="audio/x-wav"/>
  <Override PartName="/ppt/media/image7.jpeg" ContentType="image/jpeg"/>
  <Override PartName="/ppt/media/image10.wmf" ContentType="image/x-wmf"/>
  <Override PartName="/ppt/media/image5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6DD-3419-4F31-A615-5E6E583D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A0C-34A1-47B7-92C3-461032AA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DC7-20AB-46A4-97F7-03AD3D3C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6F8-BE85-473D-BE6C-76EC8D3E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FA7-E740-4C12-8663-F0A5976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092-5AF8-439D-B328-4B93C5FB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4F0-7E27-4088-8A68-7124A401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6C0-3274-4429-87C2-F231CAE6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A92-CC44-4CED-97B4-F01DDFCB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C43-1678-4D28-BFF2-AFFC22F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CC7-ED9C-45B3-BCBE-BD2FA8A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DE1-A1B0-49B9-81C4-7E34D312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4B5-D8FB-459E-8255-11AA63DD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4356000" y="148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1"/>
          <p:cNvPicPr/>
          <p:nvPr/>
        </p:nvPicPr>
        <p:blipFill>
          <a:blip r:embed="rId1"/>
          <a:srcRect l="0" t="0" r="61828" b="2076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 rot="5400000">
            <a:off x="-541800" y="2494080"/>
            <a:ext cx="446580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惊弓之鸟</a:t>
            </a:r>
            <a:endParaRPr b="0" lang="en-US" sz="4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4" name="Picture 5" descr="1"/>
          <p:cNvPicPr/>
          <p:nvPr/>
        </p:nvPicPr>
        <p:blipFill>
          <a:blip r:embed="rId2"/>
          <a:srcRect l="2990" t="0" r="5436" b="0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9"/>
          <p:cNvSpPr/>
          <p:nvPr/>
        </p:nvSpPr>
        <p:spPr>
          <a:xfrm>
            <a:off x="2592360" y="6237360"/>
            <a:ext cx="319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7dow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"/>
              </a:rPr>
              <a:t>默读课文，根据以下三句话把课文分成三个部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794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羸说不用箭能射下大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羸不用箭射下了大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羸不用箭射下大雁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222"/>
          <p:cNvPicPr/>
          <p:nvPr/>
        </p:nvPicPr>
        <p:blipFill>
          <a:blip r:embed="rId1"/>
          <a:stretch/>
        </p:blipFill>
        <p:spPr>
          <a:xfrm>
            <a:off x="468360" y="0"/>
            <a:ext cx="2087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W020101223531496665015"/>
          <p:cNvPicPr/>
          <p:nvPr/>
        </p:nvPicPr>
        <p:blipFill>
          <a:blip r:embed="rId1"/>
          <a:srcRect l="0" t="3746" r="0" b="36628"/>
          <a:stretch/>
        </p:blipFill>
        <p:spPr>
          <a:xfrm>
            <a:off x="684360" y="0"/>
            <a:ext cx="766764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619280" y="126216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657440" y="170028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W020101223531496190595"/>
          <p:cNvPicPr/>
          <p:nvPr/>
        </p:nvPicPr>
        <p:blipFill>
          <a:blip r:embed="rId1"/>
          <a:srcRect l="0" t="5836" r="0" b="23803"/>
          <a:stretch/>
        </p:blipFill>
        <p:spPr>
          <a:xfrm>
            <a:off x="1332000" y="0"/>
            <a:ext cx="6361200" cy="6742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5220000" y="81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843280" y="27082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203640" y="630864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927800" y="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945440" y="76500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927800" y="119700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999440" y="23493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927800" y="320688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1874160" y="39337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874160" y="43657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16000" y="260280"/>
            <a:ext cx="80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魏国有名的射箭能手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"/>
          <p:cNvPicPr/>
          <p:nvPr/>
        </p:nvPicPr>
        <p:blipFill>
          <a:blip r:embed="rId1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835280" y="1268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更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田字格"/>
          <p:cNvPicPr/>
          <p:nvPr/>
        </p:nvPicPr>
        <p:blipFill>
          <a:blip r:embed="rId2"/>
          <a:stretch/>
        </p:blipFill>
        <p:spPr>
          <a:xfrm>
            <a:off x="1547640" y="2205000"/>
            <a:ext cx="3024360" cy="28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Rectangle 6"/>
          <p:cNvSpPr/>
          <p:nvPr/>
        </p:nvSpPr>
        <p:spPr>
          <a:xfrm>
            <a:off x="1763640" y="1844640"/>
            <a:ext cx="2724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羸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48690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赢 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835280" y="981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DotumChe"/>
                <a:ea typeface="DotumChe"/>
              </a:rPr>
              <a:t>gēng lé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9"/>
          <p:cNvPicPr/>
          <p:nvPr/>
        </p:nvPicPr>
        <p:blipFill>
          <a:blip r:embed="rId1"/>
          <a:stretch/>
        </p:blipFill>
        <p:spPr>
          <a:xfrm>
            <a:off x="4140360" y="5589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图片9"/>
          <p:cNvPicPr/>
          <p:nvPr/>
        </p:nvPicPr>
        <p:blipFill>
          <a:blip r:embed="rId2"/>
          <a:stretch/>
        </p:blipFill>
        <p:spPr>
          <a:xfrm>
            <a:off x="4140360" y="4365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图片9"/>
          <p:cNvPicPr/>
          <p:nvPr/>
        </p:nvPicPr>
        <p:blipFill>
          <a:blip r:embed="rId3"/>
          <a:stretch/>
        </p:blipFill>
        <p:spPr>
          <a:xfrm>
            <a:off x="4140360" y="299736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图片9"/>
          <p:cNvPicPr/>
          <p:nvPr/>
        </p:nvPicPr>
        <p:blipFill>
          <a:blip r:embed="rId4"/>
          <a:stretch/>
        </p:blipFill>
        <p:spPr>
          <a:xfrm>
            <a:off x="4140360" y="1700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图片9"/>
          <p:cNvPicPr/>
          <p:nvPr/>
        </p:nvPicPr>
        <p:blipFill>
          <a:blip r:embed="rId5"/>
          <a:stretch/>
        </p:blipFill>
        <p:spPr>
          <a:xfrm>
            <a:off x="4140360" y="3333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图片9"/>
          <p:cNvPicPr/>
          <p:nvPr/>
        </p:nvPicPr>
        <p:blipFill>
          <a:blip r:embed="rId6"/>
          <a:stretch/>
        </p:blipFill>
        <p:spPr>
          <a:xfrm>
            <a:off x="250920" y="5589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图片9"/>
          <p:cNvPicPr/>
          <p:nvPr/>
        </p:nvPicPr>
        <p:blipFill>
          <a:blip r:embed="rId7"/>
          <a:stretch/>
        </p:blipFill>
        <p:spPr>
          <a:xfrm>
            <a:off x="250920" y="333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250920" y="26028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图片9"/>
          <p:cNvPicPr/>
          <p:nvPr/>
        </p:nvPicPr>
        <p:blipFill>
          <a:blip r:embed="rId8"/>
          <a:stretch/>
        </p:blipFill>
        <p:spPr>
          <a:xfrm>
            <a:off x="250920" y="4365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图片9"/>
          <p:cNvPicPr/>
          <p:nvPr/>
        </p:nvPicPr>
        <p:blipFill>
          <a:blip r:embed="rId9"/>
          <a:stretch/>
        </p:blipFill>
        <p:spPr>
          <a:xfrm>
            <a:off x="250920" y="299736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图片9"/>
          <p:cNvPicPr/>
          <p:nvPr/>
        </p:nvPicPr>
        <p:blipFill>
          <a:blip r:embed="rId10"/>
          <a:stretch/>
        </p:blipFill>
        <p:spPr>
          <a:xfrm>
            <a:off x="250920" y="17002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324000" y="162864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50920" y="292428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50920" y="429264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258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魏国 姓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258920" y="177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弓箭 射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258920" y="3141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打猎  猎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1258920" y="4508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悲惨  悲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250920" y="551664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140360" y="2924280"/>
            <a:ext cx="100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4211640" y="429264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4140360" y="551664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1258920" y="57340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愈合  痊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5292720" y="19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拉弦   琴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5148360" y="3213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雁   孤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5148360" y="4508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惨痛  悲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5148360" y="573408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裂开 分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4211640" y="170028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5435640" y="47628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射箭   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4211640" y="40464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音字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惨（         ）      愈（          ）    拼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渗（         ）      愉（          ）    瓶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魏（         ）      箭（           ）   孤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卫（         ）      剑（           ）   狐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第一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2222"/>
          <p:cNvPicPr/>
          <p:nvPr/>
        </p:nvPicPr>
        <p:blipFill>
          <a:blip r:embed="rId1"/>
          <a:stretch/>
        </p:blipFill>
        <p:spPr>
          <a:xfrm>
            <a:off x="468360" y="0"/>
            <a:ext cx="2087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yz01"/>
          <p:cNvPicPr/>
          <p:nvPr/>
        </p:nvPicPr>
        <p:blipFill>
          <a:blip r:embed="rId1"/>
          <a:srcRect l="62724" t="4501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250920" y="0"/>
            <a:ext cx="22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库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0" name="Picture 4" descr="XC4F8011"/>
          <p:cNvPicPr/>
          <p:nvPr/>
        </p:nvPicPr>
        <p:blipFill>
          <a:blip r:embed="rId2"/>
          <a:stretch/>
        </p:blipFill>
        <p:spPr>
          <a:xfrm>
            <a:off x="0" y="1844640"/>
            <a:ext cx="3303720" cy="4537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484360" y="144360"/>
            <a:ext cx="66596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雁又称野鹅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型候鸟，每到秋天就从北方飞到南方去，春天又从南方飞回北方，一般都</a:t>
            </a: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成群结对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行。属国家二级保护动物。大雁热情十足，能给同伴鼓舞，用叫声鼓励飞行的同伴。大雁迁徙的时候会排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10857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联系故事内容，说说“惊弓之鸟”四个字各是什么意思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16120" y="4505400"/>
            <a:ext cx="66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被弓箭吓怕了的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58920" y="25606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627280" y="2560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害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58920" y="3133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56000" y="31370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弓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258920" y="3638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556000" y="36385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2222"/>
          <p:cNvPicPr/>
          <p:nvPr/>
        </p:nvPicPr>
        <p:blipFill>
          <a:blip r:embed="rId1"/>
          <a:stretch/>
        </p:blipFill>
        <p:spPr>
          <a:xfrm>
            <a:off x="468360" y="0"/>
            <a:ext cx="2087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11280" y="15573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个成语故事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2708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讲的是魏国有名的射箭能手更羸经过观察，不用射箭，只拉一下弓，就使大雁掉了下来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2222"/>
          <p:cNvPicPr/>
          <p:nvPr/>
        </p:nvPicPr>
        <p:blipFill>
          <a:blip r:embed="rId1"/>
          <a:stretch/>
        </p:blipFill>
        <p:spPr>
          <a:xfrm>
            <a:off x="468360" y="0"/>
            <a:ext cx="2087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10492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ē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更正；更生；更新；更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è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更加 ；更上一层楼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222"/>
          <p:cNvPicPr/>
          <p:nvPr/>
        </p:nvPicPr>
        <p:blipFill>
          <a:blip r:embed="rId1"/>
          <a:stretch/>
        </p:blipFill>
        <p:spPr>
          <a:xfrm>
            <a:off x="468360" y="0"/>
            <a:ext cx="2087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0492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é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为人 ；以为；为天下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è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为了 ；因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222"/>
          <p:cNvPicPr/>
          <p:nvPr/>
        </p:nvPicPr>
        <p:blipFill>
          <a:blip r:embed="rId1"/>
          <a:stretch/>
        </p:blipFill>
        <p:spPr>
          <a:xfrm>
            <a:off x="468360" y="0"/>
            <a:ext cx="2087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1341360"/>
            <a:ext cx="86421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国    射箭     打猎     大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弦    痛苦     愈合   悲  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  命     嘣的一声    更  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843280" y="692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ji4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435640" y="76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li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966080" y="76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y4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55640" y="2781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xi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403360" y="2781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t^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13360" y="2781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988320" y="27813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b5i c3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24000" y="4724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p9n m@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440" y="69228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w8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094200" y="479700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zypyyb"/>
                <a:ea typeface="zypyyb"/>
              </a:rPr>
              <a:t>bē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588000" y="472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DotumChe"/>
              </a:rPr>
              <a:t>gēng</a:t>
            </a:r>
            <a:r>
              <a:rPr b="0" lang="en-US" sz="3600" spc="-1" strike="noStrike">
                <a:solidFill>
                  <a:srgbClr val="0000cc"/>
                </a:solidFill>
                <a:latin typeface="DotumChe"/>
                <a:ea typeface="DotumChe"/>
              </a:rPr>
              <a:t> l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4920" y="692280"/>
            <a:ext cx="89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羸     魏国    射箭     打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雁       拉弦       嘣的一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事       悲惨       大吃一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愈合       痛苦       孤单失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命       裂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9:18:36Z</dcterms:created>
  <dc:creator>为您服务教育网　http://www.wsbedu.com/</dc:creator>
  <dc:description/>
  <dc:language>en-US</dc:language>
  <cp:lastModifiedBy>Administrator</cp:lastModifiedBy>
  <dcterms:modified xsi:type="dcterms:W3CDTF">2016-04-27T03:17:08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