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5B2-32FD-40BB-A69F-45CD9F43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1AF-0C87-432D-A2D4-A0401CCB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CE35C-1728-48FE-9EE2-97376DD1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728D0-CE65-4927-A0D6-C3B59FD0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D889A-CB5F-48DE-824A-5287EB32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53A00-C08F-4D45-9898-BAA8941D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1ADE5-1915-4B7D-A550-DFE512A7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0E112-7347-449F-BDB2-8E073E45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40F24-BB79-4EAC-A3F6-646FB790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EB395-B100-49EB-8F47-DB3CAA65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5B4CC-E1CF-41AA-A7E4-F9AA2E83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5C953-CB1E-4DE0-A721-3609248D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1E57-F952-4DDF-9E84-E04DFC2D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AA2F8-CD13-487F-A847-B8490630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E066C-6F7F-430D-BB14-4E21A2EE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DE419-A275-4851-A52B-9ACCED4A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F7393-BA3A-4B44-B0AD-2A41EA87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E96A5-7EF5-4032-A72C-A03133C9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A3E4B-293A-4DCC-A447-FCD79F7F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4C2FC-25F2-4314-A949-EBEDBC04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42656-3788-4A38-A698-1D980E70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64C58-DBCD-4EE3-909E-174E0E12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C4BDA-0CF7-48D6-8001-10731104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8067-7334-436B-8480-3B7D3C88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4332D-17D6-44C5-BF71-A96ED008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A4BD4-AE12-4ED7-BE8C-83D8254E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42FF1-BD4E-45EC-99EE-BA218CE0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E6BF0-B8B8-4096-9690-259E6DA0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61D18-294B-4C07-83E0-99E32349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B888F-2AF3-4985-B11B-D276AFC4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F992D-BCE9-44E3-8381-BD9F6849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2EC81-C753-4C05-8DE2-188C259F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702EF-4B1A-4CC0-8439-082D4859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457FC-F461-4237-8E8F-A8D8B489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4477-6D62-41DD-ACCE-3ADE3C8C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682A9-089F-42B8-8896-EC3B691B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7618A-781B-4632-ABB4-79E67AD1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6158D-9A12-4D45-A240-2C97686B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143FB-1E3C-44D8-8E99-660F71CA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7BAA6-1BEA-4D1C-908A-10AAA8E2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FA7C3-4AB3-437B-B7DD-791D56C5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DF94A-19A7-4D6A-81BB-F36CED87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ED7F7-8639-4E17-BB97-0E6C719A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CBA32-8C32-4DD4-B42B-A05A6480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9A37E-0B1B-4ABA-A855-F9D30D8B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9368-2269-4EF6-BC7C-9BE7EE64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E80DB-6C60-46C9-A452-BD3CE48B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F3BC3-D45A-432E-A3DD-BF2EBE2D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EC3AC-CD97-462F-AAF8-34667F0A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FE24E-1436-4F7F-91E3-DE309FEF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B349C-4D37-44F0-94E9-035EA687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017C64-5B76-4CEC-B92B-230B76B6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2E3E1-FF1C-459A-B8FB-26086338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5FE33-F2D7-4978-82F6-7A9D6E22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B44FE-F68D-41E2-969D-2A440FA1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CD93B-454A-4232-87FC-491B242F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2D2A-9432-49B6-B666-5B3BAA83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1836F-5ED7-4C6C-AFCE-411D71EF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5588F0-0FFD-46E2-80BB-8998787D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7FD91-FB66-4A48-954C-688E3865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FC9B5A-B2E2-4339-B00F-1646D593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D1111C-4DD2-49BC-8434-730A063A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265BA-C192-44D6-BA7C-8F1BDCB8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4DF1E-624E-4FD8-895D-2C4526E1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153A-F804-4DFE-9A7F-934C7FC0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2044-5772-4F90-88F2-E58B7006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827B-ACE8-47C7-91FD-5A1B5F53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4662-5154-4375-84FC-971B9288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C30-8CA5-444F-BB78-81D810DC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E61A-EE80-4C2A-A53A-F421AA72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881A-5157-4178-B088-8C481033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41BA-AF9B-4B0C-8B54-0BE025F6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2442-0ABC-45E1-A34C-D5F52A07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45F2-4ACA-448C-B76D-D2412BCA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F225A-1B6F-4F67-9C8D-1F9F01AC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5B762-9BA1-49C7-8230-D3EFF767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A66A2-9081-4920-8F74-C2A2A54A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7C0FC-A3B1-4D32-A4DE-8F7AF185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D3B40-5694-429E-A3CC-A54E3211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038-A833-4125-9926-184E38A8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F922A-F074-493E-8C31-2BA17971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F01BB-EB0D-4E1F-9F77-781F59D3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3B55A-7750-479C-A6A0-E3CFA8A2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77DAB-FE03-41C6-84FB-A46E5BC9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F272E-F3E8-4F47-8E77-920D0DB6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4DCFC-4B0D-4E17-B836-45B89079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C8B62-569F-4739-A735-519B9535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5C623-1F2A-4A69-9DA7-D3C7DC71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1A2EE-5AAF-490E-B5B8-39ED4156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60BDB-0D1A-4D55-B8CF-70823BF8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08D-92BD-4BD5-8F84-4DFA5562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62EBB-E91A-4450-B47D-56469C90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13B58-EA12-4031-97F5-CDDBC757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FEC36-EBEA-45D2-943A-7567F5B6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F7437-C6E0-434E-A0BC-50F0A196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0360A-1B66-4874-A6B3-F8C0A464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9EB01-9C82-446B-ACC9-C9672C3B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360C8-0E3D-48C4-AD78-2528FF8B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A70B3-F674-4468-A0B2-E3D41B16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651C1-188D-41A9-992C-C3C15D1A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2F44F-1294-4D3D-8236-A0ABF93B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3E3-ECF5-41AF-934B-112F7F72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872A4-9E99-4426-948F-974561B9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0B3BB-0B16-4034-AA48-3641C19D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1730C-D49C-4EAD-AF0E-5AD771BF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89AC5-4962-4DF4-A02A-596A4D1A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EC408-3A94-450D-B48D-DD85011F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D05FE-C564-4EFE-B01F-947200B7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17D11-5A9C-483D-A672-FA6B2496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E0EBE-A20A-46BC-B85E-3B567117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33845-9AAF-4AF4-813D-1530D755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E5F7C-5A4E-4F1B-B63E-A173EF0A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10B-48FC-414D-848B-3841C5F6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981FD-0E1B-434B-8DD5-B92C725F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2A865-7EE4-4643-AF40-A968129D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F277D-1A39-4621-A99D-4093AA34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A6762-330B-4900-A647-4D7EF9A5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87A15-5DBF-4DCB-85A8-A79D88CE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9EC2B-FA0C-4060-96F0-C58D2614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55AB6-23F8-4600-BFDA-7A8DCF5A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06BC7-AA91-4A9E-997D-26C40F42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63FD6-C88C-46E9-B259-5F660D7C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29E54-7A57-4435-88E0-BED820AB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9950-60A7-41D9-87F8-C4BBA8E8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A75A0-DC6A-4543-AC12-794B9EBC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42FA2-CB82-4732-8D19-41E55933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A6467-114B-4993-8C84-EE25EB55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F9ED7-FFB7-47D1-AFBA-8CF6D901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BDF5B-B144-4D69-9632-607CC0BE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F71EE-11F7-4E82-BF97-CB68C290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D74FB-252A-4BE3-97FD-13DF7659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40354-14C9-4A5A-8674-21CE5F50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EE8BD-7D23-41A6-ABE8-FACCA375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F13D8-8A14-455C-84F5-56F5997D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3722-AFFC-4124-BAD0-C7A36D1E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163E7-C500-4317-B82E-4EC4831D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34216-FFF7-438C-AC02-FF71501F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C8B38-BD89-4B2E-9C48-805294C9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8562C-BD25-4A52-B082-BF75D764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75235-08A6-40C6-9C60-D35FE803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2207A-22FF-48DD-B8D8-2D6BD214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F7815-E5FD-40BB-9FEE-207F0DF7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569AB-4FDB-44E9-910A-793175DC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53D0A-1980-4D9C-A0C6-1EDB9B64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342CC-47F8-4A47-B4D3-9E19BDC6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BD0-F7FA-41AA-B9DB-950291DD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F731C-2D07-4529-9D55-CE9BB263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820C0-A8D1-45A0-BB01-44531AC1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2790D-1524-47DE-A683-E1DB1F46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CD0ED-4212-4ED0-85B8-B14F7A03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97643-7418-4936-B427-8746C98E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485C3-7EB9-4664-9A2B-FA80B701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06701-05BC-4F2E-9469-0DEA95B3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DF1E7-721B-4F6C-ADB2-60E582CF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496A4-F796-4DCD-967B-134E0502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DA43A-E913-4748-9801-1F7A1231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6F0A-5835-4FEE-81DC-17E782EF9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1C19-4A4C-4A2A-8FF1-55FDBDFECD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691D-C688-4391-BA8A-1AFAD1DC64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6528-57E5-4A91-A9FC-DAF059AB6D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B4BE-7852-497C-BFC9-5A94828A61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F271-528E-4D9E-BFD9-F2A1EB2CBA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4B0E-27B9-4F2C-826F-9302B26F4F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5439-E86C-4FFE-82C1-93240A47D5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78B8-4907-41C0-B96C-26F7240F35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2BAC-2E18-4750-8718-4C3697D521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7410-A153-44D7-B3CE-BF8ACFC4F5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AC36-0022-4358-9045-86E6E913872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3A4E-B4EB-4E57-9AC7-75CB292EF9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2.jpe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11"/>
          <p:cNvSpPr/>
          <p:nvPr/>
        </p:nvSpPr>
        <p:spPr>
          <a:xfrm>
            <a:off x="1646280" y="487692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3"/>
          <p:cNvGrpSpPr/>
          <p:nvPr/>
        </p:nvGrpSpPr>
        <p:grpSpPr>
          <a:xfrm>
            <a:off x="914400" y="990720"/>
            <a:ext cx="7478640" cy="4817880"/>
            <a:chOff x="914400" y="990720"/>
            <a:chExt cx="7478640" cy="4817880"/>
          </a:xfrm>
        </p:grpSpPr>
        <p:pic>
          <p:nvPicPr>
            <p:cNvPr id="535" name="Picture 3" descr="E:\ppt模板\个人作品\素材\6474443_103759403174_2.jpg"/>
            <p:cNvPicPr/>
            <p:nvPr/>
          </p:nvPicPr>
          <p:blipFill>
            <a:blip r:embed="rId15"/>
            <a:stretch/>
          </p:blipFill>
          <p:spPr>
            <a:xfrm>
              <a:off x="1123920" y="1230120"/>
              <a:ext cx="7058160" cy="4313160"/>
            </a:xfrm>
            <a:prstGeom prst="rect">
              <a:avLst/>
            </a:prstGeom>
            <a:ln w="0">
              <a:noFill/>
            </a:ln>
            <a:effectLst>
              <a:outerShdw dist="28080" dir="5400000" blurRad="0" rotWithShape="0">
                <a:srgbClr val="000000">
                  <a:alpha val="32000"/>
                </a:srgbClr>
              </a:outerShdw>
            </a:effectLst>
          </p:spPr>
        </p:pic>
        <p:grpSp>
          <p:nvGrpSpPr>
            <p:cNvPr id="536" name="组合 7"/>
            <p:cNvGrpSpPr/>
            <p:nvPr/>
          </p:nvGrpSpPr>
          <p:grpSpPr>
            <a:xfrm>
              <a:off x="914400" y="990720"/>
              <a:ext cx="7478640" cy="4817880"/>
              <a:chOff x="914400" y="990720"/>
              <a:chExt cx="7478640" cy="4817880"/>
            </a:xfrm>
          </p:grpSpPr>
          <p:pic>
            <p:nvPicPr>
              <p:cNvPr id="537" name="Picture 2" descr="E:\ppt模板\个人作品\毕业\7397268_165311702131_2.jpg"/>
              <p:cNvPicPr/>
              <p:nvPr/>
            </p:nvPicPr>
            <p:blipFill>
              <a:blip r:embed="rId16"/>
              <a:stretch/>
            </p:blipFill>
            <p:spPr>
              <a:xfrm>
                <a:off x="7914600" y="1223280"/>
                <a:ext cx="448560" cy="427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Picture 2" descr="E:\ppt模板\个人作品\毕业\7397268_165311702131_2.jpg"/>
              <p:cNvPicPr/>
              <p:nvPr/>
            </p:nvPicPr>
            <p:blipFill>
              <a:blip r:embed="rId17"/>
              <a:stretch/>
            </p:blipFill>
            <p:spPr>
              <a:xfrm>
                <a:off x="914400" y="1229040"/>
                <a:ext cx="376920" cy="428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9" name="Picture 2" descr="E:\ppt模板\个人作品\毕业\7397268_165311702131_2.jpg"/>
              <p:cNvPicPr/>
              <p:nvPr/>
            </p:nvPicPr>
            <p:blipFill>
              <a:blip r:embed="rId18"/>
              <a:stretch/>
            </p:blipFill>
            <p:spPr>
              <a:xfrm>
                <a:off x="944280" y="990720"/>
                <a:ext cx="7448760" cy="40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0" name="Picture 2" descr="E:\ppt模板\个人作品\毕业\7397268_165311702131_2.jpg"/>
              <p:cNvPicPr/>
              <p:nvPr/>
            </p:nvPicPr>
            <p:blipFill>
              <a:blip r:embed="rId19"/>
              <a:stretch/>
            </p:blipFill>
            <p:spPr>
              <a:xfrm>
                <a:off x="944280" y="5397480"/>
                <a:ext cx="7448760" cy="411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752480" y="22096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砖墙黑板</a:t>
            </a:r>
            <a:r>
              <a:rPr b="0" lang="en-US" sz="5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0" lang="zh-CN" sz="5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7"/>
          <p:cNvSpPr/>
          <p:nvPr/>
        </p:nvSpPr>
        <p:spPr>
          <a:xfrm>
            <a:off x="1643040" y="3733920"/>
            <a:ext cx="6019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8" descr="C:\Documents and Settings\Owner\My Documents\My Pictures\7675514_192259942000_2_副本.jpg"/>
          <p:cNvPicPr/>
          <p:nvPr/>
        </p:nvPicPr>
        <p:blipFill>
          <a:blip r:embed="rId2"/>
          <a:stretch/>
        </p:blipFill>
        <p:spPr>
          <a:xfrm>
            <a:off x="304920" y="515880"/>
            <a:ext cx="8458200" cy="6131160"/>
          </a:xfrm>
          <a:prstGeom prst="rect">
            <a:avLst/>
          </a:prstGeom>
          <a:ln w="0">
            <a:noFill/>
          </a:ln>
        </p:spPr>
      </p:pic>
      <p:pic>
        <p:nvPicPr>
          <p:cNvPr id="544" name="矩形 6" descr=""/>
          <p:cNvPicPr/>
          <p:nvPr/>
        </p:nvPicPr>
        <p:blipFill>
          <a:blip r:embed="rId3"/>
          <a:stretch/>
        </p:blipFill>
        <p:spPr>
          <a:xfrm>
            <a:off x="560520" y="1096920"/>
            <a:ext cx="976320" cy="847800"/>
          </a:xfrm>
          <a:prstGeom prst="rect">
            <a:avLst/>
          </a:prstGeom>
          <a:ln w="0">
            <a:noFill/>
          </a:ln>
        </p:spPr>
      </p:pic>
      <p:pic>
        <p:nvPicPr>
          <p:cNvPr id="545" name="矩形 7" descr=""/>
          <p:cNvPicPr/>
          <p:nvPr/>
        </p:nvPicPr>
        <p:blipFill>
          <a:blip r:embed="rId4"/>
          <a:stretch/>
        </p:blipFill>
        <p:spPr>
          <a:xfrm>
            <a:off x="639720" y="2316240"/>
            <a:ext cx="976320" cy="847800"/>
          </a:xfrm>
          <a:prstGeom prst="rect">
            <a:avLst/>
          </a:prstGeom>
          <a:ln w="0">
            <a:noFill/>
          </a:ln>
        </p:spPr>
      </p:pic>
      <p:pic>
        <p:nvPicPr>
          <p:cNvPr id="546" name="矩形 8" descr=""/>
          <p:cNvPicPr/>
          <p:nvPr/>
        </p:nvPicPr>
        <p:blipFill>
          <a:blip r:embed="rId5"/>
          <a:stretch/>
        </p:blipFill>
        <p:spPr>
          <a:xfrm>
            <a:off x="712800" y="3382920"/>
            <a:ext cx="976320" cy="847800"/>
          </a:xfrm>
          <a:prstGeom prst="rect">
            <a:avLst/>
          </a:prstGeom>
          <a:ln w="0">
            <a:noFill/>
          </a:ln>
        </p:spPr>
      </p:pic>
      <p:pic>
        <p:nvPicPr>
          <p:cNvPr id="547" name="矩形 9" descr=""/>
          <p:cNvPicPr/>
          <p:nvPr/>
        </p:nvPicPr>
        <p:blipFill>
          <a:blip r:embed="rId6"/>
          <a:stretch/>
        </p:blipFill>
        <p:spPr>
          <a:xfrm>
            <a:off x="792000" y="4449600"/>
            <a:ext cx="976320" cy="847800"/>
          </a:xfrm>
          <a:prstGeom prst="rect">
            <a:avLst/>
          </a:prstGeom>
          <a:ln w="0">
            <a:noFill/>
          </a:ln>
        </p:spPr>
      </p:pic>
      <p:sp>
        <p:nvSpPr>
          <p:cNvPr id="548" name="直接连接符 11"/>
          <p:cNvSpPr/>
          <p:nvPr/>
        </p:nvSpPr>
        <p:spPr>
          <a:xfrm flipV="1">
            <a:off x="1600200" y="1600200"/>
            <a:ext cx="58672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直接连接符 12"/>
          <p:cNvSpPr/>
          <p:nvPr/>
        </p:nvSpPr>
        <p:spPr>
          <a:xfrm flipV="1">
            <a:off x="1676520" y="2590920"/>
            <a:ext cx="58672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直接连接符 16"/>
          <p:cNvSpPr/>
          <p:nvPr/>
        </p:nvSpPr>
        <p:spPr>
          <a:xfrm flipV="1">
            <a:off x="1676520" y="3580920"/>
            <a:ext cx="586728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直接连接符 17"/>
          <p:cNvSpPr/>
          <p:nvPr/>
        </p:nvSpPr>
        <p:spPr>
          <a:xfrm flipV="1">
            <a:off x="1752480" y="4572000"/>
            <a:ext cx="586764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>
            <a:off x="7924680" y="601992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53" name="TextBox 7"/>
          <p:cNvSpPr/>
          <p:nvPr/>
        </p:nvSpPr>
        <p:spPr>
          <a:xfrm>
            <a:off x="1447920" y="137160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左大括号 4"/>
          <p:cNvSpPr/>
          <p:nvPr/>
        </p:nvSpPr>
        <p:spPr>
          <a:xfrm>
            <a:off x="380880" y="914400"/>
            <a:ext cx="990720" cy="50292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5029200"/>
              <a:gd name="textAreaBottom" fmla="*/ 500364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8"/>
                  <a:pt x="10800" y="355"/>
                </a:cubicBezTo>
                <a:lnTo>
                  <a:pt x="10800" y="10445"/>
                </a:lnTo>
                <a:cubicBezTo>
                  <a:pt x="10800" y="10623"/>
                  <a:pt x="5400" y="10800"/>
                  <a:pt x="0" y="10800"/>
                </a:cubicBezTo>
                <a:cubicBezTo>
                  <a:pt x="5400" y="10800"/>
                  <a:pt x="10800" y="10978"/>
                  <a:pt x="10800" y="11155"/>
                </a:cubicBezTo>
                <a:lnTo>
                  <a:pt x="10800" y="21245"/>
                </a:lnTo>
                <a:cubicBezTo>
                  <a:pt x="10800" y="2142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5"/>
          <p:cNvSpPr/>
          <p:nvPr/>
        </p:nvSpPr>
        <p:spPr>
          <a:xfrm>
            <a:off x="1447920" y="373392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左大括号 9"/>
          <p:cNvSpPr/>
          <p:nvPr/>
        </p:nvSpPr>
        <p:spPr>
          <a:xfrm rot="10800000">
            <a:off x="7543800" y="837720"/>
            <a:ext cx="990720" cy="5257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5257800"/>
              <a:gd name="textAreaBottom" fmla="*/ 523224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0"/>
                  <a:pt x="10800" y="339"/>
                </a:cubicBezTo>
                <a:lnTo>
                  <a:pt x="10800" y="10461"/>
                </a:lnTo>
                <a:cubicBezTo>
                  <a:pt x="10800" y="10631"/>
                  <a:pt x="5400" y="10800"/>
                  <a:pt x="0" y="10800"/>
                </a:cubicBezTo>
                <a:cubicBezTo>
                  <a:pt x="5400" y="10800"/>
                  <a:pt x="10800" y="10970"/>
                  <a:pt x="10800" y="11139"/>
                </a:cubicBezTo>
                <a:lnTo>
                  <a:pt x="10800" y="21261"/>
                </a:lnTo>
                <a:cubicBezTo>
                  <a:pt x="10800" y="2143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组合 8"/>
          <p:cNvGrpSpPr/>
          <p:nvPr/>
        </p:nvGrpSpPr>
        <p:grpSpPr>
          <a:xfrm>
            <a:off x="7238880" y="2133720"/>
            <a:ext cx="1676520" cy="3625560"/>
            <a:chOff x="7238880" y="2133720"/>
            <a:chExt cx="1676520" cy="3625560"/>
          </a:xfrm>
        </p:grpSpPr>
        <p:pic>
          <p:nvPicPr>
            <p:cNvPr id="558" name="Picture 2" descr="E:\ppt模板\个人作品\毕业\7397268_165311702131_2.jpg"/>
            <p:cNvPicPr/>
            <p:nvPr/>
          </p:nvPicPr>
          <p:blipFill>
            <a:blip r:embed="rId2"/>
            <a:stretch/>
          </p:blipFill>
          <p:spPr>
            <a:xfrm>
              <a:off x="7306200" y="5458320"/>
              <a:ext cx="153576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2" descr="E:\ppt模板\个人作品\毕业\7397268_165311702131_2.jpg"/>
            <p:cNvPicPr/>
            <p:nvPr/>
          </p:nvPicPr>
          <p:blipFill>
            <a:blip r:embed="rId3"/>
            <a:stretch/>
          </p:blipFill>
          <p:spPr>
            <a:xfrm>
              <a:off x="7301880" y="2146680"/>
              <a:ext cx="203400" cy="36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2" descr="E:\ppt模板\个人作品\毕业\7397268_165311702131_2.jpg"/>
            <p:cNvPicPr/>
            <p:nvPr/>
          </p:nvPicPr>
          <p:blipFill>
            <a:blip r:embed="rId4"/>
            <a:stretch/>
          </p:blipFill>
          <p:spPr>
            <a:xfrm>
              <a:off x="7238880" y="2133720"/>
              <a:ext cx="1676520" cy="361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1" name="组合 16"/>
          <p:cNvGrpSpPr/>
          <p:nvPr/>
        </p:nvGrpSpPr>
        <p:grpSpPr>
          <a:xfrm>
            <a:off x="4876920" y="3583080"/>
            <a:ext cx="2287440" cy="1828800"/>
            <a:chOff x="4876920" y="3583080"/>
            <a:chExt cx="2287440" cy="1828800"/>
          </a:xfrm>
        </p:grpSpPr>
        <p:sp>
          <p:nvSpPr>
            <p:cNvPr id="562" name="直接连接符 10"/>
            <p:cNvSpPr/>
            <p:nvPr/>
          </p:nvSpPr>
          <p:spPr>
            <a:xfrm>
              <a:off x="4876920" y="5410440"/>
              <a:ext cx="22860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直接连接符 12"/>
            <p:cNvSpPr/>
            <p:nvPr/>
          </p:nvSpPr>
          <p:spPr>
            <a:xfrm flipH="1">
              <a:off x="7162920" y="3583080"/>
              <a:ext cx="1440" cy="1828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Box 17"/>
          <p:cNvSpPr/>
          <p:nvPr/>
        </p:nvSpPr>
        <p:spPr>
          <a:xfrm>
            <a:off x="990720" y="1066680"/>
            <a:ext cx="6019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组合 7"/>
          <p:cNvGrpSpPr/>
          <p:nvPr/>
        </p:nvGrpSpPr>
        <p:grpSpPr>
          <a:xfrm>
            <a:off x="7772400" y="533520"/>
            <a:ext cx="762120" cy="685800"/>
            <a:chOff x="7772400" y="533520"/>
            <a:chExt cx="762120" cy="685800"/>
          </a:xfrm>
        </p:grpSpPr>
        <p:sp>
          <p:nvSpPr>
            <p:cNvPr id="566" name="直接连接符 3"/>
            <p:cNvSpPr/>
            <p:nvPr/>
          </p:nvSpPr>
          <p:spPr>
            <a:xfrm>
              <a:off x="7772400" y="1024200"/>
              <a:ext cx="314280" cy="19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直接连接符 4"/>
            <p:cNvSpPr/>
            <p:nvPr/>
          </p:nvSpPr>
          <p:spPr>
            <a:xfrm flipH="1">
              <a:off x="8086680" y="533520"/>
              <a:ext cx="44784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组合 9"/>
          <p:cNvGrpSpPr/>
          <p:nvPr/>
        </p:nvGrpSpPr>
        <p:grpSpPr>
          <a:xfrm>
            <a:off x="7848720" y="2209680"/>
            <a:ext cx="761400" cy="685800"/>
            <a:chOff x="7848720" y="2209680"/>
            <a:chExt cx="761400" cy="685800"/>
          </a:xfrm>
        </p:grpSpPr>
        <p:sp>
          <p:nvSpPr>
            <p:cNvPr id="569" name="直接连接符 10"/>
            <p:cNvSpPr/>
            <p:nvPr/>
          </p:nvSpPr>
          <p:spPr>
            <a:xfrm>
              <a:off x="7848720" y="2700360"/>
              <a:ext cx="314280" cy="19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直接连接符 11"/>
            <p:cNvSpPr/>
            <p:nvPr/>
          </p:nvSpPr>
          <p:spPr>
            <a:xfrm flipH="1">
              <a:off x="8162640" y="2209680"/>
              <a:ext cx="44748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12"/>
          <p:cNvGrpSpPr/>
          <p:nvPr/>
        </p:nvGrpSpPr>
        <p:grpSpPr>
          <a:xfrm>
            <a:off x="8001000" y="5486400"/>
            <a:ext cx="762120" cy="685800"/>
            <a:chOff x="8001000" y="5486400"/>
            <a:chExt cx="762120" cy="685800"/>
          </a:xfrm>
        </p:grpSpPr>
        <p:sp>
          <p:nvSpPr>
            <p:cNvPr id="572" name="直接连接符 13"/>
            <p:cNvSpPr/>
            <p:nvPr/>
          </p:nvSpPr>
          <p:spPr>
            <a:xfrm>
              <a:off x="8001000" y="5977080"/>
              <a:ext cx="314280" cy="19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14"/>
            <p:cNvSpPr/>
            <p:nvPr/>
          </p:nvSpPr>
          <p:spPr>
            <a:xfrm flipH="1">
              <a:off x="8315280" y="5486400"/>
              <a:ext cx="44784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组合 15"/>
          <p:cNvGrpSpPr/>
          <p:nvPr/>
        </p:nvGrpSpPr>
        <p:grpSpPr>
          <a:xfrm>
            <a:off x="7924680" y="3809880"/>
            <a:ext cx="762120" cy="685800"/>
            <a:chOff x="7924680" y="3809880"/>
            <a:chExt cx="762120" cy="685800"/>
          </a:xfrm>
        </p:grpSpPr>
        <p:sp>
          <p:nvSpPr>
            <p:cNvPr id="575" name="直接连接符 16"/>
            <p:cNvSpPr/>
            <p:nvPr/>
          </p:nvSpPr>
          <p:spPr>
            <a:xfrm>
              <a:off x="7924680" y="4300560"/>
              <a:ext cx="314280" cy="19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直接连接符 17"/>
            <p:cNvSpPr/>
            <p:nvPr/>
          </p:nvSpPr>
          <p:spPr>
            <a:xfrm flipH="1">
              <a:off x="8238960" y="3809880"/>
              <a:ext cx="44784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TextBox 18"/>
          <p:cNvSpPr/>
          <p:nvPr/>
        </p:nvSpPr>
        <p:spPr>
          <a:xfrm>
            <a:off x="1447920" y="137160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9"/>
          <p:cNvSpPr/>
          <p:nvPr/>
        </p:nvSpPr>
        <p:spPr>
          <a:xfrm>
            <a:off x="1447920" y="373392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 rot="20149200">
            <a:off x="7965720" y="178920"/>
            <a:ext cx="1052640" cy="838440"/>
          </a:xfrm>
          <a:prstGeom prst="rect">
            <a:avLst/>
          </a:prstGeom>
          <a:ln w="0">
            <a:noFill/>
          </a:ln>
        </p:spPr>
      </p:pic>
      <p:cxnSp>
        <p:nvCxnSpPr>
          <p:cNvPr id="580" name="肘形连接符 3"/>
          <p:cNvCxnSpPr/>
          <p:nvPr/>
        </p:nvCxnSpPr>
        <p:spPr>
          <a:xfrm flipV="1">
            <a:off x="380880" y="761760"/>
            <a:ext cx="7468560" cy="5487120"/>
          </a:xfrm>
          <a:prstGeom prst="bentConnector3">
            <a:avLst>
              <a:gd name="adj1" fmla="val 53468"/>
            </a:avLst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81" name="TextBox 5"/>
          <p:cNvSpPr/>
          <p:nvPr/>
        </p:nvSpPr>
        <p:spPr>
          <a:xfrm>
            <a:off x="914400" y="1523880"/>
            <a:ext cx="2590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7"/>
          <p:cNvSpPr/>
          <p:nvPr/>
        </p:nvSpPr>
        <p:spPr>
          <a:xfrm>
            <a:off x="5181480" y="1676520"/>
            <a:ext cx="236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6" descr="C:\Documents and Settings\Owner\My Documents\My Pictures\u=1373653399,429047420&amp;fm=51&amp;gp=0_副本_副本.png"/>
          <p:cNvPicPr/>
          <p:nvPr/>
        </p:nvPicPr>
        <p:blipFill>
          <a:blip r:embed="rId2"/>
          <a:stretch/>
        </p:blipFill>
        <p:spPr>
          <a:xfrm>
            <a:off x="914400" y="-895320"/>
            <a:ext cx="1514520" cy="8953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7" descr="C:\Documents and Settings\Owner\My Documents\My Pictures\u=1373653399,429047420&amp;fm=51&amp;gp=0_副本_副本.png"/>
          <p:cNvPicPr/>
          <p:nvPr/>
        </p:nvPicPr>
        <p:blipFill>
          <a:blip r:embed="rId3"/>
          <a:stretch/>
        </p:blipFill>
        <p:spPr>
          <a:xfrm>
            <a:off x="2362320" y="-946080"/>
            <a:ext cx="1600200" cy="9460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8" descr="C:\Documents and Settings\Owner\My Documents\My Pictures\u=1373653399,429047420&amp;fm=51&amp;gp=0_副本_副本.png"/>
          <p:cNvPicPr/>
          <p:nvPr/>
        </p:nvPicPr>
        <p:blipFill>
          <a:blip r:embed="rId4"/>
          <a:stretch/>
        </p:blipFill>
        <p:spPr>
          <a:xfrm>
            <a:off x="4114800" y="-1062000"/>
            <a:ext cx="1666800" cy="1062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9" descr="C:\Documents and Settings\Owner\My Documents\My Pictures\u=1373653399,429047420&amp;fm=51&amp;gp=0_副本_副本.png"/>
          <p:cNvPicPr/>
          <p:nvPr/>
        </p:nvPicPr>
        <p:blipFill>
          <a:blip r:embed="rId5"/>
          <a:stretch/>
        </p:blipFill>
        <p:spPr>
          <a:xfrm>
            <a:off x="6207120" y="-838080"/>
            <a:ext cx="1641600" cy="838080"/>
          </a:xfrm>
          <a:prstGeom prst="rect">
            <a:avLst/>
          </a:prstGeom>
          <a:ln w="0">
            <a:noFill/>
          </a:ln>
        </p:spPr>
      </p:pic>
      <p:sp>
        <p:nvSpPr>
          <p:cNvPr id="587" name="标题 1"/>
          <p:cNvSpPr/>
          <p:nvPr/>
        </p:nvSpPr>
        <p:spPr>
          <a:xfrm>
            <a:off x="1795320" y="2590920"/>
            <a:ext cx="5715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老师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矩形 4"/>
          <p:cNvSpPr/>
          <p:nvPr/>
        </p:nvSpPr>
        <p:spPr>
          <a:xfrm>
            <a:off x="611280" y="4427640"/>
            <a:ext cx="79214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www.1ppt.com/fanwen/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7"/>
          <p:cNvSpPr/>
          <p:nvPr/>
        </p:nvSpPr>
        <p:spPr>
          <a:xfrm>
            <a:off x="0" y="2708280"/>
            <a:ext cx="9144000" cy="1719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图片 9" descr=""/>
          <p:cNvPicPr/>
          <p:nvPr/>
        </p:nvPicPr>
        <p:blipFill>
          <a:blip r:embed="rId6"/>
          <a:stretch/>
        </p:blipFill>
        <p:spPr>
          <a:xfrm>
            <a:off x="1258920" y="128520"/>
            <a:ext cx="7200720" cy="250848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修改模板中的内容包括，图片，数据，文本的替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打包上传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各种形式的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10" descr="png-0644"/>
          <p:cNvPicPr/>
          <p:nvPr/>
        </p:nvPicPr>
        <p:blipFill>
          <a:blip r:embed="rId7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1" descr="png-0652"/>
          <p:cNvPicPr/>
          <p:nvPr/>
        </p:nvPicPr>
        <p:blipFill>
          <a:blip r:embed="rId8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09-06T00:32:52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