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B40-6DC6-438E-BAD7-A1AD548C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5D8-C0F5-41E7-8554-E205D8CA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EC72-1141-4537-8BF7-32DC04A8C9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5B657-F846-4A39-88F4-73B01A769F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7F2A-6DE6-46A1-81B7-D353654F01E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814DA-3F25-4E6F-8BD8-71720C1DA7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8BA86-11AA-45B8-9C0E-E708EA11FE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ACE87-5B7A-4A3D-8175-F81AF9BFC5F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A9534-0D6D-4A92-8C27-4C46E1E008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C22BC-D725-4A1C-9A50-84A2EB4B5D3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2941C-1497-45BD-9E11-A8E06458985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A2515-6BBB-494C-9860-9D67960D8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F15-24DD-4B67-A282-CB9B89CB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90AB7-9035-4D5D-9C79-C8690B6EE40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9C9EA-69F2-481D-8796-6D828581499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94C3C-09A4-4D80-9BAA-153C16935B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98387-4621-4A9E-93A8-8D10C650217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B51D6-4588-44A2-882E-B2E55D03BB4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91CC3-21D9-463D-8B7F-884A191A69A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AB3FB-B746-4712-A05C-DC12731D339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1D693-0496-456A-B7E9-5BD462DE2CA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A933E-6016-4CFD-8E23-517C6D3F47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1927C-29A7-41CC-8CDB-FECDC86E7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3BB-7BE7-4518-ACA8-A3E057F5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B629B-E63E-4642-8F03-15EF01DF3E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1E3A91-B46C-4AD1-A1D7-70201FF182D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AEE11-1F14-4F92-BFFE-A6AF269A56F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7B6B78-F23C-40A6-891E-AB0262C5B3D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5A344F-6DE7-4905-9513-7C3D7B6CE2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50DCA2-3433-4F53-9C8D-2948594EC0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7597F1-8F91-4555-A828-391C4E7D0E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F244C5-4AC8-4DAA-9A6A-8E93F58FCF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FAA1B4-8C7D-4C0A-B2D4-5B95BA47721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1E88AC-2767-4B47-A634-F0E6811C0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F88A6-4C81-4A32-8FA1-F4E85D35BFE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14E841-5935-40F5-8098-20498866A95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9F6402-3D07-4BB3-8455-90FD3014A0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8D398D-291B-4671-B119-F01EA6434B0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7E76-61B1-4D9A-8C70-26745396616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85C3-CD64-4D50-8709-E3FB20DEC6E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1552B-8227-496B-8C2A-DA0FCB3D56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48BD3-179F-4CDA-9475-C8144C765F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57A3F-E10D-40F6-BC55-0AEBBD9176B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66235-8368-4EE2-BDD9-13EE7D3944F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73A3-353E-4661-B2A1-20025695D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16344-2E93-4750-A8BC-E6955B5CBC8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02329-59F2-4756-B4CC-6BE2E78655B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DCF54-9438-43E4-A875-B16193C77C8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BD48A-008A-4C85-8FB1-0399DFE758E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FBD2-71A6-42AC-A075-0A644F5FDD9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7014-6B31-4A90-8369-A2B274AEB03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02B44-E9E8-49FA-A56F-AFE44565233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38DBC-CE9E-4ADE-89D2-91FE43CDDAC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6568C-C66C-41DA-BC20-FC6BD4E5C7D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E6DF0-20FD-4A1A-8029-4FA17FFA4BD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77473-27EC-475C-9376-BE124143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5ECC-CD68-404E-85FF-5DE33F4C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6C24B-A097-4583-98BD-AB295DC1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CD9B6-B2F8-426B-9A97-4319B28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EABC2-D17C-4271-8F08-CB993913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36871-53C9-4CF5-A61A-0B4194FD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36364-64CE-402C-B229-45D63E95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786D-9506-47E1-998D-90E5481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455E2-E478-4727-B979-516950B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E18B1-99BA-46EE-9541-8E4D683ED37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97E36-CF77-446C-802B-9B23C445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FCA0D-39CE-4120-B3CC-CFF09F4F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51617-D3FC-4159-929E-210705C5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217-8CE9-42DC-A90C-0E52AEDD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8E72E-5126-4AAF-A9C5-EBBB9E6B0F7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85EC31-F793-4E42-AA84-3CC69450364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F0D7E-0C83-4649-8A8B-421D2767C79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3EAA1-99AF-42DB-A9F5-097F2BCB62D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0C324E-3319-467D-84BD-252A907E1C7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24D368-7552-407C-91F4-00AD95173E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542CE-C893-4C25-B44D-613C155532A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28A314-91E2-4D50-A4C7-8795A7CE04B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74D584-2A52-4CF0-AA34-354490A6EEA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C216B-DF46-4CA2-BDD0-51C9212C26B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88A256-1C34-4075-8BB2-215DA67D785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F01C34-C06D-4BF1-995C-E1120497373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1E706-97DB-4FFF-AA29-36CBE46BE82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E7EF58-3C7C-42DB-B45C-1C5D9D9CBAB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F0487-8997-4CCC-A707-F74FACDD5F0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7A738-0CF5-4505-ADEB-DCB7E31F5C3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D39A5-6ADA-4168-88AD-0225000A23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B1A3F-0FC2-4B92-8C4E-44338A98BA0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2CD4E-DC36-45A1-89C5-2184CBD70D2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029A7-B14D-450D-93E4-12BC3D92EA4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4AA93-DDFA-4043-8887-243DB38F2A8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7F8FA-661D-4D7C-B2F0-945E68AE345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3AC26-D186-461B-95F6-0B7A4A721E3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D0E36-DD2D-4003-9F31-CD9422A764F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75A58-F8BF-4FAC-8BFD-4D0AF10631B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7DEDC-2E82-4CE0-B235-96986694409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41858-C50D-4DE5-9034-AF94FDDE753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7C663-11A8-418D-924C-545F9A90543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CC890-EFF2-4F86-9019-23A4BD10F0F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05B77-837C-47CC-9602-4345EF22091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9AF9A-DEC0-4B85-A30F-D37B5F9D6E0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AEA34-4947-42B0-8261-B81E70B0B15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235E2-C294-4037-8CB3-0158411230B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C479B-A3E0-4A6B-A270-D1AC61B63FA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D263A-1044-4697-BBF9-C6B075C82F8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DD0A7-EA56-4D2D-A425-BAD21E0C112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977E1-8291-45E5-9F65-C48F9FB2506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A6430-B329-4AED-BF68-AF34B9F40A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DC47D-7F0A-4A0D-AAF9-81AE7DF5210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16885-7EF0-4650-A88E-312DCABD944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D2A8F-68A2-46BF-910E-9723CBE952A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178E8-8C2E-40BB-9D1E-F09FDB8C534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8FF323-E5D6-423D-B864-B3F795F4817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43D573-60E7-4F7B-BB17-D7BF5375719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9F23CD-24EC-4805-85B5-ABFA988304C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E1F9CC-D9B4-4653-B9F2-282BB4FD900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A17550-EAD8-4ABF-B14C-7D91501BF09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9EDB25-43DA-4C70-9541-BECF884C7B0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4AD825-FA1A-4F91-9B4A-7BFD1BD94D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19BBE-58B6-4D9D-88AA-B7B2A79E3EB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7561CD-75AA-4EE6-A6C0-3E8CD55A8C6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E4630C-3623-4391-BED0-D94CEC78EB3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9689C6-3F0A-4D70-9967-34834871162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C5ADA1-B798-426E-AD91-DBA76FE4B17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E8FAD0-514F-49C2-BC08-4D920BE6629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6BBEE-BB53-45B3-86AA-512B62E95E9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BE333-B7D5-4245-9E0C-2C761C1E820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AF068-3EF5-4AD2-AD95-891D520990E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67A22-57C8-4ACF-AA59-E719EB09D2C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49594-CD0D-4458-A48E-66A0FDFC43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1C768-9CEF-4DF5-A328-6F021C90C91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64ACC-629C-4DFC-B0D7-662207B668E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D5D11-21AF-4D87-8A96-9A02589AD94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CF30A-5166-4EAA-835F-C1D86FCC2EA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6446D-F976-4806-B660-64614E4868C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A6C1C-01E6-4E0E-B31C-C4429547012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A23F0-8085-4EA2-AAE7-2D807F041FB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C554C-7DBF-47DC-88F3-CD579F7D656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47AA0-C29B-4442-9950-6FEE3C376B5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88E50-09A1-4DAC-B316-AB8969844BC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E1438-E5F9-4A26-BDB0-86C2F4415A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008E70-F092-4688-9565-9E240F0A2F7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670B9-67BB-4D8C-A675-D62D831C917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2F880-7DD6-4897-81B7-FBC4E011B7C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AF5B5-7F42-46F6-AC54-802B63EE52E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C5E84-6212-4C2B-90F4-6DD36BB6B22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61553-4887-4CE5-A254-62D64B39777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7DF21-3259-4881-90F1-BB55A921EA2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5C30A-FF58-481C-B4D2-857D5337D98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28F7C-53D3-4C94-81D6-AB1D74FAB8D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AA451-6BF1-4E33-8002-38F3FCD3205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9F02CE-A54D-479B-82FD-A0261FFB6D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507962-FCFA-4495-9479-6E378EDA029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1A5C13-8B38-4FD9-AA7D-E4A3B9C1E0C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A8F4E9-BD86-452F-A153-1036D75B4B8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88BE6E-18C6-4BB5-8502-A8D10653C5F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B7E2B9-2E29-4741-8088-16B194171C0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E971B8-52F0-435A-9AAE-C259BF77D28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128D98-9431-4D3A-8458-622F1EB1637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AE8BB8-E7E7-4CD2-BA93-650E2AA7F9A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52ED64-10FC-49D9-A3DF-C5E4B448794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5D0EDB-4365-4FFF-9DC4-9F8A5405387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00A92C-CB1B-4C9C-A5C3-BE7396928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4B6-4F1B-42CF-8D60-37C788E6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C2E10-17C3-479A-A626-36DCD9871A4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43BFD3-8BD7-4126-BD3E-84F58556C98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9641A-59B1-4B74-9845-05B418EDF0F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A9251-EA35-4E6B-A254-4E2A69B0F63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855C8-F54B-4708-B2EB-B15FFCE24C33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B31AD7-C3BD-4090-B39F-F62FE4FA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BBFED1-48B5-4BA6-A5CE-93871EE4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5F8A52-E553-4FCE-9D89-6AD2EF01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3A0C92-69E4-438F-BD76-5C883F38A46E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B1E71F-5DA0-4370-B09B-EFABC0BF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ACFA31-B3B8-40CB-BC56-996F6117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008FB7-1E68-4B67-8EE3-6417231D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93B21C-5285-4325-9067-2D744FF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D28BC8-25B6-48A9-926C-CE6A4F69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720215-682E-4E7D-8D24-22A83F8B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A30245-3A56-41BB-A9F8-50E54CF6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815199-E15E-49F5-B6DE-4FC2BD2E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E25E18-40A3-4BEF-84AB-AE285AB2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67FD3-E832-469C-8B03-6CA15143BA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A0004-8703-4D42-91D3-A3A504A158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EFA-BCEF-4803-B583-0FC4615C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DFF3-FAB5-480A-9DC6-0DB5DB20A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C3F-9DA1-4B13-AACA-3E12053F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BC54-F8BB-49B2-975E-5455F75A22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2771-5A2A-4018-88EF-6749B6126D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B7DA-270B-449D-BA7D-8AC65016D7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130C-1658-4D8D-AA05-0CCA0D60B0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6859-ADA2-428C-9EC1-AF969B6BE0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6A15-82F8-40D1-858A-462A04FCE0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943E-678E-4F43-99E2-4620438DF5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8979-EEA2-4D83-BF02-22BC52643F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45EE-1110-447F-B2C7-263278E222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580E-1DD6-41D2-B971-3DCC3E495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7A7-2CFB-47C8-BE97-19BB674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089A4-9456-446C-9325-9292D57116A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05C6A-F0E2-47D9-B03D-93F6926832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E0B7D-89E2-44E8-8781-1F605EE8F5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5C9B6-478E-484D-BFB8-5FB682EF46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8A59E-8F0C-4D33-9F75-F4DD57B8CF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CC1FD-D617-4283-8684-9147539352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70DB1-79F4-48F3-81A2-4FED9CFF5C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54EF3-7157-4766-B48E-686BCD5165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B7BB6-B150-4C52-ABDC-0366E591E6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DBEDE-4402-4529-A79B-F6424398E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6AD-C1DF-4B64-84E3-ECAAACD7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407E8-DDA0-4AF0-94C2-0A07AF636A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E75B4C-467E-4F32-969B-745979498A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942B3-9764-4BB0-953A-82726FFCB0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163-FC1F-470E-B9E1-0ADF531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A819BE-D4DB-45EE-8F7E-9ECBD19FE07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A4283-ACC6-408A-803B-C8B7624EA9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404DC-B950-48A9-AC2E-DE3618543D9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FFFC6D-C9B6-4C9E-B51E-77F661023E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DC36F8-CC5D-4084-B884-075B7F4E1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5AD-588C-4C5C-8422-2E5AC37C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0C312B-0DD8-4BA4-9B0B-2B9CBCB9B0D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151D61-1977-4F9D-855F-9081C617F4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934A47-87F7-4482-AA5C-6DF1AFEAB1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DD7707-0B81-4F56-BF20-A86D52CF9BB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39947-5C99-44BF-A800-27D524C0698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EF2EAA-2132-4E13-BFA1-F77682E921C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7ABE17-6DA9-422E-A1F0-7773613649C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0B59-2CDA-4864-B071-A33F427FD6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C4821-E418-46A3-81A0-1515B9F7F7D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68664-87A9-49DD-BE6D-7FCFAFF9F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6BC6-3ED1-4D7C-A025-9692662D28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B980-5E97-44F2-B53F-BDED4B00395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96EE-0022-4AD3-9F8D-DD56A0411A3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5309-8602-417E-8502-A947CDD397D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0F79-6A93-47F5-B279-9F23A73FFC0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7F0D-0562-4D82-9569-A23E86DC798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1D59-A416-4D8F-8D80-41D106751D0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F8B-3F10-4B3A-BDF2-A1BC8CD519B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5DA7-88C7-48E0-ACC5-5C37EF0512C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A616-8D18-4E4A-921E-12EF9DE769E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103A-93B1-4D97-B9E9-6F3A876D66E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C279-3BDE-4DCD-B3D2-DF6CD035929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1BE8-B294-4D90-B695-4D3F61E8AA1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B356-3AE4-4C5E-AF87-7B618D99907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4443-C4E4-4B99-BC51-01B44FE7643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C1BE-6D68-4D5E-B5BA-B74746C31D3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02DB-4DA7-409C-A105-7B70F36D99D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11DF-886C-4C83-9C07-4016D8A9CDB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2376-FC53-4CD5-A575-A8C8E9227C0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219240" y="68400"/>
            <a:ext cx="4929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卡通</a:t>
            </a: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模板下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4bacc6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4bacc6"/>
                </a:solidFill>
                <a:latin typeface="微软雅黑"/>
                <a:ea typeface="微软雅黑"/>
              </a:rPr>
              <a:t>模板网，</a:t>
            </a:r>
            <a:r>
              <a:rPr b="0" lang="en-US" sz="2000" spc="-1" strike="noStrike">
                <a:solidFill>
                  <a:srgbClr val="4bacc6"/>
                </a:solidFill>
                <a:latin typeface="微软雅黑"/>
                <a:ea typeface="微软雅黑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12"/>
          <p:cNvSpPr/>
          <p:nvPr/>
        </p:nvSpPr>
        <p:spPr>
          <a:xfrm>
            <a:off x="4143240" y="17859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学习的校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卡通幻灯片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学习的校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4"/>
          <p:cNvSpPr/>
          <p:nvPr/>
        </p:nvSpPr>
        <p:spPr>
          <a:xfrm>
            <a:off x="1351800" y="2225520"/>
            <a:ext cx="31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矩形 5"/>
          <p:cNvSpPr/>
          <p:nvPr/>
        </p:nvSpPr>
        <p:spPr>
          <a:xfrm>
            <a:off x="6308640" y="4218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그룹 27"/>
          <p:cNvGrpSpPr/>
          <p:nvPr/>
        </p:nvGrpSpPr>
        <p:grpSpPr>
          <a:xfrm>
            <a:off x="1981080" y="1558800"/>
            <a:ext cx="5543640" cy="3814920"/>
            <a:chOff x="1981080" y="1558800"/>
            <a:chExt cx="5543640" cy="3814920"/>
          </a:xfrm>
        </p:grpSpPr>
        <p:sp>
          <p:nvSpPr>
            <p:cNvPr id="1187" name="AutoShape 38"/>
            <p:cNvSpPr/>
            <p:nvPr/>
          </p:nvSpPr>
          <p:spPr>
            <a:xfrm>
              <a:off x="1981080" y="15588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AutoShape 39"/>
            <p:cNvSpPr/>
            <p:nvPr/>
          </p:nvSpPr>
          <p:spPr>
            <a:xfrm>
              <a:off x="2022120" y="1607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WordArt 40"/>
            <p:cNvSpPr txBox="1"/>
            <p:nvPr/>
          </p:nvSpPr>
          <p:spPr>
            <a:xfrm>
              <a:off x="2231640" y="174276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0" name="WordArt 41"/>
            <p:cNvSpPr txBox="1"/>
            <p:nvPr/>
          </p:nvSpPr>
          <p:spPr>
            <a:xfrm>
              <a:off x="4147920" y="180468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1" name="Line 42"/>
            <p:cNvSpPr/>
            <p:nvPr/>
          </p:nvSpPr>
          <p:spPr>
            <a:xfrm flipH="1">
              <a:off x="3996720" y="1784160"/>
              <a:ext cx="4680" cy="2044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43"/>
            <p:cNvSpPr/>
            <p:nvPr/>
          </p:nvSpPr>
          <p:spPr>
            <a:xfrm>
              <a:off x="1981080" y="2357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utoShape 44"/>
            <p:cNvSpPr/>
            <p:nvPr/>
          </p:nvSpPr>
          <p:spPr>
            <a:xfrm>
              <a:off x="2030040" y="24192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WordArt 45"/>
            <p:cNvSpPr txBox="1"/>
            <p:nvPr/>
          </p:nvSpPr>
          <p:spPr>
            <a:xfrm>
              <a:off x="2231640" y="254304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5" name="WordArt 46"/>
            <p:cNvSpPr txBox="1"/>
            <p:nvPr/>
          </p:nvSpPr>
          <p:spPr>
            <a:xfrm>
              <a:off x="4147920" y="260316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6" name="Line 47"/>
            <p:cNvSpPr/>
            <p:nvPr/>
          </p:nvSpPr>
          <p:spPr>
            <a:xfrm>
              <a:off x="3997080" y="254304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AutoShape 48"/>
            <p:cNvSpPr/>
            <p:nvPr/>
          </p:nvSpPr>
          <p:spPr>
            <a:xfrm>
              <a:off x="1981080" y="31590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AutoShape 49"/>
            <p:cNvSpPr/>
            <p:nvPr/>
          </p:nvSpPr>
          <p:spPr>
            <a:xfrm>
              <a:off x="2030040" y="322092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WordArt 50"/>
            <p:cNvSpPr txBox="1"/>
            <p:nvPr/>
          </p:nvSpPr>
          <p:spPr>
            <a:xfrm>
              <a:off x="2231640" y="334476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0" name="WordArt 51"/>
            <p:cNvSpPr txBox="1"/>
            <p:nvPr/>
          </p:nvSpPr>
          <p:spPr>
            <a:xfrm>
              <a:off x="4147920" y="340524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1" name="Line 52"/>
            <p:cNvSpPr/>
            <p:nvPr/>
          </p:nvSpPr>
          <p:spPr>
            <a:xfrm>
              <a:off x="3997080" y="334476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AutoShape 53"/>
            <p:cNvSpPr/>
            <p:nvPr/>
          </p:nvSpPr>
          <p:spPr>
            <a:xfrm>
              <a:off x="1981080" y="3959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utoShape 54"/>
            <p:cNvSpPr/>
            <p:nvPr/>
          </p:nvSpPr>
          <p:spPr>
            <a:xfrm>
              <a:off x="2030040" y="40194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WordArt 55"/>
            <p:cNvSpPr txBox="1"/>
            <p:nvPr/>
          </p:nvSpPr>
          <p:spPr>
            <a:xfrm>
              <a:off x="2231640" y="414360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5" name="WordArt 56"/>
            <p:cNvSpPr txBox="1"/>
            <p:nvPr/>
          </p:nvSpPr>
          <p:spPr>
            <a:xfrm>
              <a:off x="4147920" y="420372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6" name="Line 57"/>
            <p:cNvSpPr/>
            <p:nvPr/>
          </p:nvSpPr>
          <p:spPr>
            <a:xfrm>
              <a:off x="3997080" y="414360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AutoShape 58"/>
            <p:cNvSpPr/>
            <p:nvPr/>
          </p:nvSpPr>
          <p:spPr>
            <a:xfrm>
              <a:off x="1981080" y="475956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AutoShape 59"/>
            <p:cNvSpPr/>
            <p:nvPr/>
          </p:nvSpPr>
          <p:spPr>
            <a:xfrm>
              <a:off x="2030040" y="4784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WordArt 60"/>
            <p:cNvSpPr txBox="1"/>
            <p:nvPr/>
          </p:nvSpPr>
          <p:spPr>
            <a:xfrm>
              <a:off x="2231640" y="494352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0" name="WordArt 61"/>
            <p:cNvSpPr txBox="1"/>
            <p:nvPr/>
          </p:nvSpPr>
          <p:spPr>
            <a:xfrm>
              <a:off x="4147920" y="5005440"/>
              <a:ext cx="1512720" cy="1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11" name="Line 62"/>
            <p:cNvSpPr/>
            <p:nvPr/>
          </p:nvSpPr>
          <p:spPr>
            <a:xfrm>
              <a:off x="3997080" y="494352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그룹 54"/>
          <p:cNvGrpSpPr/>
          <p:nvPr/>
        </p:nvGrpSpPr>
        <p:grpSpPr>
          <a:xfrm>
            <a:off x="1052640" y="1558800"/>
            <a:ext cx="785520" cy="3814920"/>
            <a:chOff x="1052640" y="1558800"/>
            <a:chExt cx="785520" cy="3814920"/>
          </a:xfrm>
        </p:grpSpPr>
        <p:sp>
          <p:nvSpPr>
            <p:cNvPr id="1213" name="AutoShape 38"/>
            <p:cNvSpPr/>
            <p:nvPr/>
          </p:nvSpPr>
          <p:spPr>
            <a:xfrm>
              <a:off x="1052640" y="15588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39"/>
            <p:cNvSpPr/>
            <p:nvPr/>
          </p:nvSpPr>
          <p:spPr>
            <a:xfrm>
              <a:off x="1058760" y="1607760"/>
              <a:ext cx="77148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43"/>
            <p:cNvSpPr/>
            <p:nvPr/>
          </p:nvSpPr>
          <p:spPr>
            <a:xfrm>
              <a:off x="1052640" y="2357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44"/>
            <p:cNvSpPr/>
            <p:nvPr/>
          </p:nvSpPr>
          <p:spPr>
            <a:xfrm>
              <a:off x="1058760" y="24192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utoShape 48"/>
            <p:cNvSpPr/>
            <p:nvPr/>
          </p:nvSpPr>
          <p:spPr>
            <a:xfrm>
              <a:off x="1052640" y="31590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AutoShape 49"/>
            <p:cNvSpPr/>
            <p:nvPr/>
          </p:nvSpPr>
          <p:spPr>
            <a:xfrm>
              <a:off x="1058760" y="322092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AutoShape 53"/>
            <p:cNvSpPr/>
            <p:nvPr/>
          </p:nvSpPr>
          <p:spPr>
            <a:xfrm>
              <a:off x="1052640" y="3959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AutoShape 54"/>
            <p:cNvSpPr/>
            <p:nvPr/>
          </p:nvSpPr>
          <p:spPr>
            <a:xfrm>
              <a:off x="1058760" y="40194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AutoShape 58"/>
            <p:cNvSpPr/>
            <p:nvPr/>
          </p:nvSpPr>
          <p:spPr>
            <a:xfrm>
              <a:off x="1052640" y="475956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AutoShape 59"/>
            <p:cNvSpPr/>
            <p:nvPr/>
          </p:nvSpPr>
          <p:spPr>
            <a:xfrm>
              <a:off x="1058760" y="4784760"/>
              <a:ext cx="77292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3" name="TextBox 56"/>
          <p:cNvSpPr/>
          <p:nvPr/>
        </p:nvSpPr>
        <p:spPr>
          <a:xfrm>
            <a:off x="1247760" y="1566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57"/>
          <p:cNvSpPr/>
          <p:nvPr/>
        </p:nvSpPr>
        <p:spPr>
          <a:xfrm>
            <a:off x="1247760" y="24004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Box 58"/>
          <p:cNvSpPr/>
          <p:nvPr/>
        </p:nvSpPr>
        <p:spPr>
          <a:xfrm>
            <a:off x="1247760" y="31813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Box 59"/>
          <p:cNvSpPr/>
          <p:nvPr/>
        </p:nvSpPr>
        <p:spPr>
          <a:xfrm>
            <a:off x="1247760" y="3987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Box 60"/>
          <p:cNvSpPr/>
          <p:nvPr/>
        </p:nvSpPr>
        <p:spPr>
          <a:xfrm>
            <a:off x="1247760" y="4775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矩形 1"/>
          <p:cNvSpPr/>
          <p:nvPr/>
        </p:nvSpPr>
        <p:spPr>
          <a:xfrm>
            <a:off x="539640" y="1444680"/>
            <a:ext cx="777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（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www.1ppt.com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），成立于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05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月，最早网站名为 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中国  是国内最早一批从事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模板下载服务的专业网站，经过多年的运营和发展，原网站技术架构和网站目录已经不能适应新的发展趋势，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月进行改版，并更名为第一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，取消了网站内收费项目，目前第一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站内所有资源均为免费下载。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 第一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建设目的：是为广大中国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爱好者，提供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模板下载、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教程、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素材等，建设中国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爱好者的网上家园，立志成为最大最权威的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中文网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矩形 2"/>
          <p:cNvSpPr/>
          <p:nvPr/>
        </p:nvSpPr>
        <p:spPr>
          <a:xfrm>
            <a:off x="522360" y="1125360"/>
            <a:ext cx="815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站内资源以免费下载为基础，本着开放的共享为原则，服务于国内广大国内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爱好者。目前第一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站内的所有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资源 （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模板，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背景，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素材，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教程，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软件）均是免费下载，所以请大家在支持本站的同时也要尊重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资源的作者，是他们将这些优秀的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资源免费分享给大家，供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爱好者下载学习研究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TextBox 1" descr=""/>
          <p:cNvPicPr/>
          <p:nvPr/>
        </p:nvPicPr>
        <p:blipFill>
          <a:blip r:embed="rId2"/>
          <a:stretch/>
        </p:blipFill>
        <p:spPr>
          <a:xfrm>
            <a:off x="2133720" y="2152800"/>
            <a:ext cx="53402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tubiao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xiazai/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powerpoint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图片 9" descr=""/>
          <p:cNvPicPr/>
          <p:nvPr/>
        </p:nvPicPr>
        <p:blipFill>
          <a:blip r:embed="rId6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1234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Picture 10" descr="png-0644"/>
          <p:cNvPicPr/>
          <p:nvPr/>
        </p:nvPicPr>
        <p:blipFill>
          <a:blip r:embed="rId7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11" descr="png-0652"/>
          <p:cNvPicPr/>
          <p:nvPr/>
        </p:nvPicPr>
        <p:blipFill>
          <a:blip r:embed="rId8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lenovo</cp:lastModifiedBy>
  <dcterms:modified xsi:type="dcterms:W3CDTF">2013-12-25T08:52:56Z</dcterms:modified>
  <cp:revision>2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