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BC9-53A4-4CFF-AD2A-4BFE4A2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07B-0887-45BE-AFD5-EAA7CB5C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92368-7FA2-41A1-BE21-D6038091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29941-55CB-4CDD-A649-055769D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542B-EE7C-4D48-8106-F6CACDE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8A7D8-1B84-450E-99F6-31C80D4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EA009-B276-47A2-B38D-87FE945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FB5DD-D1B8-46AA-87CE-6107A16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2A002-2E90-4EAB-A101-26850902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C9205-BDC5-488B-AE4C-8786F8E1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FAE0-7693-430A-BB76-6A0CE196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8886D-2D66-4B0D-A0C4-1A3F2F14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EF0-C18C-4ECC-873B-51B3B5C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A0C68-A358-4C4A-9AF0-AA7F1EF2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FA00-9C4C-444E-9701-95B2419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B1EE9-7D42-4A83-BD60-E18E4F3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F5B42-DCD0-4F8F-AA87-8E72B829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7DB8E-DC17-4953-918C-25882DFE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B5DB-1728-458C-BA94-3FEF87B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DE09C-FCE7-45DD-BF5F-6193698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51E4-2727-41B8-9785-2767035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C8F44-E602-4BC3-81B7-08BE900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5F69A-322C-4DD2-B653-44F4A977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94F-EEE3-4410-93B3-A0E6AC19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F21E9-3237-4DAE-9238-C02CD36B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B64CD-95CC-4A71-AC5A-2279170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3AC34-A112-45FE-9757-8B1C07C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6EB8C-0871-4746-B8D1-72020A9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7FE8-D0D1-477C-A807-D85CC89F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8C5AE-8492-47C6-8C5C-384C039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D4516-D568-49FA-8EE7-2656F725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8B5B5-2DFE-43AC-88E7-1BB833A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8A69-A508-4661-B534-D53CADE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0FE83-F03E-4227-83D3-1AD4EAE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E159-63D9-42A4-AF1E-45157DD7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740DD-C9AA-4426-B18E-790DBCD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51506-4943-49F9-9575-6AA38064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D6FD8-2AB2-47B7-9DE4-7F774C73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14930-897C-4C49-905D-C77CEDEE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DB9B9-E19A-40E8-9BD0-D62B2A54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FE206-2A51-4DFE-AE84-C4314DB7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49D02-0769-4034-ABAC-A3DD2F7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BC0D-3571-4086-BD46-27394B96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9845A-8C26-495C-A213-BC6DB8FE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401E0-A915-459A-ADBD-4F91F3A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0D5-60BE-41A5-89D5-99F068C8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FD855-8191-43E2-906B-F9E781F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80BDD-6479-4CC5-B8A4-D8FE4A1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5A5A0-A8EE-403B-A0D5-CC24FFB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1BFF6-09BD-4EB4-A68B-995B5A23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D4F58-B236-428D-96A1-B9CE3E35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C52DA-7B8A-42C4-90A8-2EA17BB3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4747F-7A9E-415D-A339-43951C6E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60DAE-DEAF-4FEB-8718-8FCA3E8D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1248C-87D6-4266-856F-E47AB1BB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6594C-19AF-4740-963C-6E4B3DF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2168-4D1C-42FB-89E3-7A74435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27504-6BCD-43A0-9034-5451D53D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591EB-AC26-4EAC-AB79-E63959D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B7997-7564-4E29-8F2A-D9ACDAA6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C88A8-F29A-4A07-BE82-C083E81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3E0AB-DC7D-4EA7-96A7-7750DFEE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C7940-73BB-4B73-ACA6-54AAC51F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C870B-0FD9-4566-AF21-F111C1D6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0245-B962-46F5-8BF7-66DE8049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EACA-EC9D-472A-B3BE-61EE283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6864-C03C-47BD-84DF-E36CFF2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9690-D090-4105-9119-EC6D5CD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755-7D15-4213-B9C4-9AF3789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BF9-1B44-401B-A865-B1C3C3B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D422-C0D7-4E19-8E59-7E0D9DC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845-7683-4671-84B1-1C977024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CF3-4843-4261-BA20-4AFF16D2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D4C-F7B8-4D69-9AC2-504D97EE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0D77-8AEB-4693-87D8-A2B72DA6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0AE2-1FA9-4CC2-B251-723AA8C1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53B2-4C7D-4EE8-951F-0C76BC01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D806-2CFC-4597-BEAF-5732785D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F235-C24C-4409-AB3A-90CB0D2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DD8-7047-4CFF-AC2E-63354F76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9FF0-BBB4-4BAB-99D2-4A3089B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8E6B-1D13-4CDE-856C-320F204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C276-C6F4-4899-9324-D9E7B14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4355-BBB0-4BA3-BF1D-0A39B63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BCED-85DB-4B1B-B059-BF2117C5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ABA3-D3B5-425A-BE3C-3CBBAFF8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7E5C-3F95-4862-A590-62631539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C700-7903-4FF6-959C-C154BEB7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33D0-66C1-40CF-8C26-E7320401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1C9B-B690-4C76-8F9B-7F57696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F87-3464-412B-A7DE-B2C0FD4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C925-8129-40CE-8C31-D6819F2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3965-E67F-468D-AC38-62D24B8A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AAA1-220D-4BE3-A273-4968DD20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98C4-A943-4FA3-B835-B77CAF7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BEA1-FDF7-459E-A87D-7F5E172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6B63-F3E4-4EB1-8E8D-8B368CC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B7E8-406D-4778-8D7C-ADBA554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4533-3B3B-4CEA-868B-ACCD3DC3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F19F-4DA2-48B4-9CDC-BC82C19B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D2F8-75D5-4E0F-914F-C4779518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49B-A43C-425A-8C0B-B67F8A4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0D7A-DD95-4E1B-9961-00FD9348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E317-F315-48B3-BC9F-CD182C65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55A8-DE6F-4DAE-9F77-A332CC1E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2CE8-2F2C-41C7-A2F6-29F6864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8615-FA35-413E-8068-9261035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E272-A9E8-41AC-AD43-3A20ADE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4EDA-8276-49E7-A6F8-D8C5BDD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F688-BFB0-41E8-BA0B-A98A435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962A-DF54-47D3-A8A1-A6791CFD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A829-7675-494D-83CE-4B843739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8C5-398D-41C8-84AB-CBE1B78D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733D8-8EEA-4E09-A974-7CD082B6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0352-F5BD-4232-A156-6C7DB8BB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23D6-EB08-4E85-946E-99266560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289B-B8D1-4D44-A5F6-7EC43C86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4FE3-C0A3-4900-A3C5-8C4D616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22DAD-BD38-4CCB-9E60-6C5225FA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BCB4-E414-4C08-A643-94C49303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1DAC-E367-40AB-90F7-84B7236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55ECB-4BC4-464E-8377-2E70D76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A51B-B6DC-4A50-BF1A-5FBD864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35B-CCD0-4D25-9EB3-5E35E2F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6EB85-6B01-481B-B997-2609AF82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F6F8-657B-4CBB-9B66-88D65EAC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B836-B44A-42ED-910B-BFDB9B5F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EAF79-8D86-405A-89F5-F36643B0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7E9A-BC24-4431-8ACD-E841265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E9B2-5DFD-4C9B-A531-E9181409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7375-FD5F-4D8F-AA64-35D9365A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252C-E1C1-48CC-8DA0-40E8972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D0F9-028A-49D0-A7AB-F184D21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B4A9B-1BB7-44C9-B654-5550CCD4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DF-102A-436B-95D2-BB5285E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CBF1-E6AB-4A99-82BB-4727358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E5BC-193E-4C77-8AC9-6F192D1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5FA32-8355-40A1-A6EE-10D72F4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7E12-F519-4C07-8E61-EC01B91D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B688B-24E6-4145-BA37-E3FFCD9A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DDE1-137B-465C-8870-E466F879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B4BB-B844-49A4-A586-B64BA871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64C05-E8CC-43B4-A96D-22102F0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14AD1-4027-4050-B1C7-5EE7783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01C4-EDAA-4DE9-9481-794197D9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60F-3888-43F1-B7B3-0B74A6C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8305D-D56C-4B54-96A5-C3F32226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95C7-71D8-4A6F-906A-01AA0EB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C5EC-CB7B-4086-ADDE-E7E846A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5D2D-417B-4718-B811-D261DBF8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4CE7-A9A1-4081-92EC-83BEF26F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DE301-766E-4E6D-A372-54621A53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EE55-3FF2-44E4-8FA4-FF03F5D8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0FDF3-4AF9-4C21-90B9-39BC7367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BD383-F185-4B62-8AC6-BFBA955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9F3DD-C99A-4B65-9AFD-1AA55C2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8EFB-B5A9-4F18-A610-5BCBE14B72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F3E-9A7E-41E9-B2A3-A0D078144D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2AFB-1A07-44FE-BD55-4979FA8AF5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7300-A9F4-4D01-ABA2-DCE37641D2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979E-308B-4EC4-BE9E-304DD9B471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90D6-6341-4E8E-ABD6-CD9A3B41EC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6EA-CCF6-402C-BF8F-E9EFAAA345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24B8-32DB-4EF1-8D2B-BB7B28349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62B-32AE-4FE9-AA48-B4935112EE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BEC-BAF4-4178-8748-47DCCAC6DA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24E-B0CB-4BE4-A22C-5BB2226FDB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2D5-DBAE-4AC8-88CE-46D451996A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68ED-9052-4311-B71F-6167694DB0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5580000" y="2960640"/>
            <a:ext cx="47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教师节、感恩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         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      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word/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       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9" descr=""/>
          <p:cNvPicPr/>
          <p:nvPr/>
        </p:nvPicPr>
        <p:blipFill>
          <a:blip r:embed="rId4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png-0644"/>
          <p:cNvPicPr/>
          <p:nvPr/>
        </p:nvPicPr>
        <p:blipFill>
          <a:blip r:embed="rId5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" descr="png-0652"/>
          <p:cNvPicPr/>
          <p:nvPr/>
        </p:nvPicPr>
        <p:blipFill>
          <a:blip r:embed="rId6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dmin</cp:lastModifiedBy>
  <cp:lastPrinted>1899-12-30T00:00:00Z</cp:lastPrinted>
  <dcterms:modified xsi:type="dcterms:W3CDTF">2016-09-06T00:31:09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