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ACC-66C6-46C8-AEF6-FDE100A9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C54-1601-4C36-9ECB-61C3FB7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17F-E478-4089-9D06-A9FCAB4D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30B-E6E9-4F63-8F37-5039B58C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7A4-D853-4F3D-8A1B-3ABC6BE5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637-D587-4056-BEB9-D1D0756E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73D-C9ED-4698-A8DF-1178F232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E20-06EF-4781-AFAC-61347FB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78A-753F-44F8-A780-F156D42B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B65-C663-4BDC-BFBC-FD290E6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194-6307-4B2E-90BC-CCE05A38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A4A-8123-4E3A-9AE3-5DE70A5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5FB7-0D9B-4E6B-8E1E-0730298BBB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7600" y="322200"/>
            <a:ext cx="270576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隔震与消能减震设计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63160" y="129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用结构各构件的承载力和变形能力抵御地震作用，吸收地震能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3160" y="1828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隔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6640" y="2362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能减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267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足于“抗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33080" y="4648320"/>
            <a:ext cx="13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隔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121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建筑物上部结构与基础之间设置滑移层，阻止地震能量向上传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足于“隔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bi_1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2732040" cy="1977840"/>
          </a:xfrm>
          <a:prstGeom prst="rect">
            <a:avLst/>
          </a:prstGeom>
          <a:ln w="0">
            <a:noFill/>
          </a:ln>
        </p:spPr>
      </p:pic>
      <p:pic>
        <p:nvPicPr>
          <p:cNvPr id="208" name="bi_2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2732040" cy="1863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54864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南加州大学医院在这次地震及其其后的余震中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英尺高的花瓶等没有一个掉下来，建筑物内的各种机器等均未损坏，医院功能得到维持，成为防灾中心，起到十分重要的作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seis" descr=""/>
          <p:cNvPicPr/>
          <p:nvPr/>
        </p:nvPicPr>
        <p:blipFill>
          <a:blip r:embed="rId3"/>
          <a:stretch/>
        </p:blipFill>
        <p:spPr>
          <a:xfrm>
            <a:off x="304920" y="2286000"/>
            <a:ext cx="85150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64702015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674680" y="3124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橄榄景医院（抗震结构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57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橄榄景医院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7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圣费尔南多地震中受到较大损害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重建，并增加了抗震强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此次地震中，剪力墙产生剪切裂缝，设备机器、医疗机械及家具等翻倒，病历等资料掉下、散乱。而且水管破裂，各层浸水，建筑物不能使用，完全丧失了医院的功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3505320"/>
            <a:ext cx="7695720" cy="2286000"/>
            <a:chOff x="533520" y="3505320"/>
            <a:chExt cx="7695720" cy="2286000"/>
          </a:xfrm>
        </p:grpSpPr>
        <p:sp>
          <p:nvSpPr>
            <p:cNvPr id="216" name=""/>
            <p:cNvSpPr/>
            <p:nvPr/>
          </p:nvSpPr>
          <p:spPr>
            <a:xfrm>
              <a:off x="533520" y="3505320"/>
              <a:ext cx="7695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33520" y="3505320"/>
              <a:ext cx="7695360" cy="2286000"/>
              <a:chOff x="533520" y="3505320"/>
              <a:chExt cx="7695360" cy="2286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533520" y="3505320"/>
                <a:ext cx="7695000" cy="2286000"/>
                <a:chOff x="533520" y="3505320"/>
                <a:chExt cx="7695000" cy="2286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33520" y="3505320"/>
                  <a:ext cx="7695000" cy="22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一九九四年九月十六日，台湾海峡发生了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7.3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级地震，震源距离汕头市约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公里，汕头市烈度为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度，各类房屋摇晃厉害，居民惊惶失措，水桶里的水溅出了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1/3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左右……而陵海路隔震楼上的人并没有感到晃动，听到毗邻楼房和邻街喧闹声后下楼才知道发生了地震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3505320"/>
                  <a:ext cx="7695000" cy="22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533520" y="3505320"/>
                <a:ext cx="769536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762120" y="326880"/>
            <a:ext cx="7848000" cy="3330720"/>
            <a:chOff x="762120" y="326880"/>
            <a:chExt cx="7848000" cy="3330720"/>
          </a:xfrm>
        </p:grpSpPr>
        <p:sp>
          <p:nvSpPr>
            <p:cNvPr id="223" name=""/>
            <p:cNvSpPr/>
            <p:nvPr/>
          </p:nvSpPr>
          <p:spPr>
            <a:xfrm>
              <a:off x="762120" y="326880"/>
              <a:ext cx="7848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62120" y="326880"/>
              <a:ext cx="7847640" cy="3330720"/>
              <a:chOff x="762120" y="326880"/>
              <a:chExt cx="7847640" cy="33307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762120" y="326880"/>
                <a:ext cx="7847280" cy="3330720"/>
                <a:chOff x="762120" y="326880"/>
                <a:chExt cx="7847280" cy="33307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62120" y="326880"/>
                  <a:ext cx="7847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1b74c7"/>
                      </a:solidFill>
                      <a:latin typeface="Times New Roman"/>
                    </a:rPr>
                    <a:t>日本阪神大地震</a:t>
                  </a:r>
                  <a:br>
                    <a:rPr sz="2000"/>
                  </a:b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　 一九九五年一月十七日发生了日本阪神大地震。震级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7.2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级，是日本战后最大地震灾害。</a:t>
                  </a:r>
                  <a:br>
                    <a:rPr sz="2000"/>
                  </a:b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　　在这次地震中，有二幢隔震结构建筑得到了地震观测记录。从这些记录可以看到隔震房屋在大地震中发挥了隔震效果，证实了隔震结构的有效性。</a:t>
                  </a:r>
                  <a:br>
                    <a:rPr sz="2000"/>
                  </a:b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　　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WEST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大厦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西部邮政大楼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建筑面积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46000m</a:t>
                  </a:r>
                  <a:r>
                    <a:rPr b="0" lang="zh-CN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层，是日本最大的隔震建筑。该建筑距震源东北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公里，在基础、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层和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层进行了地震记录观测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2120" y="326880"/>
                  <a:ext cx="7847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62120" y="326880"/>
                <a:ext cx="7847640" cy="333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895480" y="3657600"/>
            <a:ext cx="4648320" cy="1857240"/>
            <a:chOff x="2895480" y="3657600"/>
            <a:chExt cx="4648320" cy="1857240"/>
          </a:xfrm>
        </p:grpSpPr>
        <p:sp>
          <p:nvSpPr>
            <p:cNvPr id="230" name=""/>
            <p:cNvSpPr/>
            <p:nvPr/>
          </p:nvSpPr>
          <p:spPr>
            <a:xfrm>
              <a:off x="6381720" y="514980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2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19640" y="514980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2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38480" y="5149800"/>
              <a:ext cx="1181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5149800"/>
              <a:ext cx="1143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基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81720" y="478476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19640" y="478476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38480" y="4784760"/>
              <a:ext cx="1181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95480" y="4784760"/>
              <a:ext cx="1143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81720" y="441972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3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19640" y="441972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8480" y="4419720"/>
              <a:ext cx="1181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4419720"/>
              <a:ext cx="1143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1720" y="4022640"/>
              <a:ext cx="1162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上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19640" y="4022640"/>
              <a:ext cx="1162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南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4022640"/>
              <a:ext cx="1181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东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4022640"/>
              <a:ext cx="1143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81720" y="365760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19640" y="3657600"/>
              <a:ext cx="1162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8480" y="3657600"/>
              <a:ext cx="1181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3657600"/>
              <a:ext cx="1143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5480" y="3657600"/>
              <a:ext cx="4648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95480" y="4022640"/>
              <a:ext cx="464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419720"/>
              <a:ext cx="464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784760"/>
              <a:ext cx="464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5480" y="5149800"/>
              <a:ext cx="464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5480" y="5514840"/>
              <a:ext cx="4648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95480" y="3657600"/>
              <a:ext cx="0" cy="1857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38480" y="3657600"/>
              <a:ext cx="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19640" y="3657600"/>
              <a:ext cx="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81720" y="3657600"/>
              <a:ext cx="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43800" y="3657600"/>
              <a:ext cx="0" cy="1857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95480" y="3657600"/>
              <a:ext cx="1143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地震观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8480" y="3657600"/>
              <a:ext cx="3505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方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380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隔震橡胶支座包括天然夹层橡胶支座、铅芯橡胶支座，高阻尼橡胶支座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143000"/>
            <a:ext cx="495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然夹层隔震橡胶支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然夹层橡胶支座构造如图所示。天然夹层橡胶支座具有较大的竖向刚度，承受建筑物的重量时竖向变形小，而水平刚度较小，且线性性能好。由于天然夹层橡胶支座的阻尼很小，不具备足够的耗能能力，所以在结构使用中一般同其它阻尼器或耗能设备联合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rubber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2971800" cy="1390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38098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铅芯隔震橡胶支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铅芯隔震橡胶支座由新西兰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及其公司最早研制开发，以后在中国、日本、美国、意大利等国家都得到了较大的发展与应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rubberL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048120" cy="1434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57200" y="5410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铅芯橡胶支座构造如图所示。因为铅芯橡胶支座不但具有较理想的竖向刚度，而且本身具有消耗地震能量的能力，故铅芯橡胶支座在结构使用中受到广泛欢迎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457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图分别是世界上第一栋采用铅芯橡胶支座隔震的建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The William Clayton Building, New Zeala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和世界上使用铅芯橡胶支座中基底面积最大的建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lrb3" descr="Photo: The William Clayton Building"/>
          <p:cNvPicPr/>
          <p:nvPr/>
        </p:nvPicPr>
        <p:blipFill>
          <a:blip r:embed="rId1"/>
          <a:stretch/>
        </p:blipFill>
        <p:spPr>
          <a:xfrm>
            <a:off x="762120" y="1828800"/>
            <a:ext cx="3276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lrbjapbl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429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533520" y="44956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99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度评定的隔震建筑中，采用铅芯橡胶支座隔震房屋占总数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0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美国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98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以后兴建的隔震房屋中，完全或部分采用铅芯橡胶支座的隔震房屋占总数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60.7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我国在已建成的隔震房屋中，完全或部分采用铅芯橡胶支座的隔震房屋占总数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85800" y="457200"/>
            <a:ext cx="8153280" cy="4665960"/>
            <a:chOff x="685800" y="457200"/>
            <a:chExt cx="8153280" cy="4665960"/>
          </a:xfrm>
        </p:grpSpPr>
        <p:sp>
          <p:nvSpPr>
            <p:cNvPr id="274" name=""/>
            <p:cNvSpPr/>
            <p:nvPr/>
          </p:nvSpPr>
          <p:spPr>
            <a:xfrm>
              <a:off x="1232640" y="457200"/>
              <a:ext cx="16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消能减震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9907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在结构中的某些部位设置消能装置，通过消能装置耗散或吸收地震能量，从而减小主体结构地震反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5680" y="1828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消能装置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36232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调频质量阻尼装置—由质量、弹性元件和阻尼器构成的振动系统，将其安装在结构上，结构振动时引起该系统的共振，由此产生的惯性力反作用于结构，起到减小结构振动反应的作用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" y="35812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调频液体阻尼装置—由具有一定形状的盛液容器构成，液体晃动时，液体对容器箱壁产生动压力，同时液体晃动产生阻尼吸收一部分能量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4724280"/>
              <a:ext cx="807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液压质量控制装置—由液压缸、活塞、管路和质量块构成，当结构由地面运动产生振动时，油缸的活塞推动管路中的液体，使液体和质量随之振动。结构的一部分振动能量传递给了该系统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685800" y="457200"/>
            <a:ext cx="8077320" cy="4056480"/>
            <a:chOff x="685800" y="457200"/>
            <a:chExt cx="8077320" cy="4056480"/>
          </a:xfrm>
        </p:grpSpPr>
        <p:sp>
          <p:nvSpPr>
            <p:cNvPr id="281" name=""/>
            <p:cNvSpPr/>
            <p:nvPr/>
          </p:nvSpPr>
          <p:spPr>
            <a:xfrm>
              <a:off x="685800" y="121932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粘滞耗能装置—由缸体、活塞、和液体构成，活塞在缸体内往复运动，粘滞液体从一端流向另一端产生阻尼力，阻碍结构的振动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" y="33526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摩擦耗能装置—由摩擦元件构成，这些元件相互滑动产生摩擦力，从而耗散结构的部分振动能量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41148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金属耗能装置—由金属材料制成的耗能装置，其耗能机理是通过金属元件的弹塑性变形来耗能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800" y="4572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粘弹性耗能装置—由粘弹性材料和约束钢板构成，通过夹在钢板之间的粘弹性材料发生剪切变形而耗散能量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" y="1981080"/>
              <a:ext cx="807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建成的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1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层纽约世贸大厦共安装了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万个粘弹性耗能装置；西雅图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76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层哥伦比亚大厦安装了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26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个粘弹性耗能装置；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198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北京饭店和北京火车站在抗震加固中，分别采用了法国和美国生产的粘弹性耗能装置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ensin1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029200" cy="291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7306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为达到明显减震效果，通常基础隔震系统需具备以下四种特性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承载特性：具有足够的竖向强度和刚度以支撑上部结构的重量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隔震特性：具有足够的水平初始刚度，在风载和小震作用下，体系能保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弹性范围内，满足正常使用的要求，而中强地震时，其水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刚度较小，结构为柔性隔震结构体系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复位特性：地震后，上部结构能回复到初始状态，满足正常的使用要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(4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耗能特性：隔震系统本身具有较大的阻尼，地震时能耗散足够的能量，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而降低上部结构所吸收的地震能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0320" y="249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隔震系统回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280" y="762120"/>
            <a:ext cx="80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基础隔震的概念早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世纪已有人提过，广义的隔震方案则更是源渊流长，如北京故宫就设有糯米加石灰的柔性减震支座层；现代的基础隔震理论和实践开始于上世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代，基础隔震方案很多，下面作简单介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09680"/>
            <a:ext cx="4647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早期隔震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河合浩藏的“地震时不受大震动的结构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右图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89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河合浩藏的“地震时不受大震动的结构”。其隔震思路是在地基上并排铺设了数层圆木，并且把建筑物周围挖空，从而地震时可对上部建筑起到隔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odule5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8958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59364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J.A.Calantarient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提出的隔震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右图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J.A.Calantarient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提出的隔震结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Base-isolated building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方案。这种隔震结构在建筑物结构与基础之间用滑石层隔开，地震时建筑物可以滑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odule6a" descr=""/>
          <p:cNvPicPr/>
          <p:nvPr/>
        </p:nvPicPr>
        <p:blipFill>
          <a:blip r:embed="rId1"/>
          <a:stretch/>
        </p:blipFill>
        <p:spPr>
          <a:xfrm>
            <a:off x="5334120" y="685800"/>
            <a:ext cx="3429000" cy="125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9718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中村太郎的隔震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右图是中村太郎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提出的隔震结构方案。在这种隔震系统中已使用阻尼泵来耗散地震动的能量，并且在该建筑地下层柱的上下端采用铰接构造，建筑物可以水平自由移动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odule8" descr=""/>
          <p:cNvPicPr/>
          <p:nvPr/>
        </p:nvPicPr>
        <p:blipFill>
          <a:blip r:embed="rId2"/>
          <a:stretch/>
        </p:blipFill>
        <p:spPr>
          <a:xfrm>
            <a:off x="5943600" y="3200400"/>
            <a:ext cx="2654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533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柔性层隔震结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Flexible first-story buildi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柔性层结构隔震概念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rt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提出，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een(193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acobasen(193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进一步加以研究与完善；下图是真岛健三郎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的柔性层结构。地震时，柔性层进入塑性，结构的刚度变小，结构的基本周期延长，从而导致上部结构所受的地震作用减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dule9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867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4572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滚动支撑类隔震系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Roller bearing syste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克服柔性层结构所带来的缺陷，科学家们相继提出了多种滚动支撑类隔震系统，工作元件有球形和椭圆形等多种，但由于其隔震是有向性的，而地震是具有无向性，这些类型的隔震系统均未能推广应用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lidiso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33280" y="3556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最新隔震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06280" y="83808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隔震橡胶支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The laminated r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ubber beari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隔震系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hsr_men" descr="HSR (High Strength Rubber Bearing)"/>
          <p:cNvPicPr/>
          <p:nvPr/>
        </p:nvPicPr>
        <p:blipFill>
          <a:blip r:embed="rId1"/>
          <a:stretch/>
        </p:blipFill>
        <p:spPr>
          <a:xfrm>
            <a:off x="838080" y="13874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8" name="2003704" descr=""/>
          <p:cNvPicPr/>
          <p:nvPr/>
        </p:nvPicPr>
        <p:blipFill>
          <a:blip r:embed="rId2"/>
          <a:stretch/>
        </p:blipFill>
        <p:spPr>
          <a:xfrm>
            <a:off x="838080" y="3978360"/>
            <a:ext cx="327672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22" descr=""/>
          <p:cNvPicPr/>
          <p:nvPr/>
        </p:nvPicPr>
        <p:blipFill>
          <a:blip r:embed="rId3"/>
          <a:stretch/>
        </p:blipFill>
        <p:spPr>
          <a:xfrm>
            <a:off x="4572000" y="13874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70" name="11" descr=""/>
          <p:cNvPicPr/>
          <p:nvPr/>
        </p:nvPicPr>
        <p:blipFill>
          <a:blip r:embed="rId4"/>
          <a:stretch/>
        </p:blipFill>
        <p:spPr>
          <a:xfrm>
            <a:off x="4572000" y="397836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3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526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13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14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40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4320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南加州大学医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The University of Southern California Teaching Hospit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橡胶支座隔震系统，这栋八层医院基础加速度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0.49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而顶层加速度只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0.21g,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速度折减系数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1.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而抗震结构橄榄景医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The Olive View Hospit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底层加速度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0.82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而顶层加速度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.31g,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速度放大系数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.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由此可见橡胶支座隔震系统的优越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usc" descr=""/>
          <p:cNvPicPr/>
          <p:nvPr/>
        </p:nvPicPr>
        <p:blipFill>
          <a:blip r:embed="rId1"/>
          <a:stretch/>
        </p:blipFill>
        <p:spPr>
          <a:xfrm>
            <a:off x="838080" y="3321000"/>
            <a:ext cx="3124440" cy="2544840"/>
          </a:xfrm>
          <a:prstGeom prst="rect">
            <a:avLst/>
          </a:prstGeom>
          <a:ln w="0">
            <a:noFill/>
          </a:ln>
        </p:spPr>
      </p:pic>
      <p:pic>
        <p:nvPicPr>
          <p:cNvPr id="78" name="64702015" descr=""/>
          <p:cNvPicPr/>
          <p:nvPr/>
        </p:nvPicPr>
        <p:blipFill>
          <a:blip r:embed="rId2"/>
          <a:stretch/>
        </p:blipFill>
        <p:spPr>
          <a:xfrm>
            <a:off x="4267080" y="3321000"/>
            <a:ext cx="3810240" cy="255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09760" y="60040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南加州大学医院（隔震结构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69760" y="59878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橄榄景医院（抗震结构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808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99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，美国圣菲尔南多发生洛杉矶地震，震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M=6.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直下型地震，死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，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3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，损失很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震中附近有两座医院，一座为隔震结构，另一座为抗震结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usc" descr=""/>
          <p:cNvPicPr/>
          <p:nvPr/>
        </p:nvPicPr>
        <p:blipFill>
          <a:blip r:embed="rId1"/>
          <a:stretch/>
        </p:blipFill>
        <p:spPr>
          <a:xfrm>
            <a:off x="5257800" y="746280"/>
            <a:ext cx="3124080" cy="254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53040" y="3413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南加州大学医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9466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地下一层，地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，建筑面积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30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平方米；占地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1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平米；最高高度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0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；铅芯多层橡胶隔震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，多层橡胶隔震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8222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8222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1178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117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57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2575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489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24280" y="150804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133720" y="150804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822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20348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336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336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336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336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336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584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584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584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584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9652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9652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9652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9652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9652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652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9652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19652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9652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19652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2794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050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898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8985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898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898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8985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050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2034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12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66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508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3557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2034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050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2794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13557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4320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508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1584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1178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2701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4224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4224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25750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272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2879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032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184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889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041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19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3464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4987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2651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803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955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1082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508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13557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584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3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58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73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3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041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0415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041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2041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041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3464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3464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23464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3464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23464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2651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2651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651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2651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651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2955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9559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955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2955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2955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雨薇</dc:creator>
  <dc:description/>
  <dc:language>en-US</dc:language>
  <cp:lastModifiedBy>gk</cp:lastModifiedBy>
  <dcterms:modified xsi:type="dcterms:W3CDTF">2003-10-28T19:11:23Z</dcterms:modified>
  <cp:revision>385</cp:revision>
  <dc:subject/>
  <dc:title>PowerPoint 演示文稿</dc:title>
</cp:coreProperties>
</file>