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433-3C12-4D5B-9B40-CD2206F2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9543-3B02-41A3-BE7E-8539CD8E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7D13-B7DF-415A-A9C6-F4C67333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65B-00A3-46C8-9314-E4F7130A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A90-1756-4213-AC7C-526B0BC9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E92-27F3-4C7E-BE86-55E44EFF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AD1-35E9-41EC-B7AC-B57AF4B1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F35-89DC-4567-814D-9AB30F42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5735-ED52-483A-886B-7EBA62CA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89B8-F991-4DB9-83A3-1ED765A9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75A-D23B-43DB-8575-CDAB1EE6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E73-13C9-45BA-A868-AAE21769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3C6E-22DA-43FA-BD62-83052F2BA5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9720" y="919080"/>
            <a:ext cx="1474200" cy="605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66"/>
              </a:buClr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3.1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60020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地震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结构的地震反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结构、构件的地震作用效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06040" y="279360"/>
            <a:ext cx="38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第三章  地震作用和结构抗震验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787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地震作用和结构抗震验算是建筑抗震设计的重要环节，是确定所设计的结构满足最低抗震设防安全要求的关键步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3854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由于地震作用的复杂性和地震作用发生的强度的不确定性，以及结构和体形的差异等，地震作用的计算方法是不同的。可分为简化方法和较复杂的精细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57240" y="4952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底部剪力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45160" y="5334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振型分解反应谱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240" y="5715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时程分析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2520" y="6095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静力弹塑性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5181480" y="304920"/>
            <a:ext cx="3429000" cy="2949840"/>
            <a:chOff x="5181480" y="304920"/>
            <a:chExt cx="3429000" cy="2949840"/>
          </a:xfrm>
        </p:grpSpPr>
        <p:sp>
          <p:nvSpPr>
            <p:cNvPr id="207" name=""/>
            <p:cNvSpPr/>
            <p:nvPr/>
          </p:nvSpPr>
          <p:spPr>
            <a:xfrm>
              <a:off x="5181480" y="380880"/>
              <a:ext cx="3429000" cy="1981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5257800" y="304920"/>
              <a:ext cx="2042640" cy="2949840"/>
              <a:chOff x="5257800" y="304920"/>
              <a:chExt cx="2042640" cy="2949840"/>
            </a:xfrm>
          </p:grpSpPr>
          <p:sp>
            <p:nvSpPr>
              <p:cNvPr id="209" name=""/>
              <p:cNvSpPr/>
              <p:nvPr/>
            </p:nvSpPr>
            <p:spPr>
              <a:xfrm>
                <a:off x="6322680" y="304920"/>
                <a:ext cx="41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0" name=""/>
                  <p:cNvSpPr txBox="1"/>
                  <p:nvPr/>
                </p:nvSpPr>
                <p:spPr>
                  <a:xfrm>
                    <a:off x="5257800" y="670320"/>
                    <a:ext cx="531720" cy="358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1" name=""/>
              <p:cNvSpPr/>
              <p:nvPr/>
            </p:nvSpPr>
            <p:spPr>
              <a:xfrm>
                <a:off x="5789520" y="876600"/>
                <a:ext cx="45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6195960" y="2019240"/>
                <a:ext cx="456840" cy="114120"/>
                <a:chOff x="6195960" y="2019240"/>
                <a:chExt cx="456840" cy="11412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6246720" y="2019600"/>
                  <a:ext cx="406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V="1">
                  <a:off x="6246720" y="2019240"/>
                  <a:ext cx="101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6297120" y="2019240"/>
                  <a:ext cx="10152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6348240" y="2019240"/>
                  <a:ext cx="101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>
                  <a:off x="6399000" y="2019240"/>
                  <a:ext cx="101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>
                  <a:off x="6449400" y="2019240"/>
                  <a:ext cx="10152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6500520" y="2019240"/>
                  <a:ext cx="101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>
                  <a:off x="6551280" y="2019240"/>
                  <a:ext cx="101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6195960" y="2019240"/>
                  <a:ext cx="101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>
                <a:off x="6297480" y="724320"/>
                <a:ext cx="202680" cy="2286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423840" y="784440"/>
                <a:ext cx="760680" cy="247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00" y="808"/>
                    </a:moveTo>
                    <a:arcTo wR="10800" hR="10800" stAng="-4061460" swAng="40614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00" y="808"/>
                    </a:moveTo>
                    <a:arcTo wR="10800" hR="10800" stAng="-4061460" swAng="406146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6500160" y="87660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5" name=""/>
                  <p:cNvSpPr txBox="1"/>
                  <p:nvPr/>
                </p:nvSpPr>
                <p:spPr>
                  <a:xfrm>
                    <a:off x="6765840" y="724320"/>
                    <a:ext cx="534600" cy="393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26" name=""/>
              <p:cNvSpPr/>
              <p:nvPr/>
            </p:nvSpPr>
            <p:spPr>
              <a:xfrm>
                <a:off x="6424560" y="952920"/>
                <a:ext cx="0" cy="106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219320" y="1523880"/>
                <a:ext cx="162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Δτ</m:t>
                    </m:r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821520" y="40464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ccff33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ccff33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ccff33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ccff33"/>
                </a:solidFill>
                <a:latin typeface="宋体"/>
              </a:rPr>
              <a:t>瞬时冲量的反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181480" y="2514600"/>
            <a:ext cx="3429000" cy="1904760"/>
            <a:chOff x="5181480" y="2514600"/>
            <a:chExt cx="3429000" cy="1904760"/>
          </a:xfrm>
        </p:grpSpPr>
        <p:sp>
          <p:nvSpPr>
            <p:cNvPr id="230" name=""/>
            <p:cNvSpPr/>
            <p:nvPr/>
          </p:nvSpPr>
          <p:spPr>
            <a:xfrm>
              <a:off x="5181480" y="2514600"/>
              <a:ext cx="3429000" cy="1904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5236920" y="2590560"/>
              <a:ext cx="3298680" cy="1747440"/>
              <a:chOff x="5236920" y="2590560"/>
              <a:chExt cx="3298680" cy="1747440"/>
            </a:xfrm>
          </p:grpSpPr>
          <p:sp>
            <p:nvSpPr>
              <p:cNvPr id="232" name=""/>
              <p:cNvSpPr/>
              <p:nvPr/>
            </p:nvSpPr>
            <p:spPr>
              <a:xfrm>
                <a:off x="5560920" y="3822480"/>
                <a:ext cx="2682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5560920" y="2720880"/>
                <a:ext cx="1440" cy="10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4" name=""/>
                  <p:cNvSpPr txBox="1"/>
                  <p:nvPr/>
                </p:nvSpPr>
                <p:spPr>
                  <a:xfrm>
                    <a:off x="5636880" y="2590560"/>
                    <a:ext cx="53496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5" name=""/>
                  <p:cNvSpPr txBox="1"/>
                  <p:nvPr/>
                </p:nvSpPr>
                <p:spPr>
                  <a:xfrm>
                    <a:off x="8380080" y="3706560"/>
                    <a:ext cx="155520" cy="271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6" name=""/>
              <p:cNvSpPr/>
              <p:nvPr/>
            </p:nvSpPr>
            <p:spPr>
              <a:xfrm>
                <a:off x="5789520" y="3060720"/>
                <a:ext cx="1440" cy="72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560920" y="3060720"/>
                <a:ext cx="230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8" name=""/>
                  <p:cNvSpPr txBox="1"/>
                  <p:nvPr/>
                </p:nvSpPr>
                <p:spPr>
                  <a:xfrm>
                    <a:off x="7313400" y="3898800"/>
                    <a:ext cx="187200" cy="298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5236920" y="2941560"/>
                    <a:ext cx="264960" cy="293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40" name=""/>
              <p:cNvGrpSpPr/>
              <p:nvPr/>
            </p:nvGrpSpPr>
            <p:grpSpPr>
              <a:xfrm>
                <a:off x="5445000" y="3863880"/>
                <a:ext cx="488520" cy="474120"/>
                <a:chOff x="5445000" y="3863880"/>
                <a:chExt cx="488520" cy="4741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561640" y="3935880"/>
                  <a:ext cx="230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561640" y="3863880"/>
                  <a:ext cx="0" cy="144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791680" y="3863880"/>
                  <a:ext cx="0" cy="144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44" name=""/>
                    <p:cNvSpPr txBox="1"/>
                    <p:nvPr/>
                  </p:nvSpPr>
                  <p:spPr>
                    <a:xfrm>
                      <a:off x="5445000" y="4008600"/>
                      <a:ext cx="488520" cy="329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Δτ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sp>
        <p:nvSpPr>
          <p:cNvPr id="245" name=""/>
          <p:cNvSpPr/>
          <p:nvPr/>
        </p:nvSpPr>
        <p:spPr>
          <a:xfrm>
            <a:off x="1083960" y="99072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t=0 </a:t>
            </a:r>
            <a:r>
              <a:rPr b="1" lang="zh-CN" sz="2400" spc="-1" strike="noStrike">
                <a:solidFill>
                  <a:srgbClr val="ccff33"/>
                </a:solidFill>
                <a:latin typeface="宋体"/>
              </a:rPr>
              <a:t>时作用瞬时冲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010280" y="1447920"/>
            <a:ext cx="1181160" cy="586800"/>
            <a:chOff x="7010280" y="1447920"/>
            <a:chExt cx="1181160" cy="586800"/>
          </a:xfrm>
        </p:grpSpPr>
        <p:sp>
          <p:nvSpPr>
            <p:cNvPr id="247" name=""/>
            <p:cNvSpPr/>
            <p:nvPr/>
          </p:nvSpPr>
          <p:spPr>
            <a:xfrm>
              <a:off x="7773120" y="1447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7076880" y="1599840"/>
                  <a:ext cx="244440" cy="31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9" name=""/>
            <p:cNvSpPr/>
            <p:nvPr/>
          </p:nvSpPr>
          <p:spPr>
            <a:xfrm>
              <a:off x="7010280" y="195876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43440" y="1806480"/>
              <a:ext cx="203400" cy="2282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143000" y="2057400"/>
                <a:ext cx="1887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Δτ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143000" y="2514600"/>
                <a:ext cx="22096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(</m:t>
                    </m:r>
                    <m:r>
                      <m:t xml:space="preserve">Δ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29000" y="2743200"/>
                <a:ext cx="5554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914400" y="3200400"/>
                <a:ext cx="37432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23880" y="3882960"/>
                <a:ext cx="1944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Δτ</m:t>
                        </m:r>
                      </m:num>
                      <m:den>
                        <m:r>
                          <m:t xml:space="preserve">m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1071720" y="4724280"/>
            <a:ext cx="2416320" cy="459720"/>
            <a:chOff x="1071720" y="4724280"/>
            <a:chExt cx="2416320" cy="459720"/>
          </a:xfrm>
        </p:grpSpPr>
        <p:sp>
          <p:nvSpPr>
            <p:cNvPr id="257" name=""/>
            <p:cNvSpPr/>
            <p:nvPr/>
          </p:nvSpPr>
          <p:spPr>
            <a:xfrm>
              <a:off x="1185840" y="4724280"/>
              <a:ext cx="23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33"/>
                  </a:solidFill>
                  <a:latin typeface="宋体"/>
                </a:rPr>
                <a:t>b.</a:t>
              </a:r>
              <a:r>
                <a:rPr b="1" lang="zh-CN" sz="2400" spc="-1" strike="noStrike">
                  <a:solidFill>
                    <a:srgbClr val="ccff33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ccff33"/>
                  </a:solidFill>
                  <a:latin typeface="宋体"/>
                </a:rPr>
                <a:t>时刻作用瞬时冲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1071720" y="4849920"/>
                  <a:ext cx="29052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9" name=""/>
          <p:cNvGrpSpPr/>
          <p:nvPr/>
        </p:nvGrpSpPr>
        <p:grpSpPr>
          <a:xfrm>
            <a:off x="5181480" y="4572000"/>
            <a:ext cx="3429000" cy="1905120"/>
            <a:chOff x="5181480" y="4572000"/>
            <a:chExt cx="3429000" cy="1905120"/>
          </a:xfrm>
        </p:grpSpPr>
        <p:sp>
          <p:nvSpPr>
            <p:cNvPr id="260" name=""/>
            <p:cNvSpPr/>
            <p:nvPr/>
          </p:nvSpPr>
          <p:spPr>
            <a:xfrm>
              <a:off x="5181480" y="4572000"/>
              <a:ext cx="3429000" cy="1905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486400" y="4724280"/>
              <a:ext cx="2992320" cy="1646280"/>
              <a:chOff x="5486400" y="4724280"/>
              <a:chExt cx="2992320" cy="1646280"/>
            </a:xfrm>
          </p:grpSpPr>
          <p:sp>
            <p:nvSpPr>
              <p:cNvPr id="262" name=""/>
              <p:cNvSpPr/>
              <p:nvPr/>
            </p:nvSpPr>
            <p:spPr>
              <a:xfrm>
                <a:off x="5505480" y="5867280"/>
                <a:ext cx="266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3" name=""/>
                  <p:cNvSpPr txBox="1"/>
                  <p:nvPr/>
                </p:nvSpPr>
                <p:spPr>
                  <a:xfrm>
                    <a:off x="5581440" y="4724280"/>
                    <a:ext cx="532080" cy="358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64" name=""/>
                  <p:cNvSpPr txBox="1"/>
                  <p:nvPr/>
                </p:nvSpPr>
                <p:spPr>
                  <a:xfrm>
                    <a:off x="8324640" y="5751360"/>
                    <a:ext cx="154080" cy="268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5" name=""/>
              <p:cNvSpPr/>
              <p:nvPr/>
            </p:nvSpPr>
            <p:spPr>
              <a:xfrm>
                <a:off x="6248160" y="5105160"/>
                <a:ext cx="0" cy="762120"/>
              </a:xfrm>
              <a:prstGeom prst="line">
                <a:avLst/>
              </a:prstGeom>
              <a:ln w="9360">
                <a:solidFill>
                  <a:srgbClr val="dc0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48160" y="5105160"/>
                <a:ext cx="228600" cy="0"/>
              </a:xfrm>
              <a:prstGeom prst="line">
                <a:avLst/>
              </a:prstGeom>
              <a:ln w="9360">
                <a:solidFill>
                  <a:srgbClr val="dc0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7" name=""/>
                  <p:cNvSpPr txBox="1"/>
                  <p:nvPr/>
                </p:nvSpPr>
                <p:spPr>
                  <a:xfrm>
                    <a:off x="7257960" y="5943600"/>
                    <a:ext cx="185760" cy="29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68" name=""/>
                  <p:cNvSpPr txBox="1"/>
                  <p:nvPr/>
                </p:nvSpPr>
                <p:spPr>
                  <a:xfrm>
                    <a:off x="5943600" y="5029200"/>
                    <a:ext cx="263520" cy="291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9" name=""/>
              <p:cNvSpPr/>
              <p:nvPr/>
            </p:nvSpPr>
            <p:spPr>
              <a:xfrm>
                <a:off x="6259320" y="59846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487920" y="59846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1" name=""/>
                  <p:cNvSpPr txBox="1"/>
                  <p:nvPr/>
                </p:nvSpPr>
                <p:spPr>
                  <a:xfrm>
                    <a:off x="6240240" y="6019560"/>
                    <a:ext cx="486000" cy="346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τ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2" name=""/>
              <p:cNvSpPr/>
              <p:nvPr/>
            </p:nvSpPr>
            <p:spPr>
              <a:xfrm flipV="1">
                <a:off x="5486400" y="480024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476760" y="5105160"/>
                <a:ext cx="0" cy="762120"/>
              </a:xfrm>
              <a:prstGeom prst="line">
                <a:avLst/>
              </a:prstGeom>
              <a:ln w="9360">
                <a:solidFill>
                  <a:srgbClr val="dc0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506920" y="5943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5506920" y="601956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6" name=""/>
                  <p:cNvSpPr txBox="1"/>
                  <p:nvPr/>
                </p:nvSpPr>
                <p:spPr>
                  <a:xfrm>
                    <a:off x="5773680" y="6095880"/>
                    <a:ext cx="266760" cy="27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7" name=""/>
              <p:cNvSpPr/>
              <p:nvPr/>
            </p:nvSpPr>
            <p:spPr>
              <a:xfrm>
                <a:off x="7335720" y="579096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914400" y="5407200"/>
                <a:ext cx="33004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Δτ</m:t>
                        </m:r>
                      </m:num>
                      <m:den>
                        <m:r>
                          <m:t xml:space="preserve">m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99720" y="32868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(2).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动荷载的位移反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799160" y="380880"/>
            <a:ext cx="4116240" cy="2949840"/>
            <a:chOff x="4799160" y="380880"/>
            <a:chExt cx="4116240" cy="2949840"/>
          </a:xfrm>
        </p:grpSpPr>
        <p:sp>
          <p:nvSpPr>
            <p:cNvPr id="281" name=""/>
            <p:cNvSpPr/>
            <p:nvPr/>
          </p:nvSpPr>
          <p:spPr>
            <a:xfrm>
              <a:off x="4799160" y="380880"/>
              <a:ext cx="4114800" cy="2438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10800" y="419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4799160" y="533520"/>
                  <a:ext cx="53172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4" name=""/>
            <p:cNvSpPr/>
            <p:nvPr/>
          </p:nvSpPr>
          <p:spPr>
            <a:xfrm>
              <a:off x="4875480" y="952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5281920" y="2095200"/>
              <a:ext cx="457200" cy="114120"/>
              <a:chOff x="5281920" y="2095200"/>
              <a:chExt cx="457200" cy="114120"/>
            </a:xfrm>
          </p:grpSpPr>
          <p:sp>
            <p:nvSpPr>
              <p:cNvPr id="286" name=""/>
              <p:cNvSpPr/>
              <p:nvPr/>
            </p:nvSpPr>
            <p:spPr>
              <a:xfrm>
                <a:off x="5332680" y="2095560"/>
                <a:ext cx="40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5332680" y="2095200"/>
                <a:ext cx="1015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5383440" y="2095200"/>
                <a:ext cx="1015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5434200" y="2095200"/>
                <a:ext cx="1015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5484960" y="2095200"/>
                <a:ext cx="1015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5535720" y="2095200"/>
                <a:ext cx="1015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5586480" y="2095200"/>
                <a:ext cx="1015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5637600" y="2095200"/>
                <a:ext cx="1015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5281920" y="2095200"/>
                <a:ext cx="1015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5383440" y="800280"/>
              <a:ext cx="203040" cy="2286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509800" y="860400"/>
              <a:ext cx="761400" cy="247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00" y="808"/>
                  </a:moveTo>
                  <a:arcTo wR="10800" hR="10800" stAng="-4061460" swAng="4061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00" y="808"/>
                  </a:moveTo>
                  <a:arcTo wR="10800" hR="10800" stAng="-4061460" swAng="406146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586480" y="9525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5838840" y="800280"/>
                  <a:ext cx="56052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9" name=""/>
            <p:cNvSpPr/>
            <p:nvPr/>
          </p:nvSpPr>
          <p:spPr>
            <a:xfrm>
              <a:off x="5510520" y="102888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99360" y="21337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399360" y="6858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636520" y="795960"/>
              <a:ext cx="15228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59680" y="1012680"/>
              <a:ext cx="1600200" cy="432000"/>
            </a:xfrm>
            <a:custGeom>
              <a:avLst/>
              <a:gdLst/>
              <a:ahLst/>
              <a:rect l="l" t="t" r="r" b="b"/>
              <a:pathLst>
                <a:path w="1008" h="272">
                  <a:moveTo>
                    <a:pt x="0" y="104"/>
                  </a:moveTo>
                  <a:cubicBezTo>
                    <a:pt x="60" y="60"/>
                    <a:pt x="120" y="16"/>
                    <a:pt x="192" y="8"/>
                  </a:cubicBezTo>
                  <a:cubicBezTo>
                    <a:pt x="264" y="0"/>
                    <a:pt x="344" y="16"/>
                    <a:pt x="432" y="56"/>
                  </a:cubicBezTo>
                  <a:cubicBezTo>
                    <a:pt x="520" y="96"/>
                    <a:pt x="624" y="224"/>
                    <a:pt x="720" y="248"/>
                  </a:cubicBezTo>
                  <a:cubicBezTo>
                    <a:pt x="816" y="272"/>
                    <a:pt x="960" y="208"/>
                    <a:pt x="1008" y="2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6473880" y="568440"/>
                  <a:ext cx="53208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8761680" y="1752480"/>
                  <a:ext cx="153720" cy="26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6" name=""/>
            <p:cNvSpPr/>
            <p:nvPr/>
          </p:nvSpPr>
          <p:spPr>
            <a:xfrm>
              <a:off x="6627960" y="1558800"/>
              <a:ext cx="0" cy="60984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56560" y="1482840"/>
              <a:ext cx="0" cy="68580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85160" y="1330200"/>
              <a:ext cx="0" cy="838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13760" y="1101600"/>
              <a:ext cx="0" cy="106704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42360" y="1025640"/>
              <a:ext cx="0" cy="114300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0960" y="1025640"/>
              <a:ext cx="0" cy="114300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99560" y="1101600"/>
              <a:ext cx="0" cy="106704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228160" y="1254240"/>
              <a:ext cx="0" cy="91440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99360" y="1558800"/>
              <a:ext cx="228600" cy="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27960" y="1558800"/>
              <a:ext cx="228600" cy="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56560" y="1482840"/>
              <a:ext cx="228600" cy="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85160" y="133020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13760" y="1101600"/>
              <a:ext cx="228600" cy="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542360" y="1025640"/>
              <a:ext cx="228600" cy="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70960" y="1101600"/>
              <a:ext cx="228600" cy="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999560" y="1254240"/>
              <a:ext cx="228600" cy="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8151840" y="2244600"/>
                  <a:ext cx="185760" cy="2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"/>
            <p:cNvSpPr/>
            <p:nvPr/>
          </p:nvSpPr>
          <p:spPr>
            <a:xfrm>
              <a:off x="7085160" y="2362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13760" y="2362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7161480" y="2473200"/>
                  <a:ext cx="485640" cy="34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τ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6" name=""/>
            <p:cNvSpPr/>
            <p:nvPr/>
          </p:nvSpPr>
          <p:spPr>
            <a:xfrm>
              <a:off x="6399360" y="232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399360" y="239724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6666120" y="2473200"/>
                  <a:ext cx="2667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6627960" y="949320"/>
                  <a:ext cx="57780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τ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0" name=""/>
            <p:cNvSpPr/>
            <p:nvPr/>
          </p:nvSpPr>
          <p:spPr>
            <a:xfrm>
              <a:off x="6856560" y="133020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33520" y="838080"/>
                <a:ext cx="42145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d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2117520" y="1600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---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杜哈美积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57200" y="2514600"/>
                <a:ext cx="44737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ω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632880" y="1981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计阻尼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95480" y="3352680"/>
            <a:ext cx="11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若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t=0 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时体系有初位移、初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533520" y="3886200"/>
                <a:ext cx="69865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ξω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ω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τ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7" name=""/>
          <p:cNvGrpSpPr/>
          <p:nvPr/>
        </p:nvGrpSpPr>
        <p:grpSpPr>
          <a:xfrm>
            <a:off x="1071720" y="4724280"/>
            <a:ext cx="2416320" cy="459720"/>
            <a:chOff x="1071720" y="4724280"/>
            <a:chExt cx="2416320" cy="459720"/>
          </a:xfrm>
        </p:grpSpPr>
        <p:sp>
          <p:nvSpPr>
            <p:cNvPr id="338" name=""/>
            <p:cNvSpPr/>
            <p:nvPr/>
          </p:nvSpPr>
          <p:spPr>
            <a:xfrm>
              <a:off x="1185840" y="4724280"/>
              <a:ext cx="23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33"/>
                  </a:solidFill>
                  <a:latin typeface="宋体"/>
                </a:rPr>
                <a:t>b.</a:t>
              </a:r>
              <a:r>
                <a:rPr b="1" lang="zh-CN" sz="2400" spc="-1" strike="noStrike">
                  <a:solidFill>
                    <a:srgbClr val="ccff33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ccff33"/>
                  </a:solidFill>
                  <a:latin typeface="宋体"/>
                </a:rPr>
                <a:t>时刻作用瞬时冲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1071720" y="4849920"/>
                  <a:ext cx="29052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0" name=""/>
          <p:cNvGrpSpPr/>
          <p:nvPr/>
        </p:nvGrpSpPr>
        <p:grpSpPr>
          <a:xfrm>
            <a:off x="5181480" y="4572000"/>
            <a:ext cx="3429000" cy="1905120"/>
            <a:chOff x="5181480" y="4572000"/>
            <a:chExt cx="3429000" cy="1905120"/>
          </a:xfrm>
        </p:grpSpPr>
        <p:sp>
          <p:nvSpPr>
            <p:cNvPr id="341" name=""/>
            <p:cNvSpPr/>
            <p:nvPr/>
          </p:nvSpPr>
          <p:spPr>
            <a:xfrm>
              <a:off x="5181480" y="4572000"/>
              <a:ext cx="3429000" cy="1905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5486400" y="4724280"/>
              <a:ext cx="2992320" cy="1646280"/>
              <a:chOff x="5486400" y="4724280"/>
              <a:chExt cx="2992320" cy="1646280"/>
            </a:xfrm>
          </p:grpSpPr>
          <p:sp>
            <p:nvSpPr>
              <p:cNvPr id="343" name=""/>
              <p:cNvSpPr/>
              <p:nvPr/>
            </p:nvSpPr>
            <p:spPr>
              <a:xfrm>
                <a:off x="5505480" y="5867280"/>
                <a:ext cx="266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4" name=""/>
                  <p:cNvSpPr txBox="1"/>
                  <p:nvPr/>
                </p:nvSpPr>
                <p:spPr>
                  <a:xfrm>
                    <a:off x="5581440" y="4724280"/>
                    <a:ext cx="532080" cy="358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5" name=""/>
                  <p:cNvSpPr txBox="1"/>
                  <p:nvPr/>
                </p:nvSpPr>
                <p:spPr>
                  <a:xfrm>
                    <a:off x="8324640" y="5751360"/>
                    <a:ext cx="154080" cy="268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46" name=""/>
              <p:cNvSpPr/>
              <p:nvPr/>
            </p:nvSpPr>
            <p:spPr>
              <a:xfrm>
                <a:off x="6248160" y="5105160"/>
                <a:ext cx="0" cy="762120"/>
              </a:xfrm>
              <a:prstGeom prst="line">
                <a:avLst/>
              </a:prstGeom>
              <a:ln w="9360">
                <a:solidFill>
                  <a:srgbClr val="dc0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248160" y="5105160"/>
                <a:ext cx="228600" cy="0"/>
              </a:xfrm>
              <a:prstGeom prst="line">
                <a:avLst/>
              </a:prstGeom>
              <a:ln w="9360">
                <a:solidFill>
                  <a:srgbClr val="dc0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8" name=""/>
                  <p:cNvSpPr txBox="1"/>
                  <p:nvPr/>
                </p:nvSpPr>
                <p:spPr>
                  <a:xfrm>
                    <a:off x="7257960" y="5943600"/>
                    <a:ext cx="185760" cy="29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9" name=""/>
                  <p:cNvSpPr txBox="1"/>
                  <p:nvPr/>
                </p:nvSpPr>
                <p:spPr>
                  <a:xfrm>
                    <a:off x="5943600" y="5029200"/>
                    <a:ext cx="263520" cy="291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0" name=""/>
              <p:cNvSpPr/>
              <p:nvPr/>
            </p:nvSpPr>
            <p:spPr>
              <a:xfrm>
                <a:off x="6259320" y="59846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487920" y="59846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2" name=""/>
                  <p:cNvSpPr txBox="1"/>
                  <p:nvPr/>
                </p:nvSpPr>
                <p:spPr>
                  <a:xfrm>
                    <a:off x="6240240" y="6019560"/>
                    <a:ext cx="486000" cy="346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τ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3" name=""/>
              <p:cNvSpPr/>
              <p:nvPr/>
            </p:nvSpPr>
            <p:spPr>
              <a:xfrm flipV="1">
                <a:off x="5486400" y="480024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476760" y="5105160"/>
                <a:ext cx="0" cy="762120"/>
              </a:xfrm>
              <a:prstGeom prst="line">
                <a:avLst/>
              </a:prstGeom>
              <a:ln w="9360">
                <a:solidFill>
                  <a:srgbClr val="dc0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06920" y="5943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506920" y="601956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7" name=""/>
                  <p:cNvSpPr txBox="1"/>
                  <p:nvPr/>
                </p:nvSpPr>
                <p:spPr>
                  <a:xfrm>
                    <a:off x="5773680" y="6095880"/>
                    <a:ext cx="266760" cy="27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8" name=""/>
              <p:cNvSpPr/>
              <p:nvPr/>
            </p:nvSpPr>
            <p:spPr>
              <a:xfrm>
                <a:off x="7335720" y="579096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914400" y="5407200"/>
                <a:ext cx="33004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Δτ</m:t>
                        </m:r>
                      </m:num>
                      <m:den>
                        <m:r>
                          <m:t xml:space="preserve">m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152280" y="4724280"/>
            <a:ext cx="883944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836800" y="4572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三、单自由度体系地震作用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2743200" y="1143000"/>
                <a:ext cx="28195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1242360" y="114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运动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666880" y="1828800"/>
                <a:ext cx="32162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ξω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196920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819520" y="2438280"/>
                <a:ext cx="22096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1726920" y="251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其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5410080" y="2590920"/>
                <a:ext cx="1524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1752480" y="3787920"/>
                <a:ext cx="49532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ω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1987200" y="3200400"/>
            <a:ext cx="55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由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Duhamel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积分可得零初始条件下质点相对于地面的位移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209680" y="4800600"/>
                <a:ext cx="45720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ω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854360" y="5638680"/>
                <a:ext cx="614664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ξω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τ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τ</m:t>
                                </m:r>
                              </m:e>
                            </m:nary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304920" y="4876920"/>
            <a:ext cx="1066680" cy="761760"/>
          </a:xfrm>
          <a:prstGeom prst="borderCallout1">
            <a:avLst>
              <a:gd name="adj1" fmla="val 18750"/>
              <a:gd name="adj2" fmla="val -8333"/>
              <a:gd name="adj3" fmla="val 139791"/>
              <a:gd name="adj4" fmla="val 144791"/>
            </a:avLst>
          </a:prstGeom>
          <a:solidFill>
            <a:srgbClr val="00cc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最大位移反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600920" y="5079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质点相对于地面的速度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752480" y="1042920"/>
                <a:ext cx="5715000" cy="17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ξ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ξ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ξ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1879560" y="3570120"/>
                <a:ext cx="627372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ξω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τ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τ</m:t>
                                </m:r>
                              </m:e>
                            </m:nary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1851120" y="2948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质点相对于地面的最大速度反应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1905120" y="971640"/>
                <a:ext cx="2895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ξω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1478880" y="3618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质点的绝对加速度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276720" y="3036960"/>
                <a:ext cx="441936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ω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2666880" y="1581120"/>
                <a:ext cx="533412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ξω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ξ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ξ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1913760" y="39625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质点相对于地面的最大加速度反应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442880" y="4648320"/>
                <a:ext cx="71503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ξω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τ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τ</m:t>
                                </m:r>
                              </m:e>
                            </m:nary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836720" y="2286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宋体"/>
              </a:rPr>
              <a:t>四、地震反应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38000" y="2209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66"/>
                </a:solidFill>
                <a:latin typeface="宋体"/>
              </a:rPr>
              <a:t>最大相对速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8020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66"/>
                </a:solidFill>
                <a:latin typeface="宋体"/>
              </a:rPr>
              <a:t>最大加速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93440" y="42670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宋体"/>
              </a:rPr>
              <a:t>最大反应之间的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572000" y="4267080"/>
                <a:ext cx="20764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S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4468680" y="49528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在阻尼比、地面运动确定后，最大反应只是结构周期的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044080" y="5502240"/>
            <a:ext cx="496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单自由度体系在给定的地震作用下某个最大反应与体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自振周期的关系曲线称为该反应的地震反应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281320" y="865080"/>
                <a:ext cx="61466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ξω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τ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τ</m:t>
                                </m:r>
                              </m:e>
                            </m:nary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81320" y="2008080"/>
                <a:ext cx="627372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ξω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τ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τ</m:t>
                                </m:r>
                              </m:e>
                            </m:nary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2133720" y="3227400"/>
                <a:ext cx="69976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ξω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τ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τ</m:t>
                                </m:r>
                              </m:e>
                            </m:nary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738000" y="1066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66"/>
                </a:solidFill>
                <a:latin typeface="宋体"/>
              </a:rPr>
              <a:t>最大相对位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590920" y="3276720"/>
                <a:ext cx="44686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ξω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τ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τ</m:t>
                                </m:r>
                              </m:e>
                            </m:nary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695160" y="32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位移反应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990720" y="152280"/>
            <a:ext cx="7467480" cy="2971800"/>
            <a:chOff x="990720" y="152280"/>
            <a:chExt cx="7467480" cy="2971800"/>
          </a:xfrm>
        </p:grpSpPr>
        <p:sp>
          <p:nvSpPr>
            <p:cNvPr id="398" name=""/>
            <p:cNvSpPr/>
            <p:nvPr/>
          </p:nvSpPr>
          <p:spPr>
            <a:xfrm>
              <a:off x="990720" y="152280"/>
              <a:ext cx="7467480" cy="29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1067040" y="228600"/>
              <a:ext cx="7353360" cy="2895120"/>
              <a:chOff x="1067040" y="228600"/>
              <a:chExt cx="7353360" cy="289512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1067040" y="228600"/>
                <a:ext cx="7314840" cy="2895120"/>
                <a:chOff x="1067040" y="228600"/>
                <a:chExt cx="7314840" cy="2895120"/>
              </a:xfrm>
            </p:grpSpPr>
            <p:pic>
              <p:nvPicPr>
                <p:cNvPr id="401" name="7_b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75160" y="228600"/>
                  <a:ext cx="6531840" cy="2410920"/>
                </a:xfrm>
                <a:prstGeom prst="rect">
                  <a:avLst/>
                </a:prstGeom>
                <a:ln w="0">
                  <a:noFill/>
                </a:ln>
              </p:spPr>
            </p:pic>
            <mc:AlternateContent>
              <mc:Choice xmlns:a14="http://schemas.microsoft.com/office/drawing/2010/main" Requires="a14">
                <p:sp>
                  <p:nvSpPr>
                    <p:cNvPr id="402" name=""/>
                    <p:cNvSpPr txBox="1"/>
                    <p:nvPr/>
                  </p:nvSpPr>
                  <p:spPr>
                    <a:xfrm>
                      <a:off x="7913880" y="2209680"/>
                      <a:ext cx="226440" cy="214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t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03" name=""/>
                    <p:cNvSpPr txBox="1"/>
                    <p:nvPr/>
                  </p:nvSpPr>
                  <p:spPr>
                    <a:xfrm>
                      <a:off x="1067040" y="228600"/>
                      <a:ext cx="848520" cy="331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acc>
                                <m:accPr>
                                  <m:chr m:val="¨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04" name=""/>
                <p:cNvSpPr/>
                <p:nvPr/>
              </p:nvSpPr>
              <p:spPr>
                <a:xfrm>
                  <a:off x="1771200" y="2666880"/>
                  <a:ext cx="6610680" cy="456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Elcentro 1940 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（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N-S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） 地震记录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405" name=""/>
                  <p:cNvSpPr txBox="1"/>
                  <p:nvPr/>
                </p:nvSpPr>
                <p:spPr>
                  <a:xfrm>
                    <a:off x="1146240" y="517680"/>
                    <a:ext cx="576360" cy="296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6" name=""/>
                  <p:cNvSpPr txBox="1"/>
                  <p:nvPr/>
                </p:nvSpPr>
                <p:spPr>
                  <a:xfrm>
                    <a:off x="8156520" y="2149560"/>
                    <a:ext cx="263880" cy="2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407" name="7_2" descr=""/>
          <p:cNvPicPr/>
          <p:nvPr/>
        </p:nvPicPr>
        <p:blipFill>
          <a:blip r:embed="rId2"/>
          <a:stretch/>
        </p:blipFill>
        <p:spPr>
          <a:xfrm>
            <a:off x="2438280" y="4191120"/>
            <a:ext cx="426744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820440" y="327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相对速度反应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7_3" descr=""/>
          <p:cNvPicPr/>
          <p:nvPr/>
        </p:nvPicPr>
        <p:blipFill>
          <a:blip r:embed="rId1"/>
          <a:stretch/>
        </p:blipFill>
        <p:spPr>
          <a:xfrm>
            <a:off x="1676520" y="4038480"/>
            <a:ext cx="5029200" cy="272916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990720" y="152280"/>
            <a:ext cx="7467480" cy="2971800"/>
            <a:chOff x="990720" y="152280"/>
            <a:chExt cx="7467480" cy="2971800"/>
          </a:xfrm>
        </p:grpSpPr>
        <p:sp>
          <p:nvSpPr>
            <p:cNvPr id="411" name=""/>
            <p:cNvSpPr/>
            <p:nvPr/>
          </p:nvSpPr>
          <p:spPr>
            <a:xfrm>
              <a:off x="990720" y="152280"/>
              <a:ext cx="7467480" cy="29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1067040" y="228600"/>
              <a:ext cx="7353360" cy="2895120"/>
              <a:chOff x="1067040" y="228600"/>
              <a:chExt cx="7353360" cy="289512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1067040" y="228600"/>
                <a:ext cx="7314840" cy="2895120"/>
                <a:chOff x="1067040" y="228600"/>
                <a:chExt cx="7314840" cy="2895120"/>
              </a:xfrm>
            </p:grpSpPr>
            <p:pic>
              <p:nvPicPr>
                <p:cNvPr id="414" name="7_b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75160" y="228600"/>
                  <a:ext cx="6531840" cy="2410920"/>
                </a:xfrm>
                <a:prstGeom prst="rect">
                  <a:avLst/>
                </a:prstGeom>
                <a:ln w="0">
                  <a:noFill/>
                </a:ln>
              </p:spPr>
            </p:pic>
            <mc:AlternateContent>
              <mc:Choice xmlns:a14="http://schemas.microsoft.com/office/drawing/2010/main" Requires="a14">
                <p:sp>
                  <p:nvSpPr>
                    <p:cNvPr id="415" name=""/>
                    <p:cNvSpPr txBox="1"/>
                    <p:nvPr/>
                  </p:nvSpPr>
                  <p:spPr>
                    <a:xfrm>
                      <a:off x="7913880" y="2209680"/>
                      <a:ext cx="226440" cy="214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t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16" name=""/>
                    <p:cNvSpPr txBox="1"/>
                    <p:nvPr/>
                  </p:nvSpPr>
                  <p:spPr>
                    <a:xfrm>
                      <a:off x="1067040" y="228600"/>
                      <a:ext cx="848520" cy="331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acc>
                                <m:accPr>
                                  <m:chr m:val="¨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17" name=""/>
                <p:cNvSpPr/>
                <p:nvPr/>
              </p:nvSpPr>
              <p:spPr>
                <a:xfrm>
                  <a:off x="1771200" y="2666880"/>
                  <a:ext cx="6610680" cy="456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Elcentro 1940 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（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N-S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） 地震记录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418" name=""/>
                  <p:cNvSpPr txBox="1"/>
                  <p:nvPr/>
                </p:nvSpPr>
                <p:spPr>
                  <a:xfrm>
                    <a:off x="1146240" y="517680"/>
                    <a:ext cx="576360" cy="296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19" name=""/>
                  <p:cNvSpPr txBox="1"/>
                  <p:nvPr/>
                </p:nvSpPr>
                <p:spPr>
                  <a:xfrm>
                    <a:off x="8156520" y="2149560"/>
                    <a:ext cx="263880" cy="2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819520" y="3200400"/>
                <a:ext cx="58672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ξω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τ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τ</m:t>
                                </m:r>
                              </m:e>
                            </m:nary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806760" y="3276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绝对加速度反应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7_4" descr=""/>
          <p:cNvPicPr/>
          <p:nvPr/>
        </p:nvPicPr>
        <p:blipFill>
          <a:blip r:embed="rId1"/>
          <a:stretch/>
        </p:blipFill>
        <p:spPr>
          <a:xfrm>
            <a:off x="2057400" y="3952800"/>
            <a:ext cx="4495680" cy="275292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990720" y="152280"/>
            <a:ext cx="7467480" cy="2971800"/>
            <a:chOff x="990720" y="152280"/>
            <a:chExt cx="7467480" cy="2971800"/>
          </a:xfrm>
        </p:grpSpPr>
        <p:sp>
          <p:nvSpPr>
            <p:cNvPr id="424" name=""/>
            <p:cNvSpPr/>
            <p:nvPr/>
          </p:nvSpPr>
          <p:spPr>
            <a:xfrm>
              <a:off x="990720" y="152280"/>
              <a:ext cx="7467480" cy="29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1067040" y="228600"/>
              <a:ext cx="7353360" cy="2895120"/>
              <a:chOff x="1067040" y="228600"/>
              <a:chExt cx="7353360" cy="289512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1067040" y="228600"/>
                <a:ext cx="7314840" cy="2895120"/>
                <a:chOff x="1067040" y="228600"/>
                <a:chExt cx="7314840" cy="2895120"/>
              </a:xfrm>
            </p:grpSpPr>
            <p:pic>
              <p:nvPicPr>
                <p:cNvPr id="427" name="7_b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75160" y="228600"/>
                  <a:ext cx="6531840" cy="2410920"/>
                </a:xfrm>
                <a:prstGeom prst="rect">
                  <a:avLst/>
                </a:prstGeom>
                <a:ln w="0">
                  <a:noFill/>
                </a:ln>
              </p:spPr>
            </p:pic>
            <mc:AlternateContent>
              <mc:Choice xmlns:a14="http://schemas.microsoft.com/office/drawing/2010/main" Requires="a14">
                <p:sp>
                  <p:nvSpPr>
                    <p:cNvPr id="428" name=""/>
                    <p:cNvSpPr txBox="1"/>
                    <p:nvPr/>
                  </p:nvSpPr>
                  <p:spPr>
                    <a:xfrm>
                      <a:off x="7913880" y="2209680"/>
                      <a:ext cx="226440" cy="214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t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29" name=""/>
                    <p:cNvSpPr txBox="1"/>
                    <p:nvPr/>
                  </p:nvSpPr>
                  <p:spPr>
                    <a:xfrm>
                      <a:off x="1067040" y="228600"/>
                      <a:ext cx="848520" cy="331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acc>
                                <m:accPr>
                                  <m:chr m:val="¨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30" name=""/>
                <p:cNvSpPr/>
                <p:nvPr/>
              </p:nvSpPr>
              <p:spPr>
                <a:xfrm>
                  <a:off x="1771200" y="2666880"/>
                  <a:ext cx="6610680" cy="456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Elcentro 1940 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（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N-S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） 地震记录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431" name=""/>
                  <p:cNvSpPr txBox="1"/>
                  <p:nvPr/>
                </p:nvSpPr>
                <p:spPr>
                  <a:xfrm>
                    <a:off x="1146240" y="517680"/>
                    <a:ext cx="576360" cy="296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32" name=""/>
                  <p:cNvSpPr txBox="1"/>
                  <p:nvPr/>
                </p:nvSpPr>
                <p:spPr>
                  <a:xfrm>
                    <a:off x="8156520" y="2149560"/>
                    <a:ext cx="263880" cy="2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2908440" y="3200400"/>
                <a:ext cx="62355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ξω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τ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τ</m:t>
                                </m:r>
                              </m:e>
                            </m:nary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533520" y="395280"/>
            <a:ext cx="3504960" cy="2426040"/>
            <a:chOff x="533520" y="395280"/>
            <a:chExt cx="3504960" cy="2426040"/>
          </a:xfrm>
        </p:grpSpPr>
        <p:pic>
          <p:nvPicPr>
            <p:cNvPr id="435" name="7_2" descr=""/>
            <p:cNvPicPr/>
            <p:nvPr/>
          </p:nvPicPr>
          <p:blipFill>
            <a:blip r:embed="rId1"/>
            <a:stretch/>
          </p:blipFill>
          <p:spPr>
            <a:xfrm>
              <a:off x="533520" y="395280"/>
              <a:ext cx="350496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474200" y="242244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相对位移反应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876920" y="2895480"/>
            <a:ext cx="3200400" cy="2369160"/>
            <a:chOff x="4876920" y="2895480"/>
            <a:chExt cx="3200400" cy="2369160"/>
          </a:xfrm>
        </p:grpSpPr>
        <p:pic>
          <p:nvPicPr>
            <p:cNvPr id="438" name="7_4" descr=""/>
            <p:cNvPicPr/>
            <p:nvPr/>
          </p:nvPicPr>
          <p:blipFill>
            <a:blip r:embed="rId2"/>
            <a:stretch/>
          </p:blipFill>
          <p:spPr>
            <a:xfrm>
              <a:off x="4876920" y="2895480"/>
              <a:ext cx="3200400" cy="19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5716440" y="486576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绝对加速度反应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648320" y="425520"/>
            <a:ext cx="3429000" cy="2310120"/>
            <a:chOff x="4648320" y="425520"/>
            <a:chExt cx="3429000" cy="2310120"/>
          </a:xfrm>
        </p:grpSpPr>
        <p:pic>
          <p:nvPicPr>
            <p:cNvPr id="441" name="7_3" descr=""/>
            <p:cNvPicPr/>
            <p:nvPr/>
          </p:nvPicPr>
          <p:blipFill>
            <a:blip r:embed="rId3"/>
            <a:stretch/>
          </p:blipFill>
          <p:spPr>
            <a:xfrm>
              <a:off x="4648320" y="425520"/>
              <a:ext cx="3429000" cy="18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5664960" y="23367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宋体"/>
                </a:rPr>
                <a:t>相对速度反应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1019160" y="3022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地震反应谱的特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67120" y="3505320"/>
            <a:ext cx="21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阻尼比对反应谱影响很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373400" y="4038480"/>
            <a:ext cx="274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对于加速度反应谱，当结构周期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于某个值时幅值随周期急剧增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大于某个值时，快速下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680840" y="5099040"/>
            <a:ext cx="289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3.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对于速度反应谱，当结构周期小于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个值时幅值随周期增大，随后趋于常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82640" y="587700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4.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</a:rPr>
              <a:t>对于位移反应谱，幅值随周期增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3952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一、结构抗震理论的发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10065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静力理论阶段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---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静力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19600" y="1490760"/>
            <a:ext cx="109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1920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年，日本大森房吉提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假设建筑物为绝对刚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324480" y="1676520"/>
            <a:ext cx="2133720" cy="2057400"/>
            <a:chOff x="6324480" y="1676520"/>
            <a:chExt cx="2133720" cy="2057400"/>
          </a:xfrm>
        </p:grpSpPr>
        <p:sp>
          <p:nvSpPr>
            <p:cNvPr id="54" name=""/>
            <p:cNvSpPr/>
            <p:nvPr/>
          </p:nvSpPr>
          <p:spPr>
            <a:xfrm>
              <a:off x="6324480" y="1676520"/>
              <a:ext cx="213372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6705720" y="1981080"/>
              <a:ext cx="1660320" cy="1734840"/>
              <a:chOff x="6705720" y="1981080"/>
              <a:chExt cx="1660320" cy="173484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6858000" y="1981080"/>
                <a:ext cx="304920" cy="1295280"/>
                <a:chOff x="6858000" y="1981080"/>
                <a:chExt cx="304920" cy="129528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6858000" y="3124080"/>
                  <a:ext cx="304920" cy="15228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858000" y="312408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V="1">
                  <a:off x="7010280" y="2133360"/>
                  <a:ext cx="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6934320" y="1981080"/>
                  <a:ext cx="152280" cy="15228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7467480" y="1981080"/>
                <a:ext cx="304920" cy="1295280"/>
                <a:chOff x="7467480" y="1981080"/>
                <a:chExt cx="304920" cy="129528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7467480" y="3124080"/>
                  <a:ext cx="304920" cy="1522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7467480" y="312408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flipV="1">
                  <a:off x="7619760" y="2133360"/>
                  <a:ext cx="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543800" y="1981080"/>
                  <a:ext cx="152280" cy="15228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7010280" y="342864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20120" y="3352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010280" y="3352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9" name=""/>
                  <p:cNvSpPr txBox="1"/>
                  <p:nvPr/>
                </p:nvSpPr>
                <p:spPr>
                  <a:xfrm>
                    <a:off x="7118280" y="3428640"/>
                    <a:ext cx="425520" cy="287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0" name=""/>
                  <p:cNvSpPr txBox="1"/>
                  <p:nvPr/>
                </p:nvSpPr>
                <p:spPr>
                  <a:xfrm>
                    <a:off x="6705720" y="1981080"/>
                    <a:ext cx="198360" cy="166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1" name=""/>
              <p:cNvSpPr/>
              <p:nvPr/>
            </p:nvSpPr>
            <p:spPr>
              <a:xfrm>
                <a:off x="7620120" y="20570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2" name=""/>
                  <p:cNvSpPr txBox="1"/>
                  <p:nvPr/>
                </p:nvSpPr>
                <p:spPr>
                  <a:xfrm>
                    <a:off x="7772400" y="2133360"/>
                    <a:ext cx="593640" cy="312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73" name=""/>
          <p:cNvSpPr/>
          <p:nvPr/>
        </p:nvSpPr>
        <p:spPr>
          <a:xfrm>
            <a:off x="1349280" y="26654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地震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828800" y="3106800"/>
                <a:ext cx="35798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209680" y="3962520"/>
                <a:ext cx="144648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060800" y="42670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---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地震系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5029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将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F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作为静荷载，按静力计算方法计算结构的地震效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421280" y="4730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不同场地条件对反应谱的影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906560" y="93024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将多个地震反应谱平均后得平均加速度反应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45760" y="4892760"/>
            <a:ext cx="496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地震反应谱是现阶段计算地震作用的基础，通过反应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把随时程变化的地震作用转化为最大的等效侧向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752480" y="1389240"/>
            <a:ext cx="5619240" cy="2590200"/>
            <a:chOff x="1752480" y="1389240"/>
            <a:chExt cx="5619240" cy="2590200"/>
          </a:xfrm>
        </p:grpSpPr>
        <p:sp>
          <p:nvSpPr>
            <p:cNvPr id="452" name=""/>
            <p:cNvSpPr/>
            <p:nvPr/>
          </p:nvSpPr>
          <p:spPr>
            <a:xfrm>
              <a:off x="1981080" y="3446280"/>
              <a:ext cx="441972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1981080" y="1465200"/>
              <a:ext cx="0" cy="19807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95480" y="2089080"/>
              <a:ext cx="3871800" cy="1283760"/>
            </a:xfrm>
            <a:custGeom>
              <a:avLst/>
              <a:gdLst/>
              <a:ahLst/>
              <a:rect l="l" t="t" r="r" b="b"/>
              <a:pathLst>
                <a:path w="2439" h="809">
                  <a:moveTo>
                    <a:pt x="0" y="523"/>
                  </a:moveTo>
                  <a:cubicBezTo>
                    <a:pt x="11" y="488"/>
                    <a:pt x="50" y="371"/>
                    <a:pt x="67" y="314"/>
                  </a:cubicBezTo>
                  <a:cubicBezTo>
                    <a:pt x="84" y="257"/>
                    <a:pt x="88" y="226"/>
                    <a:pt x="104" y="179"/>
                  </a:cubicBezTo>
                  <a:cubicBezTo>
                    <a:pt x="120" y="132"/>
                    <a:pt x="140" y="57"/>
                    <a:pt x="164" y="30"/>
                  </a:cubicBezTo>
                  <a:cubicBezTo>
                    <a:pt x="188" y="3"/>
                    <a:pt x="223" y="0"/>
                    <a:pt x="247" y="15"/>
                  </a:cubicBezTo>
                  <a:cubicBezTo>
                    <a:pt x="271" y="30"/>
                    <a:pt x="285" y="79"/>
                    <a:pt x="306" y="119"/>
                  </a:cubicBezTo>
                  <a:cubicBezTo>
                    <a:pt x="327" y="159"/>
                    <a:pt x="347" y="203"/>
                    <a:pt x="374" y="254"/>
                  </a:cubicBezTo>
                  <a:cubicBezTo>
                    <a:pt x="401" y="305"/>
                    <a:pt x="434" y="377"/>
                    <a:pt x="471" y="426"/>
                  </a:cubicBezTo>
                  <a:cubicBezTo>
                    <a:pt x="508" y="475"/>
                    <a:pt x="539" y="515"/>
                    <a:pt x="598" y="546"/>
                  </a:cubicBezTo>
                  <a:cubicBezTo>
                    <a:pt x="657" y="577"/>
                    <a:pt x="745" y="593"/>
                    <a:pt x="823" y="613"/>
                  </a:cubicBezTo>
                  <a:cubicBezTo>
                    <a:pt x="901" y="633"/>
                    <a:pt x="992" y="649"/>
                    <a:pt x="1069" y="665"/>
                  </a:cubicBezTo>
                  <a:cubicBezTo>
                    <a:pt x="1146" y="681"/>
                    <a:pt x="1203" y="699"/>
                    <a:pt x="1287" y="711"/>
                  </a:cubicBezTo>
                  <a:cubicBezTo>
                    <a:pt x="1371" y="723"/>
                    <a:pt x="1479" y="730"/>
                    <a:pt x="1571" y="740"/>
                  </a:cubicBezTo>
                  <a:cubicBezTo>
                    <a:pt x="1663" y="750"/>
                    <a:pt x="1754" y="761"/>
                    <a:pt x="1840" y="770"/>
                  </a:cubicBezTo>
                  <a:cubicBezTo>
                    <a:pt x="1926" y="779"/>
                    <a:pt x="2003" y="787"/>
                    <a:pt x="2087" y="793"/>
                  </a:cubicBezTo>
                  <a:cubicBezTo>
                    <a:pt x="2171" y="799"/>
                    <a:pt x="2284" y="805"/>
                    <a:pt x="2343" y="807"/>
                  </a:cubicBezTo>
                  <a:cubicBezTo>
                    <a:pt x="2402" y="809"/>
                    <a:pt x="2411" y="807"/>
                    <a:pt x="2439" y="807"/>
                  </a:cubicBezTo>
                </a:path>
              </a:pathLst>
            </a:custGeom>
            <a:noFill/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82880" y="1940040"/>
              <a:ext cx="3954240" cy="1371240"/>
            </a:xfrm>
            <a:custGeom>
              <a:avLst/>
              <a:gdLst/>
              <a:ahLst/>
              <a:rect l="l" t="t" r="r" b="b"/>
              <a:pathLst>
                <a:path w="2491" h="864">
                  <a:moveTo>
                    <a:pt x="0" y="640"/>
                  </a:moveTo>
                  <a:cubicBezTo>
                    <a:pt x="21" y="584"/>
                    <a:pt x="100" y="378"/>
                    <a:pt x="127" y="303"/>
                  </a:cubicBezTo>
                  <a:cubicBezTo>
                    <a:pt x="154" y="228"/>
                    <a:pt x="148" y="232"/>
                    <a:pt x="165" y="191"/>
                  </a:cubicBezTo>
                  <a:cubicBezTo>
                    <a:pt x="182" y="150"/>
                    <a:pt x="210" y="87"/>
                    <a:pt x="232" y="56"/>
                  </a:cubicBezTo>
                  <a:cubicBezTo>
                    <a:pt x="254" y="25"/>
                    <a:pt x="278" y="0"/>
                    <a:pt x="299" y="4"/>
                  </a:cubicBezTo>
                  <a:cubicBezTo>
                    <a:pt x="320" y="8"/>
                    <a:pt x="337" y="40"/>
                    <a:pt x="359" y="79"/>
                  </a:cubicBezTo>
                  <a:cubicBezTo>
                    <a:pt x="381" y="118"/>
                    <a:pt x="401" y="180"/>
                    <a:pt x="434" y="236"/>
                  </a:cubicBezTo>
                  <a:cubicBezTo>
                    <a:pt x="467" y="292"/>
                    <a:pt x="511" y="365"/>
                    <a:pt x="554" y="415"/>
                  </a:cubicBezTo>
                  <a:cubicBezTo>
                    <a:pt x="597" y="465"/>
                    <a:pt x="635" y="499"/>
                    <a:pt x="693" y="535"/>
                  </a:cubicBezTo>
                  <a:cubicBezTo>
                    <a:pt x="751" y="571"/>
                    <a:pt x="825" y="607"/>
                    <a:pt x="905" y="632"/>
                  </a:cubicBezTo>
                  <a:cubicBezTo>
                    <a:pt x="985" y="657"/>
                    <a:pt x="1094" y="668"/>
                    <a:pt x="1175" y="685"/>
                  </a:cubicBezTo>
                  <a:cubicBezTo>
                    <a:pt x="1256" y="702"/>
                    <a:pt x="1309" y="722"/>
                    <a:pt x="1392" y="737"/>
                  </a:cubicBezTo>
                  <a:cubicBezTo>
                    <a:pt x="1475" y="752"/>
                    <a:pt x="1585" y="762"/>
                    <a:pt x="1676" y="774"/>
                  </a:cubicBezTo>
                  <a:cubicBezTo>
                    <a:pt x="1767" y="786"/>
                    <a:pt x="1856" y="801"/>
                    <a:pt x="1938" y="812"/>
                  </a:cubicBezTo>
                  <a:cubicBezTo>
                    <a:pt x="2020" y="823"/>
                    <a:pt x="2097" y="836"/>
                    <a:pt x="2170" y="842"/>
                  </a:cubicBezTo>
                  <a:cubicBezTo>
                    <a:pt x="2243" y="848"/>
                    <a:pt x="2325" y="845"/>
                    <a:pt x="2379" y="849"/>
                  </a:cubicBezTo>
                  <a:cubicBezTo>
                    <a:pt x="2433" y="853"/>
                    <a:pt x="2468" y="861"/>
                    <a:pt x="2491" y="864"/>
                  </a:cubicBezTo>
                </a:path>
              </a:pathLst>
            </a:custGeom>
            <a:noFill/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2880" y="2001600"/>
              <a:ext cx="3871800" cy="1238040"/>
            </a:xfrm>
            <a:custGeom>
              <a:avLst/>
              <a:gdLst/>
              <a:ahLst/>
              <a:rect l="l" t="t" r="r" b="b"/>
              <a:pathLst>
                <a:path w="2439" h="780">
                  <a:moveTo>
                    <a:pt x="0" y="601"/>
                  </a:moveTo>
                  <a:cubicBezTo>
                    <a:pt x="24" y="549"/>
                    <a:pt x="107" y="359"/>
                    <a:pt x="142" y="287"/>
                  </a:cubicBezTo>
                  <a:cubicBezTo>
                    <a:pt x="177" y="215"/>
                    <a:pt x="185" y="204"/>
                    <a:pt x="210" y="167"/>
                  </a:cubicBezTo>
                  <a:cubicBezTo>
                    <a:pt x="235" y="130"/>
                    <a:pt x="261" y="90"/>
                    <a:pt x="292" y="62"/>
                  </a:cubicBezTo>
                  <a:cubicBezTo>
                    <a:pt x="323" y="34"/>
                    <a:pt x="367" y="0"/>
                    <a:pt x="394" y="2"/>
                  </a:cubicBezTo>
                  <a:cubicBezTo>
                    <a:pt x="421" y="4"/>
                    <a:pt x="432" y="38"/>
                    <a:pt x="454" y="77"/>
                  </a:cubicBezTo>
                  <a:cubicBezTo>
                    <a:pt x="476" y="116"/>
                    <a:pt x="495" y="191"/>
                    <a:pt x="529" y="234"/>
                  </a:cubicBezTo>
                  <a:cubicBezTo>
                    <a:pt x="563" y="277"/>
                    <a:pt x="605" y="313"/>
                    <a:pt x="659" y="332"/>
                  </a:cubicBezTo>
                  <a:cubicBezTo>
                    <a:pt x="713" y="351"/>
                    <a:pt x="796" y="327"/>
                    <a:pt x="853" y="346"/>
                  </a:cubicBezTo>
                  <a:cubicBezTo>
                    <a:pt x="910" y="365"/>
                    <a:pt x="942" y="412"/>
                    <a:pt x="1003" y="444"/>
                  </a:cubicBezTo>
                  <a:cubicBezTo>
                    <a:pt x="1064" y="476"/>
                    <a:pt x="1147" y="509"/>
                    <a:pt x="1220" y="541"/>
                  </a:cubicBezTo>
                  <a:cubicBezTo>
                    <a:pt x="1293" y="573"/>
                    <a:pt x="1359" y="609"/>
                    <a:pt x="1444" y="638"/>
                  </a:cubicBezTo>
                  <a:cubicBezTo>
                    <a:pt x="1529" y="667"/>
                    <a:pt x="1636" y="694"/>
                    <a:pt x="1728" y="713"/>
                  </a:cubicBezTo>
                  <a:cubicBezTo>
                    <a:pt x="1820" y="732"/>
                    <a:pt x="1907" y="740"/>
                    <a:pt x="1998" y="750"/>
                  </a:cubicBezTo>
                  <a:cubicBezTo>
                    <a:pt x="2089" y="760"/>
                    <a:pt x="2201" y="768"/>
                    <a:pt x="2274" y="773"/>
                  </a:cubicBezTo>
                  <a:cubicBezTo>
                    <a:pt x="2347" y="778"/>
                    <a:pt x="2405" y="779"/>
                    <a:pt x="2439" y="780"/>
                  </a:cubicBezTo>
                </a:path>
              </a:pathLst>
            </a:custGeom>
            <a:noFill/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82880" y="2227320"/>
              <a:ext cx="3919320" cy="1059840"/>
            </a:xfrm>
            <a:custGeom>
              <a:avLst/>
              <a:gdLst/>
              <a:ahLst/>
              <a:rect l="l" t="t" r="r" b="b"/>
              <a:pathLst>
                <a:path w="2469" h="668">
                  <a:moveTo>
                    <a:pt x="0" y="451"/>
                  </a:moveTo>
                  <a:cubicBezTo>
                    <a:pt x="34" y="396"/>
                    <a:pt x="155" y="189"/>
                    <a:pt x="202" y="122"/>
                  </a:cubicBezTo>
                  <a:cubicBezTo>
                    <a:pt x="249" y="55"/>
                    <a:pt x="250" y="64"/>
                    <a:pt x="285" y="47"/>
                  </a:cubicBezTo>
                  <a:cubicBezTo>
                    <a:pt x="320" y="30"/>
                    <a:pt x="374" y="18"/>
                    <a:pt x="412" y="17"/>
                  </a:cubicBezTo>
                  <a:cubicBezTo>
                    <a:pt x="450" y="16"/>
                    <a:pt x="477" y="31"/>
                    <a:pt x="516" y="40"/>
                  </a:cubicBezTo>
                  <a:cubicBezTo>
                    <a:pt x="555" y="49"/>
                    <a:pt x="605" y="70"/>
                    <a:pt x="644" y="70"/>
                  </a:cubicBezTo>
                  <a:cubicBezTo>
                    <a:pt x="683" y="70"/>
                    <a:pt x="711" y="49"/>
                    <a:pt x="748" y="40"/>
                  </a:cubicBezTo>
                  <a:cubicBezTo>
                    <a:pt x="785" y="31"/>
                    <a:pt x="829" y="0"/>
                    <a:pt x="868" y="17"/>
                  </a:cubicBezTo>
                  <a:cubicBezTo>
                    <a:pt x="907" y="34"/>
                    <a:pt x="940" y="99"/>
                    <a:pt x="980" y="145"/>
                  </a:cubicBezTo>
                  <a:cubicBezTo>
                    <a:pt x="1020" y="191"/>
                    <a:pt x="1061" y="244"/>
                    <a:pt x="1107" y="294"/>
                  </a:cubicBezTo>
                  <a:cubicBezTo>
                    <a:pt x="1153" y="344"/>
                    <a:pt x="1185" y="398"/>
                    <a:pt x="1257" y="444"/>
                  </a:cubicBezTo>
                  <a:cubicBezTo>
                    <a:pt x="1329" y="490"/>
                    <a:pt x="1458" y="546"/>
                    <a:pt x="1541" y="571"/>
                  </a:cubicBezTo>
                  <a:cubicBezTo>
                    <a:pt x="1624" y="596"/>
                    <a:pt x="1670" y="581"/>
                    <a:pt x="1758" y="593"/>
                  </a:cubicBezTo>
                  <a:cubicBezTo>
                    <a:pt x="1846" y="605"/>
                    <a:pt x="1987" y="635"/>
                    <a:pt x="2072" y="646"/>
                  </a:cubicBezTo>
                  <a:cubicBezTo>
                    <a:pt x="2157" y="657"/>
                    <a:pt x="2201" y="657"/>
                    <a:pt x="2267" y="661"/>
                  </a:cubicBezTo>
                  <a:cubicBezTo>
                    <a:pt x="2333" y="665"/>
                    <a:pt x="2427" y="667"/>
                    <a:pt x="2469" y="668"/>
                  </a:cubicBezTo>
                </a:path>
              </a:pathLst>
            </a:custGeom>
            <a:noFill/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2133720" y="1389240"/>
                  <a:ext cx="574560" cy="34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r>
                            <m:t xml:space="preserve">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59" name=""/>
            <p:cNvSpPr/>
            <p:nvPr/>
          </p:nvSpPr>
          <p:spPr>
            <a:xfrm>
              <a:off x="6532920" y="3217680"/>
              <a:ext cx="83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66"/>
                  </a:solidFill>
                  <a:latin typeface="宋体"/>
                </a:rPr>
                <a:t>周期（</a:t>
              </a:r>
              <a:r>
                <a:rPr b="1" lang="zh-CN" sz="1800" spc="-1" strike="noStrike">
                  <a:solidFill>
                    <a:srgbClr val="ffff66"/>
                  </a:solidFill>
                  <a:latin typeface="宋体"/>
                </a:rPr>
                <a:t>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32160" y="3541680"/>
              <a:ext cx="914400" cy="437760"/>
            </a:xfrm>
            <a:prstGeom prst="borderCallout1">
              <a:avLst>
                <a:gd name="adj1" fmla="val 18750"/>
                <a:gd name="adj2" fmla="val -8333"/>
                <a:gd name="adj3" fmla="val -74273"/>
                <a:gd name="adj4" fmla="val -30384"/>
              </a:avLst>
            </a:prstGeom>
            <a:solidFill>
              <a:srgbClr val="00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岩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752480" y="3565440"/>
              <a:ext cx="1354320" cy="414000"/>
            </a:xfrm>
            <a:prstGeom prst="borderCallout1">
              <a:avLst>
                <a:gd name="adj1" fmla="val 18750"/>
                <a:gd name="adj2" fmla="val -8333"/>
                <a:gd name="adj3" fmla="val -175861"/>
                <a:gd name="adj4" fmla="val 105624"/>
              </a:avLst>
            </a:prstGeom>
            <a:solidFill>
              <a:srgbClr val="00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坚硬场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68720" y="2295360"/>
              <a:ext cx="2346480" cy="388800"/>
            </a:xfrm>
            <a:prstGeom prst="borderCallout1">
              <a:avLst>
                <a:gd name="adj1" fmla="val 18750"/>
                <a:gd name="adj2" fmla="val -8333"/>
                <a:gd name="adj3" fmla="val 99592"/>
                <a:gd name="adj4" fmla="val -59402"/>
              </a:avLst>
            </a:prstGeom>
            <a:solidFill>
              <a:srgbClr val="00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厚的无粘性土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28960" y="1500120"/>
              <a:ext cx="1200240" cy="421920"/>
            </a:xfrm>
            <a:prstGeom prst="borderCallout1">
              <a:avLst>
                <a:gd name="adj1" fmla="val 18750"/>
                <a:gd name="adj2" fmla="val -8333"/>
                <a:gd name="adj3" fmla="val 170300"/>
                <a:gd name="adj4" fmla="val -38097"/>
              </a:avLst>
            </a:prstGeom>
            <a:solidFill>
              <a:srgbClr val="00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软土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919680" y="42829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结构的阻尼比和场地条件对反应谱有很大影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38080" y="685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定函数理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286000" y="2514600"/>
                <a:ext cx="25146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838080" y="13716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苏联扎夫里耶夫首先提出的，他认为地震地面运动可用余弦函数来描述，也即地面位移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286000" y="4572000"/>
                <a:ext cx="388620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914400" y="32767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苏联的柯尔琴斯基提出地面运动可用若干个不同振幅、不同阻尼和不同频率的衰减正弦函数的和来表示，也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29120" y="40788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反应谱理论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---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反应谱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52600" y="8650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1940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年，美国皮奥特提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18680" y="1295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地震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666880" y="1828800"/>
                <a:ext cx="16765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kβG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7" name=""/>
          <p:cNvGrpSpPr/>
          <p:nvPr/>
        </p:nvGrpSpPr>
        <p:grpSpPr>
          <a:xfrm>
            <a:off x="1019160" y="2440080"/>
            <a:ext cx="5982480" cy="1283400"/>
            <a:chOff x="1019160" y="2440080"/>
            <a:chExt cx="5982480" cy="1283400"/>
          </a:xfrm>
        </p:grpSpPr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1050840" y="2600280"/>
                  <a:ext cx="28260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019160" y="3341520"/>
                  <a:ext cx="28260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1073160" y="2960640"/>
                  <a:ext cx="2174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2026800" y="244008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---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重力荷载代表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72800" y="2820960"/>
              <a:ext cx="82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---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地震系数（反映震级、震中距、地基等的影响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43920" y="3263760"/>
              <a:ext cx="33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---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动力系数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反映结构的特性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,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如周期、阻尼等的影响</a:t>
              </a: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916640" y="379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按静力计算方法计算结构的地震效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800600"/>
            <a:ext cx="47242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目前，世界上普遍采用的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27040" y="45720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直接动力分析理论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---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时程分析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80200" y="971640"/>
            <a:ext cx="538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将实际地震加速度时程记录（简称地震记录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earth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quakerecord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）作为动荷载输入，进行结构的地震响应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954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此外，有用随机振动理论来分析结构地震响应统计特征的，有以地震时输入结构的能量进行设计，使结构所吸收的能量不致造成结构破坏的理论等。但这些方法还没有进入抗震设计规范，因此未被抗震设计使用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45600" y="2209680"/>
            <a:ext cx="54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非线性静力分析方法（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Push Over Analy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014360" y="3189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二、与各类型结构相应的地震作用分析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11600" y="92700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不超过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40m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的规则结构：底部剪力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80040" y="1384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一般的规则结构：两个主轴的振型分解反应谱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917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质量和刚度分布明显不对称结构：考虑扭转或双向地震作用的振型分解反应谱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819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度时的大跨、长悬臂结构和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度的高层建筑：考虑竖向地震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3733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特别不规则、甲类和超过规定范围的高层建筑：一维或二维时程分析法的补充计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881720" y="314280"/>
            <a:ext cx="4831200" cy="67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66"/>
              </a:buClr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3.2 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单自由度弹性体系的地震反应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24800" y="116532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一、地震作用下单自由度体系的运动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791320" y="2362320"/>
            <a:ext cx="2895480" cy="2361960"/>
            <a:chOff x="5791320" y="2362320"/>
            <a:chExt cx="2895480" cy="2361960"/>
          </a:xfrm>
        </p:grpSpPr>
        <p:sp>
          <p:nvSpPr>
            <p:cNvPr id="109" name=""/>
            <p:cNvSpPr/>
            <p:nvPr/>
          </p:nvSpPr>
          <p:spPr>
            <a:xfrm>
              <a:off x="5791320" y="2362320"/>
              <a:ext cx="2895480" cy="23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023240" y="2514600"/>
              <a:ext cx="1179360" cy="2057400"/>
              <a:chOff x="7023240" y="2514600"/>
              <a:chExt cx="1179360" cy="2057400"/>
            </a:xfrm>
          </p:grpSpPr>
          <p:pic>
            <p:nvPicPr>
              <p:cNvPr id="111" name="DZH02" descr=""/>
              <p:cNvPicPr/>
              <p:nvPr/>
            </p:nvPicPr>
            <p:blipFill>
              <a:blip r:embed="rId1"/>
              <a:stretch/>
            </p:blipFill>
            <p:spPr>
              <a:xfrm>
                <a:off x="7054920" y="2644920"/>
                <a:ext cx="1147680" cy="16812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12" name=""/>
                  <p:cNvSpPr txBox="1"/>
                  <p:nvPr/>
                </p:nvSpPr>
                <p:spPr>
                  <a:xfrm>
                    <a:off x="7491600" y="2514600"/>
                    <a:ext cx="306360" cy="27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3" name=""/>
                  <p:cNvSpPr txBox="1"/>
                  <p:nvPr/>
                </p:nvSpPr>
                <p:spPr>
                  <a:xfrm>
                    <a:off x="7197840" y="4257720"/>
                    <a:ext cx="415800" cy="314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4" name=""/>
                  <p:cNvSpPr txBox="1"/>
                  <p:nvPr/>
                </p:nvSpPr>
                <p:spPr>
                  <a:xfrm>
                    <a:off x="7023240" y="2590920"/>
                    <a:ext cx="174600" cy="185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5" name=""/>
            <p:cNvSpPr/>
            <p:nvPr/>
          </p:nvSpPr>
          <p:spPr>
            <a:xfrm>
              <a:off x="6737400" y="3314880"/>
              <a:ext cx="285840" cy="28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50120" y="345924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737400" y="3657600"/>
              <a:ext cx="28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450120" y="365760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6797520" y="3379680"/>
                  <a:ext cx="174960" cy="18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5956200" y="3124080"/>
                  <a:ext cx="78588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m</m:t>
                      </m:r>
                      <m:r>
                        <m:t xml:space="preserve">(</m:t>
                      </m:r>
                      <m:acc>
                        <m:accPr>
                          <m:chr m:val="¨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¨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6873840" y="3701880"/>
                  <a:ext cx="220680" cy="2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6450120" y="3719520"/>
                  <a:ext cx="207720" cy="2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3" name=""/>
          <p:cNvSpPr/>
          <p:nvPr/>
        </p:nvSpPr>
        <p:spPr>
          <a:xfrm>
            <a:off x="1318680" y="1981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质点位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895480" y="2003400"/>
                <a:ext cx="2438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1380960" y="2479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质点加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895480" y="2476440"/>
                <a:ext cx="25146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256040" y="301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惯性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062160" y="3043080"/>
                <a:ext cx="24242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380960" y="347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弹性恢复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971800" y="3467160"/>
                <a:ext cx="13032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256040" y="4003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阻尼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960640" y="4014720"/>
                <a:ext cx="13827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28960" y="4478400"/>
                <a:ext cx="27860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1318680" y="4537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运动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445200" y="4572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二、单自由度体系动力学分析回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50960" y="107964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单自由度体系自由振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37840" y="167652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）无阻尼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138560" y="1752480"/>
                <a:ext cx="1443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165560" y="2819520"/>
                <a:ext cx="14684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181400" y="2178000"/>
                <a:ext cx="8222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165560" y="3200400"/>
                <a:ext cx="2997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886200" y="4343400"/>
                <a:ext cx="1828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867120" y="3886200"/>
                <a:ext cx="2000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894120" y="4952880"/>
                <a:ext cx="23544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ξω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734000" y="5467320"/>
                <a:ext cx="40291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ξω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ω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3503520" y="5484960"/>
            <a:ext cx="1040400" cy="459720"/>
            <a:chOff x="3503520" y="5484960"/>
            <a:chExt cx="1040400" cy="459720"/>
          </a:xfrm>
        </p:grpSpPr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3503520" y="5589720"/>
                  <a:ext cx="5349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8" name=""/>
            <p:cNvSpPr/>
            <p:nvPr/>
          </p:nvSpPr>
          <p:spPr>
            <a:xfrm>
              <a:off x="4180320" y="5484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宋体"/>
                </a:rPr>
                <a:t>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437840" y="380988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）有阻尼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523880" y="1295280"/>
            <a:ext cx="6248520" cy="3061080"/>
            <a:chOff x="1523880" y="1295280"/>
            <a:chExt cx="6248520" cy="3061080"/>
          </a:xfrm>
        </p:grpSpPr>
        <p:sp>
          <p:nvSpPr>
            <p:cNvPr id="151" name=""/>
            <p:cNvSpPr/>
            <p:nvPr/>
          </p:nvSpPr>
          <p:spPr>
            <a:xfrm>
              <a:off x="1523880" y="1295280"/>
              <a:ext cx="6248520" cy="2743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906560" y="1406520"/>
              <a:ext cx="2042640" cy="2949840"/>
              <a:chOff x="1906560" y="1406520"/>
              <a:chExt cx="2042640" cy="2949840"/>
            </a:xfrm>
          </p:grpSpPr>
          <p:sp>
            <p:nvSpPr>
              <p:cNvPr id="153" name=""/>
              <p:cNvSpPr/>
              <p:nvPr/>
            </p:nvSpPr>
            <p:spPr>
              <a:xfrm>
                <a:off x="2971440" y="1406520"/>
                <a:ext cx="41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4" name=""/>
                  <p:cNvSpPr txBox="1"/>
                  <p:nvPr/>
                </p:nvSpPr>
                <p:spPr>
                  <a:xfrm>
                    <a:off x="1906560" y="1771920"/>
                    <a:ext cx="531720" cy="358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5" name=""/>
              <p:cNvSpPr/>
              <p:nvPr/>
            </p:nvSpPr>
            <p:spPr>
              <a:xfrm>
                <a:off x="2438280" y="1978200"/>
                <a:ext cx="45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2844720" y="3120840"/>
                <a:ext cx="456840" cy="114120"/>
                <a:chOff x="2844720" y="3120840"/>
                <a:chExt cx="456840" cy="1141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895480" y="3121200"/>
                  <a:ext cx="406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2895480" y="3120840"/>
                  <a:ext cx="101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2945880" y="3120840"/>
                  <a:ext cx="10152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2997000" y="3120840"/>
                  <a:ext cx="101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3047760" y="3120840"/>
                  <a:ext cx="101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3098160" y="3120840"/>
                  <a:ext cx="10152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V="1">
                  <a:off x="3149280" y="3120840"/>
                  <a:ext cx="101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3200040" y="3120840"/>
                  <a:ext cx="101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V="1">
                  <a:off x="2844720" y="3120840"/>
                  <a:ext cx="101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2946240" y="1825920"/>
                <a:ext cx="202680" cy="2286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3072600" y="1886040"/>
                <a:ext cx="760680" cy="247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00" y="808"/>
                    </a:moveTo>
                    <a:arcTo wR="10800" hR="10800" stAng="-4061460" swAng="40614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00" y="808"/>
                    </a:moveTo>
                    <a:arcTo wR="10800" hR="10800" stAng="-4061460" swAng="406146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3148920" y="197820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3414600" y="1825920"/>
                    <a:ext cx="534600" cy="393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0" name=""/>
              <p:cNvSpPr/>
              <p:nvPr/>
            </p:nvSpPr>
            <p:spPr>
              <a:xfrm>
                <a:off x="3073320" y="2054520"/>
                <a:ext cx="0" cy="106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3199320" y="1635120"/>
              <a:ext cx="3734640" cy="1676520"/>
              <a:chOff x="3199320" y="1635120"/>
              <a:chExt cx="3734640" cy="1676520"/>
            </a:xfrm>
          </p:grpSpPr>
          <p:sp>
            <p:nvSpPr>
              <p:cNvPr id="172" name=""/>
              <p:cNvSpPr/>
              <p:nvPr/>
            </p:nvSpPr>
            <p:spPr>
              <a:xfrm>
                <a:off x="3960720" y="3159360"/>
                <a:ext cx="266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3960720" y="171144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3199320" y="1787040"/>
                <a:ext cx="152280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722480" y="2003400"/>
                <a:ext cx="1600200" cy="432000"/>
              </a:xfrm>
              <a:custGeom>
                <a:avLst/>
                <a:gdLst/>
                <a:ahLst/>
                <a:rect l="l" t="t" r="r" b="b"/>
                <a:pathLst>
                  <a:path w="1008" h="272">
                    <a:moveTo>
                      <a:pt x="0" y="104"/>
                    </a:moveTo>
                    <a:cubicBezTo>
                      <a:pt x="60" y="60"/>
                      <a:pt x="120" y="16"/>
                      <a:pt x="192" y="8"/>
                    </a:cubicBezTo>
                    <a:cubicBezTo>
                      <a:pt x="264" y="0"/>
                      <a:pt x="344" y="16"/>
                      <a:pt x="432" y="56"/>
                    </a:cubicBezTo>
                    <a:cubicBezTo>
                      <a:pt x="520" y="96"/>
                      <a:pt x="624" y="224"/>
                      <a:pt x="720" y="248"/>
                    </a:cubicBezTo>
                    <a:cubicBezTo>
                      <a:pt x="816" y="272"/>
                      <a:pt x="960" y="208"/>
                      <a:pt x="1008" y="2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6" name=""/>
                  <p:cNvSpPr txBox="1"/>
                  <p:nvPr/>
                </p:nvSpPr>
                <p:spPr>
                  <a:xfrm>
                    <a:off x="4036680" y="1635120"/>
                    <a:ext cx="532080" cy="358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7" name=""/>
                  <p:cNvSpPr txBox="1"/>
                  <p:nvPr/>
                </p:nvSpPr>
                <p:spPr>
                  <a:xfrm>
                    <a:off x="6779880" y="3043440"/>
                    <a:ext cx="154080" cy="268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78" name=""/>
            <p:cNvGrpSpPr/>
            <p:nvPr/>
          </p:nvGrpSpPr>
          <p:grpSpPr>
            <a:xfrm>
              <a:off x="4800600" y="3311640"/>
              <a:ext cx="404640" cy="497880"/>
              <a:chOff x="4800600" y="3311640"/>
              <a:chExt cx="404640" cy="4978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76560" y="338760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76560" y="331164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105160" y="331164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2" name=""/>
                  <p:cNvSpPr txBox="1"/>
                  <p:nvPr/>
                </p:nvSpPr>
                <p:spPr>
                  <a:xfrm>
                    <a:off x="4800600" y="3463560"/>
                    <a:ext cx="404640" cy="34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t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83" name=""/>
            <p:cNvGrpSpPr/>
            <p:nvPr/>
          </p:nvGrpSpPr>
          <p:grpSpPr>
            <a:xfrm>
              <a:off x="5715000" y="2397240"/>
              <a:ext cx="185760" cy="1132920"/>
              <a:chOff x="5715000" y="2397240"/>
              <a:chExt cx="185760" cy="1132920"/>
            </a:xfrm>
          </p:grpSpPr>
          <mc:AlternateContent>
            <mc:Choice xmlns:a14="http://schemas.microsoft.com/office/drawing/2010/main" Requires="a14">
              <p:sp>
                <p:nvSpPr>
                  <p:cNvPr id="184" name=""/>
                  <p:cNvSpPr txBox="1"/>
                  <p:nvPr/>
                </p:nvSpPr>
                <p:spPr>
                  <a:xfrm>
                    <a:off x="5715000" y="3234960"/>
                    <a:ext cx="185760" cy="29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5" name=""/>
              <p:cNvSpPr/>
              <p:nvPr/>
            </p:nvSpPr>
            <p:spPr>
              <a:xfrm flipV="1">
                <a:off x="5791320" y="239724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1371600" y="44434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ccff33"/>
                </a:solidFill>
                <a:latin typeface="宋体"/>
              </a:rPr>
              <a:t>将荷载看成是连续作用的一系列冲量，求出每个冲量引起的位移后将这些位移相加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宋体"/>
              </a:rPr>
              <a:t>为动荷载引起的位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962520" y="2016000"/>
            <a:ext cx="1828800" cy="1143000"/>
            <a:chOff x="3962520" y="2016000"/>
            <a:chExt cx="1828800" cy="1143000"/>
          </a:xfrm>
        </p:grpSpPr>
        <p:sp>
          <p:nvSpPr>
            <p:cNvPr id="188" name=""/>
            <p:cNvSpPr/>
            <p:nvPr/>
          </p:nvSpPr>
          <p:spPr>
            <a:xfrm>
              <a:off x="4191120" y="2549160"/>
              <a:ext cx="0" cy="60984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9720" y="2473200"/>
              <a:ext cx="0" cy="68580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48320" y="2320560"/>
              <a:ext cx="0" cy="83844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76920" y="2091960"/>
              <a:ext cx="0" cy="106704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05520" y="2016000"/>
              <a:ext cx="0" cy="114300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34120" y="2016000"/>
              <a:ext cx="0" cy="114300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62720" y="2091960"/>
              <a:ext cx="0" cy="106704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2244600"/>
              <a:ext cx="0" cy="91440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62520" y="2549160"/>
              <a:ext cx="228600" cy="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91120" y="2549160"/>
              <a:ext cx="228600" cy="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19720" y="2473200"/>
              <a:ext cx="228600" cy="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48320" y="2320560"/>
              <a:ext cx="228600" cy="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76920" y="2091960"/>
              <a:ext cx="228600" cy="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05520" y="2016000"/>
              <a:ext cx="228600" cy="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34120" y="2091960"/>
              <a:ext cx="228600" cy="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62720" y="2244600"/>
              <a:ext cx="228600" cy="0"/>
            </a:xfrm>
            <a:prstGeom prst="line">
              <a:avLst/>
            </a:prstGeom>
            <a:ln w="9360">
              <a:solidFill>
                <a:srgbClr val="dc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222200" y="4572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ccff33"/>
                </a:solidFill>
                <a:latin typeface="宋体"/>
              </a:rPr>
              <a:t>单自由度体系受迫振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84880" y="5715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宋体"/>
              </a:rPr>
              <a:t>---</a:t>
            </a:r>
            <a:r>
              <a:rPr b="1" lang="zh-CN" sz="2400" spc="-1" strike="noStrike">
                <a:solidFill>
                  <a:srgbClr val="ccff33"/>
                </a:solidFill>
                <a:latin typeface="宋体"/>
              </a:rPr>
              <a:t>冲量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0:11:31Z</dcterms:created>
  <dc:creator>张金生</dc:creator>
  <dc:description/>
  <dc:language>en-US</dc:language>
  <cp:lastModifiedBy>-</cp:lastModifiedBy>
  <dcterms:modified xsi:type="dcterms:W3CDTF">2004-09-07T16:36:31Z</dcterms:modified>
  <cp:revision>211</cp:revision>
  <dc:subject/>
  <dc:title>PowerPoint 演示文稿</dc:title>
</cp:coreProperties>
</file>