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D92-407B-4D1D-A216-0297FBCB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9B0-889D-4103-968C-EB7D05A2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29E-0A6E-4EFC-9262-BA47B91B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0A4-1C7E-49E1-968F-6854A23C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844-937C-4E77-9207-150D3E2D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6EDD-4859-4ABA-9D95-265A017A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45D5-098C-4C00-A073-16BEF4A9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598-B9EF-4DBF-962D-80773238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E3EC-F922-4546-8807-436F4E51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812-267C-4B55-823F-B72E1B2A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AF0-6CED-47B1-8292-0D9E3133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8E6B-D2AC-424C-9FF3-71182A09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7F17-C703-4411-8B09-EFEA22E8F6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59364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第一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、名词解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震级，地震烈度，基本烈度，设防烈度，多遇烈度，罕遇烈度，震中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震中距，震源，地震波，地震烈度表，抗震设防措施，抗震构造措施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延性设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二、简答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抗震设防的总目标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三水准抗震设防目标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在防灾减灾工作中，结构工程师的任务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影响地震烈度的主要因素由那些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什么是两阶段抗震设计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设计地震分组的目的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抗震设防为何要对建筑分类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什么是概念设计？概念设计的基本内容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地震地面运动的三要素是什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我国是地震多发国家的原因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什么是不规则建筑，分几类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如何提高结构的延性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593640"/>
            <a:ext cx="7315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第二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、名词解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沙土液化，剪切波速，建筑场地，特征周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二、简答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建筑地段划分成几类；选址原则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建筑场地的类别是如何划分的，共分几类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不同场地对建筑有怎样的影响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哪些情况下可不进行地基基础抗震验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如何判别场地是否会发生沙土液化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抗液化的措施有哪些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场地土分那几类，如何确定场地土的类别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5520" y="746280"/>
            <a:ext cx="8184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第三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、名词解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地震反应谱，抗震设计反应谱，地震系数，地震影响系数，地震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用，重力荷载代表值，地震效应，楼层屈服强度系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二、简答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如何计算单自由度体系的地震作用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振型分解反应谱法的计算过程是怎样的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为何要验算小震下的变形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底部剪力法的计算步骤是怎样的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地震时建筑有扭转运动的原因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哪些结构需要考虑竖向地震作用？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如何判断结构薄弱层和部位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结构的基本周期计算有那些方法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三、计算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609480" y="2604960"/>
            <a:ext cx="8229240" cy="2423880"/>
            <a:chOff x="609480" y="2604960"/>
            <a:chExt cx="8229240" cy="2423880"/>
          </a:xfrm>
        </p:grpSpPr>
        <p:sp>
          <p:nvSpPr>
            <p:cNvPr id="45" name=""/>
            <p:cNvSpPr/>
            <p:nvPr/>
          </p:nvSpPr>
          <p:spPr>
            <a:xfrm>
              <a:off x="609480" y="2894040"/>
              <a:ext cx="6400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、六层砖混住宅楼，建造于基本烈度为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区，场地为Ⅱ类，设计地震分组为第一组，根据各层楼板、墙的尺寸等得到恒荷和各楼面活荷乘以组合值系数，得到的各层的重力荷载代表值为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G</a:t>
              </a: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=5399.7kN, G</a:t>
              </a: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=G</a:t>
              </a: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=G</a:t>
              </a: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=G</a:t>
              </a: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=5085kN, G</a:t>
              </a: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=3856.9k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。试用底部剪力法计算各层地震剪力标准值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7162560" y="2604960"/>
              <a:ext cx="1676160" cy="2423880"/>
              <a:chOff x="7162560" y="2604960"/>
              <a:chExt cx="1676160" cy="2423880"/>
            </a:xfrm>
          </p:grpSpPr>
          <p:sp>
            <p:nvSpPr>
              <p:cNvPr id="47" name=""/>
              <p:cNvSpPr/>
              <p:nvPr/>
            </p:nvSpPr>
            <p:spPr>
              <a:xfrm>
                <a:off x="7610040" y="2769120"/>
                <a:ext cx="0" cy="217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7418520" y="4928040"/>
                <a:ext cx="382680" cy="100800"/>
                <a:chOff x="7418520" y="4928040"/>
                <a:chExt cx="382680" cy="10080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7461000" y="4928040"/>
                  <a:ext cx="340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V="1">
                  <a:off x="7461000" y="4928040"/>
                  <a:ext cx="84960" cy="100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V="1">
                  <a:off x="7503480" y="4928040"/>
                  <a:ext cx="84960" cy="100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 flipV="1">
                  <a:off x="7545960" y="4928040"/>
                  <a:ext cx="84960" cy="100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V="1">
                  <a:off x="7588440" y="4928040"/>
                  <a:ext cx="84960" cy="100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flipV="1">
                  <a:off x="7630920" y="4928040"/>
                  <a:ext cx="84960" cy="100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V="1">
                  <a:off x="7673400" y="4928040"/>
                  <a:ext cx="84960" cy="100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7716240" y="4928040"/>
                  <a:ext cx="84960" cy="100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V="1">
                  <a:off x="7418520" y="4928040"/>
                  <a:ext cx="84960" cy="100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>
                <a:off x="7545240" y="3097800"/>
                <a:ext cx="127800" cy="135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545240" y="3508560"/>
                <a:ext cx="127800" cy="1368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561800" y="4193640"/>
                <a:ext cx="127800" cy="1368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561800" y="4523760"/>
                <a:ext cx="127800" cy="1350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192440" y="4412520"/>
                <a:ext cx="44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00440" y="4577040"/>
                <a:ext cx="63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.9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561800" y="3866760"/>
                <a:ext cx="127800" cy="13500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561800" y="2686680"/>
                <a:ext cx="127800" cy="13536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00440" y="2769120"/>
                <a:ext cx="0" cy="21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120520" y="2769120"/>
                <a:ext cx="15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120520" y="4905360"/>
                <a:ext cx="15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120520" y="4577040"/>
                <a:ext cx="15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120520" y="4248360"/>
                <a:ext cx="15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120520" y="3919320"/>
                <a:ext cx="15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120520" y="3591000"/>
                <a:ext cx="15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20520" y="3179880"/>
                <a:ext cx="15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00440" y="4248360"/>
                <a:ext cx="63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.7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200440" y="3919320"/>
                <a:ext cx="63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.7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200440" y="3591000"/>
                <a:ext cx="63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.7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200440" y="3179880"/>
                <a:ext cx="63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.7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200440" y="2769120"/>
                <a:ext cx="63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.7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162560" y="4165920"/>
                <a:ext cx="44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62560" y="3837600"/>
                <a:ext cx="44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62560" y="3426480"/>
                <a:ext cx="44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162560" y="3015720"/>
                <a:ext cx="44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162560" y="2604960"/>
                <a:ext cx="44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533520" y="762120"/>
            <a:ext cx="8001000" cy="1371600"/>
            <a:chOff x="533520" y="762120"/>
            <a:chExt cx="8001000" cy="1371600"/>
          </a:xfrm>
        </p:grpSpPr>
        <p:sp>
          <p:nvSpPr>
            <p:cNvPr id="85" name=""/>
            <p:cNvSpPr/>
            <p:nvPr/>
          </p:nvSpPr>
          <p:spPr>
            <a:xfrm>
              <a:off x="533520" y="762120"/>
              <a:ext cx="64767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、单层单跨框架。屋盖刚度为无穷大，质量集中于屋盖处。已知设防烈度为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，设计地震分组为二组，Ⅰ类场地；屋盖处的重力荷载代表值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G=700k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，框架柱线刚度     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阻尼比为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0.0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。试求该结构多遇地震时的水平地震作用。  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990720" y="1792440"/>
                  <a:ext cx="24159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t xml:space="preserve">h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kN</m:t>
                      </m:r>
                      <m:r>
                        <m:t xml:space="preserve">⋅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7" name=""/>
            <p:cNvGrpSpPr/>
            <p:nvPr/>
          </p:nvGrpSpPr>
          <p:grpSpPr>
            <a:xfrm>
              <a:off x="7010280" y="990720"/>
              <a:ext cx="1524240" cy="1143000"/>
              <a:chOff x="7010280" y="990720"/>
              <a:chExt cx="1524240" cy="1143000"/>
            </a:xfrm>
          </p:grpSpPr>
          <p:sp>
            <p:nvSpPr>
              <p:cNvPr id="88" name=""/>
              <p:cNvSpPr/>
              <p:nvPr/>
            </p:nvSpPr>
            <p:spPr>
              <a:xfrm>
                <a:off x="7010280" y="1981440"/>
                <a:ext cx="304920" cy="1522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010280" y="198144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7162920" y="99072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162920" y="990720"/>
                <a:ext cx="1218960" cy="763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229600" y="1981440"/>
                <a:ext cx="304920" cy="1522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229600" y="198144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8381880" y="99072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355520" y="1295280"/>
              <a:ext cx="8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h=5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0:11:31Z</dcterms:created>
  <dc:creator>雨薇</dc:creator>
  <dc:description/>
  <dc:language>en-US</dc:language>
  <cp:lastModifiedBy>张金生</cp:lastModifiedBy>
  <dcterms:modified xsi:type="dcterms:W3CDTF">2003-10-05T09:54:27Z</dcterms:modified>
  <cp:revision>318</cp:revision>
  <dc:subject/>
  <dc:title>PowerPoint 演示文稿</dc:title>
</cp:coreProperties>
</file>