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B52-FBB5-48A1-BB72-72454EA1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312-A483-4AD3-86B8-F9707097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F7C-8883-4353-BB0A-4950BF9D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225-1D25-4DA1-BDCB-15EE9E52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ED7-477F-41EB-940B-C206C9BF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3D0-7889-4623-9827-016CFB8F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A1C-0C66-4165-8581-742EF1DB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5C7-D4FC-413E-86A9-21542CDD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72F-CB15-4F11-8869-7A81B6AE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8E2-25DD-41D7-91C7-737544FA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932-021E-47FF-855B-A2D723C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B74-7C15-48CD-99F3-1ECA89E7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2723-9907-4172-A301-D8F588E2E1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四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简答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限制多层砌体房屋的总高度和层数的原因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为何控制房屋的最大高宽比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构造柱和芯柱的作用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提高多层砌体房屋的抗震性能所采取的主要构造措施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如何计算每片墙的地震剪力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如何计算多层砌体房屋的地震层间剪力？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312408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五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简答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框架、框架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抗震墙的抗震等级是根据什么原则划分的？为什么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划分等级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什么是“强柱弱梁”的设计原则？怎样实现的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什么是“强剪弱弯”的设计原则？怎样实现的？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提高多层砌体房屋的抗震性能所采取的主要构造措施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如何计算每片墙的地震剪力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如何计算地震层间剪力？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0:11:31Z</dcterms:created>
  <dc:creator>雨薇</dc:creator>
  <dc:description/>
  <dc:language>en-US</dc:language>
  <cp:lastModifiedBy>gk</cp:lastModifiedBy>
  <dcterms:modified xsi:type="dcterms:W3CDTF">2003-10-28T09:44:46Z</dcterms:modified>
  <cp:revision>319</cp:revision>
  <dc:subject/>
  <dc:title>PowerPoint 演示文稿</dc:title>
</cp:coreProperties>
</file>