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1E3-9961-4998-95A1-4EE3DAFA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049-AF95-4EC4-8463-BE01C006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F2C-97BC-4B50-9B66-F7BE9344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F0C-F67E-4F79-A5D3-7898C0C8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C19-17B7-4D54-992D-A96AA6C6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989-0AA5-4912-8D36-741D7133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C770-3226-4000-ADCC-F50FFA22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5D6-ED15-4570-86C5-D863B160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4E2-8B08-4E92-9D45-88716566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6ED-7028-4610-AB52-55447BE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FF9-CF6E-4988-9840-DFAE6F84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FCF-5977-4AF8-9A32-92DD4E32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1763-6DB8-4FDF-9F42-0F620C3472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2193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 水平地震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95280"/>
            <a:ext cx="2895480" cy="60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66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4.6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计算要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952880" y="1371600"/>
            <a:ext cx="1495440" cy="2247480"/>
            <a:chOff x="4952880" y="1371600"/>
            <a:chExt cx="1495440" cy="2247480"/>
          </a:xfrm>
        </p:grpSpPr>
        <p:grpSp>
          <p:nvGrpSpPr>
            <p:cNvPr id="44" name=""/>
            <p:cNvGrpSpPr/>
            <p:nvPr/>
          </p:nvGrpSpPr>
          <p:grpSpPr>
            <a:xfrm>
              <a:off x="5502240" y="3525480"/>
              <a:ext cx="365040" cy="93600"/>
              <a:chOff x="5502240" y="3525480"/>
              <a:chExt cx="365040" cy="93600"/>
            </a:xfrm>
          </p:grpSpPr>
          <p:sp>
            <p:nvSpPr>
              <p:cNvPr id="45" name=""/>
              <p:cNvSpPr/>
              <p:nvPr/>
            </p:nvSpPr>
            <p:spPr>
              <a:xfrm>
                <a:off x="5542560" y="3525480"/>
                <a:ext cx="32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5542560" y="3525480"/>
                <a:ext cx="81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5583240" y="3525480"/>
                <a:ext cx="81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5623920" y="3525480"/>
                <a:ext cx="81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5664600" y="3525480"/>
                <a:ext cx="81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5704920" y="3525480"/>
                <a:ext cx="81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5745600" y="3525480"/>
                <a:ext cx="81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5786280" y="3525480"/>
                <a:ext cx="81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5502240" y="3525480"/>
                <a:ext cx="81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6049800" y="1447560"/>
              <a:ext cx="122400" cy="1249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84760" y="1510920"/>
              <a:ext cx="0" cy="2014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97520" y="2387520"/>
              <a:ext cx="122400" cy="1263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1320" y="2768400"/>
              <a:ext cx="122040" cy="1267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15000" y="3074760"/>
              <a:ext cx="122400" cy="1249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179000">
              <a:off x="5806440" y="313668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43440" y="28954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1904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80080" y="1476000"/>
              <a:ext cx="426960" cy="2054160"/>
            </a:xfrm>
            <a:custGeom>
              <a:avLst/>
              <a:gdLst/>
              <a:ahLst/>
              <a:rect l="l" t="t" r="r" b="b"/>
              <a:pathLst>
                <a:path w="269" h="1294">
                  <a:moveTo>
                    <a:pt x="0" y="1294"/>
                  </a:moveTo>
                  <a:cubicBezTo>
                    <a:pt x="9" y="1253"/>
                    <a:pt x="39" y="1117"/>
                    <a:pt x="56" y="1049"/>
                  </a:cubicBezTo>
                  <a:cubicBezTo>
                    <a:pt x="73" y="981"/>
                    <a:pt x="86" y="935"/>
                    <a:pt x="103" y="883"/>
                  </a:cubicBezTo>
                  <a:cubicBezTo>
                    <a:pt x="120" y="831"/>
                    <a:pt x="142" y="786"/>
                    <a:pt x="158" y="734"/>
                  </a:cubicBezTo>
                  <a:cubicBezTo>
                    <a:pt x="174" y="682"/>
                    <a:pt x="186" y="623"/>
                    <a:pt x="198" y="568"/>
                  </a:cubicBezTo>
                  <a:cubicBezTo>
                    <a:pt x="210" y="513"/>
                    <a:pt x="220" y="458"/>
                    <a:pt x="229" y="402"/>
                  </a:cubicBezTo>
                  <a:cubicBezTo>
                    <a:pt x="238" y="346"/>
                    <a:pt x="246" y="296"/>
                    <a:pt x="253" y="229"/>
                  </a:cubicBezTo>
                  <a:cubicBezTo>
                    <a:pt x="260" y="162"/>
                    <a:pt x="266" y="48"/>
                    <a:pt x="26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9920" y="1752480"/>
              <a:ext cx="122040" cy="1249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73840" y="2057040"/>
              <a:ext cx="122040" cy="1252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72200" y="312408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88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5880" y="35049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24480" y="213336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8520" y="2133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350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179000">
              <a:off x="5959080" y="257472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34120" y="3124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28191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62720" y="2133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38680" y="1828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38680" y="1523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5334120" y="1371600"/>
                  <a:ext cx="33012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4952880" y="2971440"/>
                  <a:ext cx="2858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5257800" y="1981080"/>
                  <a:ext cx="33012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600200" y="1828800"/>
                <a:ext cx="2174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600200" y="3048120"/>
                <a:ext cx="1455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914400" y="4038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 楼层地震剪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562720" y="4495680"/>
            <a:ext cx="1319040" cy="1536840"/>
            <a:chOff x="5562720" y="4495680"/>
            <a:chExt cx="1319040" cy="1536840"/>
          </a:xfrm>
        </p:grpSpPr>
        <p:sp>
          <p:nvSpPr>
            <p:cNvPr id="85" name=""/>
            <p:cNvSpPr/>
            <p:nvPr/>
          </p:nvSpPr>
          <p:spPr>
            <a:xfrm>
              <a:off x="6408720" y="4572000"/>
              <a:ext cx="122400" cy="1252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56440" y="5511960"/>
              <a:ext cx="122040" cy="12672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78480" y="5410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zh-CN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89560" y="4600440"/>
              <a:ext cx="176400" cy="1165320"/>
            </a:xfrm>
            <a:custGeom>
              <a:avLst/>
              <a:gdLst/>
              <a:ahLst/>
              <a:rect l="l" t="t" r="r" b="b"/>
              <a:pathLst>
                <a:path w="111" h="734">
                  <a:moveTo>
                    <a:pt x="0" y="734"/>
                  </a:moveTo>
                  <a:cubicBezTo>
                    <a:pt x="7" y="706"/>
                    <a:pt x="28" y="623"/>
                    <a:pt x="40" y="568"/>
                  </a:cubicBezTo>
                  <a:cubicBezTo>
                    <a:pt x="52" y="513"/>
                    <a:pt x="62" y="458"/>
                    <a:pt x="71" y="402"/>
                  </a:cubicBezTo>
                  <a:cubicBezTo>
                    <a:pt x="80" y="346"/>
                    <a:pt x="88" y="296"/>
                    <a:pt x="95" y="229"/>
                  </a:cubicBezTo>
                  <a:cubicBezTo>
                    <a:pt x="102" y="162"/>
                    <a:pt x="108" y="48"/>
                    <a:pt x="11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78480" y="4876920"/>
              <a:ext cx="122400" cy="12528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32400" y="5181480"/>
              <a:ext cx="122400" cy="12564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73920" y="5867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45320" y="5562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21280" y="5257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97600" y="4952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9760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92680" y="4495680"/>
                  <a:ext cx="33048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5562720" y="5321160"/>
                  <a:ext cx="28548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6616800" y="5715000"/>
                  <a:ext cx="264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959120" y="4854600"/>
                <a:ext cx="14698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"/>
          <p:cNvGrpSpPr/>
          <p:nvPr/>
        </p:nvGrpSpPr>
        <p:grpSpPr>
          <a:xfrm>
            <a:off x="457200" y="304920"/>
            <a:ext cx="8523000" cy="3578040"/>
            <a:chOff x="457200" y="304920"/>
            <a:chExt cx="8523000" cy="3578040"/>
          </a:xfrm>
        </p:grpSpPr>
        <p:grpSp>
          <p:nvGrpSpPr>
            <p:cNvPr id="915" name=""/>
            <p:cNvGrpSpPr/>
            <p:nvPr/>
          </p:nvGrpSpPr>
          <p:grpSpPr>
            <a:xfrm>
              <a:off x="457200" y="304920"/>
              <a:ext cx="8523000" cy="1896480"/>
              <a:chOff x="457200" y="304920"/>
              <a:chExt cx="8523000" cy="1896480"/>
            </a:xfrm>
          </p:grpSpPr>
          <p:sp>
            <p:nvSpPr>
              <p:cNvPr id="916" name=""/>
              <p:cNvSpPr/>
              <p:nvPr/>
            </p:nvSpPr>
            <p:spPr>
              <a:xfrm>
                <a:off x="458640" y="304920"/>
                <a:ext cx="7696080" cy="14475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525320" y="609480"/>
                <a:ext cx="4572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609040" y="601560"/>
                <a:ext cx="1440" cy="115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229600" y="601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534160" y="609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534160" y="1752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22" name=""/>
                  <p:cNvSpPr txBox="1"/>
                  <p:nvPr/>
                </p:nvSpPr>
                <p:spPr>
                  <a:xfrm>
                    <a:off x="8610480" y="906120"/>
                    <a:ext cx="36972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3" name=""/>
                  <p:cNvSpPr txBox="1"/>
                  <p:nvPr/>
                </p:nvSpPr>
                <p:spPr>
                  <a:xfrm>
                    <a:off x="8305560" y="831600"/>
                    <a:ext cx="341280" cy="302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4" name=""/>
                  <p:cNvSpPr txBox="1"/>
                  <p:nvPr/>
                </p:nvSpPr>
                <p:spPr>
                  <a:xfrm>
                    <a:off x="533160" y="1820520"/>
                    <a:ext cx="31284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25" name=""/>
              <p:cNvSpPr/>
              <p:nvPr/>
            </p:nvSpPr>
            <p:spPr>
              <a:xfrm>
                <a:off x="2287440" y="609480"/>
                <a:ext cx="45720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049560" y="609480"/>
                <a:ext cx="4572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87640" y="609480"/>
                <a:ext cx="4572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725720" y="609480"/>
                <a:ext cx="45720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87840" y="609480"/>
                <a:ext cx="45720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325920" y="609480"/>
                <a:ext cx="4572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164360" y="609480"/>
                <a:ext cx="4572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39520" y="609480"/>
                <a:ext cx="4572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33" name=""/>
                  <p:cNvSpPr txBox="1"/>
                  <p:nvPr/>
                </p:nvSpPr>
                <p:spPr>
                  <a:xfrm>
                    <a:off x="588960" y="873000"/>
                    <a:ext cx="198360" cy="23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34" name=""/>
                  <p:cNvSpPr txBox="1"/>
                  <p:nvPr/>
                </p:nvSpPr>
                <p:spPr>
                  <a:xfrm>
                    <a:off x="1295280" y="873000"/>
                    <a:ext cx="284040" cy="23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35" name=""/>
                  <p:cNvSpPr txBox="1"/>
                  <p:nvPr/>
                </p:nvSpPr>
                <p:spPr>
                  <a:xfrm>
                    <a:off x="7785000" y="900000"/>
                    <a:ext cx="255600" cy="19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36" name=""/>
              <p:cNvSpPr/>
              <p:nvPr/>
            </p:nvSpPr>
            <p:spPr>
              <a:xfrm>
                <a:off x="8305560" y="601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229600" y="1287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38" name=""/>
                  <p:cNvSpPr txBox="1"/>
                  <p:nvPr/>
                </p:nvSpPr>
                <p:spPr>
                  <a:xfrm>
                    <a:off x="5230800" y="914040"/>
                    <a:ext cx="255600" cy="177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39" name=""/>
              <p:cNvSpPr/>
              <p:nvPr/>
            </p:nvSpPr>
            <p:spPr>
              <a:xfrm>
                <a:off x="457200" y="21254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200" y="2049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38080" y="2049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295280" y="2125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95280" y="2049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523880" y="2049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181480" y="2125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181480" y="2049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486400" y="2049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696080" y="2125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96080" y="2049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153280" y="2049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1" name=""/>
                  <p:cNvSpPr txBox="1"/>
                  <p:nvPr/>
                </p:nvSpPr>
                <p:spPr>
                  <a:xfrm>
                    <a:off x="1266840" y="1820520"/>
                    <a:ext cx="36972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52" name=""/>
                  <p:cNvSpPr txBox="1"/>
                  <p:nvPr/>
                </p:nvSpPr>
                <p:spPr>
                  <a:xfrm>
                    <a:off x="5195880" y="1820520"/>
                    <a:ext cx="34128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53" name=""/>
                  <p:cNvSpPr txBox="1"/>
                  <p:nvPr/>
                </p:nvSpPr>
                <p:spPr>
                  <a:xfrm>
                    <a:off x="7772400" y="1812600"/>
                    <a:ext cx="341280" cy="32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54" name=""/>
            <p:cNvSpPr/>
            <p:nvPr/>
          </p:nvSpPr>
          <p:spPr>
            <a:xfrm>
              <a:off x="784080" y="2209680"/>
              <a:ext cx="584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道墙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r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墙段所分配的地震剪力为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5" name=""/>
                <p:cNvSpPr txBox="1"/>
                <p:nvPr/>
              </p:nvSpPr>
              <p:spPr>
                <a:xfrm>
                  <a:off x="2590920" y="2803680"/>
                  <a:ext cx="182880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r</m:t>
                              </m:r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s</m:t>
                              </m:r>
                            </m:sup>
                            <m:e/>
                          </m:nary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6" name=""/>
          <p:cNvGrpSpPr/>
          <p:nvPr/>
        </p:nvGrpSpPr>
        <p:grpSpPr>
          <a:xfrm>
            <a:off x="668160" y="3865680"/>
            <a:ext cx="7729560" cy="2340000"/>
            <a:chOff x="668160" y="3865680"/>
            <a:chExt cx="7729560" cy="2340000"/>
          </a:xfrm>
        </p:grpSpPr>
        <mc:AlternateContent>
          <mc:Choice xmlns:a14="http://schemas.microsoft.com/office/drawing/2010/main" Requires="a14">
            <p:sp>
              <p:nvSpPr>
                <p:cNvPr id="957" name=""/>
                <p:cNvSpPr txBox="1"/>
                <p:nvPr/>
              </p:nvSpPr>
              <p:spPr>
                <a:xfrm>
                  <a:off x="934920" y="3951360"/>
                  <a:ext cx="80640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58" name=""/>
            <p:cNvSpPr/>
            <p:nvPr/>
          </p:nvSpPr>
          <p:spPr>
            <a:xfrm>
              <a:off x="1752480" y="386568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道墙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r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墙段所分配的地震剪力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9" name=""/>
                <p:cNvSpPr txBox="1"/>
                <p:nvPr/>
              </p:nvSpPr>
              <p:spPr>
                <a:xfrm>
                  <a:off x="936720" y="4475160"/>
                  <a:ext cx="8064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m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0" name=""/>
            <p:cNvSpPr/>
            <p:nvPr/>
          </p:nvSpPr>
          <p:spPr>
            <a:xfrm>
              <a:off x="1752480" y="439884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层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道墙所分配的地震剪力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1" name=""/>
                <p:cNvSpPr txBox="1"/>
                <p:nvPr/>
              </p:nvSpPr>
              <p:spPr>
                <a:xfrm>
                  <a:off x="914400" y="5019840"/>
                  <a:ext cx="78408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2" name=""/>
            <p:cNvSpPr/>
            <p:nvPr/>
          </p:nvSpPr>
          <p:spPr>
            <a:xfrm>
              <a:off x="1806480" y="493236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道墙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r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墙段侧移刚度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3" name=""/>
                <p:cNvSpPr txBox="1"/>
                <p:nvPr/>
              </p:nvSpPr>
              <p:spPr>
                <a:xfrm>
                  <a:off x="668160" y="5637240"/>
                  <a:ext cx="14893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4" name=""/>
            <p:cNvSpPr/>
            <p:nvPr/>
          </p:nvSpPr>
          <p:spPr>
            <a:xfrm>
              <a:off x="2187000" y="5594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5" name=""/>
                <p:cNvSpPr txBox="1"/>
                <p:nvPr/>
              </p:nvSpPr>
              <p:spPr>
                <a:xfrm>
                  <a:off x="2638440" y="5518080"/>
                  <a:ext cx="1506600" cy="68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Et</m:t>
                          </m:r>
                        </m:num>
                        <m:den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4506840" y="5680080"/>
                  <a:ext cx="11844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7" name=""/>
            <p:cNvSpPr/>
            <p:nvPr/>
          </p:nvSpPr>
          <p:spPr>
            <a:xfrm>
              <a:off x="5691960" y="5594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8" name=""/>
                <p:cNvSpPr txBox="1"/>
                <p:nvPr/>
              </p:nvSpPr>
              <p:spPr>
                <a:xfrm>
                  <a:off x="6081840" y="5486400"/>
                  <a:ext cx="231588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Et</m:t>
                          </m:r>
                        </m:num>
                        <m:den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 墙体截面抗震承载力验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类砌体沿阶梯形截面破坏的抗剪强度设计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3048120" y="1600200"/>
                <a:ext cx="1150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914400" y="2971800"/>
                <a:ext cx="698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1654200" y="225252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非抗震设计的砌体抗剪强度设计值，按《砌体结构设计规范》采用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905040" y="2286000"/>
                <a:ext cx="718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>
            <a:off x="1676520" y="297180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砌体强度正应力影响系数，按下表确定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769000" y="3525840"/>
                <a:ext cx="284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977" name=""/>
          <p:cNvGraphicFramePr/>
          <p:nvPr/>
        </p:nvGraphicFramePr>
        <p:xfrm>
          <a:off x="533520" y="3992400"/>
          <a:ext cx="7848360" cy="1522440"/>
        </p:xfrm>
        <a:graphic>
          <a:graphicData uri="http://schemas.openxmlformats.org/drawingml/2006/table">
            <a:tbl>
              <a:tblPr/>
              <a:tblGrid>
                <a:gridCol w="2286000"/>
                <a:gridCol w="685800"/>
                <a:gridCol w="685800"/>
                <a:gridCol w="685800"/>
                <a:gridCol w="644400"/>
                <a:gridCol w="650880"/>
                <a:gridCol w="685800"/>
                <a:gridCol w="762120"/>
                <a:gridCol w="76176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普通粘土砖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多孔粘土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混凝土小砌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8" name=""/>
          <p:cNvSpPr/>
          <p:nvPr/>
        </p:nvSpPr>
        <p:spPr>
          <a:xfrm>
            <a:off x="533520" y="3992400"/>
            <a:ext cx="2286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砌体类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19520" y="3992400"/>
            <a:ext cx="5562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5181480" y="3992400"/>
                <a:ext cx="685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3209400" y="35053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砌体强度的正应力影响系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1392120" y="5821200"/>
                <a:ext cx="446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4575240" y="588168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为对应与重力荷载代表值的砌体截面平均压应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762120" y="517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粘土砖、多孔砖墙体的截面抗震承载力验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19320" y="10508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验算公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3049560" y="1676520"/>
                <a:ext cx="10652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sub>
                        </m:sSub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7" name=""/>
          <p:cNvGrpSpPr/>
          <p:nvPr/>
        </p:nvGrpSpPr>
        <p:grpSpPr>
          <a:xfrm>
            <a:off x="914400" y="2498760"/>
            <a:ext cx="7859880" cy="2228040"/>
            <a:chOff x="914400" y="2498760"/>
            <a:chExt cx="7859880" cy="2228040"/>
          </a:xfrm>
        </p:grpSpPr>
        <mc:AlternateContent>
          <mc:Choice xmlns:a14="http://schemas.microsoft.com/office/drawing/2010/main" Requires="a14">
            <p:sp>
              <p:nvSpPr>
                <p:cNvPr id="988" name=""/>
                <p:cNvSpPr txBox="1"/>
                <p:nvPr/>
              </p:nvSpPr>
              <p:spPr>
                <a:xfrm>
                  <a:off x="946080" y="2573280"/>
                  <a:ext cx="6318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9" name=""/>
            <p:cNvSpPr/>
            <p:nvPr/>
          </p:nvSpPr>
          <p:spPr>
            <a:xfrm>
              <a:off x="1676520" y="2498760"/>
              <a:ext cx="53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墙体地震剪力设计值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0" name=""/>
                <p:cNvSpPr txBox="1"/>
                <p:nvPr/>
              </p:nvSpPr>
              <p:spPr>
                <a:xfrm>
                  <a:off x="914400" y="3451320"/>
                  <a:ext cx="8287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91" name=""/>
            <p:cNvSpPr/>
            <p:nvPr/>
          </p:nvSpPr>
          <p:spPr>
            <a:xfrm>
              <a:off x="1676520" y="3406680"/>
              <a:ext cx="70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承载力抗震调整系数，对于两端均有构造柱、芯柱的承重墙为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0.9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，其它承重墙为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，自承重墙取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0.75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2" name=""/>
                <p:cNvSpPr txBox="1"/>
                <p:nvPr/>
              </p:nvSpPr>
              <p:spPr>
                <a:xfrm>
                  <a:off x="914400" y="3059280"/>
                  <a:ext cx="63180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93" name=""/>
            <p:cNvSpPr/>
            <p:nvPr/>
          </p:nvSpPr>
          <p:spPr>
            <a:xfrm>
              <a:off x="1730520" y="2971800"/>
              <a:ext cx="634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墙体横截面面积，多孔砖取毛截面面积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4" name=""/>
                <p:cNvSpPr txBox="1"/>
                <p:nvPr/>
              </p:nvSpPr>
              <p:spPr>
                <a:xfrm>
                  <a:off x="925560" y="4267080"/>
                  <a:ext cx="80640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E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95" name=""/>
            <p:cNvSpPr/>
            <p:nvPr/>
          </p:nvSpPr>
          <p:spPr>
            <a:xfrm>
              <a:off x="1741320" y="42670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砌体沿阶梯形截面破坏的抗震抗剪设计值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914400" y="489276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按上式验算不能满足时，除采用配筋砌体的提高承载力外，尚可采用在墙段中部增设构造柱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685800" y="533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计入设置与墙段中部、截面不小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40mm×24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且间距不大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构造柱对承载力的提高作用，按下列简化方法验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343160" y="1839960"/>
                <a:ext cx="5514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≤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ζ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99" name=""/>
          <p:cNvGrpSpPr/>
          <p:nvPr/>
        </p:nvGrpSpPr>
        <p:grpSpPr>
          <a:xfrm>
            <a:off x="838080" y="2498760"/>
            <a:ext cx="7925040" cy="2919240"/>
            <a:chOff x="838080" y="2498760"/>
            <a:chExt cx="7925040" cy="2919240"/>
          </a:xfrm>
        </p:grpSpPr>
        <mc:AlternateContent>
          <mc:Choice xmlns:a14="http://schemas.microsoft.com/office/drawing/2010/main" Requires="a14">
            <p:sp>
              <p:nvSpPr>
                <p:cNvPr id="1000" name=""/>
                <p:cNvSpPr txBox="1"/>
                <p:nvPr/>
              </p:nvSpPr>
              <p:spPr>
                <a:xfrm>
                  <a:off x="903240" y="2530440"/>
                  <a:ext cx="71928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1" name=""/>
            <p:cNvSpPr/>
            <p:nvPr/>
          </p:nvSpPr>
          <p:spPr>
            <a:xfrm>
              <a:off x="1676520" y="2498760"/>
              <a:ext cx="693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中部构造柱的横截面总面积（对于横墙和内纵墙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&gt;0.15A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时，取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0.15A;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对于外纵墙，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&gt;0.25A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时，取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0.25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2" name=""/>
                <p:cNvSpPr txBox="1"/>
                <p:nvPr/>
              </p:nvSpPr>
              <p:spPr>
                <a:xfrm>
                  <a:off x="838080" y="3691080"/>
                  <a:ext cx="72072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3" name=""/>
            <p:cNvSpPr/>
            <p:nvPr/>
          </p:nvSpPr>
          <p:spPr>
            <a:xfrm>
              <a:off x="1676520" y="3656160"/>
              <a:ext cx="449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中部构造柱的纵向钢筋截面总面积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893880" y="3254400"/>
                  <a:ext cx="6746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5" name=""/>
            <p:cNvSpPr/>
            <p:nvPr/>
          </p:nvSpPr>
          <p:spPr>
            <a:xfrm>
              <a:off x="1730520" y="3220920"/>
              <a:ext cx="634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中部构造柱的混凝土轴心抗拉强度设计值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6" name=""/>
                <p:cNvSpPr txBox="1"/>
                <p:nvPr/>
              </p:nvSpPr>
              <p:spPr>
                <a:xfrm>
                  <a:off x="880920" y="4124160"/>
                  <a:ext cx="7192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7" name=""/>
            <p:cNvSpPr/>
            <p:nvPr/>
          </p:nvSpPr>
          <p:spPr>
            <a:xfrm>
              <a:off x="1654200" y="4135320"/>
              <a:ext cx="647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钢筋抗拉强度设计值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8" name=""/>
                <p:cNvSpPr txBox="1"/>
                <p:nvPr/>
              </p:nvSpPr>
              <p:spPr>
                <a:xfrm>
                  <a:off x="892080" y="4613400"/>
                  <a:ext cx="61128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9" name=""/>
            <p:cNvSpPr/>
            <p:nvPr/>
          </p:nvSpPr>
          <p:spPr>
            <a:xfrm>
              <a:off x="1600200" y="4576680"/>
              <a:ext cx="716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中部构造柱参与工作系数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居中设一根时取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0.5,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多于一根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0.4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0" name=""/>
                <p:cNvSpPr txBox="1"/>
                <p:nvPr/>
              </p:nvSpPr>
              <p:spPr>
                <a:xfrm>
                  <a:off x="871560" y="5029200"/>
                  <a:ext cx="69840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η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1" name=""/>
            <p:cNvSpPr/>
            <p:nvPr/>
          </p:nvSpPr>
          <p:spPr>
            <a:xfrm>
              <a:off x="1622520" y="5013360"/>
              <a:ext cx="68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墙体约束修正系数；一般情况取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.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构造柱间距不大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.8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时取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.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7621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平配筋粘土砖、多孔砖墙体的截面抗震承载力验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19320" y="10508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验算公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289240" y="1676520"/>
                <a:ext cx="31971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946080" y="2584440"/>
                <a:ext cx="6318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6" name=""/>
          <p:cNvSpPr/>
          <p:nvPr/>
        </p:nvSpPr>
        <p:spPr>
          <a:xfrm>
            <a:off x="1676520" y="249876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墙体横截面面积，多孔砖取毛截面面积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914400" y="3497400"/>
                <a:ext cx="720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8" name=""/>
          <p:cNvSpPr/>
          <p:nvPr/>
        </p:nvSpPr>
        <p:spPr>
          <a:xfrm>
            <a:off x="1676520" y="34290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层间墙体竖向截面钢筋总截面面积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914400" y="3886200"/>
                <a:ext cx="6969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0" name=""/>
          <p:cNvSpPr/>
          <p:nvPr/>
        </p:nvSpPr>
        <p:spPr>
          <a:xfrm>
            <a:off x="1730520" y="2927520"/>
            <a:ext cx="41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钢筋抗拉强度设计值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880920" y="2971800"/>
                <a:ext cx="7192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2" name=""/>
          <p:cNvSpPr/>
          <p:nvPr/>
        </p:nvSpPr>
        <p:spPr>
          <a:xfrm>
            <a:off x="1600200" y="38862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钢筋参与系数，按下表取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1143000" y="4724280"/>
          <a:ext cx="6477120" cy="73656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990360"/>
                <a:gridCol w="965160"/>
                <a:gridCol w="1079640"/>
                <a:gridCol w="1079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墙体高宽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1778040" y="5105520"/>
                <a:ext cx="2458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762120" y="4572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混凝土小砌块墙体截面抗震承载力验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62120" y="1066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验算公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066680" y="2208240"/>
                <a:ext cx="631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1797120" y="2133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墙体地震剪力设计值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947880" y="2959200"/>
                <a:ext cx="718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0" name=""/>
          <p:cNvSpPr/>
          <p:nvPr/>
        </p:nvSpPr>
        <p:spPr>
          <a:xfrm>
            <a:off x="1806480" y="2925720"/>
            <a:ext cx="48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芯柱截面总面积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1001880" y="3351240"/>
                <a:ext cx="676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1816200" y="251316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芯柱混凝土轴心抗压强度设计值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990720" y="2546280"/>
                <a:ext cx="69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1752480" y="33512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芯柱影响系数，按下表确定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1676520" y="1676520"/>
                <a:ext cx="5273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≤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36" name=""/>
          <p:cNvGraphicFramePr/>
          <p:nvPr/>
        </p:nvGraphicFramePr>
        <p:xfrm>
          <a:off x="1523880" y="4037040"/>
          <a:ext cx="6096240" cy="990360"/>
        </p:xfrm>
        <a:graphic>
          <a:graphicData uri="http://schemas.openxmlformats.org/drawingml/2006/table">
            <a:tbl>
              <a:tblPr/>
              <a:tblGrid>
                <a:gridCol w="1219320"/>
                <a:gridCol w="990720"/>
                <a:gridCol w="1371600"/>
                <a:gridCol w="1295280"/>
                <a:gridCol w="121932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填孔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1873080" y="4570560"/>
                <a:ext cx="2826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2362320" y="4113360"/>
                <a:ext cx="260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2743200" y="4113360"/>
                <a:ext cx="954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3757680" y="4113360"/>
                <a:ext cx="127152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≤</m:t>
                    </m:r>
                    <m:r>
                      <m:t xml:space="preserve">ρ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5154480" y="4113360"/>
                <a:ext cx="11732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≤</m:t>
                    </m:r>
                    <m:r>
                      <m:t xml:space="preserve">ρ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6673680" y="4113360"/>
                <a:ext cx="62712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3" name=""/>
          <p:cNvSpPr/>
          <p:nvPr/>
        </p:nvSpPr>
        <p:spPr>
          <a:xfrm>
            <a:off x="2402640" y="5197320"/>
            <a:ext cx="8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填孔率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芯柱根数与孔洞总数之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762120" y="4730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验算纵、横墙截面抗震承载力时，应选择以下不利墙段进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1447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承受地震作用较大的墙体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竖向正应力较小的墙段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局部截面较小的墙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80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 每片墙的地震剪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914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横墙的地震剪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层的横向地震剪力由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层所有横墙承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828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刚性楼盖房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2860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性楼盖房屋：对于现浇及装配整体式钢筋混凝土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屋）盖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59760" y="2743200"/>
            <a:ext cx="1427040" cy="1980720"/>
            <a:chOff x="7259760" y="2743200"/>
            <a:chExt cx="1427040" cy="1980720"/>
          </a:xfrm>
        </p:grpSpPr>
        <p:sp>
          <p:nvSpPr>
            <p:cNvPr id="106" name=""/>
            <p:cNvSpPr/>
            <p:nvPr/>
          </p:nvSpPr>
          <p:spPr>
            <a:xfrm>
              <a:off x="7412040" y="3429000"/>
              <a:ext cx="99072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259760" y="3276360"/>
              <a:ext cx="1202760" cy="152280"/>
              <a:chOff x="7259760" y="3276360"/>
              <a:chExt cx="1202760" cy="15228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7259760" y="3276360"/>
                <a:ext cx="365040" cy="152280"/>
                <a:chOff x="7259760" y="3276360"/>
                <a:chExt cx="365040" cy="152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300080" y="3428280"/>
                  <a:ext cx="32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30008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34076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3814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42212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4624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50312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54380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25976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564320" y="3276360"/>
                <a:ext cx="364680" cy="152280"/>
                <a:chOff x="7564320" y="3276360"/>
                <a:chExt cx="364680" cy="152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604640" y="342828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046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64532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856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72632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7666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80732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84800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56432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7869240" y="3276360"/>
                <a:ext cx="364680" cy="152280"/>
                <a:chOff x="7869240" y="3276360"/>
                <a:chExt cx="364680" cy="152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909560" y="342828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90956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9502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99056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0312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07156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1122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15292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692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8097840" y="3276360"/>
                <a:ext cx="364680" cy="152280"/>
                <a:chOff x="8097840" y="3276360"/>
                <a:chExt cx="364680" cy="152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138160" y="342828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13816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1788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21916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2598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30016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3408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38152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097840" y="3276360"/>
                  <a:ext cx="8100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7259760" y="4572000"/>
              <a:ext cx="1202760" cy="151920"/>
              <a:chOff x="7259760" y="4572000"/>
              <a:chExt cx="1202760" cy="1519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7259760" y="4572000"/>
                <a:ext cx="365040" cy="151920"/>
                <a:chOff x="7259760" y="4572000"/>
                <a:chExt cx="365040" cy="1519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300080" y="4572000"/>
                  <a:ext cx="32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730008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734076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73814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742212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74624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750312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754380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725976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7564320" y="4572000"/>
                <a:ext cx="364680" cy="151920"/>
                <a:chOff x="7564320" y="4572000"/>
                <a:chExt cx="364680" cy="1519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7604640" y="457200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76046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764532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76856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772632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77666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780732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784800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756432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869240" y="4572000"/>
                <a:ext cx="364680" cy="151920"/>
                <a:chOff x="7869240" y="4572000"/>
                <a:chExt cx="364680" cy="1519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909560" y="457200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790956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79502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799056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80312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807156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81122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815292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78692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8097840" y="4572000"/>
                <a:ext cx="364680" cy="151920"/>
                <a:chOff x="8097840" y="4572000"/>
                <a:chExt cx="364680" cy="1519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8138160" y="457200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813816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81788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821916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82598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830016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83408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838152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8097840" y="457200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 flipV="1">
              <a:off x="8402760" y="3428640"/>
              <a:ext cx="228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412040" y="3428640"/>
              <a:ext cx="228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840240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12040" y="3047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40640" y="3047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1204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02760" y="3047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31360" y="3047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0276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412040" y="2786040"/>
                  <a:ext cx="28404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8402760" y="2743200"/>
                  <a:ext cx="28404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0" name=""/>
          <p:cNvGrpSpPr/>
          <p:nvPr/>
        </p:nvGrpSpPr>
        <p:grpSpPr>
          <a:xfrm>
            <a:off x="3678120" y="3200400"/>
            <a:ext cx="3048120" cy="1633680"/>
            <a:chOff x="3678120" y="3200400"/>
            <a:chExt cx="3048120" cy="1633680"/>
          </a:xfrm>
        </p:grpSpPr>
        <p:sp>
          <p:nvSpPr>
            <p:cNvPr id="201" name=""/>
            <p:cNvSpPr/>
            <p:nvPr/>
          </p:nvSpPr>
          <p:spPr>
            <a:xfrm>
              <a:off x="4211640" y="3276720"/>
              <a:ext cx="251460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87960" y="3352680"/>
              <a:ext cx="53316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97440" y="3352680"/>
              <a:ext cx="5335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06920" y="3352680"/>
              <a:ext cx="5335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6760" y="3352680"/>
              <a:ext cx="53316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11640" y="3505320"/>
              <a:ext cx="25146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11640" y="480060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83040" y="3276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83040" y="3505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5936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3678120" y="3200400"/>
                  <a:ext cx="28440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>
              <a:off x="3983040" y="4572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83040" y="4800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593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678120" y="4495680"/>
                  <a:ext cx="28440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3754440" y="4952880"/>
            <a:ext cx="3484440" cy="1676520"/>
            <a:chOff x="3754440" y="4952880"/>
            <a:chExt cx="3484440" cy="1676520"/>
          </a:xfrm>
        </p:grpSpPr>
        <p:sp>
          <p:nvSpPr>
            <p:cNvPr id="217" name=""/>
            <p:cNvSpPr/>
            <p:nvPr/>
          </p:nvSpPr>
          <p:spPr>
            <a:xfrm>
              <a:off x="680256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02560" y="5867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7852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6954840" y="5562720"/>
                  <a:ext cx="28404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>
              <a:off x="4211640" y="5410080"/>
              <a:ext cx="2514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4123440" y="5633280"/>
              <a:ext cx="175680" cy="315360"/>
              <a:chOff x="4123440" y="5633280"/>
              <a:chExt cx="175680" cy="315360"/>
            </a:xfrm>
          </p:grpSpPr>
          <p:sp>
            <p:nvSpPr>
              <p:cNvPr id="223" name=""/>
              <p:cNvSpPr/>
              <p:nvPr/>
            </p:nvSpPr>
            <p:spPr>
              <a:xfrm flipH="1" flipV="1">
                <a:off x="4129200" y="5861160"/>
                <a:ext cx="15192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129560" y="5796720"/>
                <a:ext cx="15768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4135320" y="578520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4135680" y="5720760"/>
                <a:ext cx="15768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4141080" y="5708880"/>
                <a:ext cx="1519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4141440" y="5644800"/>
                <a:ext cx="157680" cy="6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4146840" y="5633280"/>
                <a:ext cx="15192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23800" y="5937120"/>
                <a:ext cx="15192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123440" y="5873040"/>
                <a:ext cx="157680" cy="6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733640" y="5630400"/>
              <a:ext cx="174960" cy="315360"/>
              <a:chOff x="4733640" y="5630400"/>
              <a:chExt cx="174960" cy="315360"/>
            </a:xfrm>
          </p:grpSpPr>
          <p:sp>
            <p:nvSpPr>
              <p:cNvPr id="233" name=""/>
              <p:cNvSpPr/>
              <p:nvPr/>
            </p:nvSpPr>
            <p:spPr>
              <a:xfrm flipH="1" flipV="1">
                <a:off x="4739400" y="585828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4739400" y="5793840"/>
                <a:ext cx="15732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flipV="1">
                <a:off x="4745520" y="5782320"/>
                <a:ext cx="1512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4745520" y="5717880"/>
                <a:ext cx="15732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flipV="1">
                <a:off x="4751280" y="570636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751280" y="5641920"/>
                <a:ext cx="15732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4757040" y="563040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733640" y="593424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733640" y="5870160"/>
                <a:ext cx="15732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5343120" y="5630400"/>
              <a:ext cx="174960" cy="315360"/>
              <a:chOff x="5343120" y="5630400"/>
              <a:chExt cx="174960" cy="315360"/>
            </a:xfrm>
          </p:grpSpPr>
          <p:sp>
            <p:nvSpPr>
              <p:cNvPr id="243" name=""/>
              <p:cNvSpPr/>
              <p:nvPr/>
            </p:nvSpPr>
            <p:spPr>
              <a:xfrm flipH="1" flipV="1">
                <a:off x="5348880" y="585828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5348880" y="5793840"/>
                <a:ext cx="15732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5355000" y="5782320"/>
                <a:ext cx="1512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5355000" y="5717880"/>
                <a:ext cx="15732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5360760" y="570636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360760" y="5641920"/>
                <a:ext cx="15732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5366520" y="563040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43120" y="593424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5343120" y="5870160"/>
                <a:ext cx="15732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952240" y="5630400"/>
              <a:ext cx="175680" cy="315360"/>
              <a:chOff x="5952240" y="5630400"/>
              <a:chExt cx="175680" cy="315360"/>
            </a:xfrm>
          </p:grpSpPr>
          <p:sp>
            <p:nvSpPr>
              <p:cNvPr id="253" name=""/>
              <p:cNvSpPr/>
              <p:nvPr/>
            </p:nvSpPr>
            <p:spPr>
              <a:xfrm flipH="1" flipV="1">
                <a:off x="5958000" y="5858280"/>
                <a:ext cx="15192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5958360" y="5793840"/>
                <a:ext cx="15768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5964120" y="578232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5964480" y="5717880"/>
                <a:ext cx="15768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5969880" y="5706000"/>
                <a:ext cx="1519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5970240" y="5641920"/>
                <a:ext cx="157680" cy="6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5975640" y="5630400"/>
                <a:ext cx="15192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952600" y="5934240"/>
                <a:ext cx="15192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5952240" y="5870160"/>
                <a:ext cx="157680" cy="6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562440" y="5630400"/>
              <a:ext cx="174960" cy="315360"/>
              <a:chOff x="6562440" y="5630400"/>
              <a:chExt cx="174960" cy="315360"/>
            </a:xfrm>
          </p:grpSpPr>
          <p:sp>
            <p:nvSpPr>
              <p:cNvPr id="263" name=""/>
              <p:cNvSpPr/>
              <p:nvPr/>
            </p:nvSpPr>
            <p:spPr>
              <a:xfrm flipH="1" flipV="1">
                <a:off x="6568200" y="585828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6568200" y="5793840"/>
                <a:ext cx="15732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flipV="1">
                <a:off x="6574320" y="5782320"/>
                <a:ext cx="1512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6574320" y="5717880"/>
                <a:ext cx="15732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6580080" y="570636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580080" y="5641920"/>
                <a:ext cx="15732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6585840" y="563040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562440" y="5934240"/>
                <a:ext cx="151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6562440" y="5870160"/>
                <a:ext cx="15732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983040" y="5943240"/>
              <a:ext cx="365040" cy="152280"/>
              <a:chOff x="3983040" y="5943240"/>
              <a:chExt cx="365040" cy="152280"/>
            </a:xfrm>
          </p:grpSpPr>
          <p:sp>
            <p:nvSpPr>
              <p:cNvPr id="273" name=""/>
              <p:cNvSpPr/>
              <p:nvPr/>
            </p:nvSpPr>
            <p:spPr>
              <a:xfrm>
                <a:off x="4023360" y="5943600"/>
                <a:ext cx="32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402336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406404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410472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414540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418572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422640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426708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98304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592520" y="5943240"/>
              <a:ext cx="365400" cy="152280"/>
              <a:chOff x="4592520" y="5943240"/>
              <a:chExt cx="365400" cy="152280"/>
            </a:xfrm>
          </p:grpSpPr>
          <p:sp>
            <p:nvSpPr>
              <p:cNvPr id="283" name=""/>
              <p:cNvSpPr/>
              <p:nvPr/>
            </p:nvSpPr>
            <p:spPr>
              <a:xfrm>
                <a:off x="4633200" y="5943600"/>
                <a:ext cx="32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63320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673520" y="5943240"/>
                <a:ext cx="813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471420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75488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4795200" y="5943240"/>
                <a:ext cx="813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83588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487656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59252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202360" y="5943240"/>
              <a:ext cx="365040" cy="152280"/>
              <a:chOff x="5202360" y="5943240"/>
              <a:chExt cx="365040" cy="152280"/>
            </a:xfrm>
          </p:grpSpPr>
          <p:sp>
            <p:nvSpPr>
              <p:cNvPr id="293" name=""/>
              <p:cNvSpPr/>
              <p:nvPr/>
            </p:nvSpPr>
            <p:spPr>
              <a:xfrm>
                <a:off x="5242680" y="5943600"/>
                <a:ext cx="32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524268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528336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532404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36472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0504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44572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548640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520236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6421320" y="5943240"/>
              <a:ext cx="365400" cy="152280"/>
              <a:chOff x="6421320" y="5943240"/>
              <a:chExt cx="365400" cy="152280"/>
            </a:xfrm>
          </p:grpSpPr>
          <p:sp>
            <p:nvSpPr>
              <p:cNvPr id="303" name=""/>
              <p:cNvSpPr/>
              <p:nvPr/>
            </p:nvSpPr>
            <p:spPr>
              <a:xfrm>
                <a:off x="6462000" y="5943600"/>
                <a:ext cx="32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46200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502320" y="5943240"/>
                <a:ext cx="813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654300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58368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624000" y="5943240"/>
                <a:ext cx="813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666468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670536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642132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811840" y="5943240"/>
              <a:ext cx="365040" cy="152280"/>
              <a:chOff x="5811840" y="5943240"/>
              <a:chExt cx="365040" cy="152280"/>
            </a:xfrm>
          </p:grpSpPr>
          <p:sp>
            <p:nvSpPr>
              <p:cNvPr id="313" name=""/>
              <p:cNvSpPr/>
              <p:nvPr/>
            </p:nvSpPr>
            <p:spPr>
              <a:xfrm>
                <a:off x="5852160" y="5943600"/>
                <a:ext cx="32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85216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589284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93352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597420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601452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05520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609588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811840" y="5943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211640" y="58672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11640" y="60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21120" y="60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0440" y="609588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30960" y="609588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49920" y="609588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30960" y="5029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3754440" y="6291360"/>
                  <a:ext cx="28404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4498920" y="6291360"/>
                  <a:ext cx="31932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734160" y="6291360"/>
                  <a:ext cx="3016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5533920" y="4952880"/>
                  <a:ext cx="24768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9480" y="2895480"/>
                <a:ext cx="11732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133720" y="3048120"/>
                <a:ext cx="11300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295280" y="3581280"/>
                <a:ext cx="14353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219320" y="4343400"/>
                <a:ext cx="15001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95280" y="5410080"/>
                <a:ext cx="1567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m</m:t>
                                </m:r>
                              </m:sub>
                            </m:sSub>
                          </m:e>
                        </m:nary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0948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墙体侧移刚度的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9907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无洞墙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1600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/b&lt;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447920" y="2209680"/>
                <a:ext cx="1295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γ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708280" y="1989000"/>
                <a:ext cx="11779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ξ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3" name=""/>
          <p:cNvGrpSpPr/>
          <p:nvPr/>
        </p:nvGrpSpPr>
        <p:grpSpPr>
          <a:xfrm>
            <a:off x="5410080" y="762120"/>
            <a:ext cx="3484800" cy="2516040"/>
            <a:chOff x="5410080" y="762120"/>
            <a:chExt cx="3484800" cy="2516040"/>
          </a:xfrm>
        </p:grpSpPr>
        <p:sp>
          <p:nvSpPr>
            <p:cNvPr id="344" name=""/>
            <p:cNvSpPr/>
            <p:nvPr/>
          </p:nvSpPr>
          <p:spPr>
            <a:xfrm>
              <a:off x="6340320" y="1371600"/>
              <a:ext cx="158616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6095880" y="1219320"/>
              <a:ext cx="1926360" cy="151920"/>
              <a:chOff x="6095880" y="1219320"/>
              <a:chExt cx="1926360" cy="15192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095880" y="1219320"/>
                <a:ext cx="584640" cy="151920"/>
                <a:chOff x="6095880" y="1219320"/>
                <a:chExt cx="584640" cy="1519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160680" y="1371240"/>
                  <a:ext cx="519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16068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225480" y="121932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29064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35580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420600" y="121932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48576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5092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09588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584040" y="1219320"/>
                <a:ext cx="583920" cy="151920"/>
                <a:chOff x="6584040" y="1219320"/>
                <a:chExt cx="583920" cy="1519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648840" y="1371240"/>
                  <a:ext cx="519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4884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713640" y="121932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77880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4360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908400" y="121932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97356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03836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8404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072200" y="1219320"/>
                <a:ext cx="583920" cy="151920"/>
                <a:chOff x="7072200" y="1219320"/>
                <a:chExt cx="583920" cy="151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137000" y="1371240"/>
                  <a:ext cx="519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13700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201800" y="121932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26696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33176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396560" y="121932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6172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52652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07220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438320" y="1219320"/>
                <a:ext cx="583920" cy="151920"/>
                <a:chOff x="7438320" y="1219320"/>
                <a:chExt cx="583920" cy="1519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503120" y="1371240"/>
                  <a:ext cx="519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50312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567920" y="121932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63308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69788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762680" y="121932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82784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89264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438320" y="121932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6" name=""/>
            <p:cNvGrpSpPr/>
            <p:nvPr/>
          </p:nvGrpSpPr>
          <p:grpSpPr>
            <a:xfrm>
              <a:off x="6095880" y="2514600"/>
              <a:ext cx="1926360" cy="151920"/>
              <a:chOff x="6095880" y="2514600"/>
              <a:chExt cx="1926360" cy="1519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6095880" y="2514600"/>
                <a:ext cx="584640" cy="151920"/>
                <a:chOff x="6095880" y="2514600"/>
                <a:chExt cx="584640" cy="151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160680" y="2514600"/>
                  <a:ext cx="519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616068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V="1">
                  <a:off x="6225480" y="251460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29064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635580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420600" y="251460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648576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55092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609588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584040" y="2514600"/>
                <a:ext cx="583920" cy="151920"/>
                <a:chOff x="6584040" y="2514600"/>
                <a:chExt cx="583920" cy="151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648840" y="2514600"/>
                  <a:ext cx="519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664884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6713640" y="251460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677880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684360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908400" y="251460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697356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03836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658404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7072200" y="2514600"/>
                <a:ext cx="583920" cy="151920"/>
                <a:chOff x="7072200" y="2514600"/>
                <a:chExt cx="583920" cy="15192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7137000" y="2514600"/>
                  <a:ext cx="519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713700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7201800" y="251460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726696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733176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7396560" y="251460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746172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752652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707220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7438320" y="2514600"/>
                <a:ext cx="583920" cy="151920"/>
                <a:chOff x="7438320" y="2514600"/>
                <a:chExt cx="583920" cy="1519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7503120" y="2514600"/>
                  <a:ext cx="519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750312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7567920" y="251460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763308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769788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7762680" y="2514600"/>
                  <a:ext cx="12996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782784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789264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7438320" y="2514600"/>
                  <a:ext cx="1296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7" name=""/>
            <p:cNvSpPr/>
            <p:nvPr/>
          </p:nvSpPr>
          <p:spPr>
            <a:xfrm flipV="1">
              <a:off x="7926480" y="1371240"/>
              <a:ext cx="3664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340320" y="1371240"/>
              <a:ext cx="3654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926480" y="137160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40320" y="99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5720" y="99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40320" y="106668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6480" y="99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92960" y="99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26480" y="106668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6410160" y="773280"/>
                  <a:ext cx="31284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993080" y="762120"/>
                  <a:ext cx="31284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6324480" y="28954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610480" y="13716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24480" y="281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281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534520" y="1371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34520" y="251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4" name=""/>
                <p:cNvSpPr txBox="1"/>
                <p:nvPr/>
              </p:nvSpPr>
              <p:spPr>
                <a:xfrm>
                  <a:off x="8610480" y="1828800"/>
                  <a:ext cx="28440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7010280" y="2666880"/>
                  <a:ext cx="284400" cy="24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6" name=""/>
            <p:cNvSpPr/>
            <p:nvPr/>
          </p:nvSpPr>
          <p:spPr>
            <a:xfrm>
              <a:off x="5562720" y="1371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5410080" y="1447920"/>
                  <a:ext cx="68580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8" name=""/>
            <p:cNvSpPr/>
            <p:nvPr/>
          </p:nvSpPr>
          <p:spPr>
            <a:xfrm>
              <a:off x="6324480" y="3124080"/>
              <a:ext cx="1600200" cy="152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5328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53280" y="3124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53280" y="3276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8272440" y="3065400"/>
                  <a:ext cx="19836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685800" y="2895480"/>
                <a:ext cx="5181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,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441440" y="3360600"/>
                <a:ext cx="15303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352680" y="3352680"/>
                <a:ext cx="1490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581040" y="4343400"/>
            <a:ext cx="1672200" cy="459720"/>
            <a:chOff x="581040" y="4343400"/>
            <a:chExt cx="1672200" cy="459720"/>
          </a:xfrm>
        </p:grpSpPr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581040" y="4417920"/>
                  <a:ext cx="132408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≤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8" name=""/>
            <p:cNvSpPr/>
            <p:nvPr/>
          </p:nvSpPr>
          <p:spPr>
            <a:xfrm>
              <a:off x="1889640" y="434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990720" y="4876920"/>
                <a:ext cx="27432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ξ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066680" y="5867280"/>
                <a:ext cx="1695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5181480" y="3962520"/>
                <a:ext cx="31356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ρ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5183280" y="4495680"/>
                <a:ext cx="22082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ρ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3" name=""/>
          <p:cNvGrpSpPr/>
          <p:nvPr/>
        </p:nvGrpSpPr>
        <p:grpSpPr>
          <a:xfrm>
            <a:off x="4902120" y="5486400"/>
            <a:ext cx="1389960" cy="459720"/>
            <a:chOff x="4902120" y="5486400"/>
            <a:chExt cx="1389960" cy="459720"/>
          </a:xfrm>
        </p:grpSpPr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4902120" y="5562720"/>
                  <a:ext cx="111780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5" name=""/>
            <p:cNvSpPr/>
            <p:nvPr/>
          </p:nvSpPr>
          <p:spPr>
            <a:xfrm>
              <a:off x="592848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705720" y="5562720"/>
                <a:ext cx="99684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0948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有洞墙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48520" y="838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规则洞口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871800" y="1143000"/>
            <a:ext cx="5119920" cy="2057400"/>
            <a:chOff x="3871800" y="1143000"/>
            <a:chExt cx="5119920" cy="2057400"/>
          </a:xfrm>
        </p:grpSpPr>
        <p:sp>
          <p:nvSpPr>
            <p:cNvPr id="470" name=""/>
            <p:cNvSpPr/>
            <p:nvPr/>
          </p:nvSpPr>
          <p:spPr>
            <a:xfrm>
              <a:off x="4572000" y="1752840"/>
              <a:ext cx="3581280" cy="1447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20574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9400" y="20574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91320" y="20574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91520" y="20574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8153280" y="1752480"/>
              <a:ext cx="5335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153280" y="1752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48720" y="2057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487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91120" y="175284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14800" y="1752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14800" y="2057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14800" y="2743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14800" y="3200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8305920" y="1447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8534520" y="1447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8686800" y="1447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8153280" y="1447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77320" y="1524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9" name=""/>
                <p:cNvSpPr txBox="1"/>
                <p:nvPr/>
              </p:nvSpPr>
              <p:spPr>
                <a:xfrm>
                  <a:off x="8012160" y="1143000"/>
                  <a:ext cx="36972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8288280" y="1143000"/>
                  <a:ext cx="39852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8593200" y="1143000"/>
                  <a:ext cx="398520" cy="32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3871800" y="2210040"/>
                  <a:ext cx="3700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3886200" y="2819520"/>
                  <a:ext cx="3412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886200" y="1744920"/>
                  <a:ext cx="36972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838080" y="1295280"/>
                <a:ext cx="2708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1295280" y="1752480"/>
                <a:ext cx="1319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413000" y="2514600"/>
                <a:ext cx="17110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886200" y="3505320"/>
                <a:ext cx="32050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num>
                      <m:den>
                        <m:r>
                          <m:t xml:space="preserve">3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m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、</m:t>
                          </m:r>
                          <m:r>
                            <m:t xml:space="preserve">3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1263960" y="365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于水平实心墙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76400" y="4419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于窗间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666880" y="4267080"/>
                <a:ext cx="32403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r</m:t>
                            </m:r>
                          </m:sub>
                        </m:sSub>
                      </m:e>
                    </m:nary>
                    <m:m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615960" y="5257800"/>
            <a:ext cx="3498840" cy="687240"/>
            <a:chOff x="615960" y="5257800"/>
            <a:chExt cx="3498840" cy="687240"/>
          </a:xfrm>
        </p:grpSpPr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615960" y="5365800"/>
                  <a:ext cx="15937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r</m:t>
                          </m: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r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r</m:t>
                              </m:r>
                            </m:sub>
                          </m:sSub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"/>
            <p:cNvSpPr/>
            <p:nvPr/>
          </p:nvSpPr>
          <p:spPr>
            <a:xfrm>
              <a:off x="2187000" y="5334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2666880" y="5257800"/>
                  <a:ext cx="144792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Et</m:t>
                          </m:r>
                        </m:num>
                        <m:den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r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6" name=""/>
          <p:cNvGrpSpPr/>
          <p:nvPr/>
        </p:nvGrpSpPr>
        <p:grpSpPr>
          <a:xfrm>
            <a:off x="4495680" y="5226120"/>
            <a:ext cx="3886200" cy="717480"/>
            <a:chOff x="4495680" y="5226120"/>
            <a:chExt cx="3886200" cy="717480"/>
          </a:xfrm>
        </p:grpSpPr>
        <mc:AlternateContent>
          <mc:Choice xmlns:a14="http://schemas.microsoft.com/office/drawing/2010/main" Requires="a14">
            <p:sp>
              <p:nvSpPr>
                <p:cNvPr id="507" name=""/>
                <p:cNvSpPr txBox="1"/>
                <p:nvPr/>
              </p:nvSpPr>
              <p:spPr>
                <a:xfrm>
                  <a:off x="4495680" y="5410080"/>
                  <a:ext cx="12067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r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8" name=""/>
            <p:cNvSpPr/>
            <p:nvPr/>
          </p:nvSpPr>
          <p:spPr>
            <a:xfrm>
              <a:off x="5691960" y="5334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6095880" y="5226120"/>
                  <a:ext cx="228600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Et</m:t>
                          </m:r>
                        </m:num>
                        <m:den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r</m:t>
                              </m:r>
                            </m:sub>
                          </m:sSub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r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201680" y="380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规则洞口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78720" y="990720"/>
            <a:ext cx="8384400" cy="2190600"/>
            <a:chOff x="378720" y="990720"/>
            <a:chExt cx="8384400" cy="2190600"/>
          </a:xfrm>
        </p:grpSpPr>
        <p:sp>
          <p:nvSpPr>
            <p:cNvPr id="512" name=""/>
            <p:cNvSpPr/>
            <p:nvPr/>
          </p:nvSpPr>
          <p:spPr>
            <a:xfrm>
              <a:off x="380880" y="998640"/>
              <a:ext cx="7696440" cy="1447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47920" y="130356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686800" y="9986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610480" y="9986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610480" y="13035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10480" y="19893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610480" y="24465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9" name=""/>
                <p:cNvSpPr txBox="1"/>
                <p:nvPr/>
              </p:nvSpPr>
              <p:spPr>
                <a:xfrm>
                  <a:off x="8367840" y="1455840"/>
                  <a:ext cx="369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8381880" y="2065320"/>
                  <a:ext cx="34128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8381880" y="990720"/>
                  <a:ext cx="37008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"/>
            <p:cNvSpPr/>
            <p:nvPr/>
          </p:nvSpPr>
          <p:spPr>
            <a:xfrm>
              <a:off x="2209680" y="1303560"/>
              <a:ext cx="4572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71800" y="130356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09880" y="130356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48320" y="1303560"/>
              <a:ext cx="4572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10080" y="1303560"/>
              <a:ext cx="4572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48520" y="130356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86600" y="130356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2120" y="130356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0880" y="130356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0880" y="198936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1066680" y="2751120"/>
                  <a:ext cx="57636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q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33" name=""/>
            <p:cNvSpPr/>
            <p:nvPr/>
          </p:nvSpPr>
          <p:spPr>
            <a:xfrm rot="16241400">
              <a:off x="1220760" y="1763280"/>
              <a:ext cx="145800" cy="1828800"/>
            </a:xfrm>
            <a:custGeom>
              <a:avLst/>
              <a:gdLst>
                <a:gd name="textAreaLeft" fmla="*/ 93240 w 145800"/>
                <a:gd name="textAreaRight" fmla="*/ 146160 w 1458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41400">
              <a:off x="3583080" y="1687320"/>
              <a:ext cx="145800" cy="1981080"/>
            </a:xfrm>
            <a:custGeom>
              <a:avLst/>
              <a:gdLst>
                <a:gd name="textAreaLeft" fmla="*/ 93240 w 145800"/>
                <a:gd name="textAreaRight" fmla="*/ 146160 w 1458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6241400">
              <a:off x="6897600" y="1572840"/>
              <a:ext cx="145800" cy="2209680"/>
            </a:xfrm>
            <a:custGeom>
              <a:avLst/>
              <a:gdLst>
                <a:gd name="textAreaLeft" fmla="*/ 93240 w 145800"/>
                <a:gd name="textAreaRight" fmla="*/ 146160 w 14580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6241400">
              <a:off x="5219640" y="2560320"/>
              <a:ext cx="75960" cy="30456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7" name=""/>
                <p:cNvSpPr txBox="1"/>
                <p:nvPr/>
              </p:nvSpPr>
              <p:spPr>
                <a:xfrm>
                  <a:off x="3368520" y="2751120"/>
                  <a:ext cx="61308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q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8" name=""/>
                <p:cNvSpPr txBox="1"/>
                <p:nvPr/>
              </p:nvSpPr>
              <p:spPr>
                <a:xfrm>
                  <a:off x="4952880" y="2751120"/>
                  <a:ext cx="61272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q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6629400" y="2751120"/>
                  <a:ext cx="61272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q</m:t>
                          </m:r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1066680" y="2065320"/>
                  <a:ext cx="42732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1" name=""/>
                <p:cNvSpPr txBox="1"/>
                <p:nvPr/>
              </p:nvSpPr>
              <p:spPr>
                <a:xfrm>
                  <a:off x="6705720" y="2065320"/>
                  <a:ext cx="455400" cy="32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3429000" y="2065320"/>
                  <a:ext cx="4557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382680" y="153216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1192320" y="1532160"/>
                  <a:ext cx="4842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1878120" y="1532160"/>
                  <a:ext cx="48420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2639880" y="1532160"/>
                  <a:ext cx="48420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3429000" y="1532160"/>
                  <a:ext cx="48420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4267080" y="1532160"/>
                  <a:ext cx="48420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6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5867280" y="1532160"/>
                  <a:ext cx="48420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6754680" y="1532160"/>
                  <a:ext cx="48420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7593120" y="1532160"/>
                  <a:ext cx="48420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3962520" y="998640"/>
                  <a:ext cx="36972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762120" y="3124080"/>
                <a:ext cx="49496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730080" y="4495680"/>
                <a:ext cx="33562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4545000" y="4491000"/>
                <a:ext cx="34117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6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703440" y="5405400"/>
                <a:ext cx="34113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9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80880" y="304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柔性楼盖房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0720" y="762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柔性楼盖：木结构等楼（屋）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600200" y="3733920"/>
                <a:ext cx="13716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60" name=""/>
          <p:cNvGrpSpPr/>
          <p:nvPr/>
        </p:nvGrpSpPr>
        <p:grpSpPr>
          <a:xfrm>
            <a:off x="3633840" y="957240"/>
            <a:ext cx="5097240" cy="2090880"/>
            <a:chOff x="3633840" y="957240"/>
            <a:chExt cx="5097240" cy="2090880"/>
          </a:xfrm>
        </p:grpSpPr>
        <p:sp>
          <p:nvSpPr>
            <p:cNvPr id="561" name=""/>
            <p:cNvSpPr/>
            <p:nvPr/>
          </p:nvSpPr>
          <p:spPr>
            <a:xfrm>
              <a:off x="7412040" y="1643040"/>
              <a:ext cx="99072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7259760" y="1490760"/>
              <a:ext cx="1202760" cy="151920"/>
              <a:chOff x="7259760" y="1490760"/>
              <a:chExt cx="1202760" cy="15192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7259760" y="1490760"/>
                <a:ext cx="365040" cy="151920"/>
                <a:chOff x="7259760" y="1490760"/>
                <a:chExt cx="365040" cy="15192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300080" y="1642680"/>
                  <a:ext cx="32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30008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34076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3814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42212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4624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50312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4380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25976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7564320" y="1490760"/>
                <a:ext cx="364680" cy="151920"/>
                <a:chOff x="7564320" y="1490760"/>
                <a:chExt cx="364680" cy="1519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7604640" y="164268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6046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64532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6856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72632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7666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80732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84800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56432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7869240" y="1490760"/>
                <a:ext cx="364680" cy="151920"/>
                <a:chOff x="7869240" y="1490760"/>
                <a:chExt cx="364680" cy="1519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7909560" y="164268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90956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9502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99056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0312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07156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1122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15292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8692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8097840" y="1490760"/>
                <a:ext cx="364680" cy="151920"/>
                <a:chOff x="8097840" y="1490760"/>
                <a:chExt cx="364680" cy="1519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8138160" y="164268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813816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1788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821916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2598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30016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3408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38152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097840" y="149076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7259760" y="2786040"/>
              <a:ext cx="1202760" cy="151920"/>
              <a:chOff x="7259760" y="2786040"/>
              <a:chExt cx="1202760" cy="15192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7259760" y="2786040"/>
                <a:ext cx="365040" cy="151920"/>
                <a:chOff x="7259760" y="2786040"/>
                <a:chExt cx="365040" cy="1519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7300080" y="2786040"/>
                  <a:ext cx="32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730008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734076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73814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V="1">
                  <a:off x="742212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74624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V="1">
                  <a:off x="750312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754380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V="1">
                  <a:off x="725976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7564320" y="2786040"/>
                <a:ext cx="364680" cy="151920"/>
                <a:chOff x="7564320" y="2786040"/>
                <a:chExt cx="364680" cy="15192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7604640" y="278604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76046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764532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76856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772632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77666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780732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784800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756432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869240" y="2786040"/>
                <a:ext cx="364680" cy="151920"/>
                <a:chOff x="7869240" y="2786040"/>
                <a:chExt cx="364680" cy="1519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909560" y="278604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790956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79502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799056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V="1">
                  <a:off x="80312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V="1">
                  <a:off x="807156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81122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815292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V="1">
                  <a:off x="78692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8097840" y="2786040"/>
                <a:ext cx="364680" cy="151920"/>
                <a:chOff x="8097840" y="2786040"/>
                <a:chExt cx="364680" cy="1519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8138160" y="278604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813816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81788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821916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>
                  <a:off x="82598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830016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V="1">
                  <a:off x="83408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838152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V="1">
                  <a:off x="8097840" y="2786040"/>
                  <a:ext cx="8100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4" name=""/>
            <p:cNvSpPr/>
            <p:nvPr/>
          </p:nvSpPr>
          <p:spPr>
            <a:xfrm flipV="1">
              <a:off x="8402760" y="1642680"/>
              <a:ext cx="228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412040" y="1642680"/>
              <a:ext cx="228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8402400" y="16430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1262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40640" y="1262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12040" y="1338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402760" y="1262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631360" y="1262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402760" y="1338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3" name=""/>
                <p:cNvSpPr txBox="1"/>
                <p:nvPr/>
              </p:nvSpPr>
              <p:spPr>
                <a:xfrm>
                  <a:off x="7399440" y="957240"/>
                  <a:ext cx="3729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8358120" y="957240"/>
                  <a:ext cx="3729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"/>
            <p:cNvSpPr/>
            <p:nvPr/>
          </p:nvSpPr>
          <p:spPr>
            <a:xfrm>
              <a:off x="4211640" y="1490760"/>
              <a:ext cx="251460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87960" y="1566720"/>
              <a:ext cx="53316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97440" y="1566720"/>
              <a:ext cx="5335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06920" y="1566720"/>
              <a:ext cx="5335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116760" y="1566720"/>
              <a:ext cx="53316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83040" y="1490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38480" y="17524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3848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3657600" y="1447920"/>
                  <a:ext cx="3729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3983040" y="2786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83040" y="3014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059360" y="2786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3633840" y="2709720"/>
                  <a:ext cx="37296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68" name=""/>
            <p:cNvSpPr/>
            <p:nvPr/>
          </p:nvSpPr>
          <p:spPr>
            <a:xfrm>
              <a:off x="4267080" y="1643040"/>
              <a:ext cx="2409840" cy="128520"/>
            </a:xfrm>
            <a:custGeom>
              <a:avLst/>
              <a:gdLst/>
              <a:ahLst/>
              <a:rect l="l" t="t" r="r" b="b"/>
              <a:pathLst>
                <a:path w="1518" h="81">
                  <a:moveTo>
                    <a:pt x="0" y="0"/>
                  </a:moveTo>
                  <a:cubicBezTo>
                    <a:pt x="64" y="20"/>
                    <a:pt x="131" y="37"/>
                    <a:pt x="192" y="48"/>
                  </a:cubicBezTo>
                  <a:cubicBezTo>
                    <a:pt x="253" y="59"/>
                    <a:pt x="307" y="60"/>
                    <a:pt x="366" y="65"/>
                  </a:cubicBezTo>
                  <a:cubicBezTo>
                    <a:pt x="425" y="70"/>
                    <a:pt x="487" y="81"/>
                    <a:pt x="547" y="81"/>
                  </a:cubicBezTo>
                  <a:cubicBezTo>
                    <a:pt x="607" y="81"/>
                    <a:pt x="655" y="66"/>
                    <a:pt x="729" y="65"/>
                  </a:cubicBezTo>
                  <a:cubicBezTo>
                    <a:pt x="803" y="64"/>
                    <a:pt x="918" y="76"/>
                    <a:pt x="989" y="73"/>
                  </a:cubicBezTo>
                  <a:cubicBezTo>
                    <a:pt x="1060" y="70"/>
                    <a:pt x="1095" y="55"/>
                    <a:pt x="1155" y="49"/>
                  </a:cubicBezTo>
                  <a:cubicBezTo>
                    <a:pt x="1215" y="43"/>
                    <a:pt x="1292" y="40"/>
                    <a:pt x="1352" y="34"/>
                  </a:cubicBezTo>
                  <a:cubicBezTo>
                    <a:pt x="1412" y="28"/>
                    <a:pt x="1484" y="15"/>
                    <a:pt x="1518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67080" y="2862360"/>
              <a:ext cx="2409840" cy="128520"/>
            </a:xfrm>
            <a:custGeom>
              <a:avLst/>
              <a:gdLst/>
              <a:ahLst/>
              <a:rect l="l" t="t" r="r" b="b"/>
              <a:pathLst>
                <a:path w="1518" h="81">
                  <a:moveTo>
                    <a:pt x="0" y="0"/>
                  </a:moveTo>
                  <a:cubicBezTo>
                    <a:pt x="64" y="20"/>
                    <a:pt x="131" y="37"/>
                    <a:pt x="192" y="48"/>
                  </a:cubicBezTo>
                  <a:cubicBezTo>
                    <a:pt x="253" y="59"/>
                    <a:pt x="307" y="60"/>
                    <a:pt x="366" y="65"/>
                  </a:cubicBezTo>
                  <a:cubicBezTo>
                    <a:pt x="425" y="70"/>
                    <a:pt x="487" y="81"/>
                    <a:pt x="547" y="81"/>
                  </a:cubicBezTo>
                  <a:cubicBezTo>
                    <a:pt x="607" y="81"/>
                    <a:pt x="655" y="66"/>
                    <a:pt x="729" y="65"/>
                  </a:cubicBezTo>
                  <a:cubicBezTo>
                    <a:pt x="803" y="64"/>
                    <a:pt x="918" y="76"/>
                    <a:pt x="989" y="73"/>
                  </a:cubicBezTo>
                  <a:cubicBezTo>
                    <a:pt x="1060" y="70"/>
                    <a:pt x="1095" y="55"/>
                    <a:pt x="1155" y="49"/>
                  </a:cubicBezTo>
                  <a:cubicBezTo>
                    <a:pt x="1215" y="43"/>
                    <a:pt x="1292" y="40"/>
                    <a:pt x="1352" y="34"/>
                  </a:cubicBezTo>
                  <a:cubicBezTo>
                    <a:pt x="1412" y="28"/>
                    <a:pt x="1484" y="15"/>
                    <a:pt x="1518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5181480" y="3276720"/>
            <a:ext cx="3529080" cy="2209680"/>
            <a:chOff x="5181480" y="3276720"/>
            <a:chExt cx="3529080" cy="2209680"/>
          </a:xfrm>
        </p:grpSpPr>
        <p:sp>
          <p:nvSpPr>
            <p:cNvPr id="671" name=""/>
            <p:cNvSpPr/>
            <p:nvPr/>
          </p:nvSpPr>
          <p:spPr>
            <a:xfrm>
              <a:off x="8229600" y="4495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229600" y="4724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0592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8337600" y="4419720"/>
                  <a:ext cx="3729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675" name=""/>
            <p:cNvGrpSpPr/>
            <p:nvPr/>
          </p:nvGrpSpPr>
          <p:grpSpPr>
            <a:xfrm>
              <a:off x="6084360" y="4493160"/>
              <a:ext cx="99360" cy="309600"/>
              <a:chOff x="6084360" y="4493160"/>
              <a:chExt cx="99360" cy="309600"/>
            </a:xfrm>
          </p:grpSpPr>
          <p:sp>
            <p:nvSpPr>
              <p:cNvPr id="676" name=""/>
              <p:cNvSpPr/>
              <p:nvPr/>
            </p:nvSpPr>
            <p:spPr>
              <a:xfrm flipH="1" flipV="1">
                <a:off x="6090120" y="472104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6090120" y="4650840"/>
                <a:ext cx="82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>
                <a:off x="6095880" y="4645080"/>
                <a:ext cx="7632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6095880" y="4574880"/>
                <a:ext cx="82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flipV="1">
                <a:off x="6102000" y="456912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102000" y="449892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 flipV="1">
                <a:off x="6107760" y="449316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084360" y="479700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084360" y="472716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5410080" y="4800240"/>
              <a:ext cx="365400" cy="152280"/>
              <a:chOff x="5410080" y="4800240"/>
              <a:chExt cx="365400" cy="152280"/>
            </a:xfrm>
          </p:grpSpPr>
          <p:sp>
            <p:nvSpPr>
              <p:cNvPr id="686" name=""/>
              <p:cNvSpPr/>
              <p:nvPr/>
            </p:nvSpPr>
            <p:spPr>
              <a:xfrm>
                <a:off x="5450760" y="4800600"/>
                <a:ext cx="32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45076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5491080" y="4800240"/>
                <a:ext cx="813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553176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557244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5612760" y="4800240"/>
                <a:ext cx="813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65344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569412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41008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19920" y="4800240"/>
              <a:ext cx="365040" cy="152280"/>
              <a:chOff x="6019920" y="4800240"/>
              <a:chExt cx="365040" cy="15228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0240" y="4800600"/>
                <a:ext cx="32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606024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610092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614160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618228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22260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26328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630396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01992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6629400" y="4800240"/>
              <a:ext cx="365040" cy="152280"/>
              <a:chOff x="6629400" y="4800240"/>
              <a:chExt cx="365040" cy="152280"/>
            </a:xfrm>
          </p:grpSpPr>
          <p:sp>
            <p:nvSpPr>
              <p:cNvPr id="706" name=""/>
              <p:cNvSpPr/>
              <p:nvPr/>
            </p:nvSpPr>
            <p:spPr>
              <a:xfrm>
                <a:off x="6669720" y="4800600"/>
                <a:ext cx="32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66972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71040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675108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679176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83208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87276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91344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662940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848720" y="4800240"/>
              <a:ext cx="365040" cy="152280"/>
              <a:chOff x="7848720" y="4800240"/>
              <a:chExt cx="365040" cy="152280"/>
            </a:xfrm>
          </p:grpSpPr>
          <p:sp>
            <p:nvSpPr>
              <p:cNvPr id="716" name=""/>
              <p:cNvSpPr/>
              <p:nvPr/>
            </p:nvSpPr>
            <p:spPr>
              <a:xfrm>
                <a:off x="7889040" y="4800600"/>
                <a:ext cx="32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788904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792972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797040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801108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805140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809208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813276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784872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238880" y="4800240"/>
              <a:ext cx="365400" cy="152280"/>
              <a:chOff x="7238880" y="4800240"/>
              <a:chExt cx="365400" cy="152280"/>
            </a:xfrm>
          </p:grpSpPr>
          <p:sp>
            <p:nvSpPr>
              <p:cNvPr id="726" name=""/>
              <p:cNvSpPr/>
              <p:nvPr/>
            </p:nvSpPr>
            <p:spPr>
              <a:xfrm>
                <a:off x="7279560" y="4800600"/>
                <a:ext cx="32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727956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7319880" y="4800240"/>
                <a:ext cx="813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736056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40124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441560" y="4800240"/>
                <a:ext cx="813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48224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752292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238880" y="4800240"/>
                <a:ext cx="810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5638680" y="4952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48520" y="4952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67480" y="495288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58000" y="495288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77320" y="495288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5181480" y="5148360"/>
                  <a:ext cx="28440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2" name=""/>
                <p:cNvSpPr txBox="1"/>
                <p:nvPr/>
              </p:nvSpPr>
              <p:spPr>
                <a:xfrm>
                  <a:off x="5925960" y="5148360"/>
                  <a:ext cx="31932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3" name=""/>
                <p:cNvSpPr txBox="1"/>
                <p:nvPr/>
              </p:nvSpPr>
              <p:spPr>
                <a:xfrm>
                  <a:off x="8161200" y="5148360"/>
                  <a:ext cx="3016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6705720" y="3276720"/>
                  <a:ext cx="2476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5" name=""/>
            <p:cNvSpPr/>
            <p:nvPr/>
          </p:nvSpPr>
          <p:spPr>
            <a:xfrm>
              <a:off x="56386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8580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248520" y="449568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438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5627160" y="4493160"/>
              <a:ext cx="99360" cy="309600"/>
              <a:chOff x="5627160" y="4493160"/>
              <a:chExt cx="99360" cy="309600"/>
            </a:xfrm>
          </p:grpSpPr>
          <p:sp>
            <p:nvSpPr>
              <p:cNvPr id="750" name=""/>
              <p:cNvSpPr/>
              <p:nvPr/>
            </p:nvSpPr>
            <p:spPr>
              <a:xfrm flipH="1" flipV="1">
                <a:off x="5632920" y="472104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5632920" y="4650840"/>
                <a:ext cx="82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 flipV="1">
                <a:off x="5638680" y="4645080"/>
                <a:ext cx="7632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5638680" y="4574880"/>
                <a:ext cx="82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>
                <a:off x="5644800" y="456912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5644800" y="449892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 flipV="1">
                <a:off x="5650560" y="449316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627160" y="479700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5627160" y="472716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6236640" y="4493160"/>
              <a:ext cx="99360" cy="309600"/>
              <a:chOff x="6236640" y="4493160"/>
              <a:chExt cx="99360" cy="309600"/>
            </a:xfrm>
          </p:grpSpPr>
          <p:sp>
            <p:nvSpPr>
              <p:cNvPr id="760" name=""/>
              <p:cNvSpPr/>
              <p:nvPr/>
            </p:nvSpPr>
            <p:spPr>
              <a:xfrm flipH="1" flipV="1">
                <a:off x="6242400" y="472104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6242760" y="465084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flipV="1">
                <a:off x="6248160" y="464508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6248520" y="457488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>
                <a:off x="6254280" y="4569120"/>
                <a:ext cx="7560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6254280" y="449892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6260040" y="4493160"/>
                <a:ext cx="7560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37000" y="4797000"/>
                <a:ext cx="7560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6236640" y="4727160"/>
                <a:ext cx="8136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846480" y="4493160"/>
              <a:ext cx="99360" cy="309600"/>
              <a:chOff x="6846480" y="4493160"/>
              <a:chExt cx="99360" cy="309600"/>
            </a:xfrm>
          </p:grpSpPr>
          <p:sp>
            <p:nvSpPr>
              <p:cNvPr id="770" name=""/>
              <p:cNvSpPr/>
              <p:nvPr/>
            </p:nvSpPr>
            <p:spPr>
              <a:xfrm flipH="1" flipV="1">
                <a:off x="6852240" y="472104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6852240" y="4650840"/>
                <a:ext cx="82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6858000" y="4645080"/>
                <a:ext cx="7632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6858000" y="4574880"/>
                <a:ext cx="82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>
                <a:off x="6864120" y="456912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6864120" y="449892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 flipV="1">
                <a:off x="6869880" y="449316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846480" y="479700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846480" y="472716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693840" y="4493160"/>
              <a:ext cx="99360" cy="309600"/>
              <a:chOff x="6693840" y="4493160"/>
              <a:chExt cx="99360" cy="309600"/>
            </a:xfrm>
          </p:grpSpPr>
          <p:sp>
            <p:nvSpPr>
              <p:cNvPr id="780" name=""/>
              <p:cNvSpPr/>
              <p:nvPr/>
            </p:nvSpPr>
            <p:spPr>
              <a:xfrm flipH="1" flipV="1">
                <a:off x="6699600" y="472104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6699960" y="465084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flipV="1">
                <a:off x="6705360" y="464508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6705720" y="457488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 flipV="1">
                <a:off x="6711480" y="4569120"/>
                <a:ext cx="7560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6711480" y="449892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 flipV="1">
                <a:off x="6717240" y="4493160"/>
                <a:ext cx="7560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694200" y="4797000"/>
                <a:ext cx="7560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6693840" y="4727160"/>
                <a:ext cx="8136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7303680" y="4493160"/>
              <a:ext cx="99360" cy="309600"/>
              <a:chOff x="7303680" y="4493160"/>
              <a:chExt cx="99360" cy="309600"/>
            </a:xfrm>
          </p:grpSpPr>
          <p:sp>
            <p:nvSpPr>
              <p:cNvPr id="790" name=""/>
              <p:cNvSpPr/>
              <p:nvPr/>
            </p:nvSpPr>
            <p:spPr>
              <a:xfrm flipH="1" flipV="1">
                <a:off x="7309440" y="472104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309440" y="4650840"/>
                <a:ext cx="82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 flipV="1">
                <a:off x="7315200" y="4645080"/>
                <a:ext cx="7632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7315200" y="4574880"/>
                <a:ext cx="82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 flipV="1">
                <a:off x="7321320" y="456912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7321320" y="449892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7327080" y="449316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303680" y="479700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7303680" y="472716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7532280" y="4493160"/>
              <a:ext cx="99360" cy="309600"/>
              <a:chOff x="7532280" y="4493160"/>
              <a:chExt cx="99360" cy="309600"/>
            </a:xfrm>
          </p:grpSpPr>
          <p:sp>
            <p:nvSpPr>
              <p:cNvPr id="800" name=""/>
              <p:cNvSpPr/>
              <p:nvPr/>
            </p:nvSpPr>
            <p:spPr>
              <a:xfrm flipH="1" flipV="1">
                <a:off x="7538040" y="472104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7538040" y="4650840"/>
                <a:ext cx="82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 flipV="1">
                <a:off x="7543800" y="4645080"/>
                <a:ext cx="7632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7543800" y="4574880"/>
                <a:ext cx="82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flipV="1">
                <a:off x="7549920" y="456912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549920" y="449892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 flipV="1">
                <a:off x="7555680" y="449316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532280" y="479700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7532280" y="472716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7989480" y="4493160"/>
              <a:ext cx="99360" cy="309600"/>
              <a:chOff x="7989480" y="4493160"/>
              <a:chExt cx="99360" cy="309600"/>
            </a:xfrm>
          </p:grpSpPr>
          <p:sp>
            <p:nvSpPr>
              <p:cNvPr id="810" name=""/>
              <p:cNvSpPr/>
              <p:nvPr/>
            </p:nvSpPr>
            <p:spPr>
              <a:xfrm flipH="1" flipV="1">
                <a:off x="7995240" y="472104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7995240" y="4650840"/>
                <a:ext cx="82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8001000" y="4645080"/>
                <a:ext cx="7632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8001000" y="4574880"/>
                <a:ext cx="82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 flipV="1">
                <a:off x="8007120" y="456912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8007120" y="449892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flipV="1">
                <a:off x="8012880" y="449316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989480" y="4797000"/>
                <a:ext cx="75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989480" y="4727160"/>
                <a:ext cx="817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6477120" y="40384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72400" y="40384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404800">
              <a:off x="6742080" y="2857320"/>
              <a:ext cx="228600" cy="1828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15000" y="4648320"/>
              <a:ext cx="2409840" cy="128520"/>
            </a:xfrm>
            <a:custGeom>
              <a:avLst/>
              <a:gdLst/>
              <a:ahLst/>
              <a:rect l="l" t="t" r="r" b="b"/>
              <a:pathLst>
                <a:path w="1518" h="81">
                  <a:moveTo>
                    <a:pt x="0" y="0"/>
                  </a:moveTo>
                  <a:cubicBezTo>
                    <a:pt x="64" y="20"/>
                    <a:pt x="131" y="37"/>
                    <a:pt x="192" y="48"/>
                  </a:cubicBezTo>
                  <a:cubicBezTo>
                    <a:pt x="253" y="59"/>
                    <a:pt x="307" y="60"/>
                    <a:pt x="366" y="65"/>
                  </a:cubicBezTo>
                  <a:cubicBezTo>
                    <a:pt x="425" y="70"/>
                    <a:pt x="487" y="81"/>
                    <a:pt x="547" y="81"/>
                  </a:cubicBezTo>
                  <a:cubicBezTo>
                    <a:pt x="607" y="81"/>
                    <a:pt x="655" y="66"/>
                    <a:pt x="729" y="65"/>
                  </a:cubicBezTo>
                  <a:cubicBezTo>
                    <a:pt x="803" y="64"/>
                    <a:pt x="918" y="76"/>
                    <a:pt x="989" y="73"/>
                  </a:cubicBezTo>
                  <a:cubicBezTo>
                    <a:pt x="1060" y="70"/>
                    <a:pt x="1095" y="55"/>
                    <a:pt x="1155" y="49"/>
                  </a:cubicBezTo>
                  <a:cubicBezTo>
                    <a:pt x="1215" y="43"/>
                    <a:pt x="1292" y="40"/>
                    <a:pt x="1352" y="34"/>
                  </a:cubicBezTo>
                  <a:cubicBezTo>
                    <a:pt x="1412" y="28"/>
                    <a:pt x="1484" y="15"/>
                    <a:pt x="1518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914400" y="13748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道横墙所分配的地震剪力，按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道横墙从属面积上重力荷载代表值的比例分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914400" y="4495680"/>
            <a:ext cx="4191120" cy="1403640"/>
            <a:chOff x="914400" y="4495680"/>
            <a:chExt cx="4191120" cy="1403640"/>
          </a:xfrm>
        </p:grpSpPr>
        <mc:AlternateContent>
          <mc:Choice xmlns:a14="http://schemas.microsoft.com/office/drawing/2010/main" Requires="a14">
            <p:sp>
              <p:nvSpPr>
                <p:cNvPr id="826" name=""/>
                <p:cNvSpPr txBox="1"/>
                <p:nvPr/>
              </p:nvSpPr>
              <p:spPr>
                <a:xfrm>
                  <a:off x="914400" y="4572000"/>
                  <a:ext cx="84924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m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27" name=""/>
            <p:cNvSpPr/>
            <p:nvPr/>
          </p:nvSpPr>
          <p:spPr>
            <a:xfrm>
              <a:off x="1752480" y="4495680"/>
              <a:ext cx="3353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层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道横墙从属面积上重力荷载代表值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8" name=""/>
                <p:cNvSpPr txBox="1"/>
                <p:nvPr/>
              </p:nvSpPr>
              <p:spPr>
                <a:xfrm>
                  <a:off x="968400" y="5486400"/>
                  <a:ext cx="74124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29" name=""/>
            <p:cNvSpPr/>
            <p:nvPr/>
          </p:nvSpPr>
          <p:spPr>
            <a:xfrm>
              <a:off x="17524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层结构总重力荷载代表值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295360" y="1676520"/>
                <a:ext cx="13510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31" name=""/>
          <p:cNvGrpSpPr/>
          <p:nvPr/>
        </p:nvGrpSpPr>
        <p:grpSpPr>
          <a:xfrm>
            <a:off x="1230480" y="2438280"/>
            <a:ext cx="6694200" cy="1403640"/>
            <a:chOff x="1230480" y="2438280"/>
            <a:chExt cx="6694200" cy="1403640"/>
          </a:xfrm>
        </p:grpSpPr>
        <mc:AlternateContent>
          <mc:Choice xmlns:a14="http://schemas.microsoft.com/office/drawing/2010/main" Requires="a14">
            <p:sp>
              <p:nvSpPr>
                <p:cNvPr id="832" name=""/>
                <p:cNvSpPr txBox="1"/>
                <p:nvPr/>
              </p:nvSpPr>
              <p:spPr>
                <a:xfrm>
                  <a:off x="1230480" y="2514600"/>
                  <a:ext cx="8269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m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3" name=""/>
            <p:cNvSpPr/>
            <p:nvPr/>
          </p:nvSpPr>
          <p:spPr>
            <a:xfrm>
              <a:off x="2079720" y="2438280"/>
              <a:ext cx="584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层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道横墙所应分配地震作用的建筑面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4" name=""/>
                <p:cNvSpPr txBox="1"/>
                <p:nvPr/>
              </p:nvSpPr>
              <p:spPr>
                <a:xfrm>
                  <a:off x="1306440" y="3429000"/>
                  <a:ext cx="7192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5" name=""/>
            <p:cNvSpPr/>
            <p:nvPr/>
          </p:nvSpPr>
          <p:spPr>
            <a:xfrm>
              <a:off x="2079720" y="33526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第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层的建筑面积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685800" y="533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楼层单位面积上的重力荷载代表值相等时，可进一步简化为按各墙片所承担的地震作用的面积比进行分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09680" y="4191120"/>
            <a:ext cx="3917880" cy="1676160"/>
            <a:chOff x="2209680" y="4191120"/>
            <a:chExt cx="3917880" cy="1676160"/>
          </a:xfrm>
        </p:grpSpPr>
        <p:grpSp>
          <p:nvGrpSpPr>
            <p:cNvPr id="838" name=""/>
            <p:cNvGrpSpPr/>
            <p:nvPr/>
          </p:nvGrpSpPr>
          <p:grpSpPr>
            <a:xfrm>
              <a:off x="2209680" y="4495680"/>
              <a:ext cx="3917880" cy="1371600"/>
              <a:chOff x="2209680" y="4495680"/>
              <a:chExt cx="3917880" cy="1371600"/>
            </a:xfrm>
          </p:grpSpPr>
          <p:sp>
            <p:nvSpPr>
              <p:cNvPr id="839" name=""/>
              <p:cNvSpPr/>
              <p:nvPr/>
            </p:nvSpPr>
            <p:spPr>
              <a:xfrm>
                <a:off x="2209680" y="4495680"/>
                <a:ext cx="3917880" cy="13716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0" y="4614840"/>
                <a:ext cx="533160" cy="110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895480" y="4614840"/>
                <a:ext cx="533520" cy="110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504960" y="4614840"/>
                <a:ext cx="533520" cy="110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114800" y="4614840"/>
                <a:ext cx="533160" cy="110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755960" y="4648320"/>
                <a:ext cx="53352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41760" y="4648320"/>
                <a:ext cx="53352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755960" y="5334120"/>
                <a:ext cx="121932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7" name=""/>
              <p:cNvGrpSpPr/>
              <p:nvPr/>
            </p:nvGrpSpPr>
            <p:grpSpPr>
              <a:xfrm>
                <a:off x="5060520" y="4495680"/>
                <a:ext cx="609840" cy="1371600"/>
                <a:chOff x="5060520" y="4495680"/>
                <a:chExt cx="609840" cy="13716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5060880" y="4495680"/>
                  <a:ext cx="609480" cy="137160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5060520" y="4495680"/>
                  <a:ext cx="53316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>
                  <a:off x="5060520" y="4648320"/>
                  <a:ext cx="53316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>
                  <a:off x="5060520" y="4800600"/>
                  <a:ext cx="53316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>
                  <a:off x="5060520" y="4876920"/>
                  <a:ext cx="60948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>
                  <a:off x="5060520" y="5181480"/>
                  <a:ext cx="6094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5060520" y="5029200"/>
                  <a:ext cx="6094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5060520" y="5334120"/>
                  <a:ext cx="60948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5289480" y="5562720"/>
                  <a:ext cx="38088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>
                  <a:off x="5441400" y="571500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>
                  <a:off x="5060880" y="4495680"/>
                  <a:ext cx="30456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9" name=""/>
            <p:cNvSpPr/>
            <p:nvPr/>
          </p:nvSpPr>
          <p:spPr>
            <a:xfrm>
              <a:off x="228600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1952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2900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3848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2428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1992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中等刚度楼盖房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990720" y="8380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等刚度楼盖：介于刚度楼盖和柔性楼盖之间的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屋）盖，如装配式钢筋混凝土楼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2362320" y="3048120"/>
                <a:ext cx="2678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m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s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9" name=""/>
          <p:cNvSpPr/>
          <p:nvPr/>
        </p:nvSpPr>
        <p:spPr>
          <a:xfrm>
            <a:off x="914400" y="1828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它的各横墙所分配的地震剪力，按刚性楼盖和柔性楼盖结果的平均值确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762120" y="3808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纵墙的地震剪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09480" y="9144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各种楼盖均按刚性楼盖横墙剪力确定方法确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62120" y="1447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一道墙各墙段地震剪力的分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533520" y="2133720"/>
            <a:ext cx="8523000" cy="1896480"/>
            <a:chOff x="533520" y="2133720"/>
            <a:chExt cx="8523000" cy="1896480"/>
          </a:xfrm>
        </p:grpSpPr>
        <p:sp>
          <p:nvSpPr>
            <p:cNvPr id="874" name=""/>
            <p:cNvSpPr/>
            <p:nvPr/>
          </p:nvSpPr>
          <p:spPr>
            <a:xfrm>
              <a:off x="534960" y="2133720"/>
              <a:ext cx="7696080" cy="1447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01640" y="2438280"/>
              <a:ext cx="4572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685360" y="2430360"/>
              <a:ext cx="1440" cy="11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05920" y="2430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610480" y="24382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610480" y="35812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8686800" y="2734920"/>
                  <a:ext cx="369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1" name=""/>
                <p:cNvSpPr txBox="1"/>
                <p:nvPr/>
              </p:nvSpPr>
              <p:spPr>
                <a:xfrm>
                  <a:off x="8381880" y="2660400"/>
                  <a:ext cx="34128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2" name=""/>
                <p:cNvSpPr txBox="1"/>
                <p:nvPr/>
              </p:nvSpPr>
              <p:spPr>
                <a:xfrm>
                  <a:off x="609480" y="3649320"/>
                  <a:ext cx="3128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3" name=""/>
            <p:cNvSpPr/>
            <p:nvPr/>
          </p:nvSpPr>
          <p:spPr>
            <a:xfrm>
              <a:off x="2363760" y="2438280"/>
              <a:ext cx="45720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5880" y="2438280"/>
              <a:ext cx="4572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3960" y="2438280"/>
              <a:ext cx="4572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02040" y="2438280"/>
              <a:ext cx="45720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64160" y="2438280"/>
              <a:ext cx="45720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02240" y="2438280"/>
              <a:ext cx="4572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240680" y="2438280"/>
              <a:ext cx="4572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15840" y="2438280"/>
              <a:ext cx="4572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1" name=""/>
                <p:cNvSpPr txBox="1"/>
                <p:nvPr/>
              </p:nvSpPr>
              <p:spPr>
                <a:xfrm>
                  <a:off x="665280" y="2701800"/>
                  <a:ext cx="198360" cy="23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2" name=""/>
                <p:cNvSpPr txBox="1"/>
                <p:nvPr/>
              </p:nvSpPr>
              <p:spPr>
                <a:xfrm>
                  <a:off x="1371600" y="2701800"/>
                  <a:ext cx="284040" cy="23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7861320" y="2728800"/>
                  <a:ext cx="255600" cy="19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4" name=""/>
            <p:cNvSpPr/>
            <p:nvPr/>
          </p:nvSpPr>
          <p:spPr>
            <a:xfrm>
              <a:off x="8381880" y="24303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305920" y="31161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6" name=""/>
                <p:cNvSpPr txBox="1"/>
                <p:nvPr/>
              </p:nvSpPr>
              <p:spPr>
                <a:xfrm>
                  <a:off x="5307120" y="2742840"/>
                  <a:ext cx="255600" cy="1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7" name=""/>
            <p:cNvSpPr/>
            <p:nvPr/>
          </p:nvSpPr>
          <p:spPr>
            <a:xfrm>
              <a:off x="533520" y="3954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33520" y="387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914400" y="387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371600" y="3954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371600" y="387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600200" y="387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257800" y="3954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257800" y="387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562720" y="387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72400" y="3954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772400" y="387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29600" y="387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9" name=""/>
                <p:cNvSpPr txBox="1"/>
                <p:nvPr/>
              </p:nvSpPr>
              <p:spPr>
                <a:xfrm>
                  <a:off x="1343160" y="3649320"/>
                  <a:ext cx="369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0" name=""/>
                <p:cNvSpPr txBox="1"/>
                <p:nvPr/>
              </p:nvSpPr>
              <p:spPr>
                <a:xfrm>
                  <a:off x="5272200" y="3649320"/>
                  <a:ext cx="3412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1" name=""/>
                <p:cNvSpPr txBox="1"/>
                <p:nvPr/>
              </p:nvSpPr>
              <p:spPr>
                <a:xfrm>
                  <a:off x="7848720" y="3641400"/>
                  <a:ext cx="34128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2" name=""/>
          <p:cNvSpPr/>
          <p:nvPr/>
        </p:nvSpPr>
        <p:spPr>
          <a:xfrm>
            <a:off x="860400" y="4206960"/>
            <a:ext cx="58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道墙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墙段所分配的地震剪力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666880" y="4800600"/>
                <a:ext cx="1806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/>
                        </m:nary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0:11:31Z</dcterms:created>
  <dc:creator>雨薇</dc:creator>
  <dc:description/>
  <dc:language>en-US</dc:language>
  <cp:lastModifiedBy>gk</cp:lastModifiedBy>
  <dcterms:modified xsi:type="dcterms:W3CDTF">2003-10-21T09:10:15Z</dcterms:modified>
  <cp:revision>375</cp:revision>
  <dc:subject/>
  <dc:title>PowerPoint 演示文稿</dc:title>
</cp:coreProperties>
</file>