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316-6A01-4DC3-84C1-16B96DFD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5B5-E838-442E-8FB1-42B34E8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8DF-7573-481F-AD94-AD7E8E65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EE5-A203-4D44-8C87-B5510B7B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05-08D0-43AF-BCD1-C772115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B19-39B0-4365-AFB3-17D8A3F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F41-81A1-461A-878B-BC178B3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AAA-19C9-4787-BB03-1B93535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37C-2F27-47FA-9F6C-C72A0C7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EBA-A539-4939-8F14-35DE547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190-B792-4B62-A7C9-F434582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228-07DF-4792-9961-8A54D13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405-DD2C-4679-A070-6AC3ACD35F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9880" y="522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五、计算水平地震作用的振型分解反应谱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928960" y="4594320"/>
                <a:ext cx="1257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419840" y="110160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作用于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上的力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05720" y="1143000"/>
            <a:ext cx="2133360" cy="4343400"/>
            <a:chOff x="6705720" y="1143000"/>
            <a:chExt cx="2133360" cy="4343400"/>
          </a:xfrm>
        </p:grpSpPr>
        <p:sp>
          <p:nvSpPr>
            <p:cNvPr id="45" name=""/>
            <p:cNvSpPr/>
            <p:nvPr/>
          </p:nvSpPr>
          <p:spPr>
            <a:xfrm>
              <a:off x="6705720" y="1143000"/>
              <a:ext cx="2133360" cy="434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858000" y="1219320"/>
              <a:ext cx="1676160" cy="3126600"/>
              <a:chOff x="6858000" y="1219320"/>
              <a:chExt cx="1676160" cy="3126600"/>
            </a:xfrm>
          </p:grpSpPr>
          <p:sp>
            <p:nvSpPr>
              <p:cNvPr id="47" name=""/>
              <p:cNvSpPr/>
              <p:nvPr/>
            </p:nvSpPr>
            <p:spPr>
              <a:xfrm>
                <a:off x="8001000" y="1379520"/>
                <a:ext cx="458640" cy="2506680"/>
              </a:xfrm>
              <a:custGeom>
                <a:avLst/>
                <a:gdLst/>
                <a:ahLst/>
                <a:rect l="l" t="t" r="r" b="b"/>
                <a:pathLst>
                  <a:path w="289" h="1579">
                    <a:moveTo>
                      <a:pt x="0" y="1579"/>
                    </a:moveTo>
                    <a:cubicBezTo>
                      <a:pt x="8" y="1499"/>
                      <a:pt x="22" y="1426"/>
                      <a:pt x="48" y="1339"/>
                    </a:cubicBezTo>
                    <a:cubicBezTo>
                      <a:pt x="74" y="1252"/>
                      <a:pt x="131" y="1129"/>
                      <a:pt x="155" y="1057"/>
                    </a:cubicBezTo>
                    <a:cubicBezTo>
                      <a:pt x="179" y="985"/>
                      <a:pt x="180" y="969"/>
                      <a:pt x="192" y="907"/>
                    </a:cubicBezTo>
                    <a:cubicBezTo>
                      <a:pt x="204" y="845"/>
                      <a:pt x="219" y="766"/>
                      <a:pt x="226" y="686"/>
                    </a:cubicBezTo>
                    <a:cubicBezTo>
                      <a:pt x="233" y="606"/>
                      <a:pt x="228" y="500"/>
                      <a:pt x="233" y="426"/>
                    </a:cubicBezTo>
                    <a:cubicBezTo>
                      <a:pt x="238" y="352"/>
                      <a:pt x="252" y="294"/>
                      <a:pt x="257" y="244"/>
                    </a:cubicBezTo>
                    <a:cubicBezTo>
                      <a:pt x="262" y="194"/>
                      <a:pt x="260" y="167"/>
                      <a:pt x="265" y="126"/>
                    </a:cubicBezTo>
                    <a:cubicBezTo>
                      <a:pt x="270" y="85"/>
                      <a:pt x="284" y="26"/>
                      <a:pt x="28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7162560" y="3886200"/>
                <a:ext cx="457200" cy="114480"/>
                <a:chOff x="7162560" y="3886200"/>
                <a:chExt cx="457200" cy="1144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213320" y="3886200"/>
                  <a:ext cx="40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721332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726408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731484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736560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741636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746712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751824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716256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315200" y="1371600"/>
                <a:ext cx="152280" cy="1522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391160" y="14479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315200" y="1981080"/>
                <a:ext cx="152280" cy="152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315200" y="2590920"/>
                <a:ext cx="152280" cy="152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315200" y="3200400"/>
                <a:ext cx="152280" cy="1522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580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0" y="2438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5800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58000" y="1219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zh-CN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772400" y="3886200"/>
                <a:ext cx="457200" cy="114480"/>
                <a:chOff x="7772400" y="3886200"/>
                <a:chExt cx="457200" cy="1144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823160" y="3886200"/>
                  <a:ext cx="40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82316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787392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792468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797544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802620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807696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812808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7772400" y="3886200"/>
                  <a:ext cx="10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8381880" y="1371600"/>
                <a:ext cx="152280" cy="1522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305560" y="1981080"/>
                <a:ext cx="152640" cy="1526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29600" y="2590920"/>
                <a:ext cx="152280" cy="152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076960" y="3200400"/>
                <a:ext cx="152640" cy="1522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8001000" y="13712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01000" y="2057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01000" y="2666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01000" y="327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01000" y="1447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02080" y="16765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zh-CN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91160" y="42670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911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0100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91160" y="388620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zh-CN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6934320" y="4419720"/>
            <a:ext cx="1740960" cy="903960"/>
            <a:chOff x="6934320" y="4419720"/>
            <a:chExt cx="1740960" cy="903960"/>
          </a:xfrm>
        </p:grpSpPr>
        <p:sp>
          <p:nvSpPr>
            <p:cNvPr id="92" name=""/>
            <p:cNvSpPr/>
            <p:nvPr/>
          </p:nvSpPr>
          <p:spPr>
            <a:xfrm>
              <a:off x="7635600" y="4816080"/>
              <a:ext cx="33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372080" y="4982760"/>
              <a:ext cx="32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372440" y="5149080"/>
              <a:ext cx="33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358040" y="4419720"/>
                  <a:ext cx="231840" cy="33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7675920" y="4483800"/>
                  <a:ext cx="9993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934320" y="4807440"/>
                  <a:ext cx="41292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7372440" y="4733280"/>
              <a:ext cx="175680" cy="165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7716240" y="4982760"/>
                  <a:ext cx="429480" cy="34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"/>
          <p:cNvGrpSpPr/>
          <p:nvPr/>
        </p:nvGrpSpPr>
        <p:grpSpPr>
          <a:xfrm>
            <a:off x="1252440" y="1711440"/>
            <a:ext cx="3242880" cy="486720"/>
            <a:chOff x="1252440" y="1711440"/>
            <a:chExt cx="3242880" cy="48672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2571840" y="1783440"/>
                  <a:ext cx="1923480" cy="41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"/>
            <p:cNvSpPr/>
            <p:nvPr/>
          </p:nvSpPr>
          <p:spPr>
            <a:xfrm>
              <a:off x="1252440" y="171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惯性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67880" y="2298600"/>
            <a:ext cx="4641840" cy="509400"/>
            <a:chOff x="767880" y="2298600"/>
            <a:chExt cx="4641840" cy="509400"/>
          </a:xfrm>
        </p:grpSpPr>
        <p:sp>
          <p:nvSpPr>
            <p:cNvPr id="104" name=""/>
            <p:cNvSpPr/>
            <p:nvPr/>
          </p:nvSpPr>
          <p:spPr>
            <a:xfrm>
              <a:off x="767880" y="2298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弹性恢复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537640" y="2392920"/>
                  <a:ext cx="2872080" cy="41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"/>
          <p:cNvGrpSpPr/>
          <p:nvPr/>
        </p:nvGrpSpPr>
        <p:grpSpPr>
          <a:xfrm>
            <a:off x="1217880" y="2930400"/>
            <a:ext cx="4192200" cy="498600"/>
            <a:chOff x="1217880" y="2930400"/>
            <a:chExt cx="4192200" cy="498600"/>
          </a:xfrm>
        </p:grpSpPr>
        <p:sp>
          <p:nvSpPr>
            <p:cNvPr id="107" name=""/>
            <p:cNvSpPr/>
            <p:nvPr/>
          </p:nvSpPr>
          <p:spPr>
            <a:xfrm>
              <a:off x="1217880" y="2930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阻尼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514600" y="3006720"/>
                  <a:ext cx="28954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" name=""/>
          <p:cNvGrpSpPr/>
          <p:nvPr/>
        </p:nvGrpSpPr>
        <p:grpSpPr>
          <a:xfrm>
            <a:off x="937440" y="3541680"/>
            <a:ext cx="5234760" cy="863640"/>
            <a:chOff x="937440" y="3541680"/>
            <a:chExt cx="5234760" cy="863640"/>
          </a:xfrm>
        </p:grpSpPr>
        <p:sp>
          <p:nvSpPr>
            <p:cNvPr id="110" name=""/>
            <p:cNvSpPr/>
            <p:nvPr/>
          </p:nvSpPr>
          <p:spPr>
            <a:xfrm>
              <a:off x="937440" y="362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运动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365200" y="3541680"/>
                  <a:ext cx="3807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41520" y="5216400"/>
                <a:ext cx="4611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343400" y="3276720"/>
            <a:ext cx="4800600" cy="2514600"/>
            <a:chOff x="4343400" y="3276720"/>
            <a:chExt cx="4800600" cy="2514600"/>
          </a:xfrm>
        </p:grpSpPr>
        <p:sp>
          <p:nvSpPr>
            <p:cNvPr id="434" name=""/>
            <p:cNvSpPr/>
            <p:nvPr/>
          </p:nvSpPr>
          <p:spPr>
            <a:xfrm>
              <a:off x="4343400" y="3276720"/>
              <a:ext cx="48006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343400" y="3276720"/>
              <a:ext cx="4728240" cy="2514240"/>
              <a:chOff x="4343400" y="3276720"/>
              <a:chExt cx="4728240" cy="2514240"/>
            </a:xfrm>
          </p:grpSpPr>
          <p:graphicFrame>
            <p:nvGraphicFramePr>
              <p:cNvPr id="436" name=""/>
              <p:cNvGraphicFramePr/>
              <p:nvPr/>
            </p:nvGraphicFramePr>
            <p:xfrm>
              <a:off x="4875120" y="3441240"/>
              <a:ext cx="3592800" cy="2050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75120" y="3441240"/>
                        <a:ext cx="3592800" cy="205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438" name=""/>
                  <p:cNvSpPr txBox="1"/>
                  <p:nvPr/>
                </p:nvSpPr>
                <p:spPr>
                  <a:xfrm>
                    <a:off x="8568000" y="5265360"/>
                    <a:ext cx="337680" cy="28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4769640" y="5474880"/>
                    <a:ext cx="135000" cy="25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0" name=""/>
                  <p:cNvSpPr txBox="1"/>
                  <p:nvPr/>
                </p:nvSpPr>
                <p:spPr>
                  <a:xfrm>
                    <a:off x="4906080" y="5473080"/>
                    <a:ext cx="243360" cy="25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1" name=""/>
                  <p:cNvSpPr txBox="1"/>
                  <p:nvPr/>
                </p:nvSpPr>
                <p:spPr>
                  <a:xfrm>
                    <a:off x="5365080" y="5448600"/>
                    <a:ext cx="189720" cy="34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6821640" y="5448600"/>
                    <a:ext cx="258480" cy="34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" name=""/>
                  <p:cNvSpPr txBox="1"/>
                  <p:nvPr/>
                </p:nvSpPr>
                <p:spPr>
                  <a:xfrm>
                    <a:off x="8040240" y="5473080"/>
                    <a:ext cx="258480" cy="25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4" name=""/>
                  <p:cNvSpPr txBox="1"/>
                  <p:nvPr/>
                </p:nvSpPr>
                <p:spPr>
                  <a:xfrm>
                    <a:off x="4959720" y="3276720"/>
                    <a:ext cx="162720" cy="19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5" name=""/>
                  <p:cNvSpPr txBox="1"/>
                  <p:nvPr/>
                </p:nvSpPr>
                <p:spPr>
                  <a:xfrm>
                    <a:off x="4430520" y="3657960"/>
                    <a:ext cx="461160" cy="32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6" name=""/>
                  <p:cNvSpPr txBox="1"/>
                  <p:nvPr/>
                </p:nvSpPr>
                <p:spPr>
                  <a:xfrm>
                    <a:off x="4343400" y="4457160"/>
                    <a:ext cx="59652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7" name=""/>
                  <p:cNvSpPr txBox="1"/>
                  <p:nvPr/>
                </p:nvSpPr>
                <p:spPr>
                  <a:xfrm>
                    <a:off x="5670360" y="3821040"/>
                    <a:ext cx="1099080" cy="59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8" name=""/>
                  <p:cNvSpPr txBox="1"/>
                  <p:nvPr/>
                </p:nvSpPr>
                <p:spPr>
                  <a:xfrm>
                    <a:off x="7093080" y="4775400"/>
                    <a:ext cx="1978560" cy="35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49" name=""/>
          <p:cNvGrpSpPr/>
          <p:nvPr/>
        </p:nvGrpSpPr>
        <p:grpSpPr>
          <a:xfrm>
            <a:off x="457200" y="203040"/>
            <a:ext cx="8534520" cy="4057920"/>
            <a:chOff x="457200" y="203040"/>
            <a:chExt cx="8534520" cy="4057920"/>
          </a:xfrm>
        </p:grpSpPr>
        <p:sp>
          <p:nvSpPr>
            <p:cNvPr id="450" name=""/>
            <p:cNvSpPr/>
            <p:nvPr/>
          </p:nvSpPr>
          <p:spPr>
            <a:xfrm>
              <a:off x="3179160" y="203040"/>
              <a:ext cx="19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例：试用振型分解反应谱法计算图示框架多遇地震时的层间剪力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抗震设防烈度为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度，Ⅱ类场地，设计地震分组为第二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6172200" y="914400"/>
              <a:ext cx="2819520" cy="1905120"/>
              <a:chOff x="6172200" y="914400"/>
              <a:chExt cx="2819520" cy="1905120"/>
            </a:xfrm>
          </p:grpSpPr>
          <p:sp>
            <p:nvSpPr>
              <p:cNvPr id="452" name=""/>
              <p:cNvSpPr/>
              <p:nvPr/>
            </p:nvSpPr>
            <p:spPr>
              <a:xfrm>
                <a:off x="6172200" y="914400"/>
                <a:ext cx="2819520" cy="1905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242040" y="990720"/>
                <a:ext cx="2749320" cy="1752120"/>
                <a:chOff x="6242040" y="990720"/>
                <a:chExt cx="2749320" cy="1752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242040" y="2590560"/>
                  <a:ext cx="304560" cy="152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242040" y="25905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6394320" y="1066680"/>
                  <a:ext cx="0" cy="152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94320" y="2057400"/>
                  <a:ext cx="1219320" cy="75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461000" y="2590560"/>
                  <a:ext cx="304920" cy="152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461000" y="259056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7613640" y="1066680"/>
                  <a:ext cx="0" cy="152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94320" y="1523880"/>
                  <a:ext cx="1219320" cy="759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394320" y="990720"/>
                  <a:ext cx="1219320" cy="759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63" name=""/>
                    <p:cNvSpPr txBox="1"/>
                    <p:nvPr/>
                  </p:nvSpPr>
                  <p:spPr>
                    <a:xfrm>
                      <a:off x="6622920" y="2133360"/>
                      <a:ext cx="87156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64" name=""/>
                    <p:cNvSpPr txBox="1"/>
                    <p:nvPr/>
                  </p:nvSpPr>
                  <p:spPr>
                    <a:xfrm>
                      <a:off x="6581520" y="1600200"/>
                      <a:ext cx="889200" cy="296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65" name=""/>
                    <p:cNvSpPr txBox="1"/>
                    <p:nvPr/>
                  </p:nvSpPr>
                  <p:spPr>
                    <a:xfrm>
                      <a:off x="6564240" y="1066680"/>
                      <a:ext cx="853920" cy="31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66" name=""/>
                    <p:cNvSpPr txBox="1"/>
                    <p:nvPr/>
                  </p:nvSpPr>
                  <p:spPr>
                    <a:xfrm>
                      <a:off x="7613640" y="2133360"/>
                      <a:ext cx="13777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5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67" name=""/>
                    <p:cNvSpPr txBox="1"/>
                    <p:nvPr/>
                  </p:nvSpPr>
                  <p:spPr>
                    <a:xfrm>
                      <a:off x="7611840" y="1676160"/>
                      <a:ext cx="13795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95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68" name=""/>
                    <p:cNvSpPr txBox="1"/>
                    <p:nvPr/>
                  </p:nvSpPr>
                  <p:spPr>
                    <a:xfrm>
                      <a:off x="7665840" y="1135080"/>
                      <a:ext cx="1273320" cy="31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469" name=""/>
            <p:cNvSpPr/>
            <p:nvPr/>
          </p:nvSpPr>
          <p:spPr>
            <a:xfrm>
              <a:off x="485640" y="888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解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68640" y="888840"/>
              <a:ext cx="24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求体系的自振周期和振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457200" y="1371600"/>
                  <a:ext cx="187164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2514600" y="1371600"/>
                  <a:ext cx="182880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4419720" y="1371600"/>
                  <a:ext cx="175248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609480" y="2590920"/>
                  <a:ext cx="1379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7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2120760" y="2590920"/>
                  <a:ext cx="1405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08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3581280" y="2581200"/>
                  <a:ext cx="1405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4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7" name=""/>
            <p:cNvSpPr/>
            <p:nvPr/>
          </p:nvSpPr>
          <p:spPr>
            <a:xfrm>
              <a:off x="1241640" y="294624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地震影响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600" y="3417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查表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1500120" y="3446640"/>
                  <a:ext cx="142884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1752480" y="3876840"/>
                  <a:ext cx="11336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1" name=""/>
          <p:cNvSpPr/>
          <p:nvPr/>
        </p:nvSpPr>
        <p:spPr>
          <a:xfrm>
            <a:off x="838080" y="4241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一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725480" y="4267080"/>
                <a:ext cx="1551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990720" y="4572000"/>
                <a:ext cx="2066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978280" y="4746600"/>
                <a:ext cx="9842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692280" y="5232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二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05120" y="5257800"/>
                <a:ext cx="1625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905120" y="5580000"/>
                <a:ext cx="2263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692280" y="5994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三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05120" y="6019920"/>
                <a:ext cx="1625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905120" y="6342120"/>
                <a:ext cx="2263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876920" y="5835600"/>
                <a:ext cx="1879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858000" y="5835600"/>
                <a:ext cx="20509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457200" y="203040"/>
            <a:ext cx="8534520" cy="3530880"/>
            <a:chOff x="457200" y="203040"/>
            <a:chExt cx="8534520" cy="3530880"/>
          </a:xfrm>
        </p:grpSpPr>
        <p:sp>
          <p:nvSpPr>
            <p:cNvPr id="494" name=""/>
            <p:cNvSpPr/>
            <p:nvPr/>
          </p:nvSpPr>
          <p:spPr>
            <a:xfrm>
              <a:off x="3179160" y="203040"/>
              <a:ext cx="19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例：试用振型分解反应谱法计算图示框架多遇地震时的层间剪力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抗震设防烈度为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8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度，Ⅱ类场地，设计地震分组为第二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6172200" y="914400"/>
              <a:ext cx="2819520" cy="1905120"/>
              <a:chOff x="6172200" y="914400"/>
              <a:chExt cx="2819520" cy="1905120"/>
            </a:xfrm>
          </p:grpSpPr>
          <p:sp>
            <p:nvSpPr>
              <p:cNvPr id="496" name=""/>
              <p:cNvSpPr/>
              <p:nvPr/>
            </p:nvSpPr>
            <p:spPr>
              <a:xfrm>
                <a:off x="6172200" y="914400"/>
                <a:ext cx="2819520" cy="1905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6242040" y="990720"/>
                <a:ext cx="2749320" cy="1752120"/>
                <a:chOff x="6242040" y="990720"/>
                <a:chExt cx="2749320" cy="17521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242040" y="2590560"/>
                  <a:ext cx="304560" cy="1522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242040" y="25905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6394320" y="1066680"/>
                  <a:ext cx="0" cy="152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394320" y="2057400"/>
                  <a:ext cx="1219320" cy="756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61000" y="2590560"/>
                  <a:ext cx="304920" cy="152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461000" y="259056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7613640" y="1066680"/>
                  <a:ext cx="0" cy="152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394320" y="1523880"/>
                  <a:ext cx="1219320" cy="759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394320" y="990720"/>
                  <a:ext cx="1219320" cy="759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" name=""/>
                    <p:cNvSpPr txBox="1"/>
                    <p:nvPr/>
                  </p:nvSpPr>
                  <p:spPr>
                    <a:xfrm>
                      <a:off x="6622920" y="2133360"/>
                      <a:ext cx="87156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8" name=""/>
                    <p:cNvSpPr txBox="1"/>
                    <p:nvPr/>
                  </p:nvSpPr>
                  <p:spPr>
                    <a:xfrm>
                      <a:off x="6581520" y="1600200"/>
                      <a:ext cx="889200" cy="296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9" name=""/>
                    <p:cNvSpPr txBox="1"/>
                    <p:nvPr/>
                  </p:nvSpPr>
                  <p:spPr>
                    <a:xfrm>
                      <a:off x="6564240" y="1066680"/>
                      <a:ext cx="853920" cy="31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0" name=""/>
                    <p:cNvSpPr txBox="1"/>
                    <p:nvPr/>
                  </p:nvSpPr>
                  <p:spPr>
                    <a:xfrm>
                      <a:off x="7613640" y="2133360"/>
                      <a:ext cx="13777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5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1" name=""/>
                    <p:cNvSpPr txBox="1"/>
                    <p:nvPr/>
                  </p:nvSpPr>
                  <p:spPr>
                    <a:xfrm>
                      <a:off x="7611840" y="1676160"/>
                      <a:ext cx="1379520" cy="29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95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2" name=""/>
                    <p:cNvSpPr txBox="1"/>
                    <p:nvPr/>
                  </p:nvSpPr>
                  <p:spPr>
                    <a:xfrm>
                      <a:off x="7665840" y="1135080"/>
                      <a:ext cx="1273320" cy="31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MN/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513" name=""/>
            <p:cNvSpPr/>
            <p:nvPr/>
          </p:nvSpPr>
          <p:spPr>
            <a:xfrm>
              <a:off x="485640" y="888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解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68640" y="888840"/>
              <a:ext cx="24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求体系的自振周期和振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457200" y="1371600"/>
                  <a:ext cx="187164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2514600" y="1371600"/>
                  <a:ext cx="182880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4419720" y="1371600"/>
                  <a:ext cx="1752480" cy="11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609480" y="2590920"/>
                  <a:ext cx="1379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7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2120760" y="2590920"/>
                  <a:ext cx="1405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08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3581280" y="2581200"/>
                  <a:ext cx="1405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4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241640" y="294624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地震影响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85800" y="3352680"/>
              <a:ext cx="3924360" cy="381240"/>
              <a:chOff x="685800" y="3352680"/>
              <a:chExt cx="3924360" cy="38124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685800" y="3352680"/>
                    <a:ext cx="1328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2133720" y="3352680"/>
                    <a:ext cx="120492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3429000" y="3370320"/>
                    <a:ext cx="118116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26" name=""/>
          <p:cNvSpPr/>
          <p:nvPr/>
        </p:nvSpPr>
        <p:spPr>
          <a:xfrm>
            <a:off x="1241640" y="3708360"/>
            <a:ext cx="25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振型参与系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4241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一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371600" y="4095720"/>
                <a:ext cx="2514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886200" y="4095720"/>
                <a:ext cx="5235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6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454320" y="4946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二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371600" y="4800600"/>
                <a:ext cx="2608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962520" y="4925880"/>
                <a:ext cx="5105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454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三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1434960" y="5638680"/>
                <a:ext cx="2451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962520" y="5656320"/>
                <a:ext cx="5029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537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538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551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52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53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54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55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56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557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9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2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3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4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5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67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68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69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570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572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3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75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362320" y="4876920"/>
                <a:ext cx="182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308240" y="5396040"/>
                <a:ext cx="5429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609480" y="5165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一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305000" y="5853240"/>
                <a:ext cx="5475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295280" y="6300720"/>
                <a:ext cx="54054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1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582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584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601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602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615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16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17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18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19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20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621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3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5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6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7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9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1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32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633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634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636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7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8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39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362320" y="4876920"/>
                <a:ext cx="182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1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642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644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3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4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9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447920" y="5410080"/>
                <a:ext cx="6064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8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7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432000" y="515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二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447920" y="5791320"/>
                <a:ext cx="6064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8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1447920" y="6188040"/>
                <a:ext cx="5829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8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4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665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667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7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1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2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684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685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698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99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0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1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2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3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704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6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7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8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9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0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1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2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14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715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716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717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719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0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1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22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62320" y="4876920"/>
                <a:ext cx="182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725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727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7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2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744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746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6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9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914400" y="5553000"/>
                <a:ext cx="53355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508320" y="515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三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93880" y="5934240"/>
                <a:ext cx="5735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914400" y="6340320"/>
                <a:ext cx="51465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6" name=""/>
          <p:cNvGrpSpPr/>
          <p:nvPr/>
        </p:nvGrpSpPr>
        <p:grpSpPr>
          <a:xfrm>
            <a:off x="6858000" y="4952880"/>
            <a:ext cx="2057400" cy="1830600"/>
            <a:chOff x="6858000" y="4952880"/>
            <a:chExt cx="2057400" cy="1830600"/>
          </a:xfrm>
        </p:grpSpPr>
        <p:sp>
          <p:nvSpPr>
            <p:cNvPr id="767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6908760" y="5089320"/>
              <a:ext cx="2005920" cy="1694160"/>
              <a:chOff x="6908760" y="5089320"/>
              <a:chExt cx="2005920" cy="16941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6908760" y="5089320"/>
                <a:ext cx="2005920" cy="1694160"/>
                <a:chOff x="6908760" y="5089320"/>
                <a:chExt cx="2005920" cy="169416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7547040" y="5089320"/>
                  <a:ext cx="1367640" cy="1451520"/>
                  <a:chOff x="7547040" y="5089320"/>
                  <a:chExt cx="1367640" cy="145152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7547040" y="6414480"/>
                    <a:ext cx="273600" cy="1263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547040" y="6414480"/>
                    <a:ext cx="273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>
                    <a:off x="768348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683480" y="5972760"/>
                    <a:ext cx="1094400" cy="626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641440" y="6414480"/>
                    <a:ext cx="273240" cy="12636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641440" y="64144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877824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7683480" y="553104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7683480" y="508932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780" name=""/>
                    <p:cNvSpPr txBox="1"/>
                    <p:nvPr/>
                  </p:nvSpPr>
                  <p:spPr>
                    <a:xfrm>
                      <a:off x="7039800" y="5215320"/>
                      <a:ext cx="5940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1" name=""/>
                <p:cNvSpPr/>
                <p:nvPr/>
              </p:nvSpPr>
              <p:spPr>
                <a:xfrm>
                  <a:off x="7410600" y="559404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410600" y="603612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3" name=""/>
                    <p:cNvSpPr txBox="1"/>
                    <p:nvPr/>
                  </p:nvSpPr>
                  <p:spPr>
                    <a:xfrm>
                      <a:off x="6908760" y="5657400"/>
                      <a:ext cx="75096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784" name=""/>
                    <p:cNvSpPr txBox="1"/>
                    <p:nvPr/>
                  </p:nvSpPr>
                  <p:spPr>
                    <a:xfrm>
                      <a:off x="6938640" y="6099120"/>
                      <a:ext cx="7038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5" name=""/>
                <p:cNvSpPr/>
                <p:nvPr/>
              </p:nvSpPr>
              <p:spPr>
                <a:xfrm>
                  <a:off x="8049960" y="6476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第三振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7410600" y="5152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788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789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802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03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04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05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06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07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808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0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11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12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13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14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15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6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18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819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820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821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823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826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828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830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39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0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4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5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847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849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8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9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858000" y="4952880"/>
            <a:ext cx="2057400" cy="1830600"/>
            <a:chOff x="6858000" y="4952880"/>
            <a:chExt cx="2057400" cy="1830600"/>
          </a:xfrm>
        </p:grpSpPr>
        <p:sp>
          <p:nvSpPr>
            <p:cNvPr id="866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6908760" y="5089320"/>
              <a:ext cx="2005920" cy="1694160"/>
              <a:chOff x="6908760" y="5089320"/>
              <a:chExt cx="2005920" cy="1694160"/>
            </a:xfrm>
          </p:grpSpPr>
          <p:grpSp>
            <p:nvGrpSpPr>
              <p:cNvPr id="868" name=""/>
              <p:cNvGrpSpPr/>
              <p:nvPr/>
            </p:nvGrpSpPr>
            <p:grpSpPr>
              <a:xfrm>
                <a:off x="6908760" y="5089320"/>
                <a:ext cx="2005920" cy="1694160"/>
                <a:chOff x="6908760" y="5089320"/>
                <a:chExt cx="2005920" cy="1694160"/>
              </a:xfrm>
            </p:grpSpPr>
            <p:grpSp>
              <p:nvGrpSpPr>
                <p:cNvPr id="869" name=""/>
                <p:cNvGrpSpPr/>
                <p:nvPr/>
              </p:nvGrpSpPr>
              <p:grpSpPr>
                <a:xfrm>
                  <a:off x="7547040" y="5089320"/>
                  <a:ext cx="1367640" cy="1451520"/>
                  <a:chOff x="7547040" y="5089320"/>
                  <a:chExt cx="1367640" cy="145152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7547040" y="6414480"/>
                    <a:ext cx="273600" cy="1263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7547040" y="6414480"/>
                    <a:ext cx="273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>
                    <a:off x="768348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683480" y="5972760"/>
                    <a:ext cx="1094400" cy="626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8641440" y="6414480"/>
                    <a:ext cx="273240" cy="12636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8641440" y="64144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877824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683480" y="553104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683480" y="508932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879" name=""/>
                    <p:cNvSpPr txBox="1"/>
                    <p:nvPr/>
                  </p:nvSpPr>
                  <p:spPr>
                    <a:xfrm>
                      <a:off x="7039800" y="5215320"/>
                      <a:ext cx="5940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80" name=""/>
                <p:cNvSpPr/>
                <p:nvPr/>
              </p:nvSpPr>
              <p:spPr>
                <a:xfrm>
                  <a:off x="7410600" y="559404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410600" y="603612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82" name=""/>
                    <p:cNvSpPr txBox="1"/>
                    <p:nvPr/>
                  </p:nvSpPr>
                  <p:spPr>
                    <a:xfrm>
                      <a:off x="6908760" y="5657400"/>
                      <a:ext cx="75096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883" name=""/>
                    <p:cNvSpPr txBox="1"/>
                    <p:nvPr/>
                  </p:nvSpPr>
                  <p:spPr>
                    <a:xfrm>
                      <a:off x="6938640" y="6099120"/>
                      <a:ext cx="7038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84" name=""/>
                <p:cNvSpPr/>
                <p:nvPr/>
              </p:nvSpPr>
              <p:spPr>
                <a:xfrm>
                  <a:off x="8049960" y="6476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第三振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7410600" y="5152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1557000" y="5105520"/>
            <a:ext cx="34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地震作用效应（层间剪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82360" y="55008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一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703520" y="5587920"/>
                <a:ext cx="40878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6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676520" y="5969160"/>
                <a:ext cx="3452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1684440" y="6340320"/>
                <a:ext cx="1668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1" name=""/>
          <p:cNvGrpSpPr/>
          <p:nvPr/>
        </p:nvGrpSpPr>
        <p:grpSpPr>
          <a:xfrm>
            <a:off x="4724280" y="3124080"/>
            <a:ext cx="2133720" cy="1905120"/>
            <a:chOff x="4724280" y="3124080"/>
            <a:chExt cx="2133720" cy="1905120"/>
          </a:xfrm>
        </p:grpSpPr>
        <p:grpSp>
          <p:nvGrpSpPr>
            <p:cNvPr id="892" name=""/>
            <p:cNvGrpSpPr/>
            <p:nvPr/>
          </p:nvGrpSpPr>
          <p:grpSpPr>
            <a:xfrm>
              <a:off x="4724280" y="3124080"/>
              <a:ext cx="2057400" cy="1905120"/>
              <a:chOff x="4724280" y="3124080"/>
              <a:chExt cx="2057400" cy="1905120"/>
            </a:xfrm>
          </p:grpSpPr>
          <p:sp>
            <p:nvSpPr>
              <p:cNvPr id="893" name=""/>
              <p:cNvSpPr/>
              <p:nvPr/>
            </p:nvSpPr>
            <p:spPr>
              <a:xfrm>
                <a:off x="4724280" y="3124080"/>
                <a:ext cx="2057400" cy="190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5257440" y="3198960"/>
                <a:ext cx="1219320" cy="1677960"/>
                <a:chOff x="5257440" y="3198960"/>
                <a:chExt cx="1219320" cy="167796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5257800" y="3275280"/>
                  <a:ext cx="144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257800" y="4875480"/>
                  <a:ext cx="7617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6019560" y="4341960"/>
                  <a:ext cx="180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5715000" y="4341960"/>
                  <a:ext cx="304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5486040" y="3808440"/>
                  <a:ext cx="228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5486400" y="327528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5257440" y="3275280"/>
                  <a:ext cx="228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04" name=""/>
                    <p:cNvSpPr txBox="1"/>
                    <p:nvPr/>
                  </p:nvSpPr>
                  <p:spPr>
                    <a:xfrm>
                      <a:off x="5486400" y="3198960"/>
                      <a:ext cx="60948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33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05" name=""/>
                    <p:cNvSpPr txBox="1"/>
                    <p:nvPr/>
                  </p:nvSpPr>
                  <p:spPr>
                    <a:xfrm>
                      <a:off x="5705280" y="3714840"/>
                      <a:ext cx="628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66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06" name=""/>
                    <p:cNvSpPr txBox="1"/>
                    <p:nvPr/>
                  </p:nvSpPr>
                  <p:spPr>
                    <a:xfrm>
                      <a:off x="6049800" y="4189680"/>
                      <a:ext cx="4269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83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907" name=""/>
            <p:cNvSpPr/>
            <p:nvPr/>
          </p:nvSpPr>
          <p:spPr>
            <a:xfrm>
              <a:off x="6019560" y="45720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909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910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3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23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924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925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926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927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928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929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1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2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3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4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5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6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7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939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40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41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942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944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5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949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951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6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968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970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0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5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858000" y="4952880"/>
            <a:ext cx="2057400" cy="1830600"/>
            <a:chOff x="6858000" y="4952880"/>
            <a:chExt cx="2057400" cy="1830600"/>
          </a:xfrm>
        </p:grpSpPr>
        <p:sp>
          <p:nvSpPr>
            <p:cNvPr id="987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6908760" y="5089320"/>
              <a:ext cx="2005920" cy="1694160"/>
              <a:chOff x="6908760" y="5089320"/>
              <a:chExt cx="2005920" cy="169416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908760" y="5089320"/>
                <a:ext cx="2005920" cy="1694160"/>
                <a:chOff x="6908760" y="5089320"/>
                <a:chExt cx="2005920" cy="1694160"/>
              </a:xfrm>
            </p:grpSpPr>
            <p:grpSp>
              <p:nvGrpSpPr>
                <p:cNvPr id="990" name=""/>
                <p:cNvGrpSpPr/>
                <p:nvPr/>
              </p:nvGrpSpPr>
              <p:grpSpPr>
                <a:xfrm>
                  <a:off x="7547040" y="5089320"/>
                  <a:ext cx="1367640" cy="1451520"/>
                  <a:chOff x="7547040" y="5089320"/>
                  <a:chExt cx="1367640" cy="145152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7547040" y="6414480"/>
                    <a:ext cx="273600" cy="1263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7547040" y="6414480"/>
                    <a:ext cx="273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768348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7683480" y="5972760"/>
                    <a:ext cx="1094400" cy="626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641440" y="6414480"/>
                    <a:ext cx="273240" cy="12636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641440" y="64144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V="1">
                    <a:off x="877824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7683480" y="553104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683480" y="508932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000" name=""/>
                    <p:cNvSpPr txBox="1"/>
                    <p:nvPr/>
                  </p:nvSpPr>
                  <p:spPr>
                    <a:xfrm>
                      <a:off x="7039800" y="5215320"/>
                      <a:ext cx="5940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01" name=""/>
                <p:cNvSpPr/>
                <p:nvPr/>
              </p:nvSpPr>
              <p:spPr>
                <a:xfrm>
                  <a:off x="7410600" y="559404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410600" y="603612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03" name=""/>
                    <p:cNvSpPr txBox="1"/>
                    <p:nvPr/>
                  </p:nvSpPr>
                  <p:spPr>
                    <a:xfrm>
                      <a:off x="6908760" y="5657400"/>
                      <a:ext cx="75096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04" name=""/>
                    <p:cNvSpPr txBox="1"/>
                    <p:nvPr/>
                  </p:nvSpPr>
                  <p:spPr>
                    <a:xfrm>
                      <a:off x="6938640" y="6099120"/>
                      <a:ext cx="7038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05" name=""/>
                <p:cNvSpPr/>
                <p:nvPr/>
              </p:nvSpPr>
              <p:spPr>
                <a:xfrm>
                  <a:off x="8049960" y="6476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第三振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7410600" y="5152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7" name=""/>
          <p:cNvSpPr/>
          <p:nvPr/>
        </p:nvSpPr>
        <p:spPr>
          <a:xfrm>
            <a:off x="1557000" y="5105520"/>
            <a:ext cx="34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地震作用效应（层间剪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4724280" y="3124080"/>
            <a:ext cx="2133720" cy="1905120"/>
            <a:chOff x="4724280" y="3124080"/>
            <a:chExt cx="2133720" cy="1905120"/>
          </a:xfrm>
        </p:grpSpPr>
        <p:grpSp>
          <p:nvGrpSpPr>
            <p:cNvPr id="1009" name=""/>
            <p:cNvGrpSpPr/>
            <p:nvPr/>
          </p:nvGrpSpPr>
          <p:grpSpPr>
            <a:xfrm>
              <a:off x="4724280" y="3124080"/>
              <a:ext cx="2057400" cy="1905120"/>
              <a:chOff x="4724280" y="3124080"/>
              <a:chExt cx="2057400" cy="1905120"/>
            </a:xfrm>
          </p:grpSpPr>
          <p:sp>
            <p:nvSpPr>
              <p:cNvPr id="1010" name=""/>
              <p:cNvSpPr/>
              <p:nvPr/>
            </p:nvSpPr>
            <p:spPr>
              <a:xfrm>
                <a:off x="4724280" y="3124080"/>
                <a:ext cx="2057400" cy="190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5257440" y="3198960"/>
                <a:ext cx="1219320" cy="1677960"/>
                <a:chOff x="5257440" y="3198960"/>
                <a:chExt cx="1219320" cy="167796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257800" y="3275280"/>
                  <a:ext cx="144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257800" y="4875480"/>
                  <a:ext cx="7617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6019560" y="4341960"/>
                  <a:ext cx="180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>
                  <a:off x="5715000" y="4341960"/>
                  <a:ext cx="304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5486040" y="3808440"/>
                  <a:ext cx="228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5486400" y="327528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>
                  <a:off x="5257440" y="3275280"/>
                  <a:ext cx="228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21" name=""/>
                    <p:cNvSpPr txBox="1"/>
                    <p:nvPr/>
                  </p:nvSpPr>
                  <p:spPr>
                    <a:xfrm>
                      <a:off x="5486400" y="3198960"/>
                      <a:ext cx="60948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33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22" name=""/>
                    <p:cNvSpPr txBox="1"/>
                    <p:nvPr/>
                  </p:nvSpPr>
                  <p:spPr>
                    <a:xfrm>
                      <a:off x="5705280" y="3714840"/>
                      <a:ext cx="628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66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23" name=""/>
                    <p:cNvSpPr txBox="1"/>
                    <p:nvPr/>
                  </p:nvSpPr>
                  <p:spPr>
                    <a:xfrm>
                      <a:off x="6049800" y="4189680"/>
                      <a:ext cx="4269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83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024" name=""/>
            <p:cNvSpPr/>
            <p:nvPr/>
          </p:nvSpPr>
          <p:spPr>
            <a:xfrm>
              <a:off x="6019560" y="45720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704880" y="542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二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752480" y="5511960"/>
                <a:ext cx="422748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747800" y="5892840"/>
                <a:ext cx="3287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1752480" y="6264360"/>
                <a:ext cx="1479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9" name=""/>
          <p:cNvGrpSpPr/>
          <p:nvPr/>
        </p:nvGrpSpPr>
        <p:grpSpPr>
          <a:xfrm>
            <a:off x="6858000" y="3106800"/>
            <a:ext cx="2057400" cy="1922400"/>
            <a:chOff x="6858000" y="3106800"/>
            <a:chExt cx="2057400" cy="1922400"/>
          </a:xfrm>
        </p:grpSpPr>
        <p:sp>
          <p:nvSpPr>
            <p:cNvPr id="1030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19760" y="3200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1976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807696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543440" y="4267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162200" y="37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543800" y="3733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71625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16256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7684920" y="3106800"/>
                  <a:ext cx="77328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7696080" y="3639960"/>
                  <a:ext cx="5270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8026200" y="4114800"/>
                  <a:ext cx="58896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2" name=""/>
            <p:cNvSpPr/>
            <p:nvPr/>
          </p:nvSpPr>
          <p:spPr>
            <a:xfrm>
              <a:off x="8074080" y="4495680"/>
              <a:ext cx="68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1044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1045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058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059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060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061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062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063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1064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6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7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8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9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0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2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074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75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76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077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1079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0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1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082" name=""/>
          <p:cNvSpPr/>
          <p:nvPr/>
        </p:nvSpPr>
        <p:spPr>
          <a:xfrm>
            <a:off x="609480" y="4470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的水平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1084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1086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5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6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9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0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1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1103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1105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4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5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9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0" y="4952880"/>
            <a:ext cx="2057400" cy="1830600"/>
            <a:chOff x="6858000" y="4952880"/>
            <a:chExt cx="2057400" cy="1830600"/>
          </a:xfrm>
        </p:grpSpPr>
        <p:sp>
          <p:nvSpPr>
            <p:cNvPr id="1122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6908760" y="5089320"/>
              <a:ext cx="2005920" cy="1694160"/>
              <a:chOff x="6908760" y="5089320"/>
              <a:chExt cx="2005920" cy="169416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6908760" y="5089320"/>
                <a:ext cx="2005920" cy="1694160"/>
                <a:chOff x="6908760" y="5089320"/>
                <a:chExt cx="2005920" cy="1694160"/>
              </a:xfrm>
            </p:grpSpPr>
            <p:grpSp>
              <p:nvGrpSpPr>
                <p:cNvPr id="1125" name=""/>
                <p:cNvGrpSpPr/>
                <p:nvPr/>
              </p:nvGrpSpPr>
              <p:grpSpPr>
                <a:xfrm>
                  <a:off x="7547040" y="5089320"/>
                  <a:ext cx="1367640" cy="1451520"/>
                  <a:chOff x="7547040" y="5089320"/>
                  <a:chExt cx="1367640" cy="145152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7547040" y="6414480"/>
                    <a:ext cx="273600" cy="1263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547040" y="6414480"/>
                    <a:ext cx="273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 flipV="1">
                    <a:off x="768348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683480" y="5972760"/>
                    <a:ext cx="1094400" cy="626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8641440" y="6414480"/>
                    <a:ext cx="273240" cy="12636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8641440" y="64144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877824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83480" y="553104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83480" y="508932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135" name=""/>
                    <p:cNvSpPr txBox="1"/>
                    <p:nvPr/>
                  </p:nvSpPr>
                  <p:spPr>
                    <a:xfrm>
                      <a:off x="7039800" y="5215320"/>
                      <a:ext cx="5940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36" name=""/>
                <p:cNvSpPr/>
                <p:nvPr/>
              </p:nvSpPr>
              <p:spPr>
                <a:xfrm>
                  <a:off x="7410600" y="559404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410600" y="603612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8" name=""/>
                    <p:cNvSpPr txBox="1"/>
                    <p:nvPr/>
                  </p:nvSpPr>
                  <p:spPr>
                    <a:xfrm>
                      <a:off x="6908760" y="5657400"/>
                      <a:ext cx="75096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6938640" y="6099120"/>
                      <a:ext cx="7038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>
                  <a:off x="8049960" y="6476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第三振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7410600" y="5152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2" name=""/>
          <p:cNvSpPr/>
          <p:nvPr/>
        </p:nvSpPr>
        <p:spPr>
          <a:xfrm>
            <a:off x="1557000" y="5105520"/>
            <a:ext cx="34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地震作用效应（层间剪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724280" y="3124080"/>
            <a:ext cx="2133720" cy="1905120"/>
            <a:chOff x="4724280" y="3124080"/>
            <a:chExt cx="2133720" cy="1905120"/>
          </a:xfrm>
        </p:grpSpPr>
        <p:grpSp>
          <p:nvGrpSpPr>
            <p:cNvPr id="1144" name=""/>
            <p:cNvGrpSpPr/>
            <p:nvPr/>
          </p:nvGrpSpPr>
          <p:grpSpPr>
            <a:xfrm>
              <a:off x="4724280" y="3124080"/>
              <a:ext cx="2057400" cy="1905120"/>
              <a:chOff x="4724280" y="3124080"/>
              <a:chExt cx="2057400" cy="1905120"/>
            </a:xfrm>
          </p:grpSpPr>
          <p:sp>
            <p:nvSpPr>
              <p:cNvPr id="1145" name=""/>
              <p:cNvSpPr/>
              <p:nvPr/>
            </p:nvSpPr>
            <p:spPr>
              <a:xfrm>
                <a:off x="4724280" y="3124080"/>
                <a:ext cx="2057400" cy="190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5257440" y="3198960"/>
                <a:ext cx="1219320" cy="1677960"/>
                <a:chOff x="5257440" y="3198960"/>
                <a:chExt cx="1219320" cy="16779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5257800" y="3275280"/>
                  <a:ext cx="144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257800" y="4875480"/>
                  <a:ext cx="7617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6019560" y="4341960"/>
                  <a:ext cx="180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5715000" y="4341960"/>
                  <a:ext cx="304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>
                  <a:off x="5486040" y="3808440"/>
                  <a:ext cx="228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5486400" y="327528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>
                  <a:off x="5257440" y="3275280"/>
                  <a:ext cx="228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56" name=""/>
                    <p:cNvSpPr txBox="1"/>
                    <p:nvPr/>
                  </p:nvSpPr>
                  <p:spPr>
                    <a:xfrm>
                      <a:off x="5486400" y="3198960"/>
                      <a:ext cx="60948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33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157" name=""/>
                    <p:cNvSpPr txBox="1"/>
                    <p:nvPr/>
                  </p:nvSpPr>
                  <p:spPr>
                    <a:xfrm>
                      <a:off x="5705280" y="3714840"/>
                      <a:ext cx="628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66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158" name=""/>
                    <p:cNvSpPr txBox="1"/>
                    <p:nvPr/>
                  </p:nvSpPr>
                  <p:spPr>
                    <a:xfrm>
                      <a:off x="6049800" y="4189680"/>
                      <a:ext cx="4269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83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159" name=""/>
            <p:cNvSpPr/>
            <p:nvPr/>
          </p:nvSpPr>
          <p:spPr>
            <a:xfrm>
              <a:off x="6019560" y="45720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6858000" y="3106800"/>
            <a:ext cx="2057400" cy="1922400"/>
            <a:chOff x="6858000" y="3106800"/>
            <a:chExt cx="2057400" cy="1922400"/>
          </a:xfrm>
        </p:grpSpPr>
        <p:sp>
          <p:nvSpPr>
            <p:cNvPr id="1161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19760" y="3200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61976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807696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7543440" y="4267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7162200" y="37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7543800" y="3733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1625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716256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7684920" y="3106800"/>
                  <a:ext cx="77328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1" name=""/>
                <p:cNvSpPr txBox="1"/>
                <p:nvPr/>
              </p:nvSpPr>
              <p:spPr>
                <a:xfrm>
                  <a:off x="7696080" y="3639960"/>
                  <a:ext cx="5270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2" name=""/>
                <p:cNvSpPr txBox="1"/>
                <p:nvPr/>
              </p:nvSpPr>
              <p:spPr>
                <a:xfrm>
                  <a:off x="8026200" y="4114800"/>
                  <a:ext cx="58896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3" name=""/>
            <p:cNvSpPr/>
            <p:nvPr/>
          </p:nvSpPr>
          <p:spPr>
            <a:xfrm>
              <a:off x="8074080" y="4495680"/>
              <a:ext cx="68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7048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第三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1833480" y="5538960"/>
                <a:ext cx="38275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828800" y="5929200"/>
                <a:ext cx="3309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1851120" y="6310440"/>
                <a:ext cx="15015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8" name=""/>
          <p:cNvGrpSpPr/>
          <p:nvPr/>
        </p:nvGrpSpPr>
        <p:grpSpPr>
          <a:xfrm>
            <a:off x="6858000" y="4952880"/>
            <a:ext cx="2057400" cy="1828800"/>
            <a:chOff x="6858000" y="4952880"/>
            <a:chExt cx="2057400" cy="1828800"/>
          </a:xfrm>
        </p:grpSpPr>
        <p:sp>
          <p:nvSpPr>
            <p:cNvPr id="1179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7314840" y="4952880"/>
              <a:ext cx="1148040" cy="1694160"/>
              <a:chOff x="7314840" y="4952880"/>
              <a:chExt cx="1148040" cy="1694160"/>
            </a:xfrm>
          </p:grpSpPr>
          <p:sp>
            <p:nvSpPr>
              <p:cNvPr id="1181" name=""/>
              <p:cNvSpPr/>
              <p:nvPr/>
            </p:nvSpPr>
            <p:spPr>
              <a:xfrm>
                <a:off x="7619760" y="504684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19760" y="6647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848360" y="6113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7314840" y="6113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7315200" y="558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7315200" y="5580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7772400" y="504648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7619760" y="5046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9" name=""/>
                  <p:cNvSpPr txBox="1"/>
                  <p:nvPr/>
                </p:nvSpPr>
                <p:spPr>
                  <a:xfrm>
                    <a:off x="7837200" y="4952880"/>
                    <a:ext cx="46836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0" name=""/>
                  <p:cNvSpPr txBox="1"/>
                  <p:nvPr/>
                </p:nvSpPr>
                <p:spPr>
                  <a:xfrm>
                    <a:off x="7635600" y="5562720"/>
                    <a:ext cx="649440" cy="24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1" name=""/>
                  <p:cNvSpPr txBox="1"/>
                  <p:nvPr/>
                </p:nvSpPr>
                <p:spPr>
                  <a:xfrm>
                    <a:off x="7975440" y="6095880"/>
                    <a:ext cx="48744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2" name=""/>
            <p:cNvSpPr/>
            <p:nvPr/>
          </p:nvSpPr>
          <p:spPr>
            <a:xfrm>
              <a:off x="8127000" y="632448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457200" y="203040"/>
            <a:ext cx="8534520" cy="4276800"/>
            <a:chOff x="457200" y="203040"/>
            <a:chExt cx="8534520" cy="4276800"/>
          </a:xfrm>
        </p:grpSpPr>
        <p:grpSp>
          <p:nvGrpSpPr>
            <p:cNvPr id="1194" name=""/>
            <p:cNvGrpSpPr/>
            <p:nvPr/>
          </p:nvGrpSpPr>
          <p:grpSpPr>
            <a:xfrm>
              <a:off x="457200" y="203040"/>
              <a:ext cx="8534520" cy="3530880"/>
              <a:chOff x="457200" y="203040"/>
              <a:chExt cx="8534520" cy="3530880"/>
            </a:xfrm>
          </p:grpSpPr>
          <p:sp>
            <p:nvSpPr>
              <p:cNvPr id="1195" name=""/>
              <p:cNvSpPr/>
              <p:nvPr/>
            </p:nvSpPr>
            <p:spPr>
              <a:xfrm>
                <a:off x="3179160" y="203040"/>
                <a:ext cx="196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例：试用振型分解反应谱法计算图示框架多遇地震时的层间剪力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抗震设防烈度为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8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度，Ⅱ类场地，设计地震分组为第二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6172200" y="914400"/>
                <a:ext cx="2819520" cy="1905120"/>
                <a:chOff x="6172200" y="914400"/>
                <a:chExt cx="2819520" cy="19051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6172200" y="914400"/>
                  <a:ext cx="2819520" cy="19051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8" name=""/>
                <p:cNvGrpSpPr/>
                <p:nvPr/>
              </p:nvGrpSpPr>
              <p:grpSpPr>
                <a:xfrm>
                  <a:off x="6242040" y="990720"/>
                  <a:ext cx="2749320" cy="1752120"/>
                  <a:chOff x="6242040" y="990720"/>
                  <a:chExt cx="2749320" cy="175212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6242040" y="2590560"/>
                    <a:ext cx="304560" cy="1522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6242040" y="25905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V="1">
                    <a:off x="639432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6394320" y="2057400"/>
                    <a:ext cx="1219320" cy="75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461000" y="2590560"/>
                    <a:ext cx="304920" cy="152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461000" y="2590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V="1">
                    <a:off x="7613640" y="1066680"/>
                    <a:ext cx="0" cy="152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6394320" y="152388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6394320" y="990720"/>
                    <a:ext cx="1219320" cy="759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208" name=""/>
                      <p:cNvSpPr txBox="1"/>
                      <p:nvPr/>
                    </p:nvSpPr>
                    <p:spPr>
                      <a:xfrm>
                        <a:off x="6622920" y="2133360"/>
                        <a:ext cx="87156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209" name=""/>
                      <p:cNvSpPr txBox="1"/>
                      <p:nvPr/>
                    </p:nvSpPr>
                    <p:spPr>
                      <a:xfrm>
                        <a:off x="6581520" y="1600200"/>
                        <a:ext cx="889200" cy="296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210" name=""/>
                      <p:cNvSpPr txBox="1"/>
                      <p:nvPr/>
                    </p:nvSpPr>
                    <p:spPr>
                      <a:xfrm>
                        <a:off x="6564240" y="1066680"/>
                        <a:ext cx="8539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t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211" name=""/>
                      <p:cNvSpPr txBox="1"/>
                      <p:nvPr/>
                    </p:nvSpPr>
                    <p:spPr>
                      <a:xfrm>
                        <a:off x="7613640" y="2133360"/>
                        <a:ext cx="13777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212" name=""/>
                      <p:cNvSpPr txBox="1"/>
                      <p:nvPr/>
                    </p:nvSpPr>
                    <p:spPr>
                      <a:xfrm>
                        <a:off x="7611840" y="1676160"/>
                        <a:ext cx="1379520" cy="2966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213" name=""/>
                      <p:cNvSpPr txBox="1"/>
                      <p:nvPr/>
                    </p:nvSpPr>
                    <p:spPr>
                      <a:xfrm>
                        <a:off x="7665840" y="1135080"/>
                        <a:ext cx="1273320" cy="3139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/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1214" name=""/>
              <p:cNvSpPr/>
              <p:nvPr/>
            </p:nvSpPr>
            <p:spPr>
              <a:xfrm>
                <a:off x="485640" y="888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解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268640" y="888840"/>
                <a:ext cx="24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1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求体系的自振周期和振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16" name=""/>
                  <p:cNvSpPr txBox="1"/>
                  <p:nvPr/>
                </p:nvSpPr>
                <p:spPr>
                  <a:xfrm>
                    <a:off x="457200" y="1371600"/>
                    <a:ext cx="187164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7" name=""/>
                  <p:cNvSpPr txBox="1"/>
                  <p:nvPr/>
                </p:nvSpPr>
                <p:spPr>
                  <a:xfrm>
                    <a:off x="2514600" y="1371600"/>
                    <a:ext cx="182880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8" name=""/>
                  <p:cNvSpPr txBox="1"/>
                  <p:nvPr/>
                </p:nvSpPr>
                <p:spPr>
                  <a:xfrm>
                    <a:off x="4419720" y="1371600"/>
                    <a:ext cx="1752480" cy="11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9" name=""/>
                  <p:cNvSpPr txBox="1"/>
                  <p:nvPr/>
                </p:nvSpPr>
                <p:spPr>
                  <a:xfrm>
                    <a:off x="609480" y="2590920"/>
                    <a:ext cx="13795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20" name=""/>
                  <p:cNvSpPr txBox="1"/>
                  <p:nvPr/>
                </p:nvSpPr>
                <p:spPr>
                  <a:xfrm>
                    <a:off x="2120760" y="2590920"/>
                    <a:ext cx="140508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21" name=""/>
                  <p:cNvSpPr txBox="1"/>
                  <p:nvPr/>
                </p:nvSpPr>
                <p:spPr>
                  <a:xfrm>
                    <a:off x="3581280" y="2581200"/>
                    <a:ext cx="14050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22" name=""/>
              <p:cNvSpPr/>
              <p:nvPr/>
            </p:nvSpPr>
            <p:spPr>
              <a:xfrm>
                <a:off x="1241640" y="2946240"/>
                <a:ext cx="258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（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2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宋体"/>
                  </a:rPr>
                  <a:t>）计算各振型的地震影响系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685800" y="3352680"/>
                <a:ext cx="3924360" cy="381240"/>
                <a:chOff x="685800" y="3352680"/>
                <a:chExt cx="3924360" cy="38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224" name=""/>
                    <p:cNvSpPr txBox="1"/>
                    <p:nvPr/>
                  </p:nvSpPr>
                  <p:spPr>
                    <a:xfrm>
                      <a:off x="685800" y="3352680"/>
                      <a:ext cx="1328760" cy="34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9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225" name=""/>
                    <p:cNvSpPr txBox="1"/>
                    <p:nvPr/>
                  </p:nvSpPr>
                  <p:spPr>
                    <a:xfrm>
                      <a:off x="2133720" y="3352680"/>
                      <a:ext cx="1204920" cy="34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226" name=""/>
                    <p:cNvSpPr txBox="1"/>
                    <p:nvPr/>
                  </p:nvSpPr>
                  <p:spPr>
                    <a:xfrm>
                      <a:off x="3429000" y="3370320"/>
                      <a:ext cx="1181160" cy="36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227" name=""/>
            <p:cNvSpPr/>
            <p:nvPr/>
          </p:nvSpPr>
          <p:spPr>
            <a:xfrm>
              <a:off x="1241640" y="3708360"/>
              <a:ext cx="25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3</a:t>
              </a: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）计算各振型的振型参与系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62120" y="4114800"/>
              <a:ext cx="3924360" cy="365040"/>
              <a:chOff x="762120" y="4114800"/>
              <a:chExt cx="3924360" cy="365040"/>
            </a:xfrm>
          </p:grpSpPr>
          <mc:AlternateContent>
            <mc:Choice xmlns:a14="http://schemas.microsoft.com/office/drawing/2010/main" Requires="a14">
              <p:sp>
                <p:nvSpPr>
                  <p:cNvPr id="1229" name=""/>
                  <p:cNvSpPr txBox="1"/>
                  <p:nvPr/>
                </p:nvSpPr>
                <p:spPr>
                  <a:xfrm>
                    <a:off x="762120" y="4114800"/>
                    <a:ext cx="119844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30" name=""/>
                  <p:cNvSpPr txBox="1"/>
                  <p:nvPr/>
                </p:nvSpPr>
                <p:spPr>
                  <a:xfrm>
                    <a:off x="2057400" y="4114800"/>
                    <a:ext cx="140976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31" name=""/>
                  <p:cNvSpPr txBox="1"/>
                  <p:nvPr/>
                </p:nvSpPr>
                <p:spPr>
                  <a:xfrm>
                    <a:off x="3505320" y="4114800"/>
                    <a:ext cx="11811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32" name=""/>
          <p:cNvSpPr/>
          <p:nvPr/>
        </p:nvSpPr>
        <p:spPr>
          <a:xfrm>
            <a:off x="609480" y="44197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各楼层地震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724280" y="3124080"/>
            <a:ext cx="2057400" cy="1905120"/>
            <a:chOff x="4724280" y="3124080"/>
            <a:chExt cx="2057400" cy="1905120"/>
          </a:xfrm>
        </p:grpSpPr>
        <p:sp>
          <p:nvSpPr>
            <p:cNvPr id="1234" name=""/>
            <p:cNvSpPr/>
            <p:nvPr/>
          </p:nvSpPr>
          <p:spPr>
            <a:xfrm>
              <a:off x="472428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419800" y="3200400"/>
              <a:ext cx="1361880" cy="1557000"/>
              <a:chOff x="5419800" y="3200400"/>
              <a:chExt cx="1361880" cy="1557000"/>
            </a:xfrm>
          </p:grpSpPr>
          <p:sp>
            <p:nvSpPr>
              <p:cNvPr id="1236" name=""/>
              <p:cNvSpPr/>
              <p:nvPr/>
            </p:nvSpPr>
            <p:spPr>
              <a:xfrm>
                <a:off x="5419800" y="4622040"/>
                <a:ext cx="272160" cy="135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41980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555588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555880" y="4148280"/>
                <a:ext cx="1089720" cy="673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09520" y="4622040"/>
                <a:ext cx="272160" cy="1353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09520" y="46220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664560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555880" y="3674160"/>
                <a:ext cx="1089720" cy="6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555880" y="3200400"/>
                <a:ext cx="1089720" cy="6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45" name=""/>
                <p:cNvSpPr txBox="1"/>
                <p:nvPr/>
              </p:nvSpPr>
              <p:spPr>
                <a:xfrm>
                  <a:off x="4800600" y="4267080"/>
                  <a:ext cx="7016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6" name=""/>
            <p:cNvSpPr/>
            <p:nvPr/>
          </p:nvSpPr>
          <p:spPr>
            <a:xfrm>
              <a:off x="5284800" y="3268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84800" y="3741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84800" y="4216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4800600" y="3809880"/>
                  <a:ext cx="71604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4800600" y="3352680"/>
                  <a:ext cx="7174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1" name=""/>
            <p:cNvSpPr/>
            <p:nvPr/>
          </p:nvSpPr>
          <p:spPr>
            <a:xfrm>
              <a:off x="5939280" y="4648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一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858000" y="3124080"/>
            <a:ext cx="2066400" cy="1905120"/>
            <a:chOff x="6858000" y="3124080"/>
            <a:chExt cx="2066400" cy="1905120"/>
          </a:xfrm>
        </p:grpSpPr>
        <p:sp>
          <p:nvSpPr>
            <p:cNvPr id="1253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7558200" y="3200400"/>
              <a:ext cx="1366200" cy="1557000"/>
              <a:chOff x="7558200" y="3200400"/>
              <a:chExt cx="1366200" cy="1557000"/>
            </a:xfrm>
          </p:grpSpPr>
          <p:sp>
            <p:nvSpPr>
              <p:cNvPr id="1255" name=""/>
              <p:cNvSpPr/>
              <p:nvPr/>
            </p:nvSpPr>
            <p:spPr>
              <a:xfrm>
                <a:off x="7558200" y="4622040"/>
                <a:ext cx="273240" cy="13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58200" y="462204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769464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94640" y="4148280"/>
                <a:ext cx="1093320" cy="67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651520" y="4622040"/>
                <a:ext cx="272880" cy="135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651520" y="4622040"/>
                <a:ext cx="27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8787960" y="3267720"/>
                <a:ext cx="0" cy="13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94640" y="3674160"/>
                <a:ext cx="1093320" cy="6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94640" y="3200400"/>
                <a:ext cx="1093320" cy="6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64" name=""/>
                <p:cNvSpPr txBox="1"/>
                <p:nvPr/>
              </p:nvSpPr>
              <p:spPr>
                <a:xfrm>
                  <a:off x="6934320" y="3335400"/>
                  <a:ext cx="82872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5" name=""/>
            <p:cNvSpPr/>
            <p:nvPr/>
          </p:nvSpPr>
          <p:spPr>
            <a:xfrm>
              <a:off x="7421400" y="326880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421400" y="37418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21400" y="4216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8" name=""/>
                <p:cNvSpPr txBox="1"/>
                <p:nvPr/>
              </p:nvSpPr>
              <p:spPr>
                <a:xfrm>
                  <a:off x="6942240" y="3809880"/>
                  <a:ext cx="7030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9" name=""/>
                <p:cNvSpPr txBox="1"/>
                <p:nvPr/>
              </p:nvSpPr>
              <p:spPr>
                <a:xfrm>
                  <a:off x="6950160" y="4282920"/>
                  <a:ext cx="703080" cy="2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0" name=""/>
            <p:cNvSpPr/>
            <p:nvPr/>
          </p:nvSpPr>
          <p:spPr>
            <a:xfrm>
              <a:off x="7930080" y="4648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二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858000" y="4952880"/>
            <a:ext cx="2057400" cy="1830600"/>
            <a:chOff x="6858000" y="4952880"/>
            <a:chExt cx="2057400" cy="1830600"/>
          </a:xfrm>
        </p:grpSpPr>
        <p:sp>
          <p:nvSpPr>
            <p:cNvPr id="1272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6908760" y="5089320"/>
              <a:ext cx="2005920" cy="1694160"/>
              <a:chOff x="6908760" y="5089320"/>
              <a:chExt cx="2005920" cy="16941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6908760" y="5089320"/>
                <a:ext cx="2005920" cy="1694160"/>
                <a:chOff x="6908760" y="5089320"/>
                <a:chExt cx="2005920" cy="169416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7547040" y="5089320"/>
                  <a:ext cx="1367640" cy="1451520"/>
                  <a:chOff x="7547040" y="5089320"/>
                  <a:chExt cx="1367640" cy="145152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7547040" y="6414480"/>
                    <a:ext cx="273600" cy="1263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7547040" y="6414480"/>
                    <a:ext cx="273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flipV="1">
                    <a:off x="768348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7683480" y="5972760"/>
                    <a:ext cx="1094400" cy="626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8641440" y="6414480"/>
                    <a:ext cx="273240" cy="12636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8641440" y="64144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V="1">
                    <a:off x="8778240" y="5151960"/>
                    <a:ext cx="0" cy="126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7683480" y="553104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7683480" y="5089320"/>
                    <a:ext cx="1094400" cy="6300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285" name=""/>
                    <p:cNvSpPr txBox="1"/>
                    <p:nvPr/>
                  </p:nvSpPr>
                  <p:spPr>
                    <a:xfrm>
                      <a:off x="7039800" y="5215320"/>
                      <a:ext cx="5940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286" name=""/>
                <p:cNvSpPr/>
                <p:nvPr/>
              </p:nvSpPr>
              <p:spPr>
                <a:xfrm>
                  <a:off x="7410600" y="559404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410600" y="6036120"/>
                  <a:ext cx="27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88" name=""/>
                    <p:cNvSpPr txBox="1"/>
                    <p:nvPr/>
                  </p:nvSpPr>
                  <p:spPr>
                    <a:xfrm>
                      <a:off x="6908760" y="5657400"/>
                      <a:ext cx="75096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289" name=""/>
                    <p:cNvSpPr txBox="1"/>
                    <p:nvPr/>
                  </p:nvSpPr>
                  <p:spPr>
                    <a:xfrm>
                      <a:off x="6938640" y="6099120"/>
                      <a:ext cx="703800" cy="20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290" name=""/>
                <p:cNvSpPr/>
                <p:nvPr/>
              </p:nvSpPr>
              <p:spPr>
                <a:xfrm>
                  <a:off x="8049960" y="6476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第三振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7410600" y="5152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2" name=""/>
          <p:cNvSpPr/>
          <p:nvPr/>
        </p:nvSpPr>
        <p:spPr>
          <a:xfrm>
            <a:off x="609480" y="4800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地震作用效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724280" y="3124080"/>
            <a:ext cx="2133720" cy="1905120"/>
            <a:chOff x="4724280" y="3124080"/>
            <a:chExt cx="2133720" cy="1905120"/>
          </a:xfrm>
        </p:grpSpPr>
        <p:grpSp>
          <p:nvGrpSpPr>
            <p:cNvPr id="1294" name=""/>
            <p:cNvGrpSpPr/>
            <p:nvPr/>
          </p:nvGrpSpPr>
          <p:grpSpPr>
            <a:xfrm>
              <a:off x="4724280" y="3124080"/>
              <a:ext cx="2057400" cy="1905120"/>
              <a:chOff x="4724280" y="3124080"/>
              <a:chExt cx="2057400" cy="1905120"/>
            </a:xfrm>
          </p:grpSpPr>
          <p:sp>
            <p:nvSpPr>
              <p:cNvPr id="1295" name=""/>
              <p:cNvSpPr/>
              <p:nvPr/>
            </p:nvSpPr>
            <p:spPr>
              <a:xfrm>
                <a:off x="4724280" y="3124080"/>
                <a:ext cx="2057400" cy="190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5257440" y="3198960"/>
                <a:ext cx="1219320" cy="1677960"/>
                <a:chOff x="5257440" y="3198960"/>
                <a:chExt cx="1219320" cy="16779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5257800" y="3275280"/>
                  <a:ext cx="144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257800" y="4875480"/>
                  <a:ext cx="7617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V="1">
                  <a:off x="6019560" y="4341960"/>
                  <a:ext cx="180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5715000" y="4341960"/>
                  <a:ext cx="304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5486040" y="3808440"/>
                  <a:ext cx="228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5715000" y="380844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V="1">
                  <a:off x="5486400" y="3275280"/>
                  <a:ext cx="144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5257440" y="3275280"/>
                  <a:ext cx="228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06" name=""/>
                    <p:cNvSpPr txBox="1"/>
                    <p:nvPr/>
                  </p:nvSpPr>
                  <p:spPr>
                    <a:xfrm>
                      <a:off x="5486400" y="3198960"/>
                      <a:ext cx="60948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33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07" name=""/>
                    <p:cNvSpPr txBox="1"/>
                    <p:nvPr/>
                  </p:nvSpPr>
                  <p:spPr>
                    <a:xfrm>
                      <a:off x="5705280" y="3714840"/>
                      <a:ext cx="628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66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08" name=""/>
                    <p:cNvSpPr txBox="1"/>
                    <p:nvPr/>
                  </p:nvSpPr>
                  <p:spPr>
                    <a:xfrm>
                      <a:off x="6049800" y="4189680"/>
                      <a:ext cx="4269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83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309" name=""/>
            <p:cNvSpPr/>
            <p:nvPr/>
          </p:nvSpPr>
          <p:spPr>
            <a:xfrm>
              <a:off x="6019560" y="45720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6858000" y="3106800"/>
            <a:ext cx="2057400" cy="1922400"/>
            <a:chOff x="6858000" y="3106800"/>
            <a:chExt cx="2057400" cy="1922400"/>
          </a:xfrm>
        </p:grpSpPr>
        <p:sp>
          <p:nvSpPr>
            <p:cNvPr id="1311" name=""/>
            <p:cNvSpPr/>
            <p:nvPr/>
          </p:nvSpPr>
          <p:spPr>
            <a:xfrm>
              <a:off x="6858000" y="3124080"/>
              <a:ext cx="205740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19760" y="3200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1976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807696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7543440" y="4267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162200" y="37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543800" y="3733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1625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716256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0" name=""/>
                <p:cNvSpPr txBox="1"/>
                <p:nvPr/>
              </p:nvSpPr>
              <p:spPr>
                <a:xfrm>
                  <a:off x="7684920" y="3106800"/>
                  <a:ext cx="77328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1" name=""/>
                <p:cNvSpPr txBox="1"/>
                <p:nvPr/>
              </p:nvSpPr>
              <p:spPr>
                <a:xfrm>
                  <a:off x="7696080" y="3639960"/>
                  <a:ext cx="5270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2" name=""/>
                <p:cNvSpPr txBox="1"/>
                <p:nvPr/>
              </p:nvSpPr>
              <p:spPr>
                <a:xfrm>
                  <a:off x="8026200" y="4114800"/>
                  <a:ext cx="58896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3" name=""/>
            <p:cNvSpPr/>
            <p:nvPr/>
          </p:nvSpPr>
          <p:spPr>
            <a:xfrm>
              <a:off x="8074080" y="4495680"/>
              <a:ext cx="68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6858000" y="4952880"/>
            <a:ext cx="2057400" cy="1828800"/>
            <a:chOff x="6858000" y="4952880"/>
            <a:chExt cx="2057400" cy="1828800"/>
          </a:xfrm>
        </p:grpSpPr>
        <p:sp>
          <p:nvSpPr>
            <p:cNvPr id="1325" name=""/>
            <p:cNvSpPr/>
            <p:nvPr/>
          </p:nvSpPr>
          <p:spPr>
            <a:xfrm>
              <a:off x="6858000" y="4952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7314840" y="4952880"/>
              <a:ext cx="1148040" cy="1694160"/>
              <a:chOff x="7314840" y="4952880"/>
              <a:chExt cx="1148040" cy="1694160"/>
            </a:xfrm>
          </p:grpSpPr>
          <p:sp>
            <p:nvSpPr>
              <p:cNvPr id="1327" name=""/>
              <p:cNvSpPr/>
              <p:nvPr/>
            </p:nvSpPr>
            <p:spPr>
              <a:xfrm>
                <a:off x="7619760" y="504684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19760" y="6647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7848360" y="6113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7314840" y="6113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7315200" y="558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315200" y="5580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7772400" y="504648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7619760" y="5046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5" name=""/>
                  <p:cNvSpPr txBox="1"/>
                  <p:nvPr/>
                </p:nvSpPr>
                <p:spPr>
                  <a:xfrm>
                    <a:off x="7837200" y="4952880"/>
                    <a:ext cx="46836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6" name=""/>
                  <p:cNvSpPr txBox="1"/>
                  <p:nvPr/>
                </p:nvSpPr>
                <p:spPr>
                  <a:xfrm>
                    <a:off x="7635600" y="5562720"/>
                    <a:ext cx="649440" cy="24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7" name=""/>
                  <p:cNvSpPr txBox="1"/>
                  <p:nvPr/>
                </p:nvSpPr>
                <p:spPr>
                  <a:xfrm>
                    <a:off x="7975440" y="6095880"/>
                    <a:ext cx="48744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38" name=""/>
            <p:cNvSpPr/>
            <p:nvPr/>
          </p:nvSpPr>
          <p:spPr>
            <a:xfrm>
              <a:off x="8127000" y="632448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振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609480" y="515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地震作用效应（层间剪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914400" y="5502240"/>
                <a:ext cx="3657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914400" y="5943600"/>
                <a:ext cx="36511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914400" y="6324480"/>
                <a:ext cx="35989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3" name=""/>
          <p:cNvGrpSpPr/>
          <p:nvPr/>
        </p:nvGrpSpPr>
        <p:grpSpPr>
          <a:xfrm>
            <a:off x="4724280" y="4911840"/>
            <a:ext cx="2055960" cy="1947240"/>
            <a:chOff x="4724280" y="4911840"/>
            <a:chExt cx="2055960" cy="1947240"/>
          </a:xfrm>
        </p:grpSpPr>
        <p:sp>
          <p:nvSpPr>
            <p:cNvPr id="1344" name=""/>
            <p:cNvSpPr/>
            <p:nvPr/>
          </p:nvSpPr>
          <p:spPr>
            <a:xfrm>
              <a:off x="4724280" y="4911840"/>
              <a:ext cx="205596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5" name=""/>
            <p:cNvGrpSpPr/>
            <p:nvPr/>
          </p:nvGrpSpPr>
          <p:grpSpPr>
            <a:xfrm>
              <a:off x="5095800" y="4979880"/>
              <a:ext cx="1463040" cy="1879200"/>
              <a:chOff x="5095800" y="4979880"/>
              <a:chExt cx="1463040" cy="1879200"/>
            </a:xfrm>
          </p:grpSpPr>
          <p:sp>
            <p:nvSpPr>
              <p:cNvPr id="1346" name=""/>
              <p:cNvSpPr/>
              <p:nvPr/>
            </p:nvSpPr>
            <p:spPr>
              <a:xfrm>
                <a:off x="5198760" y="5047920"/>
                <a:ext cx="0" cy="14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98760" y="6476400"/>
                <a:ext cx="79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5989320" y="60001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5672880" y="600012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3240" y="55242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436000" y="5524200"/>
                <a:ext cx="2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5673240" y="55242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436000" y="5047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5198760" y="5047920"/>
                <a:ext cx="2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436000" y="4979880"/>
                    <a:ext cx="63216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56" name=""/>
                  <p:cNvSpPr txBox="1"/>
                  <p:nvPr/>
                </p:nvSpPr>
                <p:spPr>
                  <a:xfrm>
                    <a:off x="5663160" y="5440320"/>
                    <a:ext cx="65196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6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5924880" y="5864040"/>
                    <a:ext cx="63396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8" name=""/>
              <p:cNvSpPr/>
              <p:nvPr/>
            </p:nvSpPr>
            <p:spPr>
              <a:xfrm>
                <a:off x="5095800" y="65217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组合后各层地震剪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4356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76520" y="9144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8200" y="2054160"/>
                <a:ext cx="8683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61920" y="3378240"/>
                <a:ext cx="63882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838080" y="5029200"/>
                <a:ext cx="813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38780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代入运动方程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91320" y="2895480"/>
            <a:ext cx="2366280" cy="471240"/>
            <a:chOff x="1291320" y="2895480"/>
            <a:chExt cx="2366280" cy="471240"/>
          </a:xfrm>
        </p:grpSpPr>
        <p:sp>
          <p:nvSpPr>
            <p:cNvPr id="120" name=""/>
            <p:cNvSpPr/>
            <p:nvPr/>
          </p:nvSpPr>
          <p:spPr>
            <a:xfrm>
              <a:off x="1291320" y="2895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方程两端左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933640" y="2895480"/>
                  <a:ext cx="723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380880"/>
                <a:ext cx="4611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5800" y="1447920"/>
                <a:ext cx="63244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1295280" y="4800600"/>
            <a:ext cx="3881160" cy="449280"/>
            <a:chOff x="1295280" y="4800600"/>
            <a:chExt cx="3881160" cy="44928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1295280" y="4800600"/>
                  <a:ext cx="16300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159000" y="4800600"/>
                  <a:ext cx="201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5410080"/>
                <a:ext cx="6603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9480" y="304920"/>
                <a:ext cx="813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95280" y="2133720"/>
                <a:ext cx="257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262400" y="2133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广义质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7320" y="327492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广义阻尼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63680" y="2666880"/>
                <a:ext cx="2433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06520" y="3262320"/>
                <a:ext cx="2378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62400" y="266688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广义刚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85800" y="3809880"/>
                <a:ext cx="6521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den>
                    </m:f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den>
                    </m:f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62120" y="457200"/>
                <a:ext cx="6603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47920" y="1523880"/>
                <a:ext cx="40687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049920" y="31240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的振型参与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38080" y="3886200"/>
                <a:ext cx="5154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3880" y="4572000"/>
                <a:ext cx="2667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31880" y="5486400"/>
                <a:ext cx="2343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38080" y="609480"/>
                <a:ext cx="5154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781680" y="685800"/>
            <a:ext cx="1600200" cy="2133720"/>
            <a:chOff x="6781680" y="685800"/>
            <a:chExt cx="1600200" cy="2133720"/>
          </a:xfrm>
        </p:grpSpPr>
        <p:sp>
          <p:nvSpPr>
            <p:cNvPr id="144" name=""/>
            <p:cNvSpPr/>
            <p:nvPr/>
          </p:nvSpPr>
          <p:spPr>
            <a:xfrm>
              <a:off x="6781680" y="685800"/>
              <a:ext cx="160020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7010280" y="762120"/>
              <a:ext cx="1179360" cy="2057400"/>
              <a:chOff x="7010280" y="762120"/>
              <a:chExt cx="1179360" cy="2057400"/>
            </a:xfrm>
          </p:grpSpPr>
          <p:pic>
            <p:nvPicPr>
              <p:cNvPr id="146" name="DZH02" descr=""/>
              <p:cNvPicPr/>
              <p:nvPr/>
            </p:nvPicPr>
            <p:blipFill>
              <a:blip r:embed="rId1"/>
              <a:stretch/>
            </p:blipFill>
            <p:spPr>
              <a:xfrm>
                <a:off x="7041960" y="892440"/>
                <a:ext cx="1147680" cy="16812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7" name=""/>
                  <p:cNvSpPr txBox="1"/>
                  <p:nvPr/>
                </p:nvSpPr>
                <p:spPr>
                  <a:xfrm>
                    <a:off x="7478640" y="762120"/>
                    <a:ext cx="306360" cy="27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7184880" y="2505240"/>
                    <a:ext cx="41580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7010280" y="838440"/>
                    <a:ext cx="174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371600" y="1828800"/>
                <a:ext cx="29876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ξω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295280" y="2362320"/>
                <a:ext cx="4953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89160" y="4556160"/>
                <a:ext cx="48830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19160" y="5505480"/>
                <a:ext cx="1128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95280" y="3733920"/>
                <a:ext cx="4883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858000" y="3276720"/>
            <a:ext cx="1600200" cy="2133360"/>
            <a:chOff x="6858000" y="3276720"/>
            <a:chExt cx="1600200" cy="2133360"/>
          </a:xfrm>
        </p:grpSpPr>
        <p:sp>
          <p:nvSpPr>
            <p:cNvPr id="156" name=""/>
            <p:cNvSpPr/>
            <p:nvPr/>
          </p:nvSpPr>
          <p:spPr>
            <a:xfrm>
              <a:off x="6858000" y="3276720"/>
              <a:ext cx="160020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074000" y="3276720"/>
              <a:ext cx="1268280" cy="2133000"/>
              <a:chOff x="7074000" y="3276720"/>
              <a:chExt cx="1268280" cy="2133000"/>
            </a:xfrm>
          </p:grpSpPr>
          <p:pic>
            <p:nvPicPr>
              <p:cNvPr id="158" name="DZH02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4600" y="3482640"/>
                <a:ext cx="1147680" cy="168084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7583400" y="3276720"/>
                    <a:ext cx="403200" cy="32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7337520" y="5095800"/>
                    <a:ext cx="415800" cy="31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122960" y="3352680"/>
                    <a:ext cx="255600" cy="33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7086600" y="4038480"/>
                    <a:ext cx="189000" cy="33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7074000" y="4419360"/>
                    <a:ext cx="215640" cy="33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4" name=""/>
          <p:cNvSpPr/>
          <p:nvPr/>
        </p:nvSpPr>
        <p:spPr>
          <a:xfrm>
            <a:off x="1238760" y="1217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对于单自由度体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8360" y="32004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对于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折算体系（右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30480" y="5519880"/>
                <a:ext cx="1322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09200" y="2286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相对于基础的位移与加速度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39760" y="1447920"/>
                <a:ext cx="1846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47920" y="2209680"/>
                <a:ext cx="24382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Δ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520280" y="2894040"/>
            <a:ext cx="28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时刻的水平地震作用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47920" y="3429000"/>
                <a:ext cx="2971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133720" y="3886200"/>
                <a:ext cx="3719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Δ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5562720" y="2286000"/>
            <a:ext cx="3200400" cy="1600200"/>
            <a:chOff x="5562720" y="2286000"/>
            <a:chExt cx="3200400" cy="1600200"/>
          </a:xfrm>
        </p:grpSpPr>
        <p:sp>
          <p:nvSpPr>
            <p:cNvPr id="174" name=""/>
            <p:cNvSpPr/>
            <p:nvPr/>
          </p:nvSpPr>
          <p:spPr>
            <a:xfrm>
              <a:off x="5562720" y="2286000"/>
              <a:ext cx="32004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791320" y="2362320"/>
                  <a:ext cx="2832120" cy="14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/>
                          </m:nary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i</m:t>
                              </m:r>
                            </m:sub>
                          </m:sSub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/>
                          </m:nary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648320"/>
                <a:ext cx="1304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59000" y="685800"/>
                <a:ext cx="2342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22360" y="5410080"/>
                <a:ext cx="4064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046680" y="5942160"/>
            <a:ext cx="37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t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时刻第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的水平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90720" y="1828800"/>
                <a:ext cx="4803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Δ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8288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体系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水平地震作用标准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14400" y="4800600"/>
                <a:ext cx="2438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37160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体系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水平地震作用标准值计算公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609480"/>
            <a:ext cx="5341320" cy="991800"/>
            <a:chOff x="990720" y="609480"/>
            <a:chExt cx="5341320" cy="991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990720" y="609480"/>
                  <a:ext cx="40640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[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Δ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2614680" y="1141560"/>
              <a:ext cx="371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t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时刻第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i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质点的水平地震作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38080" y="3124080"/>
            <a:ext cx="4876920" cy="1371600"/>
            <a:chOff x="838080" y="3124080"/>
            <a:chExt cx="4876920" cy="1371600"/>
          </a:xfrm>
        </p:grpSpPr>
        <p:sp>
          <p:nvSpPr>
            <p:cNvPr id="188" name=""/>
            <p:cNvSpPr/>
            <p:nvPr/>
          </p:nvSpPr>
          <p:spPr>
            <a:xfrm>
              <a:off x="838080" y="3200400"/>
              <a:ext cx="4876920" cy="1295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990720" y="3733920"/>
                  <a:ext cx="3956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"/>
            <p:cNvSpPr/>
            <p:nvPr/>
          </p:nvSpPr>
          <p:spPr>
            <a:xfrm>
              <a:off x="1425960" y="3124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对于单自由度体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630360" y="1479600"/>
            <a:ext cx="5321880" cy="459720"/>
            <a:chOff x="630360" y="1479600"/>
            <a:chExt cx="5321880" cy="459720"/>
          </a:xfrm>
        </p:grpSpPr>
        <p:sp>
          <p:nvSpPr>
            <p:cNvPr id="192" name=""/>
            <p:cNvSpPr/>
            <p:nvPr/>
          </p:nvSpPr>
          <p:spPr>
            <a:xfrm>
              <a:off x="2057760" y="1479600"/>
              <a:ext cx="389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相应于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自振周期的地震影响系数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630360" y="1523880"/>
                  <a:ext cx="32688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720720" y="2057400"/>
            <a:ext cx="4252320" cy="480600"/>
            <a:chOff x="720720" y="2057400"/>
            <a:chExt cx="4252320" cy="48060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20720" y="2125440"/>
                  <a:ext cx="325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1820880" y="2057400"/>
              <a:ext cx="31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 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i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质点的水平相对位移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5800" y="2590920"/>
            <a:ext cx="3594600" cy="482400"/>
            <a:chOff x="685800" y="2590920"/>
            <a:chExt cx="3594600" cy="48240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685800" y="2658960"/>
                  <a:ext cx="3049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1733040" y="2590920"/>
              <a:ext cx="25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 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的振型参与系数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2960" y="3124080"/>
            <a:ext cx="2958120" cy="470160"/>
            <a:chOff x="642960" y="3124080"/>
            <a:chExt cx="2958120" cy="47016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42960" y="3201840"/>
                  <a:ext cx="30456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2733120" y="3124080"/>
              <a:ext cx="8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 i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质点的重力荷载代表值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38080" y="3733920"/>
            <a:ext cx="4038840" cy="2819160"/>
            <a:chOff x="838080" y="3733920"/>
            <a:chExt cx="4038840" cy="2819160"/>
          </a:xfrm>
        </p:grpSpPr>
        <p:sp>
          <p:nvSpPr>
            <p:cNvPr id="204" name=""/>
            <p:cNvSpPr/>
            <p:nvPr/>
          </p:nvSpPr>
          <p:spPr>
            <a:xfrm>
              <a:off x="838080" y="3733920"/>
              <a:ext cx="4038840" cy="281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066680" y="3809880"/>
              <a:ext cx="609480" cy="2171160"/>
              <a:chOff x="1066680" y="3809880"/>
              <a:chExt cx="609480" cy="217116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310400" y="5887080"/>
                <a:ext cx="365760" cy="93960"/>
                <a:chOff x="1310400" y="5887080"/>
                <a:chExt cx="365760" cy="93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351080" y="5887440"/>
                  <a:ext cx="32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35108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391400" y="5887080"/>
                  <a:ext cx="8136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43208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47276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513440" y="5887080"/>
                  <a:ext cx="8136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155412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159480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1310400" y="5887080"/>
                  <a:ext cx="8100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1432440" y="3809880"/>
                <a:ext cx="121680" cy="1256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93280" y="3872880"/>
                <a:ext cx="0" cy="20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32440" y="4313160"/>
                <a:ext cx="121680" cy="1260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32440" y="4817160"/>
                <a:ext cx="121680" cy="125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32440" y="5320800"/>
                <a:ext cx="121680" cy="1256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066680" y="51948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66680" y="4691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66680" y="41875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744560" y="3809880"/>
              <a:ext cx="617400" cy="2171520"/>
              <a:chOff x="1744560" y="3809880"/>
              <a:chExt cx="617400" cy="21715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996920" y="5887800"/>
                <a:ext cx="365040" cy="93600"/>
                <a:chOff x="1996920" y="5887800"/>
                <a:chExt cx="365040" cy="936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037240" y="588780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203724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207792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211860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215928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19960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224028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228096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99692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117520" y="3809880"/>
                <a:ext cx="122400" cy="1252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79440" y="3873240"/>
                <a:ext cx="0" cy="20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17520" y="4313160"/>
                <a:ext cx="122400" cy="126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17520" y="4816080"/>
                <a:ext cx="122400" cy="1270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17520" y="5321160"/>
                <a:ext cx="122400" cy="1252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28800" y="38858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28800" y="4419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4876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28800" y="5410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1828800" y="5410080"/>
                    <a:ext cx="282600" cy="28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1752480" y="4876560"/>
                    <a:ext cx="282600" cy="28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6" name=""/>
                  <p:cNvSpPr txBox="1"/>
                  <p:nvPr/>
                </p:nvSpPr>
                <p:spPr>
                  <a:xfrm>
                    <a:off x="1760400" y="4411440"/>
                    <a:ext cx="26676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1744560" y="3885840"/>
                    <a:ext cx="28404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48" name=""/>
            <p:cNvGrpSpPr/>
            <p:nvPr/>
          </p:nvGrpSpPr>
          <p:grpSpPr>
            <a:xfrm>
              <a:off x="2422440" y="3809880"/>
              <a:ext cx="633240" cy="2171520"/>
              <a:chOff x="2422440" y="3809880"/>
              <a:chExt cx="633240" cy="21715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690640" y="5887800"/>
                <a:ext cx="365040" cy="93600"/>
                <a:chOff x="2690640" y="5887800"/>
                <a:chExt cx="365040" cy="93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730960" y="5887800"/>
                  <a:ext cx="32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273096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277164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281232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85300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289332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293400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297468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2690640" y="588780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811240" y="3809880"/>
                <a:ext cx="122400" cy="1252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873160" y="3873240"/>
                <a:ext cx="0" cy="20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811240" y="4313160"/>
                <a:ext cx="122400" cy="12672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811240" y="4816080"/>
                <a:ext cx="122400" cy="1270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811240" y="5321160"/>
                <a:ext cx="122400" cy="1252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22520" y="38858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22520" y="4419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22520" y="4876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22520" y="5410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2522520" y="5410080"/>
                    <a:ext cx="282600" cy="28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9" name=""/>
                  <p:cNvSpPr txBox="1"/>
                  <p:nvPr/>
                </p:nvSpPr>
                <p:spPr>
                  <a:xfrm>
                    <a:off x="2438280" y="4876560"/>
                    <a:ext cx="299880" cy="28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2446200" y="4411440"/>
                    <a:ext cx="28260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2422440" y="3885840"/>
                    <a:ext cx="31752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72" name=""/>
            <p:cNvGrpSpPr/>
            <p:nvPr/>
          </p:nvGrpSpPr>
          <p:grpSpPr>
            <a:xfrm>
              <a:off x="3168720" y="3789360"/>
              <a:ext cx="624960" cy="2171880"/>
              <a:chOff x="3168720" y="3789360"/>
              <a:chExt cx="624960" cy="21718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429000" y="5867640"/>
                <a:ext cx="364680" cy="93600"/>
                <a:chOff x="3429000" y="5867640"/>
                <a:chExt cx="364680" cy="936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469320" y="586764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4693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35100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35503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5910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36313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36720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371268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34290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3549600" y="3789360"/>
                <a:ext cx="121680" cy="12564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11520" y="3853080"/>
                <a:ext cx="0" cy="20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49600" y="4292640"/>
                <a:ext cx="121680" cy="1270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49600" y="4795920"/>
                <a:ext cx="121680" cy="12708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49600" y="5300640"/>
                <a:ext cx="121680" cy="12564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60520" y="38656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60520" y="439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60520" y="4856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60520" y="5389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2" name=""/>
                  <p:cNvSpPr txBox="1"/>
                  <p:nvPr/>
                </p:nvSpPr>
                <p:spPr>
                  <a:xfrm>
                    <a:off x="3260520" y="5373720"/>
                    <a:ext cx="28224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3" name=""/>
                  <p:cNvSpPr txBox="1"/>
                  <p:nvPr/>
                </p:nvSpPr>
                <p:spPr>
                  <a:xfrm>
                    <a:off x="3176640" y="4840560"/>
                    <a:ext cx="2995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4" name=""/>
                  <p:cNvSpPr txBox="1"/>
                  <p:nvPr/>
                </p:nvSpPr>
                <p:spPr>
                  <a:xfrm>
                    <a:off x="3192480" y="4383360"/>
                    <a:ext cx="266040" cy="31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5" name=""/>
                  <p:cNvSpPr txBox="1"/>
                  <p:nvPr/>
                </p:nvSpPr>
                <p:spPr>
                  <a:xfrm>
                    <a:off x="3168720" y="3857760"/>
                    <a:ext cx="29988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6" name=""/>
            <p:cNvGrpSpPr/>
            <p:nvPr/>
          </p:nvGrpSpPr>
          <p:grpSpPr>
            <a:xfrm>
              <a:off x="3854520" y="3789360"/>
              <a:ext cx="624960" cy="2171880"/>
              <a:chOff x="3854520" y="3789360"/>
              <a:chExt cx="624960" cy="21718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114800" y="5867640"/>
                <a:ext cx="364680" cy="93600"/>
                <a:chOff x="4114800" y="5867640"/>
                <a:chExt cx="364680" cy="936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55120" y="5867640"/>
                  <a:ext cx="3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1551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1958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2361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42768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31712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43578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39848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4114800" y="5867640"/>
                  <a:ext cx="8100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4235400" y="3789360"/>
                <a:ext cx="121680" cy="125640"/>
              </a:xfrm>
              <a:prstGeom prst="ellips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97320" y="3853080"/>
                <a:ext cx="0" cy="20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35400" y="4292640"/>
                <a:ext cx="121680" cy="12708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35400" y="4795920"/>
                <a:ext cx="121680" cy="12708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35400" y="5300640"/>
                <a:ext cx="121680" cy="12564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46320" y="38656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46320" y="439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46320" y="4856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46320" y="5389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3946320" y="5381640"/>
                    <a:ext cx="28224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7" name=""/>
                  <p:cNvSpPr txBox="1"/>
                  <p:nvPr/>
                </p:nvSpPr>
                <p:spPr>
                  <a:xfrm>
                    <a:off x="3854520" y="4848480"/>
                    <a:ext cx="315720" cy="29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8" name=""/>
                  <p:cNvSpPr txBox="1"/>
                  <p:nvPr/>
                </p:nvSpPr>
                <p:spPr>
                  <a:xfrm>
                    <a:off x="3870360" y="4391280"/>
                    <a:ext cx="282240" cy="30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9" name=""/>
                  <p:cNvSpPr txBox="1"/>
                  <p:nvPr/>
                </p:nvSpPr>
                <p:spPr>
                  <a:xfrm>
                    <a:off x="3854520" y="3865680"/>
                    <a:ext cx="29988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0" name=""/>
            <p:cNvSpPr/>
            <p:nvPr/>
          </p:nvSpPr>
          <p:spPr>
            <a:xfrm>
              <a:off x="1881360" y="5992920"/>
              <a:ext cx="75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1</a:t>
              </a: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振型地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作用标准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11880" y="599292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2</a:t>
              </a: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振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5760" y="59929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j</a:t>
              </a: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振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24160" y="5992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n</a:t>
              </a:r>
              <a:r>
                <a:rPr b="0" lang="zh-CN" sz="1400" spc="-1" strike="noStrike">
                  <a:solidFill>
                    <a:srgbClr val="660033"/>
                  </a:solidFill>
                  <a:latin typeface="宋体"/>
                </a:rPr>
                <a:t>振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972760" y="3673440"/>
            <a:ext cx="15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作用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（弯矩、位移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848200" y="4497480"/>
                <a:ext cx="15242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5772240" y="5730840"/>
            <a:ext cx="2895480" cy="825480"/>
            <a:chOff x="5772240" y="5730840"/>
            <a:chExt cx="2895480" cy="82548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5772240" y="5806800"/>
                  <a:ext cx="30636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6000840" y="573084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地震作用产生的地震效应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108840" y="535464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选取振型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9480" y="380880"/>
            <a:ext cx="7696440" cy="993240"/>
            <a:chOff x="609480" y="380880"/>
            <a:chExt cx="7696440" cy="993240"/>
          </a:xfrm>
        </p:grpSpPr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09480" y="380880"/>
                  <a:ext cx="24386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"/>
            <p:cNvSpPr/>
            <p:nvPr/>
          </p:nvSpPr>
          <p:spPr>
            <a:xfrm>
              <a:off x="1066680" y="914400"/>
              <a:ext cx="723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体系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j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振型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i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质点水平地震作用标准值计算公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973840" y="2209680"/>
            <a:ext cx="3017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5" y="1800"/>
                </a:moveTo>
                <a:lnTo>
                  <a:pt x="-3943" y="1800"/>
                </a:lnTo>
                <a:lnTo>
                  <a:pt x="-3943" y="32475"/>
                </a:lnTo>
                <a:lnTo>
                  <a:pt x="-943" y="51775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般只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振型，当基本自振周期大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5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房屋高宽比大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振型个数可适当增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179160" y="203040"/>
            <a:ext cx="196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例：试用振型分解反应谱法计算图示框架多遇地震时的层间剪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抗震设防烈度为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度，Ⅱ类场地，设计地震分组为第二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2200" y="914400"/>
            <a:ext cx="2819520" cy="1905120"/>
            <a:chOff x="6172200" y="914400"/>
            <a:chExt cx="2819520" cy="1905120"/>
          </a:xfrm>
        </p:grpSpPr>
        <p:sp>
          <p:nvSpPr>
            <p:cNvPr id="336" name=""/>
            <p:cNvSpPr/>
            <p:nvPr/>
          </p:nvSpPr>
          <p:spPr>
            <a:xfrm>
              <a:off x="6172200" y="914400"/>
              <a:ext cx="281952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242040" y="990720"/>
              <a:ext cx="2749320" cy="1752120"/>
              <a:chOff x="6242040" y="990720"/>
              <a:chExt cx="2749320" cy="1752120"/>
            </a:xfrm>
          </p:grpSpPr>
          <p:sp>
            <p:nvSpPr>
              <p:cNvPr id="338" name=""/>
              <p:cNvSpPr/>
              <p:nvPr/>
            </p:nvSpPr>
            <p:spPr>
              <a:xfrm>
                <a:off x="6242040" y="2590560"/>
                <a:ext cx="30456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42040" y="2590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394320" y="1066680"/>
                <a:ext cx="0" cy="15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94320" y="2057400"/>
                <a:ext cx="1219320" cy="75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461000" y="2590560"/>
                <a:ext cx="304920" cy="152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61000" y="25905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13640" y="1066680"/>
                <a:ext cx="0" cy="15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94320" y="1523880"/>
                <a:ext cx="1219320" cy="75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94320" y="990720"/>
                <a:ext cx="1219320" cy="759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7" name=""/>
                  <p:cNvSpPr txBox="1"/>
                  <p:nvPr/>
                </p:nvSpPr>
                <p:spPr>
                  <a:xfrm>
                    <a:off x="6622920" y="2133360"/>
                    <a:ext cx="87156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6581520" y="1600200"/>
                    <a:ext cx="889200" cy="29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9" name=""/>
                  <p:cNvSpPr txBox="1"/>
                  <p:nvPr/>
                </p:nvSpPr>
                <p:spPr>
                  <a:xfrm>
                    <a:off x="6564240" y="1066680"/>
                    <a:ext cx="853920" cy="31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0" name=""/>
                  <p:cNvSpPr txBox="1"/>
                  <p:nvPr/>
                </p:nvSpPr>
                <p:spPr>
                  <a:xfrm>
                    <a:off x="7613640" y="2133360"/>
                    <a:ext cx="137772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MN/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1" name=""/>
                  <p:cNvSpPr txBox="1"/>
                  <p:nvPr/>
                </p:nvSpPr>
                <p:spPr>
                  <a:xfrm>
                    <a:off x="7611840" y="1676160"/>
                    <a:ext cx="137952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rPr>
                            <m:lit/>
                            <m:nor/>
                          </m:rPr>
                          <m:t xml:space="preserve">MN/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2" name=""/>
                  <p:cNvSpPr txBox="1"/>
                  <p:nvPr/>
                </p:nvSpPr>
                <p:spPr>
                  <a:xfrm>
                    <a:off x="7665840" y="1135080"/>
                    <a:ext cx="1273320" cy="31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MN/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53" name=""/>
          <p:cNvSpPr/>
          <p:nvPr/>
        </p:nvSpPr>
        <p:spPr>
          <a:xfrm>
            <a:off x="485640" y="888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68640" y="888840"/>
            <a:ext cx="24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求体系的自振周期和振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57200" y="1371600"/>
                <a:ext cx="1871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514600" y="1371600"/>
                <a:ext cx="18288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7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419720" y="1371600"/>
                <a:ext cx="17524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9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09480" y="2590920"/>
                <a:ext cx="1379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7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120760" y="2590920"/>
                <a:ext cx="1405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581280" y="2581200"/>
                <a:ext cx="1405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241640" y="2946240"/>
            <a:ext cx="25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）计算各振型的地震影响系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114800" y="2971800"/>
            <a:ext cx="4952880" cy="1676520"/>
            <a:chOff x="4114800" y="2971800"/>
            <a:chExt cx="4952880" cy="1676520"/>
          </a:xfrm>
        </p:grpSpPr>
        <p:sp>
          <p:nvSpPr>
            <p:cNvPr id="363" name=""/>
            <p:cNvSpPr/>
            <p:nvPr/>
          </p:nvSpPr>
          <p:spPr>
            <a:xfrm>
              <a:off x="8229600" y="4313160"/>
              <a:ext cx="8380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31316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90(1.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431316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50(0.7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81480" y="4313160"/>
              <a:ext cx="7621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4313160"/>
              <a:ext cx="10666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罕遇地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29600" y="3978360"/>
              <a:ext cx="8380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397836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16(0.2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43600" y="397836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08(0.1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1480" y="3978360"/>
              <a:ext cx="7621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14800" y="3978360"/>
              <a:ext cx="10666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多遇地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29600" y="3643200"/>
              <a:ext cx="8380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6600" y="364320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43600" y="364320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1480" y="3643200"/>
              <a:ext cx="7621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14800" y="3643200"/>
              <a:ext cx="10666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29600" y="3340080"/>
              <a:ext cx="8380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3340080"/>
              <a:ext cx="114300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3600" y="3340080"/>
              <a:ext cx="114300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81480" y="3340080"/>
              <a:ext cx="76212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4800" y="3340080"/>
              <a:ext cx="10666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14800" y="3340080"/>
              <a:ext cx="49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14800" y="364320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396252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14800" y="431316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14800" y="4648320"/>
              <a:ext cx="49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4800" y="3340080"/>
              <a:ext cx="0" cy="130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34008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3600" y="334008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86600" y="334008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29600" y="334008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67680" y="3340080"/>
              <a:ext cx="0" cy="130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340080"/>
              <a:ext cx="1066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地震影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3340080"/>
              <a:ext cx="3886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烈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51400" y="2971800"/>
              <a:ext cx="280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地震影响系数最大值（阻尼比为</a:t>
              </a: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0.05</a:t>
              </a: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87600" y="3417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查表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500120" y="3446640"/>
                <a:ext cx="1428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4114800" y="4738680"/>
            <a:ext cx="4952880" cy="1662120"/>
            <a:chOff x="4114800" y="4738680"/>
            <a:chExt cx="4952880" cy="1662120"/>
          </a:xfrm>
        </p:grpSpPr>
        <p:sp>
          <p:nvSpPr>
            <p:cNvPr id="400" name=""/>
            <p:cNvSpPr/>
            <p:nvPr/>
          </p:nvSpPr>
          <p:spPr>
            <a:xfrm>
              <a:off x="5288400" y="47386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地震特征周期分组的特征周期值（</a:t>
              </a: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s</a:t>
              </a: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29600" y="6066000"/>
              <a:ext cx="8380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86600" y="606600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606600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6066000"/>
              <a:ext cx="7621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14800" y="6066000"/>
              <a:ext cx="10666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第三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29600" y="5730840"/>
              <a:ext cx="8380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86600" y="573084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3600" y="5730840"/>
              <a:ext cx="11430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1480" y="5730840"/>
              <a:ext cx="7621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4800" y="5730840"/>
              <a:ext cx="10666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第二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29600" y="5396040"/>
              <a:ext cx="8380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539604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43600" y="5396040"/>
              <a:ext cx="11430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480" y="5396040"/>
              <a:ext cx="7621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5396040"/>
              <a:ext cx="10666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第一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9600" y="5092560"/>
              <a:ext cx="83808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5092560"/>
              <a:ext cx="11430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43600" y="5092560"/>
              <a:ext cx="11430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81480" y="5092560"/>
              <a:ext cx="7621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14800" y="5092560"/>
              <a:ext cx="106668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场地类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14800" y="5092560"/>
              <a:ext cx="49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4800" y="542448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14800" y="573084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606600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4800" y="6400800"/>
              <a:ext cx="49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14800" y="5092560"/>
              <a:ext cx="0" cy="130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81480" y="509256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43600" y="509256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509256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29600" y="509256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67680" y="5092560"/>
              <a:ext cx="0" cy="130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752480" y="3876840"/>
                <a:ext cx="1133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张金生</dc:creator>
  <dc:description/>
  <dc:language>en-US</dc:language>
  <cp:lastModifiedBy>gk</cp:lastModifiedBy>
  <dcterms:modified xsi:type="dcterms:W3CDTF">2003-09-24T05:25:11Z</dcterms:modified>
  <cp:revision>245</cp:revision>
  <dc:subject/>
  <dc:title>PowerPoint 演示文稿</dc:title>
</cp:coreProperties>
</file>