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F88-7851-4D02-871E-2459789A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7FE-0E35-4525-A361-D58D3FF6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A8D-76B8-413B-B0C7-E7465890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16E-7E95-46A4-B25D-6B7D0D40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08E-3AF6-4085-AC4E-CD30B7D0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904-920E-4071-B18A-F7FF30B3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596-3EFC-4AB5-9D43-127E5D91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22F-FCCA-4B73-BE5E-D76C1A69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8B5-6582-40E8-B180-5466615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40B-D057-415F-9CD0-D5405DD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8BA-BDA4-45EF-B159-2AF3120E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50D-AF85-4819-A1FF-58A2963E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0E9D-5147-4E3C-9751-58012BDA3F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49120"/>
            <a:ext cx="472428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第四章  多层砌体房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1640" y="919080"/>
            <a:ext cx="1474200" cy="60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4.1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60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层砌体房屋：由粘土砖、烧结多孔粘土砖、粉煤灰中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心砌块和混凝土中小型砌块砌体通过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浆砌筑而成的房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971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层砌体房屋是我国当前建筑业中使用最广泛的一种建筑形式。在民用建筑中约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上，在整个建筑业中约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343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统的砌体结构多采用粘土实心砖和混合砂浆砌筑，通过内外墙的咬砌达到具有一定整体性连接。楼板多采用预制钢筋混凝土空心板，梁和其他构件亦多用预制装配构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271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49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62120" y="304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其它破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2760" y="113184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楼梯间的墙体一般震害较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03560" y="15127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横墙间距小，抗剪刚度大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5320" y="765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楼梯间破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9280" y="1512720"/>
            <a:ext cx="11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原因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5800" y="1817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空间刚度较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45800" y="21225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墙体有削弱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5000" y="2913120"/>
            <a:ext cx="75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突出屋面的屋顶间（电梯机房、水箱间等）、烟囱、女儿墙，由于“鞭端效应”引起破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67160" y="25146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房屋附属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5000" y="3565440"/>
            <a:ext cx="77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房屋附属物的破坏比下部主体结构破坏严重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区有所破坏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区普遍破坏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-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区几乎全部破坏或倒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9520" y="42418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楼板和屋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50320" y="46324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楼板和屋盖是地震时传递水平地震作用的主要构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1320" y="5089680"/>
            <a:ext cx="742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于预制板楼板、楼盖，由于整体性较差、板缝偏小混凝土灌缝不够密实，地震时易于拉裂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以上地区，由于墙体开裂、错位、倒塌引起楼板、楼盖掉落。预制板端部搁置长度过短或无可靠的板与板及板与墙的拉接措施，也造成震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65360" y="455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不同烈度地震作用下多层砖房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143000" y="1173240"/>
            <a:ext cx="6857640" cy="2712960"/>
            <a:chOff x="1143000" y="1173240"/>
            <a:chExt cx="6857640" cy="2712960"/>
          </a:xfrm>
        </p:grpSpPr>
        <p:sp>
          <p:nvSpPr>
            <p:cNvPr id="142" name=""/>
            <p:cNvSpPr/>
            <p:nvPr/>
          </p:nvSpPr>
          <p:spPr>
            <a:xfrm>
              <a:off x="2984040" y="1173240"/>
              <a:ext cx="31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唐山地区多层砖房的震害统计（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%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8320" y="3551040"/>
              <a:ext cx="13719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81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6720" y="3551040"/>
              <a:ext cx="1371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8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6920" y="3551040"/>
              <a:ext cx="1369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5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4560" y="3551040"/>
              <a:ext cx="1332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3000" y="3551040"/>
              <a:ext cx="14115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倒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8320" y="3216240"/>
              <a:ext cx="13719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6720" y="3216240"/>
              <a:ext cx="1371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9.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920" y="3216240"/>
              <a:ext cx="13698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2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4560" y="3216240"/>
              <a:ext cx="13320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3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43000" y="3216240"/>
              <a:ext cx="1411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严重破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28320" y="2881080"/>
              <a:ext cx="13719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56720" y="2881080"/>
              <a:ext cx="1371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6920" y="2881080"/>
              <a:ext cx="1369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4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54560" y="2881080"/>
              <a:ext cx="1332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9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2881080"/>
              <a:ext cx="14115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中等破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8320" y="2546280"/>
              <a:ext cx="13719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6720" y="2546280"/>
              <a:ext cx="1371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5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920" y="2546280"/>
              <a:ext cx="13698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54560" y="2546280"/>
              <a:ext cx="13320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5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2546280"/>
              <a:ext cx="1411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轻微破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8320" y="2211120"/>
              <a:ext cx="13719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56720" y="2211120"/>
              <a:ext cx="1371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920" y="2211120"/>
              <a:ext cx="1369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54560" y="2211120"/>
              <a:ext cx="1332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1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43000" y="2211120"/>
              <a:ext cx="14115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基本完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8320" y="1876320"/>
              <a:ext cx="13719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56720" y="1876320"/>
              <a:ext cx="1371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6920" y="1876320"/>
              <a:ext cx="13698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4560" y="1876320"/>
              <a:ext cx="13320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3000" y="1876320"/>
              <a:ext cx="1411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8320" y="1541520"/>
              <a:ext cx="13719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6720" y="1541520"/>
              <a:ext cx="1371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6920" y="1541520"/>
              <a:ext cx="13698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54560" y="1541520"/>
              <a:ext cx="13320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1541520"/>
              <a:ext cx="1411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43000" y="1541520"/>
              <a:ext cx="685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1876320"/>
              <a:ext cx="68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2211120"/>
              <a:ext cx="68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2546280"/>
              <a:ext cx="68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3000" y="2881080"/>
              <a:ext cx="68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3000" y="3216240"/>
              <a:ext cx="68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3000" y="3551040"/>
              <a:ext cx="68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3886200"/>
              <a:ext cx="685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1541520"/>
              <a:ext cx="0" cy="2344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54560" y="1541520"/>
              <a:ext cx="0" cy="234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6920" y="1541520"/>
              <a:ext cx="0" cy="234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6720" y="1541520"/>
              <a:ext cx="0" cy="234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28320" y="1541520"/>
              <a:ext cx="0" cy="234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0640" y="1541520"/>
              <a:ext cx="0" cy="2344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3000" y="1541520"/>
              <a:ext cx="1411560" cy="6854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破坏程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54560" y="1541520"/>
              <a:ext cx="5446080" cy="3805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烈                              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537080" y="4191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未经抗震设防的多层砖房在高烈度区的倒塌率非常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71640" y="4572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不同用途多层砖房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447920" y="1676520"/>
            <a:ext cx="6095520" cy="2360520"/>
            <a:chOff x="1447920" y="1676520"/>
            <a:chExt cx="6095520" cy="2360520"/>
          </a:xfrm>
        </p:grpSpPr>
        <p:sp>
          <p:nvSpPr>
            <p:cNvPr id="197" name=""/>
            <p:cNvSpPr/>
            <p:nvPr/>
          </p:nvSpPr>
          <p:spPr>
            <a:xfrm>
              <a:off x="5546520" y="3701880"/>
              <a:ext cx="19969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80680" y="3701880"/>
              <a:ext cx="1365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19240" y="3701880"/>
              <a:ext cx="126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3701880"/>
              <a:ext cx="1471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倒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46520" y="3367080"/>
              <a:ext cx="19969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9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80680" y="3367080"/>
              <a:ext cx="1365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7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19240" y="3367080"/>
              <a:ext cx="12610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7920" y="3367080"/>
              <a:ext cx="14713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严重破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46520" y="3031920"/>
              <a:ext cx="19969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9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0680" y="3031920"/>
              <a:ext cx="1365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7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19240" y="3031920"/>
              <a:ext cx="126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9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7920" y="3031920"/>
              <a:ext cx="1471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中等破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46520" y="2697120"/>
              <a:ext cx="19969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80680" y="2697120"/>
              <a:ext cx="1365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19240" y="2697120"/>
              <a:ext cx="12610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9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7920" y="2697120"/>
              <a:ext cx="14713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轻微破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46520" y="2361960"/>
              <a:ext cx="19969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80680" y="2361960"/>
              <a:ext cx="1365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6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19240" y="2361960"/>
              <a:ext cx="126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70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7920" y="2361960"/>
              <a:ext cx="1471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基本完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46520" y="2011320"/>
              <a:ext cx="19969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中小学教学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80680" y="2011320"/>
              <a:ext cx="13658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医     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19240" y="2011320"/>
              <a:ext cx="12610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住      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7920" y="2011320"/>
              <a:ext cx="14713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46520" y="1676520"/>
              <a:ext cx="19969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80680" y="1676520"/>
              <a:ext cx="1365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19240" y="1676520"/>
              <a:ext cx="126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7920" y="1676520"/>
              <a:ext cx="1471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7920" y="1676520"/>
              <a:ext cx="60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920" y="2011320"/>
              <a:ext cx="60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47920" y="2361960"/>
              <a:ext cx="60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7920" y="2697120"/>
              <a:ext cx="60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7920" y="3031920"/>
              <a:ext cx="60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7920" y="3367080"/>
              <a:ext cx="60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7920" y="3701880"/>
              <a:ext cx="60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7920" y="4037040"/>
              <a:ext cx="60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7920" y="1676520"/>
              <a:ext cx="0" cy="2360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19240" y="1676520"/>
              <a:ext cx="0" cy="23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80680" y="1676520"/>
              <a:ext cx="0" cy="23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46520" y="1676520"/>
              <a:ext cx="0" cy="23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3440" y="1676520"/>
              <a:ext cx="0" cy="2360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7920" y="1676520"/>
              <a:ext cx="1471320" cy="6854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破坏程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19240" y="1676520"/>
              <a:ext cx="4623840" cy="3808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建 筑 用 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600200" y="12193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天津市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度区住宅、医院、中小学教学楼震害统计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%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14560" y="449568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横墙间距大震害严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93760" y="380880"/>
            <a:ext cx="1229040" cy="5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4.3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抗震设计的一般规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85720" y="988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平立面布置要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7400" y="144612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房屋高度、层数、层高要限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51600" y="990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房屋平面最好为矩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04440" y="1957320"/>
            <a:ext cx="7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般情况下，层数和总高度不应超过下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09480" y="2438280"/>
            <a:ext cx="8229240" cy="2438280"/>
            <a:chOff x="609480" y="2438280"/>
            <a:chExt cx="8229240" cy="2438280"/>
          </a:xfrm>
        </p:grpSpPr>
        <p:sp>
          <p:nvSpPr>
            <p:cNvPr id="248" name=""/>
            <p:cNvSpPr/>
            <p:nvPr/>
          </p:nvSpPr>
          <p:spPr>
            <a:xfrm>
              <a:off x="8118360" y="452844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8720" y="452844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78360" y="452844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58360" y="452844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38360" y="452844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18360" y="452844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8000" y="452844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78360" y="452844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8000" y="452844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9480" y="4528440"/>
              <a:ext cx="174852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混凝土小砌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18360" y="41796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98720" y="4179600"/>
              <a:ext cx="71964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78360" y="41796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360" y="41796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38360" y="4179600"/>
              <a:ext cx="71964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18360" y="41796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98000" y="41796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78360" y="4179600"/>
              <a:ext cx="71964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58000" y="41796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480" y="4179600"/>
              <a:ext cx="174852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18360" y="38314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98720" y="383148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78360" y="38314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58360" y="38314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38360" y="383148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18360" y="38314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98000" y="38314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8360" y="383148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8000" y="38314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480" y="3831480"/>
              <a:ext cx="17485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18360" y="348336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98720" y="348336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78360" y="348336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8360" y="348336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38360" y="348336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18360" y="348336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98000" y="348336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78360" y="348336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8000" y="348336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9480" y="3483360"/>
              <a:ext cx="174852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普通粘土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18360" y="3134880"/>
              <a:ext cx="72000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层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8720" y="3134880"/>
              <a:ext cx="71964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高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360" y="3134880"/>
              <a:ext cx="72000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层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58360" y="3134880"/>
              <a:ext cx="72000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高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8360" y="3134880"/>
              <a:ext cx="71964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层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18360" y="3134880"/>
              <a:ext cx="72000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高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98000" y="3134880"/>
              <a:ext cx="72000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层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78360" y="3134880"/>
              <a:ext cx="719640" cy="3481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高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58000" y="31348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480" y="3134880"/>
              <a:ext cx="17485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18360" y="27864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98720" y="2786400"/>
              <a:ext cx="71964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78360" y="27864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8360" y="27864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38360" y="2786400"/>
              <a:ext cx="71964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8360" y="27864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98000" y="27864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8360" y="2786400"/>
              <a:ext cx="71964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58000" y="2786400"/>
              <a:ext cx="720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786400"/>
              <a:ext cx="174852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18360" y="24382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98720" y="243828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78360" y="24382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8360" y="24382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8360" y="243828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18360" y="24382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98000" y="24382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78360" y="2438280"/>
              <a:ext cx="719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58000" y="2438280"/>
              <a:ext cx="720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480" y="2438280"/>
              <a:ext cx="17485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9480" y="2438280"/>
              <a:ext cx="8229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480" y="2786400"/>
              <a:ext cx="822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3134880"/>
              <a:ext cx="822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3483360"/>
              <a:ext cx="822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3831480"/>
              <a:ext cx="822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480" y="4179600"/>
              <a:ext cx="822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9480" y="4528440"/>
              <a:ext cx="822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480" y="4876560"/>
              <a:ext cx="8229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2438280"/>
              <a:ext cx="0" cy="2438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58000" y="243828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78360" y="243828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98000" y="243828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18360" y="243828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38360" y="243828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58360" y="243828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78360" y="243828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8720" y="243828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18360" y="243828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838720" y="2438280"/>
              <a:ext cx="0" cy="2438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78360" y="2788560"/>
              <a:ext cx="1440000" cy="34956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18360" y="2788560"/>
              <a:ext cx="1440000" cy="34956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58360" y="2788560"/>
              <a:ext cx="1440360" cy="34956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98720" y="2788560"/>
              <a:ext cx="1440000" cy="34956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78360" y="2438280"/>
              <a:ext cx="5760360" cy="350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烈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58000" y="2438280"/>
              <a:ext cx="720000" cy="10504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最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(m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480" y="2438280"/>
              <a:ext cx="1748520" cy="10504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房屋类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480" y="3839040"/>
              <a:ext cx="1748520" cy="7002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多孔粘土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066680" y="516564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医院、教学楼等及横墙较少的多层砌体房屋，总高度应比前表的规定降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m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数相应减少一层；各层横墙很少的多层砌体房屋，还应根据具体情况再适当降低总高度和减少层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4413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横墙较少的多层砌体住宅楼，当按规定采取加强措施并满足抗震承载力要求时，其高度和层数可按上表采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47040" y="1127160"/>
            <a:ext cx="36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砖和砌快承重房屋的层高不应超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.6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04840" y="16286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房屋高宽比的限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26067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抗震规范对多层砌体房屋不要求作整体弯曲的承载力验算。为了使多层砌体房屋有足够的稳定性和整体抗弯能力，房屋的高宽比应满足下表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86080" y="214956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房屋高宽比：房屋总高度与总宽度的最大比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838080" y="4390920"/>
          <a:ext cx="7620120" cy="7905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烈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大高宽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"/>
          <p:cNvSpPr/>
          <p:nvPr/>
        </p:nvSpPr>
        <p:spPr>
          <a:xfrm>
            <a:off x="3652200" y="3886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房屋高宽比的限值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34880" y="380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抗震横墙间距的限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99072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横向地震作用主要由横墙承受。横墙间距较大时，楼盖水平刚度变小，不能将横向水平地震作用有效传递到横墙，致使纵墙发生较大出平面弯曲变形，造成纵墙倒塌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85800" y="2359080"/>
            <a:ext cx="8000640" cy="2060640"/>
            <a:chOff x="685800" y="2359080"/>
            <a:chExt cx="8000640" cy="2060640"/>
          </a:xfrm>
        </p:grpSpPr>
        <p:sp>
          <p:nvSpPr>
            <p:cNvPr id="356" name=""/>
            <p:cNvSpPr/>
            <p:nvPr/>
          </p:nvSpPr>
          <p:spPr>
            <a:xfrm>
              <a:off x="7774920" y="408456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3400" y="408456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2240" y="408456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40720" y="408456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" y="4084560"/>
              <a:ext cx="43549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木楼、屋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74920" y="3749760"/>
              <a:ext cx="91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63400" y="3749760"/>
              <a:ext cx="91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52240" y="3749760"/>
              <a:ext cx="91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0720" y="3749760"/>
              <a:ext cx="91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5800" y="3749760"/>
              <a:ext cx="43549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装配式钢筋混凝土楼、屋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74920" y="341460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63400" y="341460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52240" y="341460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40720" y="341460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5800" y="3414600"/>
              <a:ext cx="43549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现浇或装配整体式钢筋混凝土楼、屋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74920" y="3079800"/>
              <a:ext cx="91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63400" y="3079800"/>
              <a:ext cx="91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52240" y="3079800"/>
              <a:ext cx="91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40720" y="3079800"/>
              <a:ext cx="91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5800" y="3079800"/>
              <a:ext cx="43549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74920" y="274464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63400" y="274464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52240" y="274464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40720" y="2744640"/>
              <a:ext cx="911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2744640"/>
              <a:ext cx="43549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800" y="2744640"/>
              <a:ext cx="8000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3079800"/>
              <a:ext cx="800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3414600"/>
              <a:ext cx="800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3749760"/>
              <a:ext cx="800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5800" y="4084560"/>
              <a:ext cx="800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5800" y="4419720"/>
              <a:ext cx="8000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5800" y="2744640"/>
              <a:ext cx="0" cy="167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40720" y="2744640"/>
              <a:ext cx="0" cy="167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52240" y="2744640"/>
              <a:ext cx="0" cy="167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63400" y="2744640"/>
              <a:ext cx="0" cy="167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4920" y="2744640"/>
              <a:ext cx="0" cy="167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86440" y="2744640"/>
              <a:ext cx="0" cy="167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40720" y="2743200"/>
              <a:ext cx="3645720" cy="3808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烈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2743200"/>
              <a:ext cx="4354920" cy="6858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房屋类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80120" y="2359080"/>
              <a:ext cx="21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房屋抗震横墙最大间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(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311200" y="379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房屋局部尺寸的限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93996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强烈地震作用下，房屋首先在薄弱部位破坏，这些薄弱部位一般是，窗间墙、尽端墙段、突出屋顶的女儿墙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09480" y="2206800"/>
            <a:ext cx="8076960" cy="3279240"/>
            <a:chOff x="609480" y="2206800"/>
            <a:chExt cx="8076960" cy="3279240"/>
          </a:xfrm>
        </p:grpSpPr>
        <p:sp>
          <p:nvSpPr>
            <p:cNvPr id="399" name=""/>
            <p:cNvSpPr/>
            <p:nvPr/>
          </p:nvSpPr>
          <p:spPr>
            <a:xfrm>
              <a:off x="7889040" y="3632040"/>
              <a:ext cx="797400" cy="18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90920" y="3632040"/>
              <a:ext cx="797760" cy="18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93160" y="3632040"/>
              <a:ext cx="797400" cy="18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0880" y="3632040"/>
              <a:ext cx="872280" cy="18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9480" y="3632040"/>
              <a:ext cx="4811400" cy="18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承重窗间墙最小宽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承重外墙尽端至门窗洞边的最小距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承重外墙尽端至门窗洞边的最小距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内墙阳角至门窗洞边的最小距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无锚固女儿墙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出入口处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最大高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89040" y="3144600"/>
              <a:ext cx="7974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90920" y="3144600"/>
              <a:ext cx="7977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93160" y="3144600"/>
              <a:ext cx="7974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20880" y="3144600"/>
              <a:ext cx="8722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9480" y="3144600"/>
              <a:ext cx="48114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89040" y="2733120"/>
              <a:ext cx="79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90920" y="2733120"/>
              <a:ext cx="797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93160" y="2733120"/>
              <a:ext cx="79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20880" y="2733120"/>
              <a:ext cx="872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80" y="2733120"/>
              <a:ext cx="4811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2733120"/>
              <a:ext cx="8076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14460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9480" y="363204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480" y="5486040"/>
              <a:ext cx="8076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480" y="2733120"/>
              <a:ext cx="0" cy="2752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20880" y="2733120"/>
              <a:ext cx="0" cy="27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93160" y="2733120"/>
              <a:ext cx="0" cy="27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90920" y="2733120"/>
              <a:ext cx="0" cy="27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89040" y="2733120"/>
              <a:ext cx="0" cy="27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86440" y="2733120"/>
              <a:ext cx="0" cy="2752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95680" y="2696040"/>
              <a:ext cx="3290400" cy="467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烈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9480" y="2696040"/>
              <a:ext cx="4786200" cy="9360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部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65400" y="2206800"/>
              <a:ext cx="188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房屋局部尺寸限值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(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927080" y="195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六、结构体系要合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7462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应优先采用横墙承重或纵横墙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同承重的结构体系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20764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纵横墙的布置宜对称，沿水平面内宜对齐，沿竖向应上下连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续；同一轴线上的窗间墙宜均匀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墙片1" descr=""/>
          <p:cNvPicPr/>
          <p:nvPr/>
        </p:nvPicPr>
        <p:blipFill>
          <a:blip r:embed="rId1"/>
          <a:stretch/>
        </p:blipFill>
        <p:spPr>
          <a:xfrm>
            <a:off x="0" y="297180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1" name="墙片2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2" name="丽江旅社外墙震倒，砸死四人" descr=""/>
          <p:cNvPicPr/>
          <p:nvPr/>
        </p:nvPicPr>
        <p:blipFill>
          <a:blip r:embed="rId3"/>
          <a:stretch/>
        </p:blipFill>
        <p:spPr>
          <a:xfrm>
            <a:off x="5638680" y="282600"/>
            <a:ext cx="2610000" cy="17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876680" y="321300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楼梯间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77000" y="3646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宜设在房屋的尽端和转角处。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40514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烟道、风道、垃圾道等不应削弱墙体，当墙体被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弱时，应对墙体采取加强措施，不宜采用无竖向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筋的附墙烟囱及出墙面的烟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49680" y="52578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不宜采用无锚固的钢筋混凝土预制挑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44960" y="3794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防震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50840" y="1889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有下列情况之一时宜设置防震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86280" y="2260440"/>
            <a:ext cx="28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房屋立面高差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以上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房屋有错层，且楼板高差较大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各部分结构刚度、质量截然不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812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体形不对称的结构较体形均匀对称的结构破坏更严重一些。加防震缝可以将体形复杂的结构划成体形对称均匀的结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5960" y="1508040"/>
            <a:ext cx="9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防震缝亦有一些弊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06760" y="4651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量震害表明传统的砌体结构抗震性能较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89856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92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日本关东大地震，东京约有砖石结构房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0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栋，几乎全部遭到不同程度的破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94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原苏联阿什哈巴德地震，砖石结构房屋的破坏和倒塌率达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0%-80%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97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唐山地震，对烈度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、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区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-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砖混结构房屋调查，倒塌率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3.2%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严重破坏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3.6%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尚能修复使用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.2%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实际破坏率达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95.8%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9160" y="335268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震性能差的原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76920" y="387828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刚度大、自重大，地震作用也大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8120" y="4282920"/>
            <a:ext cx="85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砌体材料质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抗剪、抗拉、抗弯强度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地震作用下极易出现裂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8120" y="4784760"/>
            <a:ext cx="84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受施工质量的影响较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砂浆不饱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易出现裂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减弱抗震性能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30600" y="152280"/>
            <a:ext cx="2021400" cy="5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4.4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抗震构造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69880" y="698400"/>
            <a:ext cx="461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于多层砌体结构，抗震构造措施对于提高房屋的抗震性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作到大震不倒有重要意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2394000"/>
            <a:ext cx="21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置钢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混凝土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90920" y="2286000"/>
          <a:ext cx="62578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86000"/>
                    <a:ext cx="62578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838080" y="13176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各种构造措施的目的只有一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即加强房屋的整体性，使之具有一定的变形能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延性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65520" y="1981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多层砖房的抗震构造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378520" y="30492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钢筋混凝土构造柱的主要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86000" y="6238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约束墙体，使之有较高的变形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11720" y="9144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设置位置和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03560" y="1279440"/>
            <a:ext cx="85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构造柱设置部位一般情况下应符合下表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09480" y="1752480"/>
            <a:ext cx="8229600" cy="4543920"/>
            <a:chOff x="609480" y="1752480"/>
            <a:chExt cx="8229600" cy="4543920"/>
          </a:xfrm>
        </p:grpSpPr>
        <p:sp>
          <p:nvSpPr>
            <p:cNvPr id="454" name=""/>
            <p:cNvSpPr/>
            <p:nvPr/>
          </p:nvSpPr>
          <p:spPr>
            <a:xfrm>
              <a:off x="5181480" y="3581280"/>
              <a:ext cx="3657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墙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轴线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与外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墙的局部较小墙垛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7-9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时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楼、电梯的四角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9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时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纵墙与横墙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轴线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交接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2160" y="3581280"/>
              <a:ext cx="1219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24080" y="358128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三、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86000" y="358128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五、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47560" y="3581280"/>
              <a:ext cx="8384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六、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358128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300168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隔开间横墙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轴线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与外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山墙与内纵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7-9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时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楼、电梯的四角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62160" y="30016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300168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86000" y="300168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47560" y="3001680"/>
              <a:ext cx="83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五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300168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六、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1480" y="2422440"/>
              <a:ext cx="3657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时，楼、电梯的四角，每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5m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左右的横墙或单元横墙与外墙交接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2160" y="2422440"/>
              <a:ext cx="1219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24080" y="2422440"/>
              <a:ext cx="838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86000" y="2422440"/>
              <a:ext cx="838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二、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7560" y="2422440"/>
              <a:ext cx="838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三、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480" y="2422440"/>
              <a:ext cx="838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四、五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81480" y="2087280"/>
              <a:ext cx="3657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62160" y="2087280"/>
              <a:ext cx="1219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24080" y="2087280"/>
              <a:ext cx="838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86000" y="2087280"/>
              <a:ext cx="838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7560" y="2087280"/>
              <a:ext cx="83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480" y="2087280"/>
              <a:ext cx="838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81480" y="1752480"/>
              <a:ext cx="3657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62160" y="1752480"/>
              <a:ext cx="1219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24080" y="1752480"/>
              <a:ext cx="838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86000" y="1752480"/>
              <a:ext cx="838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7560" y="1752480"/>
              <a:ext cx="838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9480" y="1752480"/>
              <a:ext cx="838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9480" y="175248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9480" y="2087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9480" y="24224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001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9480" y="3581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9480" y="441936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9480" y="17524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56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860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6216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814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839080" y="17524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480" y="1752480"/>
              <a:ext cx="3352680" cy="3808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房屋层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62160" y="1752480"/>
              <a:ext cx="4876920" cy="6858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设置部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62160" y="2438280"/>
              <a:ext cx="121932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外墙四角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错层部位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墙与外纵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交接处较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洞口两侧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大房间内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墙交接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96680" y="4419360"/>
              <a:ext cx="78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）外廊式和单面走廊式的多层房屋，应根据房屋增加一层后的层数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按前表设置构造柱，且单面走廊两侧的纵墙均应按外墙处理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84240" y="5105160"/>
              <a:ext cx="399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）教学楼、医院等横墙较少的房屋，应根据房屋增加一层后的层数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按上表设置构造柱；当教学楼、医院等横墙较少的房屋为外廊式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单面走廊式时，应按前款要求设置构造柱，但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度不超过四层、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不超过三层和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度不超过二层时，应按增加二层后的层数考虑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135160" y="51768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截面尺寸、配筋和连接的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45080" y="990720"/>
            <a:ext cx="15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截面与配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914400" y="1371600"/>
            <a:ext cx="7620120" cy="1049040"/>
            <a:chOff x="914400" y="1371600"/>
            <a:chExt cx="7620120" cy="1049040"/>
          </a:xfrm>
        </p:grpSpPr>
        <p:sp>
          <p:nvSpPr>
            <p:cNvPr id="505" name=""/>
            <p:cNvSpPr/>
            <p:nvPr/>
          </p:nvSpPr>
          <p:spPr>
            <a:xfrm>
              <a:off x="914400" y="1371600"/>
              <a:ext cx="7620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构造柱最小截面可采用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4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8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纵向钢筋宜采用      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箍筋间距不宜大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5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且在柱上下端适当加密；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超过六层、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超过五层和九度时，构造柱纵向钢筋宜采用       ，箍筋间距不应大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；房屋四角的构造柱可适当加大截面及配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6" name=""/>
                <p:cNvSpPr txBox="1"/>
                <p:nvPr/>
              </p:nvSpPr>
              <p:spPr>
                <a:xfrm>
                  <a:off x="7388280" y="1447560"/>
                  <a:ext cx="612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7" name=""/>
                <p:cNvSpPr txBox="1"/>
                <p:nvPr/>
              </p:nvSpPr>
              <p:spPr>
                <a:xfrm>
                  <a:off x="6629400" y="2057400"/>
                  <a:ext cx="61272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8" name=""/>
          <p:cNvSpPr/>
          <p:nvPr/>
        </p:nvSpPr>
        <p:spPr>
          <a:xfrm>
            <a:off x="1253880" y="2803680"/>
            <a:ext cx="21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构造柱与墙体的连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838080" y="3200400"/>
            <a:ext cx="7620120" cy="744480"/>
            <a:chOff x="838080" y="3200400"/>
            <a:chExt cx="7620120" cy="744480"/>
          </a:xfrm>
        </p:grpSpPr>
        <p:sp>
          <p:nvSpPr>
            <p:cNvPr id="510" name=""/>
            <p:cNvSpPr/>
            <p:nvPr/>
          </p:nvSpPr>
          <p:spPr>
            <a:xfrm>
              <a:off x="838080" y="320040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构造柱与墙体连接处应砌成马牙槎，并应沿墙高每隔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5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设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拉结钢筋，每边深入墙内不宜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1" name=""/>
                <p:cNvSpPr txBox="1"/>
                <p:nvPr/>
              </p:nvSpPr>
              <p:spPr>
                <a:xfrm>
                  <a:off x="893880" y="3581280"/>
                  <a:ext cx="50004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φ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2" name=""/>
          <p:cNvSpPr/>
          <p:nvPr/>
        </p:nvSpPr>
        <p:spPr>
          <a:xfrm>
            <a:off x="838080" y="447984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构造柱与圈梁连接处，构造柱的纵筋应穿过圈梁，保证构造柱纵筋上下贯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93400" y="4022640"/>
            <a:ext cx="21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构造柱与圈梁的连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5181480" y="441360"/>
          <a:ext cx="34290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41360"/>
                    <a:ext cx="34290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762120" y="127944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构造柱可不单独设置基础，但应深入室外地面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0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或与埋深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0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基础圈梁相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75160" y="806400"/>
            <a:ext cx="16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构造柱的基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242244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房屋高度和层数接近限值时的构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柱间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973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房屋高度和层数限值时，纵横墙内的构造柱间距尚应符合下列要求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横墙内构造柱间距不宜大于层高的二倍，下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楼层的构造柱间距适当减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5013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外墙的构造柱间距应每开间设置一柱；当开间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.9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应令设加强措施。内纵墙的构造柱间距不宜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.2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09480" y="4572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置钢筋混凝土圈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97680" y="9144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钢筋混凝土圈梁的主要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52560" y="1295280"/>
            <a:ext cx="758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增加纵横墙体的连接，加强整个房屋的整体性；圈梁可箍住楼盖，增强其整体刚度；减小墙体的自由长度，增强墙体的稳定性；可提高房屋的抗剪强度，约束墙体裂缝的开展；抵抗地基不均匀沉降，减小构造柱计算长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76240" y="3352680"/>
            <a:ext cx="758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装配式钢筋混凝土楼盖、屋盖或木楼盖、屋盖的砖房，横墙承重时应按下表的要求设值圈梁，纵墙承重时每层均应设置圈梁，且抗震墙上的圈梁间距应比表内要求适当加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80240" y="2971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钢筋混凝土圈梁的设置部位及构造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21000" y="2590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圈梁与构造柱一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形成砌体房屋的箍，使其抗震性能大大改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09480" y="4419720"/>
            <a:ext cx="8153640" cy="2073240"/>
            <a:chOff x="609480" y="4419720"/>
            <a:chExt cx="8153640" cy="2073240"/>
          </a:xfrm>
        </p:grpSpPr>
        <p:sp>
          <p:nvSpPr>
            <p:cNvPr id="529" name=""/>
            <p:cNvSpPr/>
            <p:nvPr/>
          </p:nvSpPr>
          <p:spPr>
            <a:xfrm>
              <a:off x="6667560" y="5424480"/>
              <a:ext cx="20955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同上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各层所有横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7080" y="5424480"/>
              <a:ext cx="24004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同上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屋盖处沿所有横墙，且间距不应大于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7m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；楼盖处间距不应大于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7m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构造柱对应部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57400" y="5424480"/>
              <a:ext cx="22096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同上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屋盖处间距不应大于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7m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，楼盖处间距不应大于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5m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构造柱对应部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9480" y="5424480"/>
              <a:ext cx="14479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横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67560" y="5089680"/>
              <a:ext cx="20955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屋盖处及每层楼盖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67080" y="5089680"/>
              <a:ext cx="2400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屋盖处及每层楼盖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7400" y="5089680"/>
              <a:ext cx="22096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屋盖处及每层楼盖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9480" y="5089680"/>
              <a:ext cx="14479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外墙及内纵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67560" y="4754520"/>
              <a:ext cx="2095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67080" y="4754520"/>
              <a:ext cx="2400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57400" y="4754520"/>
              <a:ext cx="2209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480" y="4754520"/>
              <a:ext cx="14479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67560" y="4419720"/>
              <a:ext cx="20955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67080" y="4419720"/>
              <a:ext cx="2400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57400" y="4419720"/>
              <a:ext cx="22096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480" y="4419720"/>
              <a:ext cx="14479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480" y="4419720"/>
              <a:ext cx="815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480" y="4754520"/>
              <a:ext cx="815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9480" y="5089680"/>
              <a:ext cx="815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9480" y="5424480"/>
              <a:ext cx="815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9480" y="6492960"/>
              <a:ext cx="815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80" y="4419720"/>
              <a:ext cx="0" cy="2073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57400" y="4419720"/>
              <a:ext cx="0" cy="20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67080" y="4419720"/>
              <a:ext cx="0" cy="20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67560" y="4419720"/>
              <a:ext cx="0" cy="20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763120" y="4419720"/>
              <a:ext cx="0" cy="2073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480" y="44197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墙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57400" y="4419720"/>
              <a:ext cx="67057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烈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838080" y="457200"/>
            <a:ext cx="758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现浇或装配整体式钢筋混凝土楼盖、屋盖与墙体可靠连接的房屋可不另设圈梁，但楼板沿墙体周边应加强配筋，并应与相应的构造柱钢筋可靠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080" y="1447920"/>
            <a:ext cx="75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圈梁应闭合，遇有洞口应上下搭接，圈梁宜与预制板设在同一标高处或紧靠板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219320" y="2743200"/>
          <a:ext cx="697212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697212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838080" y="457200"/>
            <a:ext cx="75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圈梁在前表要求的间距内无横墙时，应利用梁或板缝中配筋替代圈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09480" y="1228680"/>
          <a:ext cx="822816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28680"/>
                    <a:ext cx="822816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066760" y="39466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圈梁的截面尺寸及配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85800" y="4479840"/>
            <a:ext cx="4114800" cy="1932120"/>
            <a:chOff x="685800" y="4479840"/>
            <a:chExt cx="4114800" cy="1932120"/>
          </a:xfrm>
        </p:grpSpPr>
        <p:sp>
          <p:nvSpPr>
            <p:cNvPr id="566" name=""/>
            <p:cNvSpPr/>
            <p:nvPr/>
          </p:nvSpPr>
          <p:spPr>
            <a:xfrm>
              <a:off x="685800" y="4479840"/>
              <a:ext cx="41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圈梁的截面高度一般不应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8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配筋应符合右表要求，但在软弱粘性土、液化土、新近填土或严重不均匀土层上的砌体房屋的基础圈梁，截面高度不应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8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配筋不应少于     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3276720" y="6095880"/>
                  <a:ext cx="5331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8" name=""/>
          <p:cNvGrpSpPr/>
          <p:nvPr/>
        </p:nvGrpSpPr>
        <p:grpSpPr>
          <a:xfrm>
            <a:off x="5105520" y="4648320"/>
            <a:ext cx="3733560" cy="1427040"/>
            <a:chOff x="5105520" y="4648320"/>
            <a:chExt cx="3733560" cy="1427040"/>
          </a:xfrm>
        </p:grpSpPr>
        <p:sp>
          <p:nvSpPr>
            <p:cNvPr id="569" name=""/>
            <p:cNvSpPr/>
            <p:nvPr/>
          </p:nvSpPr>
          <p:spPr>
            <a:xfrm>
              <a:off x="8229600" y="569448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0120" y="569448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34320" y="56944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05520" y="569448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最大箍筋间距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(m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29600" y="533880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0120" y="533880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34320" y="5338800"/>
              <a:ext cx="685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5338800"/>
              <a:ext cx="1828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最小纵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29600" y="5003640"/>
              <a:ext cx="609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0120" y="5003640"/>
              <a:ext cx="609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34320" y="5003640"/>
              <a:ext cx="685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05520" y="5003640"/>
              <a:ext cx="182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29600" y="464832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20120" y="464832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34320" y="4648320"/>
              <a:ext cx="6858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5520" y="4648320"/>
              <a:ext cx="18288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05520" y="5003640"/>
              <a:ext cx="37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05520" y="5338800"/>
              <a:ext cx="37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05520" y="5694480"/>
              <a:ext cx="37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05520" y="6075360"/>
              <a:ext cx="3733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05520" y="4648320"/>
              <a:ext cx="0" cy="142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34320" y="4648320"/>
              <a:ext cx="0" cy="14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20120" y="4648320"/>
              <a:ext cx="0" cy="14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29600" y="4648320"/>
              <a:ext cx="0" cy="14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839080" y="4648320"/>
              <a:ext cx="0" cy="142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20120" y="4648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05520" y="4648320"/>
              <a:ext cx="2514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29600" y="4648320"/>
              <a:ext cx="609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05520" y="464832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配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34320" y="4648320"/>
              <a:ext cx="19047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烈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7010280" y="5410080"/>
                  <a:ext cx="533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7696080" y="5410080"/>
                  <a:ext cx="533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1" name=""/>
                <p:cNvSpPr txBox="1"/>
                <p:nvPr/>
              </p:nvSpPr>
              <p:spPr>
                <a:xfrm>
                  <a:off x="8305920" y="5410080"/>
                  <a:ext cx="5331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0948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楼盖、屋盖构件具有足够的搭接长度和可靠的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52560" y="1050840"/>
            <a:ext cx="75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现浇钢筋混凝土楼板或屋面板伸进纵、横墙内的长度，均不宜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4400" y="1828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装配式钢筋混凝土楼板或屋面板，当圈梁未设在板的同一标高时，板端伸进外墙的长度不应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伸进内墙的长度不应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在梁上不应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当板的跨度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并与外墙平行时，靠外墙的预制板侧边与墙或圈梁拉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752480" y="3886200"/>
          <a:ext cx="581976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86200"/>
                    <a:ext cx="581976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685800" y="457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房屋端部大房间的楼盖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时房屋的屋盖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时房屋的楼盖、屋盖，圈梁设在板底时，钢筋混凝土预制板应相互拉结，并应与梁、墙或圈梁拉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1600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楼、屋盖的钢筋混凝土梁或物价，应与墙、柱（包括构造柱）或圈梁可靠连接，梁与砖柱的连接不应削弱柱截面，各层独立砖柱顶部应在两个方向均有可靠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2666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坡屋顶房屋的屋架应与顶层圈梁可靠连接，檩条或屋面板应与墙及屋架可靠连接，房屋出入口的檐口瓦应与屋面构件锚固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时，顶层内纵墙顶宜增砌支撑端山墙的踏步式墙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3733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门窗洞口不应采用无筋砖过梁，过梁支撑长度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时不应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4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时不应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6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990720" y="1143000"/>
          <a:ext cx="7250040" cy="50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25004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685800" y="457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预制阳台应与圈梁和楼板的现浇板带可靠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33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能针对砌体结构的弱点进行合理设计，采用适当的构造措施，确保施工质量，砌体结构的抗震性能是能够得到改善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震害调查可见：经抗震设防可减轻砌体结构的震害，减少严重破坏和倒塌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43000" y="1981080"/>
            <a:ext cx="6857640" cy="2019240"/>
            <a:chOff x="1143000" y="1981080"/>
            <a:chExt cx="6857640" cy="2019240"/>
          </a:xfrm>
        </p:grpSpPr>
        <p:sp>
          <p:nvSpPr>
            <p:cNvPr id="55" name=""/>
            <p:cNvSpPr/>
            <p:nvPr/>
          </p:nvSpPr>
          <p:spPr>
            <a:xfrm>
              <a:off x="6629400" y="2674800"/>
              <a:ext cx="137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2674800"/>
              <a:ext cx="1371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85840" y="2674800"/>
              <a:ext cx="1371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9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2674800"/>
              <a:ext cx="137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9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3000" y="2674800"/>
              <a:ext cx="1371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70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400" y="2339640"/>
              <a:ext cx="1371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倒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57800" y="2339640"/>
              <a:ext cx="1371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严重破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5840" y="2339640"/>
              <a:ext cx="1371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中等破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2339640"/>
              <a:ext cx="1371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轻微破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3000" y="2339640"/>
              <a:ext cx="1371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基本完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3000" y="2339640"/>
              <a:ext cx="685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3000" y="2674800"/>
              <a:ext cx="68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43000" y="3009600"/>
              <a:ext cx="685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3000" y="2339640"/>
              <a:ext cx="0" cy="669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14600" y="233964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5840" y="233964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57800" y="233964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29400" y="233964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00640" y="2339640"/>
              <a:ext cx="0" cy="669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3665160"/>
              <a:ext cx="1371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57800" y="3665160"/>
              <a:ext cx="1371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23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5840" y="3665160"/>
              <a:ext cx="1371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29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3665160"/>
              <a:ext cx="1371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35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43000" y="3665160"/>
              <a:ext cx="1371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1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400" y="3330360"/>
              <a:ext cx="137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倒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57800" y="3330360"/>
              <a:ext cx="1371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严重破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85840" y="3330360"/>
              <a:ext cx="1371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中等破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4600" y="3330360"/>
              <a:ext cx="137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轻微破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43000" y="3330360"/>
              <a:ext cx="1371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基本完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3330360"/>
              <a:ext cx="685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000" y="3665160"/>
              <a:ext cx="68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3000" y="4000320"/>
              <a:ext cx="685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3000" y="3330360"/>
              <a:ext cx="0" cy="669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333036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5840" y="333036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57800" y="333036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29400" y="333036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0640" y="3330360"/>
              <a:ext cx="0" cy="669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82480" y="1981080"/>
              <a:ext cx="45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天津市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度区经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度设防的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7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通用住宅震害统计（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%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87840" y="2971440"/>
              <a:ext cx="33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唐山地区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度区多层砖房的震害统计（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%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0948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横墙较少砖房的有关规定与加强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2120" y="914400"/>
            <a:ext cx="75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横墙较少的多层普通粘土砖、多孔粘土砖房的总高度和层数接近或达到规定限制，应采取下列加强措施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1600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房屋的最大开间尺寸不宜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.6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2120" y="2057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一个结构单元内横墙错位数量不宜超过横墙总数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且连续错位不宜多于两道；错位的墙体交接处均应增设构造柱，且楼、屋面板应采用现浇钢筋混凝土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30481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横墙和内纵墙上洞口的宽度不宜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5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；外纵墙上洞口的宽度不宜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1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或开间尺寸的一半；内外墙上洞口位置不应影响外纵墙和横墙的整体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62120" y="4114800"/>
            <a:ext cx="7848360" cy="1001880"/>
            <a:chOff x="762120" y="4114800"/>
            <a:chExt cx="7848360" cy="1001880"/>
          </a:xfrm>
        </p:grpSpPr>
        <p:sp>
          <p:nvSpPr>
            <p:cNvPr id="621" name=""/>
            <p:cNvSpPr/>
            <p:nvPr/>
          </p:nvSpPr>
          <p:spPr>
            <a:xfrm>
              <a:off x="762120" y="4114800"/>
              <a:ext cx="78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4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所有纵横墙均应在楼、屋盖标高处设置加强的现浇钢筋混凝土圈梁，圈梁的截面高度不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5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上下纵筋各不应少于     ，箍筋不小于    ，间距不大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3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1981080" y="4800600"/>
                  <a:ext cx="3160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7467480" y="4495680"/>
                  <a:ext cx="533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3808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所有纵横墙交界处及横墙的中部，均应设置加强柱；该加强柱在横墙内的柱距不宜大于层高，在纵墙内的柱距不宜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.2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最小截面尺寸不宜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40mm×24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配筋宜符合下表的要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04920" y="1739880"/>
          <a:ext cx="8534160" cy="2146320"/>
        </p:xfrm>
        <a:graphic>
          <a:graphicData uri="http://schemas.openxmlformats.org/drawingml/2006/table">
            <a:tbl>
              <a:tblPr/>
              <a:tblGrid>
                <a:gridCol w="685800"/>
                <a:gridCol w="1371600"/>
                <a:gridCol w="1447560"/>
                <a:gridCol w="1067040"/>
                <a:gridCol w="1523880"/>
                <a:gridCol w="1447920"/>
                <a:gridCol w="99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大配筋率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小配筋率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小直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密区范围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密区间距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小直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角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全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边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端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端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>
            <a:off x="304920" y="1739880"/>
            <a:ext cx="685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0720" y="1739880"/>
            <a:ext cx="3886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纵向钢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76920" y="1739880"/>
            <a:ext cx="3962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箍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00800" y="2730600"/>
            <a:ext cx="1447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48720" y="2730600"/>
            <a:ext cx="9903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120" y="4267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一结构单元的楼、屋面板应设在同一标高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762120" y="4724280"/>
            <a:ext cx="7848360" cy="1001880"/>
            <a:chOff x="762120" y="4724280"/>
            <a:chExt cx="7848360" cy="1001880"/>
          </a:xfrm>
        </p:grpSpPr>
        <p:sp>
          <p:nvSpPr>
            <p:cNvPr id="633" name=""/>
            <p:cNvSpPr/>
            <p:nvPr/>
          </p:nvSpPr>
          <p:spPr>
            <a:xfrm>
              <a:off x="762120" y="4724280"/>
              <a:ext cx="78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7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房屋的底层和顶层，在窗台标高处宜设置沿纵横墙通长的水平现浇钢筋混凝土带，其截面高度不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6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宽度不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4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纵向钢筋不少于     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2514600" y="5410080"/>
                  <a:ext cx="43344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φ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048200" y="2808360"/>
                <a:ext cx="4143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38480" y="3189240"/>
                <a:ext cx="414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038480" y="3505320"/>
                <a:ext cx="4143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8202600" y="3200400"/>
                <a:ext cx="316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609480" y="457200"/>
            <a:ext cx="8001000" cy="1237320"/>
            <a:chOff x="609480" y="457200"/>
            <a:chExt cx="8001000" cy="1237320"/>
          </a:xfrm>
        </p:grpSpPr>
        <p:sp>
          <p:nvSpPr>
            <p:cNvPr id="640" name=""/>
            <p:cNvSpPr/>
            <p:nvPr/>
          </p:nvSpPr>
          <p:spPr>
            <a:xfrm>
              <a:off x="609480" y="45720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五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墙体之间的连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2120" y="990720"/>
              <a:ext cx="78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.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长度大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7.2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的大房间及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和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，外墙转角及内外墙交接处，应沿墙高每隔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5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配置    拉结钢筋，并每边深入墙内不宜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4800600" y="1371600"/>
                  <a:ext cx="43344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φ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3" name=""/>
          <p:cNvGrpSpPr/>
          <p:nvPr/>
        </p:nvGrpSpPr>
        <p:grpSpPr>
          <a:xfrm>
            <a:off x="762120" y="2057400"/>
            <a:ext cx="7848360" cy="4076640"/>
            <a:chOff x="762120" y="2057400"/>
            <a:chExt cx="7848360" cy="4076640"/>
          </a:xfrm>
        </p:grpSpPr>
        <p:sp>
          <p:nvSpPr>
            <p:cNvPr id="644" name=""/>
            <p:cNvSpPr/>
            <p:nvPr/>
          </p:nvSpPr>
          <p:spPr>
            <a:xfrm>
              <a:off x="762120" y="2057400"/>
              <a:ext cx="78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后砌的非承重砌体隔墙应沿墙高每隔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5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配置    拉结钢筋与承重墙或柱拉结，并每边深入墙内不宜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5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；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和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长度大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5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的后砌非承重砌体隔墙的墙顶，尚应与楼板或梁拉结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5" name=""/>
                <p:cNvSpPr txBox="1"/>
                <p:nvPr/>
              </p:nvSpPr>
              <p:spPr>
                <a:xfrm>
                  <a:off x="6858000" y="2133720"/>
                  <a:ext cx="43344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φ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46" name=""/>
            <p:cNvGraphicFramePr/>
            <p:nvPr/>
          </p:nvGraphicFramePr>
          <p:xfrm>
            <a:off x="2971800" y="3352680"/>
            <a:ext cx="3043080" cy="278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1800" y="3352680"/>
                      <a:ext cx="304308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609480" y="457200"/>
            <a:ext cx="8077320" cy="4049640"/>
            <a:chOff x="609480" y="457200"/>
            <a:chExt cx="8077320" cy="4049640"/>
          </a:xfrm>
        </p:grpSpPr>
        <p:sp>
          <p:nvSpPr>
            <p:cNvPr id="649" name=""/>
            <p:cNvSpPr/>
            <p:nvPr/>
          </p:nvSpPr>
          <p:spPr>
            <a:xfrm>
              <a:off x="609480" y="45720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六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加强楼梯间的整体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8080" y="1295280"/>
              <a:ext cx="7848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.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和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，顶层楼梯间横墙和外墙应沿墙高每隔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5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设   通长钢筋；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其它各层楼梯间可在休息板平台或楼层半高处设置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6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厚的钢筋混凝土带或配筋砂浆带，砂浆强度等级不应低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M7.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钢筋不宜少于     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"/>
                <p:cNvSpPr txBox="1"/>
                <p:nvPr/>
              </p:nvSpPr>
              <p:spPr>
                <a:xfrm>
                  <a:off x="2465280" y="2274840"/>
                  <a:ext cx="5320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8153280" y="1371600"/>
                  <a:ext cx="43344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φ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3" name=""/>
            <p:cNvSpPr/>
            <p:nvPr/>
          </p:nvSpPr>
          <p:spPr>
            <a:xfrm>
              <a:off x="1846080" y="914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楼梯间应符合下列要求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8080" y="251460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.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和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，楼梯间及门厅内墙阳角处的大梁支承长度不应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5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并应与圈梁连接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8080" y="312408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3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装配式楼梯段应与平台板的梁可靠连接，不应采用墙中悬挑式踏步或踏步竖肋插入墙体的楼梯，不应采用无筋砖砌栏板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8080" y="380988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4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突出屋顶的楼、电梯间，构造柱应伸到顶部，并与顶部圈梁连接，内外墙交接处应沿墙高每隔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5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设    拉结钢筋，且每边伸入墙内不应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5738760" y="4191120"/>
                  <a:ext cx="43344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φ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8" name=""/>
          <p:cNvGrpSpPr/>
          <p:nvPr/>
        </p:nvGrpSpPr>
        <p:grpSpPr>
          <a:xfrm>
            <a:off x="609480" y="4876920"/>
            <a:ext cx="8001000" cy="856080"/>
            <a:chOff x="609480" y="4876920"/>
            <a:chExt cx="8001000" cy="856080"/>
          </a:xfrm>
        </p:grpSpPr>
        <p:sp>
          <p:nvSpPr>
            <p:cNvPr id="659" name=""/>
            <p:cNvSpPr/>
            <p:nvPr/>
          </p:nvSpPr>
          <p:spPr>
            <a:xfrm>
              <a:off x="609480" y="487692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七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采用同一类型的基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2120" y="5334120"/>
              <a:ext cx="78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同一结构单元的基础（或桩承台），宜采用同一类型的基础，底面宜埋在同一标高上，否则应增设基础圈梁并应按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的台阶逐步放坡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914560" y="228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多层砌块房屋的抗震构造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685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置钢筋混凝土芯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74000" y="1143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芯柱设置部位及数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38080" y="1523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混凝土小砌块房屋应按下表要求设置钢筋混凝土芯柱；对医院、教学楼等横墙较少的房屋，应根据房屋增加一层后的层数按下表要求设置芯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57200" y="2666880"/>
            <a:ext cx="8381880" cy="4010040"/>
            <a:chOff x="457200" y="2666880"/>
            <a:chExt cx="8381880" cy="4010040"/>
          </a:xfrm>
        </p:grpSpPr>
        <p:sp>
          <p:nvSpPr>
            <p:cNvPr id="666" name=""/>
            <p:cNvSpPr/>
            <p:nvPr/>
          </p:nvSpPr>
          <p:spPr>
            <a:xfrm>
              <a:off x="5638680" y="5853240"/>
              <a:ext cx="320040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外墙转角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外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洞口两侧各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33720" y="5853240"/>
              <a:ext cx="35049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同上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横墙内芯柱间距不宜大于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2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96960" y="5853240"/>
              <a:ext cx="5367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27080" y="5853240"/>
              <a:ext cx="56988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5853240"/>
              <a:ext cx="56988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38680" y="5029200"/>
              <a:ext cx="32004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外墙转角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外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洞口两侧各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33720" y="5029200"/>
              <a:ext cx="35049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外墙转角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楼梯间四角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各内墙（轴线）与外纵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8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时，内纵墙与横墙（轴线）交接处和洞口两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96960" y="5029200"/>
              <a:ext cx="5367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27080" y="5029200"/>
              <a:ext cx="569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7200" y="5029200"/>
              <a:ext cx="569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38680" y="4160880"/>
              <a:ext cx="3200400" cy="86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33720" y="4160880"/>
              <a:ext cx="3504960" cy="86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外墙转角，楼梯间四角；大房间内外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山墙于内纵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隔开间横墙（轴线）与外纵墙交接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96960" y="4160880"/>
              <a:ext cx="536760" cy="86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27080" y="4160880"/>
              <a:ext cx="569880" cy="86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7200" y="4160880"/>
              <a:ext cx="569880" cy="86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3336840"/>
              <a:ext cx="32004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33720" y="3336840"/>
              <a:ext cx="35049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外墙转角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楼梯间四角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大房间内外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5m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或单元横墙与外纵墙交接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96960" y="3336840"/>
              <a:ext cx="5367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二、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27080" y="3336840"/>
              <a:ext cx="569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三、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7200" y="3336840"/>
              <a:ext cx="569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四、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38680" y="3002040"/>
              <a:ext cx="32004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33720" y="3002040"/>
              <a:ext cx="35049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96960" y="3002040"/>
              <a:ext cx="5367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27080" y="3002040"/>
              <a:ext cx="5698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7200" y="3002040"/>
              <a:ext cx="5698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638680" y="2666880"/>
              <a:ext cx="3200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33720" y="2666880"/>
              <a:ext cx="35049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596960" y="2666880"/>
              <a:ext cx="5367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27080" y="2666880"/>
              <a:ext cx="5698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7200" y="2666880"/>
              <a:ext cx="5698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200" y="30020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57200" y="3336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7200" y="416088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7200" y="502920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" y="58532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7200" y="6676920"/>
              <a:ext cx="838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7200" y="2666880"/>
              <a:ext cx="0" cy="40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27080" y="2666880"/>
              <a:ext cx="0" cy="40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96960" y="2666880"/>
              <a:ext cx="0" cy="40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33720" y="2666880"/>
              <a:ext cx="0" cy="40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38680" y="2666880"/>
              <a:ext cx="0" cy="40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839080" y="2666880"/>
              <a:ext cx="0" cy="40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96960" y="2666880"/>
              <a:ext cx="53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7200" y="2666880"/>
              <a:ext cx="1139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33720" y="2666880"/>
              <a:ext cx="6705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7200" y="2666880"/>
              <a:ext cx="16765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房屋层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33720" y="2666880"/>
              <a:ext cx="35049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设置部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38680" y="2666880"/>
              <a:ext cx="3200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设置数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38680" y="3352680"/>
              <a:ext cx="320040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外墙转角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外墙交接处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灌实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个孔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783880" y="5936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芯柱截面尺寸、混凝土强度等级和配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57640" y="1050840"/>
            <a:ext cx="57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混凝土小砌块房屋芯柱截面尺寸不宜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0mm×12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68440" y="149220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芯柱混凝土强度等级，不应低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C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54840" y="2651040"/>
            <a:ext cx="65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芯柱应伸入室外地面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00mm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或与埋深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0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基础圈梁相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43040" y="3108240"/>
            <a:ext cx="81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为提高墙体抗震受剪承载力而设置的芯柱，宜在墙体内均匀布置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最大净距不宜大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2293560" y="1889280"/>
            <a:ext cx="5972400" cy="703800"/>
            <a:chOff x="2293560" y="1889280"/>
            <a:chExt cx="5972400" cy="703800"/>
          </a:xfrm>
        </p:grpSpPr>
        <p:sp>
          <p:nvSpPr>
            <p:cNvPr id="721" name=""/>
            <p:cNvSpPr/>
            <p:nvPr/>
          </p:nvSpPr>
          <p:spPr>
            <a:xfrm>
              <a:off x="2293560" y="1889280"/>
              <a:ext cx="487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）芯柱竖向钢筋应贯通墙身且与圈梁连接，插筋不应小于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超过五层、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超过四层和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，插筋不应小于     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7620120" y="1981080"/>
                  <a:ext cx="4935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3" name=""/>
                <p:cNvSpPr txBox="1"/>
                <p:nvPr/>
              </p:nvSpPr>
              <p:spPr>
                <a:xfrm>
                  <a:off x="7772400" y="2274840"/>
                  <a:ext cx="4935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7621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砌块房屋中替代芯柱的钢筋混凝土构造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914400" y="914400"/>
            <a:ext cx="7620120" cy="1430280"/>
            <a:chOff x="914400" y="914400"/>
            <a:chExt cx="7620120" cy="1430280"/>
          </a:xfrm>
        </p:grpSpPr>
        <p:sp>
          <p:nvSpPr>
            <p:cNvPr id="726" name=""/>
            <p:cNvSpPr/>
            <p:nvPr/>
          </p:nvSpPr>
          <p:spPr>
            <a:xfrm>
              <a:off x="1055160" y="914400"/>
              <a:ext cx="151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）截面与配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14400" y="1295280"/>
              <a:ext cx="7620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构造柱最小截面可采用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9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9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纵向钢筋宜采用      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箍筋间距不宜大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5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且在柱上下端宜适当加密；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超过五层、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超过四层和九度时，构造柱纵向钢筋宜采用       ，箍筋间距不应大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；外墙转角的构造柱可适当加大截面及配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8" name=""/>
                <p:cNvSpPr txBox="1"/>
                <p:nvPr/>
              </p:nvSpPr>
              <p:spPr>
                <a:xfrm>
                  <a:off x="7388280" y="1371600"/>
                  <a:ext cx="612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7162920" y="1981080"/>
                  <a:ext cx="612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0" name=""/>
          <p:cNvSpPr/>
          <p:nvPr/>
        </p:nvSpPr>
        <p:spPr>
          <a:xfrm>
            <a:off x="1261800" y="2590920"/>
            <a:ext cx="21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构造柱与墙体的连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080" y="298764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构造柱与墙体连接处应砌成马牙槎，与构造柱相邻的砌块孔洞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时宜填实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时应填实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时应填实并插筋；沿墙高每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0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应设拉结钢筋网片，每边深入墙内不宜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38080" y="4343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构造柱与圈梁连接处，构造柱的纵筋应穿过圈梁，保证构造柱纵筋上下贯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93400" y="4022640"/>
            <a:ext cx="21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构造柱与圈梁的连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14400" y="54705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构造柱可不单独设置基础，但应深入室外地面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0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或与埋深小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00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基础圈梁相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30680" y="5089680"/>
            <a:ext cx="16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构造柱的基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609480" y="4572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置钢筋混凝土圈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762120" y="990720"/>
            <a:ext cx="7581960" cy="1353960"/>
            <a:chOff x="762120" y="990720"/>
            <a:chExt cx="7581960" cy="1353960"/>
          </a:xfrm>
        </p:grpSpPr>
        <p:sp>
          <p:nvSpPr>
            <p:cNvPr id="738" name=""/>
            <p:cNvSpPr/>
            <p:nvPr/>
          </p:nvSpPr>
          <p:spPr>
            <a:xfrm>
              <a:off x="762120" y="990720"/>
              <a:ext cx="758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砌块房屋均应设置现浇钢筋混凝土圈梁，圈梁截面尺寸、混凝土强度等级和配筋应符合下列要求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圈梁宽度不应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90m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配筋不应小于     ，箍筋间距不应大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并按下表设置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3200400" y="1981080"/>
                  <a:ext cx="612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0" name=""/>
          <p:cNvGrpSpPr/>
          <p:nvPr/>
        </p:nvGrpSpPr>
        <p:grpSpPr>
          <a:xfrm>
            <a:off x="1600200" y="2803680"/>
            <a:ext cx="6095880" cy="1920600"/>
            <a:chOff x="1600200" y="2803680"/>
            <a:chExt cx="6095880" cy="1920600"/>
          </a:xfrm>
        </p:grpSpPr>
        <p:sp>
          <p:nvSpPr>
            <p:cNvPr id="741" name=""/>
            <p:cNvSpPr/>
            <p:nvPr/>
          </p:nvSpPr>
          <p:spPr>
            <a:xfrm>
              <a:off x="5663880" y="3900240"/>
              <a:ext cx="20318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同上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各层所有横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47760" y="3900240"/>
              <a:ext cx="26157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同上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屋盖处沿所有横墙；楼盖处间距不应大于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7m,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构造柱对应部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00200" y="3900240"/>
              <a:ext cx="14475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内横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63880" y="3565440"/>
              <a:ext cx="20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屋盖处及每层楼盖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47760" y="3565440"/>
              <a:ext cx="26157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屋盖处及每层楼盖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00200" y="3565440"/>
              <a:ext cx="1447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外墙及内纵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63880" y="3168720"/>
              <a:ext cx="2031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47760" y="3168720"/>
              <a:ext cx="2615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3168720"/>
              <a:ext cx="144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63880" y="2803680"/>
              <a:ext cx="2031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7760" y="2803680"/>
              <a:ext cx="2615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00200" y="2803680"/>
              <a:ext cx="1447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00200" y="31687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00200" y="35654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00200" y="39002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00200" y="4724280"/>
              <a:ext cx="609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0200" y="2803680"/>
              <a:ext cx="0" cy="192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47760" y="2803680"/>
              <a:ext cx="0" cy="19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63880" y="2803680"/>
              <a:ext cx="0" cy="19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96080" y="3168720"/>
              <a:ext cx="0" cy="39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96080" y="2803680"/>
              <a:ext cx="0" cy="365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696080" y="3565440"/>
              <a:ext cx="0" cy="1158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47760" y="2803680"/>
              <a:ext cx="261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00200" y="2803680"/>
              <a:ext cx="1447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63880" y="2803680"/>
              <a:ext cx="2031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7760" y="2803680"/>
              <a:ext cx="4647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烈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600200" y="2803680"/>
              <a:ext cx="1447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墙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0948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砌块墙体的拉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914400" y="1066680"/>
            <a:ext cx="7620120" cy="714600"/>
            <a:chOff x="914400" y="1066680"/>
            <a:chExt cx="7620120" cy="714600"/>
          </a:xfrm>
        </p:grpSpPr>
        <p:sp>
          <p:nvSpPr>
            <p:cNvPr id="770" name=""/>
            <p:cNvSpPr/>
            <p:nvPr/>
          </p:nvSpPr>
          <p:spPr>
            <a:xfrm>
              <a:off x="914400" y="106668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砌块房屋墙体交接处或芯柱与墙体连接处应设置拉结钢筋网片，网片可采用   钢筋点焊而成，沿墙高每隔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60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设置，每边深入墙内不宜小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1" name=""/>
                <p:cNvSpPr txBox="1"/>
                <p:nvPr/>
              </p:nvSpPr>
              <p:spPr>
                <a:xfrm>
                  <a:off x="2333520" y="1447920"/>
                  <a:ext cx="333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2" name=""/>
          <p:cNvSpPr/>
          <p:nvPr/>
        </p:nvSpPr>
        <p:spPr>
          <a:xfrm>
            <a:off x="60948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置钢筋混凝土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914400" y="2666880"/>
            <a:ext cx="7620120" cy="1019160"/>
            <a:chOff x="914400" y="2666880"/>
            <a:chExt cx="7620120" cy="1019160"/>
          </a:xfrm>
        </p:grpSpPr>
        <p:sp>
          <p:nvSpPr>
            <p:cNvPr id="774" name=""/>
            <p:cNvSpPr/>
            <p:nvPr/>
          </p:nvSpPr>
          <p:spPr>
            <a:xfrm>
              <a:off x="914400" y="2666880"/>
              <a:ext cx="7620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层、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超过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层、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度时超过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层，在底层和顶层的窗台标高处，沿纵横墙应设置通长的水平现浇钢筋混凝土带，其截面高度不小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60mm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纵筋不小于    ，并应有分布拉结筋，其混凝土强度等级不低于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C2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314960" y="3352680"/>
                  <a:ext cx="5619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φ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6" name=""/>
          <p:cNvSpPr/>
          <p:nvPr/>
        </p:nvSpPr>
        <p:spPr>
          <a:xfrm>
            <a:off x="609480" y="41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它构造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45080" y="46483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与多层砖房相应要求相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30600" y="152280"/>
            <a:ext cx="2021400" cy="5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4.2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震害及其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6120" y="6332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倒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9080" y="10666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全部倒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62640" y="10666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房屋整体性好，而底层强度不足时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65600" y="13716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房屋整体性不好，而上层墙体过于弱时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9080" y="17524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上部倒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0800" y="1752480"/>
            <a:ext cx="246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房屋上层自重大，刚度差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层砌体强度过弱，整体性差时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4400" y="24382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局部倒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11520" y="2438280"/>
            <a:ext cx="59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别部位的整体性特别差，纵墙与横墙间联系不好，平面或立面有显著的局部突出，抗震缝处理不当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57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655308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8080920" y="3352680"/>
            <a:ext cx="485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外纵墙全部脱开横墙而坍塌是较常见的震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53960" y="304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裂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50240" y="890640"/>
            <a:ext cx="34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抗剪承载力不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产生裂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主要有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X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形、水平和竖向三种类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0120" y="1347840"/>
            <a:ext cx="15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 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X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形裂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9720" y="171288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墙体在竖向压力和反复水平剪力作用产生的裂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sp22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295092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1593000" y="4556160"/>
            <a:ext cx="22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常出现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X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形裂缝的位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7160" y="4937040"/>
            <a:ext cx="200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与主震方向平行的墙体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横向，房屋两端的山墙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纵向，窗间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50480" y="60022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若主震方向与横纵墙成某一角度时，常在房屋的角部出现局部倒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9280" y="380880"/>
            <a:ext cx="11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 水平裂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13280" y="83808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大都发生于外纵墙窗口的上下皮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2193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当房屋纵向承重，横墙间距大而屋盖刚度弱时，纵墙出平面受弯产生水平裂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11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 竖向裂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0920" y="236232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大都发生于横纵墙交接处或变化较大的两部体系的交接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2819520"/>
            <a:ext cx="9144000" cy="4038480"/>
            <a:chOff x="0" y="2819520"/>
            <a:chExt cx="9144000" cy="4038480"/>
          </a:xfrm>
        </p:grpSpPr>
        <p:sp>
          <p:nvSpPr>
            <p:cNvPr id="120" name=""/>
            <p:cNvSpPr/>
            <p:nvPr/>
          </p:nvSpPr>
          <p:spPr>
            <a:xfrm>
              <a:off x="0" y="2819520"/>
              <a:ext cx="9144000" cy="4038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62" descr=""/>
            <p:cNvPicPr/>
            <p:nvPr/>
          </p:nvPicPr>
          <p:blipFill>
            <a:blip r:embed="rId1"/>
            <a:stretch/>
          </p:blipFill>
          <p:spPr>
            <a:xfrm>
              <a:off x="1981080" y="3009960"/>
              <a:ext cx="4724640" cy="354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22892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32" descr=""/>
          <p:cNvPicPr/>
          <p:nvPr/>
        </p:nvPicPr>
        <p:blipFill>
          <a:blip r:embed="rId2"/>
          <a:stretch/>
        </p:blipFill>
        <p:spPr>
          <a:xfrm>
            <a:off x="277920" y="609480"/>
            <a:ext cx="421776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86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934320" cy="520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91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0:11:31Z</dcterms:created>
  <dc:creator>雨薇</dc:creator>
  <dc:description/>
  <dc:language>en-US</dc:language>
  <cp:lastModifiedBy>gk</cp:lastModifiedBy>
  <dcterms:modified xsi:type="dcterms:W3CDTF">2003-10-28T09:21:42Z</dcterms:modified>
  <cp:revision>369</cp:revision>
  <dc:subject/>
  <dc:title>PowerPoint 演示文稿</dc:title>
</cp:coreProperties>
</file>