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95E-0279-40EA-BD6F-2BDD047C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348-C368-4454-84CC-F950069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D8E-79D0-455C-9F45-916873BD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32C-C8CB-4000-A0BA-8B321315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B11-3FE8-4F4D-BCCF-83B94477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A4E-CC55-4325-848D-EC5823B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C3A-EDD3-4548-B120-C2F3836C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BA9-0461-4F11-882A-AAC3373B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2EE-9334-47FB-B0E3-E321E9A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717-A1F3-4206-86B6-1E7DF6F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1CD-2790-4986-8D64-6464CE7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E12-5BEC-49B3-90A6-BCF5581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753-E3A0-41AF-BDA7-4299C6F1B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dsin.net/dizhenzhuanti/nrpic/47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57200"/>
            <a:ext cx="723924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第五章多层和高层钢筋混凝土结构房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124080"/>
            <a:ext cx="221004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5.1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95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层和高层钢筋混凝土结构体系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框架结构、框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墙结构、抗震墙结构、筒体结构和框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筒体结构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8200" y="2514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章仅介绍前两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847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钢筋混凝土框架房屋：钢筋混凝土纵梁、横梁和柱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构件组成承重体系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5257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框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墙结构：在框架房屋中增加抗震墙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26680" y="4724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钢筋混凝土框架房屋层数一般在十层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54440" y="5791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墙主要承受水平荷载，框架主要承受竖向荷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25640" y="228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抗震墙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84" descr=""/>
          <p:cNvPicPr/>
          <p:nvPr/>
        </p:nvPicPr>
        <p:blipFill>
          <a:blip r:embed="rId1"/>
          <a:stretch/>
        </p:blipFill>
        <p:spPr>
          <a:xfrm>
            <a:off x="1295280" y="2162160"/>
            <a:ext cx="6477120" cy="4314960"/>
          </a:xfrm>
          <a:prstGeom prst="rect">
            <a:avLst/>
          </a:prstGeom>
          <a:ln w="57240">
            <a:solidFill>
              <a:srgbClr val="00cc99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762120" y="669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强震作用下，抗震墙的震害主要表现在墙肢之间连梁的剪切破坏。主要是由于连梁跨度小，高度大形成深梁，在反复荷载作用下形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型剪切裂缝，为剪切型脆性破坏，尤其是在房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度处的连梁破坏更为明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2564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防震缝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6840" y="106668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防震缝宽度过小，地震时结构相互碰撞造成震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结以上震害调查结果，除注意场地和地基因素外，从结构上主要应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9160" y="297180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的刚度在平面上和沿竖向的分布要规则、均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7040" y="350532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构件要有足够的承载力和延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3040" y="39625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重视构造，加强对混凝土的约束，防止剪切、锚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脆性破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97400" y="4800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施工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948680" y="255600"/>
            <a:ext cx="488808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ff33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宋体"/>
              </a:rPr>
              <a:t>5.3 </a:t>
            </a:r>
            <a:r>
              <a:rPr b="1" lang="zh-CN" sz="2800" spc="-1" strike="noStrike">
                <a:solidFill>
                  <a:srgbClr val="ccff33"/>
                </a:solidFill>
                <a:latin typeface="宋体"/>
              </a:rPr>
              <a:t>钢筋混凝土结构房屋设计特点及概念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616400" y="990720"/>
            <a:ext cx="2498400" cy="459720"/>
            <a:chOff x="1616400" y="990720"/>
            <a:chExt cx="2498400" cy="459720"/>
          </a:xfrm>
        </p:grpSpPr>
        <p:sp>
          <p:nvSpPr>
            <p:cNvPr id="259" name=""/>
            <p:cNvSpPr/>
            <p:nvPr/>
          </p:nvSpPr>
          <p:spPr>
            <a:xfrm>
              <a:off x="1616400" y="99072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一、单柱及群柱的     曲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3429000" y="1057320"/>
                  <a:ext cx="6858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1371600" y="1506600"/>
            <a:ext cx="1447920" cy="1923840"/>
            <a:chOff x="1371600" y="1506600"/>
            <a:chExt cx="1447920" cy="1923840"/>
          </a:xfrm>
        </p:grpSpPr>
        <p:sp>
          <p:nvSpPr>
            <p:cNvPr id="262" name=""/>
            <p:cNvSpPr/>
            <p:nvPr/>
          </p:nvSpPr>
          <p:spPr>
            <a:xfrm>
              <a:off x="1600200" y="1906560"/>
              <a:ext cx="1522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1906560"/>
              <a:ext cx="380880" cy="144792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912"/>
                  </a:moveTo>
                  <a:cubicBezTo>
                    <a:pt x="16" y="808"/>
                    <a:pt x="32" y="704"/>
                    <a:pt x="48" y="624"/>
                  </a:cubicBezTo>
                  <a:cubicBezTo>
                    <a:pt x="64" y="544"/>
                    <a:pt x="72" y="512"/>
                    <a:pt x="96" y="432"/>
                  </a:cubicBezTo>
                  <a:cubicBezTo>
                    <a:pt x="120" y="352"/>
                    <a:pt x="168" y="216"/>
                    <a:pt x="192" y="144"/>
                  </a:cubicBezTo>
                  <a:cubicBezTo>
                    <a:pt x="216" y="72"/>
                    <a:pt x="232" y="2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1974960"/>
              <a:ext cx="365400" cy="1379520"/>
            </a:xfrm>
            <a:custGeom>
              <a:avLst/>
              <a:gdLst/>
              <a:ahLst/>
              <a:rect l="l" t="t" r="r" b="b"/>
              <a:pathLst>
                <a:path w="230" h="869">
                  <a:moveTo>
                    <a:pt x="0" y="869"/>
                  </a:moveTo>
                  <a:cubicBezTo>
                    <a:pt x="16" y="765"/>
                    <a:pt x="32" y="661"/>
                    <a:pt x="48" y="581"/>
                  </a:cubicBezTo>
                  <a:cubicBezTo>
                    <a:pt x="64" y="501"/>
                    <a:pt x="72" y="469"/>
                    <a:pt x="96" y="389"/>
                  </a:cubicBezTo>
                  <a:cubicBezTo>
                    <a:pt x="120" y="309"/>
                    <a:pt x="170" y="166"/>
                    <a:pt x="192" y="101"/>
                  </a:cubicBezTo>
                  <a:cubicBezTo>
                    <a:pt x="214" y="36"/>
                    <a:pt x="222" y="21"/>
                    <a:pt x="23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1080" y="19065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1600" y="3354480"/>
              <a:ext cx="609480" cy="75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1600" y="3354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7400" y="1982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76520" y="17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167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6520" y="167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2590920" y="183024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771560" y="150660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352680" y="1601640"/>
            <a:ext cx="1886040" cy="1676520"/>
            <a:chOff x="3352680" y="1601640"/>
            <a:chExt cx="1886040" cy="1676520"/>
          </a:xfrm>
        </p:grpSpPr>
        <p:sp>
          <p:nvSpPr>
            <p:cNvPr id="275" name=""/>
            <p:cNvSpPr/>
            <p:nvPr/>
          </p:nvSpPr>
          <p:spPr>
            <a:xfrm>
              <a:off x="3352680" y="32781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352680" y="18302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2680" y="1749240"/>
              <a:ext cx="1484280" cy="1528920"/>
            </a:xfrm>
            <a:custGeom>
              <a:avLst/>
              <a:gdLst/>
              <a:ahLst/>
              <a:rect l="l" t="t" r="r" b="b"/>
              <a:pathLst>
                <a:path w="935" h="963">
                  <a:moveTo>
                    <a:pt x="0" y="963"/>
                  </a:moveTo>
                  <a:cubicBezTo>
                    <a:pt x="68" y="695"/>
                    <a:pt x="146" y="426"/>
                    <a:pt x="192" y="291"/>
                  </a:cubicBezTo>
                  <a:cubicBezTo>
                    <a:pt x="238" y="156"/>
                    <a:pt x="242" y="185"/>
                    <a:pt x="275" y="152"/>
                  </a:cubicBezTo>
                  <a:cubicBezTo>
                    <a:pt x="308" y="119"/>
                    <a:pt x="349" y="107"/>
                    <a:pt x="389" y="91"/>
                  </a:cubicBezTo>
                  <a:cubicBezTo>
                    <a:pt x="429" y="75"/>
                    <a:pt x="471" y="64"/>
                    <a:pt x="518" y="54"/>
                  </a:cubicBezTo>
                  <a:cubicBezTo>
                    <a:pt x="565" y="44"/>
                    <a:pt x="621" y="37"/>
                    <a:pt x="669" y="31"/>
                  </a:cubicBezTo>
                  <a:cubicBezTo>
                    <a:pt x="717" y="25"/>
                    <a:pt x="762" y="21"/>
                    <a:pt x="806" y="16"/>
                  </a:cubicBezTo>
                  <a:cubicBezTo>
                    <a:pt x="850" y="11"/>
                    <a:pt x="908" y="3"/>
                    <a:pt x="9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429000" y="160164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029200" y="297324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"/>
          <p:cNvGrpSpPr/>
          <p:nvPr/>
        </p:nvGrpSpPr>
        <p:grpSpPr>
          <a:xfrm>
            <a:off x="5467320" y="1449360"/>
            <a:ext cx="2590920" cy="2190600"/>
            <a:chOff x="5467320" y="1449360"/>
            <a:chExt cx="2590920" cy="2190600"/>
          </a:xfrm>
        </p:grpSpPr>
        <p:sp>
          <p:nvSpPr>
            <p:cNvPr id="281" name=""/>
            <p:cNvSpPr/>
            <p:nvPr/>
          </p:nvSpPr>
          <p:spPr>
            <a:xfrm>
              <a:off x="5867280" y="32781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867280" y="15256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943600" y="144936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7848720" y="312588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 flipV="1">
              <a:off x="5867280" y="1906560"/>
              <a:ext cx="3812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1906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1906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171840" y="1906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72200" y="19065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171840" y="19065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095880" y="190656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019920" y="190656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943600" y="205884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867280" y="2287440"/>
              <a:ext cx="1524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095520" y="244008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324480" y="2592360"/>
              <a:ext cx="1067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552720" y="2744640"/>
              <a:ext cx="838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781680" y="289728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09920" y="304956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1906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5467320" y="1773360"/>
                  <a:ext cx="2667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 flipH="1">
              <a:off x="5867280" y="1906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124680" y="3278160"/>
                  <a:ext cx="3045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238880" y="3240000"/>
                  <a:ext cx="3049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6172200" y="16588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7315200" y="16588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1219320" y="3595680"/>
            <a:ext cx="2844360" cy="398880"/>
            <a:chOff x="1219320" y="3595680"/>
            <a:chExt cx="2844360" cy="398880"/>
          </a:xfrm>
        </p:grpSpPr>
        <p:sp>
          <p:nvSpPr>
            <p:cNvPr id="308" name=""/>
            <p:cNvSpPr/>
            <p:nvPr/>
          </p:nvSpPr>
          <p:spPr>
            <a:xfrm>
              <a:off x="2813040" y="3595680"/>
              <a:ext cx="12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位移延性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219320" y="3620880"/>
                  <a:ext cx="11811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1447920" y="4211640"/>
            <a:ext cx="1295280" cy="2000160"/>
            <a:chOff x="1447920" y="4211640"/>
            <a:chExt cx="1295280" cy="2000160"/>
          </a:xfrm>
        </p:grpSpPr>
        <p:sp>
          <p:nvSpPr>
            <p:cNvPr id="311" name=""/>
            <p:cNvSpPr/>
            <p:nvPr/>
          </p:nvSpPr>
          <p:spPr>
            <a:xfrm>
              <a:off x="1676520" y="4687920"/>
              <a:ext cx="7596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6520" y="4687920"/>
              <a:ext cx="380880" cy="144756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912"/>
                  </a:moveTo>
                  <a:cubicBezTo>
                    <a:pt x="8" y="872"/>
                    <a:pt x="20" y="760"/>
                    <a:pt x="46" y="672"/>
                  </a:cubicBezTo>
                  <a:cubicBezTo>
                    <a:pt x="72" y="584"/>
                    <a:pt x="125" y="469"/>
                    <a:pt x="154" y="384"/>
                  </a:cubicBezTo>
                  <a:cubicBezTo>
                    <a:pt x="183" y="299"/>
                    <a:pt x="204" y="225"/>
                    <a:pt x="218" y="161"/>
                  </a:cubicBezTo>
                  <a:cubicBezTo>
                    <a:pt x="232" y="97"/>
                    <a:pt x="235" y="3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447920" y="6135480"/>
              <a:ext cx="609480" cy="76320"/>
              <a:chOff x="1447920" y="6135480"/>
              <a:chExt cx="609480" cy="76320"/>
            </a:xfrm>
          </p:grpSpPr>
          <p:sp>
            <p:nvSpPr>
              <p:cNvPr id="314" name=""/>
              <p:cNvSpPr/>
              <p:nvPr/>
            </p:nvSpPr>
            <p:spPr>
              <a:xfrm>
                <a:off x="1447920" y="6135480"/>
                <a:ext cx="60948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47920" y="6135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981080" y="4535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445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7400" y="4383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6520" y="4383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514600" y="445932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1" name=""/>
            <p:cNvGrpSpPr/>
            <p:nvPr/>
          </p:nvGrpSpPr>
          <p:grpSpPr>
            <a:xfrm>
              <a:off x="1752840" y="4611600"/>
              <a:ext cx="609480" cy="76320"/>
              <a:chOff x="1752840" y="4611600"/>
              <a:chExt cx="609480" cy="76320"/>
            </a:xfrm>
          </p:grpSpPr>
          <p:sp>
            <p:nvSpPr>
              <p:cNvPr id="322" name=""/>
              <p:cNvSpPr/>
              <p:nvPr/>
            </p:nvSpPr>
            <p:spPr>
              <a:xfrm rot="10800000">
                <a:off x="1752840" y="4611600"/>
                <a:ext cx="60948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752840" y="46879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752480" y="4687920"/>
              <a:ext cx="381240" cy="144756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912"/>
                  </a:moveTo>
                  <a:cubicBezTo>
                    <a:pt x="8" y="872"/>
                    <a:pt x="20" y="760"/>
                    <a:pt x="46" y="672"/>
                  </a:cubicBezTo>
                  <a:cubicBezTo>
                    <a:pt x="72" y="584"/>
                    <a:pt x="125" y="469"/>
                    <a:pt x="154" y="384"/>
                  </a:cubicBezTo>
                  <a:cubicBezTo>
                    <a:pt x="183" y="299"/>
                    <a:pt x="204" y="225"/>
                    <a:pt x="218" y="161"/>
                  </a:cubicBezTo>
                  <a:cubicBezTo>
                    <a:pt x="232" y="97"/>
                    <a:pt x="235" y="3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1771560" y="421164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6" name=""/>
          <p:cNvGrpSpPr/>
          <p:nvPr/>
        </p:nvGrpSpPr>
        <p:grpSpPr>
          <a:xfrm>
            <a:off x="3886200" y="4383000"/>
            <a:ext cx="2800440" cy="1924200"/>
            <a:chOff x="3886200" y="4383000"/>
            <a:chExt cx="2800440" cy="1924200"/>
          </a:xfrm>
        </p:grpSpPr>
        <p:sp>
          <p:nvSpPr>
            <p:cNvPr id="327" name=""/>
            <p:cNvSpPr/>
            <p:nvPr/>
          </p:nvSpPr>
          <p:spPr>
            <a:xfrm>
              <a:off x="3886200" y="62118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86200" y="44593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962520" y="43830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77120" y="605952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 flipV="1">
              <a:off x="3886200" y="529740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24280" y="4840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114440" y="484020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962520" y="49734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4648320" y="45352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5791320" y="4535280"/>
                  <a:ext cx="2286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1295280" y="247680"/>
            <a:ext cx="2057400" cy="1981080"/>
            <a:chOff x="1295280" y="247680"/>
            <a:chExt cx="2057400" cy="1981080"/>
          </a:xfrm>
        </p:grpSpPr>
        <p:grpSp>
          <p:nvGrpSpPr>
            <p:cNvPr id="338" name=""/>
            <p:cNvGrpSpPr/>
            <p:nvPr/>
          </p:nvGrpSpPr>
          <p:grpSpPr>
            <a:xfrm>
              <a:off x="1295280" y="2152800"/>
              <a:ext cx="1980360" cy="75960"/>
              <a:chOff x="1295280" y="2152800"/>
              <a:chExt cx="1980360" cy="75960"/>
            </a:xfrm>
          </p:grpSpPr>
          <p:sp>
            <p:nvSpPr>
              <p:cNvPr id="339" name=""/>
              <p:cNvSpPr/>
              <p:nvPr/>
            </p:nvSpPr>
            <p:spPr>
              <a:xfrm>
                <a:off x="1295280" y="2152800"/>
                <a:ext cx="1980360" cy="7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95280" y="2152800"/>
                <a:ext cx="19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209680" y="5526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666880" y="2476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43" name=""/>
            <p:cNvGrpSpPr/>
            <p:nvPr/>
          </p:nvGrpSpPr>
          <p:grpSpPr>
            <a:xfrm>
              <a:off x="1600920" y="628560"/>
              <a:ext cx="1751760" cy="76320"/>
              <a:chOff x="1600920" y="628560"/>
              <a:chExt cx="1751760" cy="76320"/>
            </a:xfrm>
          </p:grpSpPr>
          <p:sp>
            <p:nvSpPr>
              <p:cNvPr id="344" name=""/>
              <p:cNvSpPr/>
              <p:nvPr/>
            </p:nvSpPr>
            <p:spPr>
              <a:xfrm rot="10800000">
                <a:off x="1600920" y="628200"/>
                <a:ext cx="175176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600920" y="704880"/>
                <a:ext cx="175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523880" y="704880"/>
              <a:ext cx="457200" cy="1447560"/>
              <a:chOff x="1523880" y="704880"/>
              <a:chExt cx="457200" cy="1447560"/>
            </a:xfrm>
          </p:grpSpPr>
          <p:sp>
            <p:nvSpPr>
              <p:cNvPr id="347" name=""/>
              <p:cNvSpPr/>
              <p:nvPr/>
            </p:nvSpPr>
            <p:spPr>
              <a:xfrm>
                <a:off x="152388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9984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362320" y="704880"/>
              <a:ext cx="457200" cy="1447560"/>
              <a:chOff x="2362320" y="704880"/>
              <a:chExt cx="457200" cy="1447560"/>
            </a:xfrm>
          </p:grpSpPr>
          <p:sp>
            <p:nvSpPr>
              <p:cNvPr id="350" name=""/>
              <p:cNvSpPr/>
              <p:nvPr/>
            </p:nvSpPr>
            <p:spPr>
              <a:xfrm>
                <a:off x="236232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43828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981080" y="704880"/>
              <a:ext cx="457200" cy="1447560"/>
              <a:chOff x="1981080" y="704880"/>
              <a:chExt cx="457200" cy="1447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98108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5704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819520" y="704880"/>
              <a:ext cx="457200" cy="1447560"/>
              <a:chOff x="2819520" y="704880"/>
              <a:chExt cx="457200" cy="1447560"/>
            </a:xfrm>
          </p:grpSpPr>
          <p:sp>
            <p:nvSpPr>
              <p:cNvPr id="356" name=""/>
              <p:cNvSpPr/>
              <p:nvPr/>
            </p:nvSpPr>
            <p:spPr>
              <a:xfrm>
                <a:off x="281952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9548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4114800" y="324000"/>
            <a:ext cx="3257640" cy="2266920"/>
            <a:chOff x="4114800" y="324000"/>
            <a:chExt cx="3257640" cy="2266920"/>
          </a:xfrm>
        </p:grpSpPr>
        <p:sp>
          <p:nvSpPr>
            <p:cNvPr id="359" name=""/>
            <p:cNvSpPr/>
            <p:nvPr/>
          </p:nvSpPr>
          <p:spPr>
            <a:xfrm>
              <a:off x="4114800" y="22287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114800" y="4762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4191120" y="39996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7162920" y="207648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 flipV="1">
              <a:off x="4114800" y="131436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552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343400" y="11620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4114800" y="11430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5029200" y="3240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6324480" y="399960"/>
                  <a:ext cx="2286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 flipV="1">
              <a:off x="4419720" y="9331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572000" y="780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724280" y="628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952520" y="5526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4267080" y="2228760"/>
                  <a:ext cx="30492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6248520" y="2228760"/>
                  <a:ext cx="3045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4343400" y="1390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24480" y="55260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78000" y="2666880"/>
            <a:ext cx="4724640" cy="1121040"/>
            <a:chOff x="3078000" y="2666880"/>
            <a:chExt cx="4724640" cy="1121040"/>
          </a:xfrm>
        </p:grpSpPr>
        <p:sp>
          <p:nvSpPr>
            <p:cNvPr id="378" name=""/>
            <p:cNvSpPr/>
            <p:nvPr/>
          </p:nvSpPr>
          <p:spPr>
            <a:xfrm>
              <a:off x="4114800" y="27432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2448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78000" y="3006720"/>
              <a:ext cx="1036800" cy="422280"/>
            </a:xfrm>
            <a:prstGeom prst="borderCallout1">
              <a:avLst>
                <a:gd name="adj1" fmla="val 18750"/>
                <a:gd name="adj2" fmla="val -8333"/>
                <a:gd name="adj3" fmla="val -51504"/>
                <a:gd name="adj4" fmla="val 113171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弹性范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52880" y="3178080"/>
              <a:ext cx="1020960" cy="609840"/>
            </a:xfrm>
            <a:prstGeom prst="borderCallout1">
              <a:avLst>
                <a:gd name="adj1" fmla="val 18750"/>
                <a:gd name="adj2" fmla="val -8333"/>
                <a:gd name="adj3" fmla="val -69532"/>
                <a:gd name="adj4" fmla="val -14930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有约束屈服范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1680" y="2971800"/>
              <a:ext cx="1020960" cy="609480"/>
            </a:xfrm>
            <a:prstGeom prst="borderCallout1">
              <a:avLst>
                <a:gd name="adj1" fmla="val 18750"/>
                <a:gd name="adj2" fmla="val -8333"/>
                <a:gd name="adj3" fmla="val -32032"/>
                <a:gd name="adj4" fmla="val -99222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无约束屈服范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33520" y="3900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钢筋混凝土结构的抗震设计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45640" y="44197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阶段或在常遇地震作用时，结构在弹性范围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54760" y="4952880"/>
            <a:ext cx="42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基本烈度地震作用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在弹塑性范围工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17400" y="5486400"/>
            <a:ext cx="44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罕遇烈度地震作用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亦在弹塑性范围工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814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07080" y="6137280"/>
            <a:ext cx="1379520" cy="41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93" y="5936"/>
                </a:moveTo>
                <a:lnTo>
                  <a:pt x="42280" y="5936"/>
                </a:lnTo>
                <a:lnTo>
                  <a:pt x="42280" y="-13768"/>
                </a:lnTo>
                <a:lnTo>
                  <a:pt x="37259" y="-3108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度不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20800" y="498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钢筋混凝土结构的概念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7720" y="927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多道抗震防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920" y="137160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合理控制结构的弹塑区部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44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有较好的塑性内力重分布能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9720" y="228600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有较宽的约束屈服范围及极限变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局部破坏不致导致整个结构失效及具有易于修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可能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480" y="358128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结构的整体性和构件间的连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60400" y="40384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侧力构件的刚度、强度、延性应有适当的对应关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7920" y="457200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部结构应与地基条件适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90720" y="1752480"/>
            <a:ext cx="3352680" cy="1218960"/>
            <a:chOff x="990720" y="1752480"/>
            <a:chExt cx="3352680" cy="1218960"/>
          </a:xfrm>
        </p:grpSpPr>
        <p:grpSp>
          <p:nvGrpSpPr>
            <p:cNvPr id="50" name=""/>
            <p:cNvGrpSpPr/>
            <p:nvPr/>
          </p:nvGrpSpPr>
          <p:grpSpPr>
            <a:xfrm>
              <a:off x="990720" y="1752480"/>
              <a:ext cx="3352680" cy="1218960"/>
              <a:chOff x="990720" y="1752480"/>
              <a:chExt cx="3352680" cy="1218960"/>
            </a:xfrm>
          </p:grpSpPr>
          <p:sp>
            <p:nvSpPr>
              <p:cNvPr id="51" name=""/>
              <p:cNvSpPr/>
              <p:nvPr/>
            </p:nvSpPr>
            <p:spPr>
              <a:xfrm>
                <a:off x="106668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6668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0020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0020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133720" y="182844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33720" y="236196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6688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6688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040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0040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33920" y="182844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33920" y="236196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23880" y="175248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5740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9092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124080" y="175248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5760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9112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9112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9112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760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760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24080" y="2285640"/>
                <a:ext cx="15264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24080" y="281916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59092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9092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5740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23880" y="281916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23880" y="2285640"/>
                <a:ext cx="15264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9072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9072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067040" y="236196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236196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3920" y="236196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10240" y="236196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676520" y="1143000"/>
            <a:ext cx="990360" cy="380880"/>
          </a:xfrm>
          <a:prstGeom prst="borderCallout1">
            <a:avLst>
              <a:gd name="adj1" fmla="val 18750"/>
              <a:gd name="adj2" fmla="val -8333"/>
              <a:gd name="adj3" fmla="val 306666"/>
              <a:gd name="adj4" fmla="val -3718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抗震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12400" y="5105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框架房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0120" y="303372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框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抗震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1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4290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37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结构层间屈服强度有明显的薄弱楼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7560" y="393840"/>
            <a:ext cx="2021400" cy="5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ff33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5.2 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震害及其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24280" y="1523880"/>
            <a:ext cx="1828800" cy="4419360"/>
            <a:chOff x="4724280" y="1523880"/>
            <a:chExt cx="1828800" cy="4419360"/>
          </a:xfrm>
        </p:grpSpPr>
        <p:grpSp>
          <p:nvGrpSpPr>
            <p:cNvPr id="95" name=""/>
            <p:cNvGrpSpPr/>
            <p:nvPr/>
          </p:nvGrpSpPr>
          <p:grpSpPr>
            <a:xfrm>
              <a:off x="4724280" y="5867280"/>
              <a:ext cx="304920" cy="75960"/>
              <a:chOff x="4724280" y="5867280"/>
              <a:chExt cx="304920" cy="75960"/>
            </a:xfrm>
          </p:grpSpPr>
          <p:sp>
            <p:nvSpPr>
              <p:cNvPr id="96" name=""/>
              <p:cNvSpPr/>
              <p:nvPr/>
            </p:nvSpPr>
            <p:spPr>
              <a:xfrm>
                <a:off x="4724280" y="5867280"/>
                <a:ext cx="304920" cy="7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2428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876920" y="40384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57800" y="37335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37335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37335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0800" y="4647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105520" y="5867280"/>
              <a:ext cx="304560" cy="75960"/>
              <a:chOff x="5105520" y="5867280"/>
              <a:chExt cx="304560" cy="75960"/>
            </a:xfrm>
          </p:grpSpPr>
          <p:sp>
            <p:nvSpPr>
              <p:cNvPr id="104" name=""/>
              <p:cNvSpPr/>
              <p:nvPr/>
            </p:nvSpPr>
            <p:spPr>
              <a:xfrm>
                <a:off x="5105520" y="5867280"/>
                <a:ext cx="30456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05520" y="58672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486400" y="5867280"/>
              <a:ext cx="304920" cy="75960"/>
              <a:chOff x="5486400" y="5867280"/>
              <a:chExt cx="304920" cy="75960"/>
            </a:xfrm>
          </p:grpSpPr>
          <p:sp>
            <p:nvSpPr>
              <p:cNvPr id="107" name=""/>
              <p:cNvSpPr/>
              <p:nvPr/>
            </p:nvSpPr>
            <p:spPr>
              <a:xfrm>
                <a:off x="5486400" y="5867280"/>
                <a:ext cx="304920" cy="759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8640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5867280"/>
              <a:ext cx="304920" cy="75960"/>
              <a:chOff x="5867280" y="5867280"/>
              <a:chExt cx="304920" cy="75960"/>
            </a:xfrm>
          </p:grpSpPr>
          <p:sp>
            <p:nvSpPr>
              <p:cNvPr id="110" name=""/>
              <p:cNvSpPr/>
              <p:nvPr/>
            </p:nvSpPr>
            <p:spPr>
              <a:xfrm>
                <a:off x="5867280" y="5867280"/>
                <a:ext cx="304920" cy="75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728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248520" y="5867280"/>
              <a:ext cx="304560" cy="75960"/>
              <a:chOff x="6248520" y="5867280"/>
              <a:chExt cx="304560" cy="75960"/>
            </a:xfrm>
          </p:grpSpPr>
          <p:sp>
            <p:nvSpPr>
              <p:cNvPr id="113" name=""/>
              <p:cNvSpPr/>
              <p:nvPr/>
            </p:nvSpPr>
            <p:spPr>
              <a:xfrm>
                <a:off x="6248520" y="5867280"/>
                <a:ext cx="304560" cy="759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8520" y="58672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876920" y="55623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52574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78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502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69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434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6920" y="4038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37335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152388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352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7800" y="2971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2590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2209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182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1523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15238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182844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57800" y="182844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3733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434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9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396216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57800" y="3657240"/>
              <a:ext cx="15228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181480" y="3885840"/>
              <a:ext cx="7632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410080" y="358128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86400" y="36572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3962160"/>
              <a:ext cx="15264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885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7335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2783400">
              <a:off x="5600160" y="3619440"/>
              <a:ext cx="75960" cy="15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rot="2783400">
              <a:off x="6057360" y="3619440"/>
              <a:ext cx="75960" cy="15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19797600">
              <a:off x="5866560" y="358092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715000" y="358128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4571640"/>
              <a:ext cx="15228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2200" y="45716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9797600">
              <a:off x="6095160" y="449532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2783400">
              <a:off x="6057360" y="4381560"/>
              <a:ext cx="75960" cy="15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19797600">
              <a:off x="6018840" y="4190760"/>
              <a:ext cx="759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019200" y="4038480"/>
              <a:ext cx="759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396216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9797600">
              <a:off x="6018840" y="3809880"/>
              <a:ext cx="759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65724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3657240"/>
              <a:ext cx="15264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9797600">
              <a:off x="6018840" y="4343040"/>
              <a:ext cx="7596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4571640"/>
              <a:ext cx="15228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1200" y="5562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1200" y="5257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1200" y="4952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1200" y="4647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1200" y="43430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1200" y="40384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1200" y="373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9120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1200" y="2971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0200" y="2590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10200" y="2209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0200" y="1828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0200" y="1523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38760" y="1219320"/>
            <a:ext cx="2412720" cy="5031720"/>
            <a:chOff x="6638760" y="1219320"/>
            <a:chExt cx="2412720" cy="5031720"/>
          </a:xfrm>
        </p:grpSpPr>
        <p:sp>
          <p:nvSpPr>
            <p:cNvPr id="175" name=""/>
            <p:cNvSpPr/>
            <p:nvPr/>
          </p:nvSpPr>
          <p:spPr>
            <a:xfrm>
              <a:off x="7086600" y="1371960"/>
              <a:ext cx="0" cy="44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600" y="58676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8381880" y="5562720"/>
                  <a:ext cx="34632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8398440" y="548676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宋体"/>
                </a:rPr>
                <a:t>(m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42760" y="12193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10280" y="1524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10280" y="2210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10280" y="2972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10280" y="3733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10280" y="4038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4343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10280" y="4953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7000" y="5410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8160" y="4800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7700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40280" y="3886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77000" y="3581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77000" y="2819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3960" y="2028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38760" y="1371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8880" y="152424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175284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543440" y="2133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314840" y="25909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2972160"/>
              <a:ext cx="152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373392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315200" y="403884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434376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238880" y="4648320"/>
              <a:ext cx="152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3800" y="5867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24680" y="5867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05920" y="5867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1800" y="5943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62680" y="5943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7800" y="5943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3520" y="1498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强烈地震作用下，结构的薄弱楼层率先屈服、发展弹塑性变形，并形成弹塑性变形集中的现象，不能发挥整体的抗震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87964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7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唐山大地震中，位于天津塘沽区的天津碱厂十三层蒸吸塔框架，该结构楼层屈服强度分布不均匀，造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的弹塑性变形集中，导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以上全部倒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632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右图为该结构输入天津波的弹塑性分析结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63240" y="2905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框架梁、柱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梁柱变形能力不足，构件过早发生破坏。一般是梁轻柱重，柱顶重于柱底，尤其是角柱和边柱更易发生破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182880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柱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施工质量，偷工减料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58156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lj49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276720" cy="21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806400" y="231768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柱顶周围有水平裂缝、斜裂缝或交叉裂缝。重者混凝土压碎崩落，柱内箍筋拉断，纵筋压曲成灯笼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613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原因：节点处弯矩、剪力、轴力都较大，受力复杂，箍筋配置不足，锚固不好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01920" y="495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破坏不易修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jg04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904760" cy="171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3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410080" cy="405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1262160" y="30492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柱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柱顶相似，由于箍筋较柱顶密，震害相对柱顶较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短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8240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柱高小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倍柱截面高度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/b&lt;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形成短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3160" y="13716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短柱刚度大，易产生剪切破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破坏2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19104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底层破坏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47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487440"/>
            <a:ext cx="457200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957240" y="30492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角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8380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由于双向受弯、受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上扭转作用，震害比内柱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0960" y="160020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梁柱节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72600" y="2133720"/>
            <a:ext cx="218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节点核心区产生对角方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斜裂缝或交叉斜裂缝，混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土剪碎剥落。节点内箍筋很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或无箍筋时，柱纵向钢筋压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外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节点破坏的主要原因是节点的受剪承载力不足，约束箍筋太少，梁筋锚固长度不够以及施工质量差所引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70080" y="47242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框架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184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震害多发生于梁端。在地震作用下梁端纵向钢筋屈服，出现上下贯通的垂直裂缝和交叉裂缝。破坏的主要原因是梁端屈服后产生的剪力较大，超过了梁的受剪承载力，梁内箍筋配置较稀，以及反复荷载作用下混凝土抗剪强度降低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87320" y="365760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节点破坏将导致梁柱失去相互之间的联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925640" y="388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填充墙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97488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砌体填充墙刚度大而承载力低，首先承受地震作用而遭破坏。一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即出现裂缝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以上地震作用下，裂缝明显增加，甚至部分倒塌，一般是上轻下重，空心砌体墙重于实心砌体墙，砌快墙重于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657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框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剪力墙结构上部较严重，框架结构下部震害严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Image92" descr=""/>
          <p:cNvPicPr/>
          <p:nvPr/>
        </p:nvPicPr>
        <p:blipFill>
          <a:blip r:embed="rId1"/>
          <a:stretch/>
        </p:blipFill>
        <p:spPr>
          <a:xfrm>
            <a:off x="4267080" y="3238560"/>
            <a:ext cx="472464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221" descr=""/>
          <p:cNvPicPr/>
          <p:nvPr/>
        </p:nvPicPr>
        <p:blipFill>
          <a:blip r:embed="rId2"/>
          <a:stretch/>
        </p:blipFill>
        <p:spPr>
          <a:xfrm>
            <a:off x="4267080" y="76320"/>
            <a:ext cx="4724640" cy="31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95280" y="5256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填充墙破坏的主要原因是：墙体受剪承载力低，变形能力小，墙体与框架缺乏有效的拉结，在往复变形时墙体易发生剪切破坏和散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11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gk</cp:lastModifiedBy>
  <dcterms:modified xsi:type="dcterms:W3CDTF">2003-10-23T08:25:46Z</dcterms:modified>
  <cp:revision>377</cp:revision>
  <dc:subject/>
  <dc:title>PowerPoint 演示文稿</dc:title>
</cp:coreProperties>
</file>