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D5D-01A4-48D5-BF30-FE16B347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F36-A228-4D45-ABA6-BD36A2A7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06A-2180-4BF6-9E48-76018276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9C3-4C91-4DEA-81C7-7445256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D53-135A-4431-AA6D-77E21DB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D80-1509-422D-BC55-30877A3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2D9-9362-4333-9B10-D73FE9C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0FA-51E1-4EAE-9840-7A64F64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6BB-58AF-43DA-BC4F-FB6257B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B6C-C25E-48EB-BD18-F9C6B06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7E8-8F78-4D16-A00B-B31C743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3A9-61F5-4B06-90B5-3A4D0A6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076-8BBF-4308-A9A6-6131C5FA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TV SERV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fault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1:     admin 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2           ptz   p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3       mobile 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界面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5987880"/>
            <a:ext cx="121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2169800" cy="85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aramter1.inf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857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TZ SE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5440" y="1600200"/>
            <a:ext cx="82803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otion s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Z settings. This set PTZ protocol. Note that you can first test is available. And then OK. Head only with a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8640" y="1558800"/>
            <a:ext cx="77169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42920" y="1270080"/>
            <a:ext cx="136065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PATH S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etwork settings. (HTV ip and port set up a network application note. UPNP po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440" y="1600200"/>
            <a:ext cx="7993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1:31:46Z</dcterms:created>
  <dc:creator>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