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87B8-807F-4078-9323-8AC95B44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271-F559-4149-85B9-A24A872C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994-5BFC-4AF2-BD03-59EBAF03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763-C32B-4BCB-9689-61AA67A8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6B6-5970-40A7-BB62-30F8D573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C3D-C770-4368-845E-B8EE68F0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E99-44BC-42BE-A3B6-013279B8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6C0-E244-4E7F-B901-92E48E84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C97-9C72-4765-B3E4-36D512B7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1BA-4BB0-48B9-885B-596D0468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41C-3E41-43C8-8CDA-92A83996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EA3-9D68-4478-9E25-C694CC41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F678-C0A9-4535-8EC5-83E31AFD94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4T14:03:06Z</dcterms:created>
  <dc:creator>WYC</dc:creator>
  <dc:description/>
  <dc:language>en-US</dc:language>
  <cp:lastModifiedBy>WYC</cp:lastModifiedBy>
  <dcterms:modified xsi:type="dcterms:W3CDTF">2015-07-14T14:03:13Z</dcterms:modified>
  <cp:revision>1</cp:revision>
  <dc:subject/>
  <dc:title>幻灯片 1</dc:title>
</cp:coreProperties>
</file>