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EF3-5BD7-4F4B-BD79-6B2F94EE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386640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EE9-28A7-40B6-A8D4-1D588230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201-77DD-4A65-89F1-9C2B544D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964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000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964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000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2A5-5C30-4AB6-A090-B3BD0583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6B43-6BD8-4902-9A8E-C13FB56B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C470-17EC-4F18-B43A-9FD2A675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CC8D-FD19-4A0D-8524-9DB5A68D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71D4-EC3A-4666-BBBD-FC983F33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914F-EDFF-40DE-9EF2-8804337D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93B9-80BA-46EE-A108-92EB4FC7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EEE9-82E7-4735-BAC0-7AD986E8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F6D-4A07-4792-8085-AB3A4E5B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44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9C0A-1891-4641-A102-EB42808E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1404-5B0C-4FF5-BDAD-319A288F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9280" y="386640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A53E-B6E1-442B-AB9D-5ADB68D3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44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533C-F467-424B-911A-D36DA2E6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964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0000" y="119664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928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964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0000" y="3866400"/>
            <a:ext cx="282852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1283-E225-49BB-934A-2D37BDD5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805E-1C2D-415F-84EE-CAABCE48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A3F-DECF-48D3-9FA1-F3C59DB5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529-FD7A-4804-9AA5-E22E7B0D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FAA6-2FA8-4F21-AFC8-99B07F29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35B-3C80-432A-B9F9-865129E1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386640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0B9-9FE9-4B31-87BC-102E222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196640"/>
            <a:ext cx="42872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3866400"/>
            <a:ext cx="8785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6BC5-87EE-4F78-A304-E778EC4A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7A28-003F-4B7D-A5AF-48178081A99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03640" y="-27000"/>
            <a:ext cx="4165920" cy="44460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e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F0ED-8123-4AB4-BEF0-7FE16802712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676160"/>
            <a:ext cx="83678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E3F4-79B4-4B48-B034-ED8E90E171CA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68360" y="3789000"/>
            <a:ext cx="8353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开题报告人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报告人电子邮件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校方指导导师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企业指导导师：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电子科技大学软件学院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XXXX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年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XX</a:t>
            </a:r>
            <a:r>
              <a:rPr b="1" lang="zh-CN" sz="1800" spc="-1" strike="noStrike">
                <a:solidFill>
                  <a:srgbClr val="333399"/>
                </a:solidFill>
                <a:latin typeface="Tahoma"/>
              </a:rPr>
              <a:t>月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50920" y="1822320"/>
            <a:ext cx="9074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开题报告</a:t>
            </a:r>
            <a:br>
              <a:rPr sz="4800"/>
            </a:br>
            <a:r>
              <a:rPr b="1" lang="zh-CN" sz="4800" spc="-1" strike="noStrike">
                <a:solidFill>
                  <a:srgbClr val="333399"/>
                </a:solidFill>
                <a:latin typeface="Tahoma"/>
              </a:rPr>
              <a:t>论文题目</a:t>
            </a:r>
            <a:endParaRPr b="1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e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78440" y="0"/>
            <a:ext cx="4165560" cy="44460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e4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技术路线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400"/>
                </a:solidFill>
                <a:latin typeface="Tahoma"/>
              </a:rPr>
              <a:t>即说明采用一种什么样的方案来完成研究内容，并说明完成的可行性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论文工作的实验条件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描述为了完成课题，需要什么样的实验环境、编程语言、操作系统、数据库等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必须说明这些实验条件是否具备，例如编程语言是否数量？数据库系统是否熟悉？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可能的困难和解决方法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描述论文工作过程中</a:t>
            </a:r>
            <a:r>
              <a:rPr b="1" lang="zh-CN" sz="3200" spc="-1" strike="noStrike">
                <a:solidFill>
                  <a:srgbClr val="cc0000"/>
                </a:solidFill>
                <a:latin typeface="Tahoma"/>
              </a:rPr>
              <a:t>可能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存在的困难，并尽可能提出应对措施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论文工作计划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一般包含以下几个步骤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文献阅读和科学调研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方案论证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系统实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实验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撰写论文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从开题到答辩一般为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年～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年半左右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请说明完成上述内容的时间段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4e00"/>
                </a:solidFill>
                <a:latin typeface="Tahoma"/>
              </a:rPr>
              <a:t>总结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3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注意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题报告的目的是提出问题，而不是解决问题。因此，必须对课题研究内容及意义透彻理解！！！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题报告陈述要简练，对开题指导导师提出的建议及问题一般不需要解释，而是尽可能记录并在论文工作过程中高度重视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题报告必须在公开报告前提交给导师及导师组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开题报告陈述时间必须控制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分钟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内容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题目来源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选题意义及依据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课题相关国内外研究现状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论文研究内容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关键技术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最终目标和成果形式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技术路线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论文工作的实验条件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可能存在的困难和解决方法</a:t>
            </a:r>
            <a:r>
              <a:rPr b="1" lang="en-US" sz="2800" spc="-1" strike="noStrike">
                <a:solidFill>
                  <a:srgbClr val="004e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论文工作计划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总结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c00"/>
                </a:solidFill>
                <a:latin typeface="Tahoma"/>
              </a:rPr>
              <a:t>题目来源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必须明确课题来源是什么，如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①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结合各自单位的工作选择论文题目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②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结合本地区的实际情况选择论文题目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③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承担导师现有课题或子课题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④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根据导师研究方向进行先期研究并设计实现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c00"/>
                </a:solidFill>
                <a:latin typeface="Tahoma"/>
              </a:rPr>
              <a:t>选题意义及依据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选题意义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简要概述课题有什么价值，可以应用到什么领域。如果是理论研究，应重点说明理论价值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选题依据</a:t>
            </a: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(</a:t>
            </a: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开题的关键要素之一</a:t>
            </a:r>
            <a:r>
              <a:rPr b="1" lang="zh-CN" sz="3200" spc="-1" strike="noStrike">
                <a:solidFill>
                  <a:srgbClr val="003c00"/>
                </a:solidFill>
                <a:latin typeface="Tahoma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①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有理论研究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,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取得一定研究成果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学术论文支持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),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并将其成果应用于工程实践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即工程工作量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)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②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无理论研究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, </a:t>
            </a:r>
            <a:r>
              <a:rPr b="1" lang="zh-CN" sz="2800" spc="-1" strike="noStrike">
                <a:solidFill>
                  <a:srgbClr val="003c00"/>
                </a:solidFill>
                <a:latin typeface="Tahoma"/>
              </a:rPr>
              <a:t>但有较大的工程工作量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c00"/>
                </a:solidFill>
                <a:latin typeface="Tahoma"/>
              </a:rPr>
              <a:t>课题相关国内外研究现状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通过阅读国内外相关技术资料和论文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, 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充分了解所选题目相关领域国内外发展状况</a:t>
            </a: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, </a:t>
            </a:r>
            <a:r>
              <a:rPr b="1" lang="zh-CN" sz="3200" spc="-1" strike="noStrike">
                <a:solidFill>
                  <a:srgbClr val="004400"/>
                </a:solidFill>
                <a:latin typeface="Tahoma"/>
              </a:rPr>
              <a:t>找到题目的立足点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400"/>
                </a:solidFill>
                <a:latin typeface="Tahoma"/>
              </a:rPr>
              <a:t>必须陈述课题的现状，但是要概括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400"/>
                </a:solidFill>
                <a:latin typeface="Tahoma"/>
              </a:rPr>
              <a:t>如果为一般的应用系统开发，则必须调研现有系统，并说明这些系统的特点、优缺点，以及指出本课题与这些已有系统的区别与联系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c00"/>
                </a:solidFill>
                <a:latin typeface="Tahoma"/>
              </a:rPr>
              <a:t>论文研究内容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研究内容必须明确和具体，以精炼语言说明课题主要研究内容（最好列表方式）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例如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如果为软件系统开发，研究内容可能包括软件架构、课题中的关键技术、功能模块、处理流程，安全保障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如果为硬件开发，则可包括原理图、加工工艺、板卡测试与调试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如果为理论研究，则可包括理论关键点，算法，算法复杂度分析，算法仿真分析，拟解决的关键问题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关键技术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从技术的角度描述完成课题所涉及的关键技术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ahoma"/>
              </a:rPr>
              <a:t>最终目标和成果形式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最终目标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简短描述课题最终目标（最好控制在</a:t>
            </a:r>
            <a:r>
              <a:rPr b="1" lang="en-US" sz="2800" spc="-1" strike="noStrike">
                <a:solidFill>
                  <a:srgbClr val="004e00"/>
                </a:solidFill>
                <a:latin typeface="Tahoma"/>
              </a:rPr>
              <a:t>100</a:t>
            </a: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字以内</a:t>
            </a:r>
            <a:r>
              <a:rPr b="1" lang="en-US" sz="2800" spc="-1" strike="noStrike">
                <a:solidFill>
                  <a:srgbClr val="004e00"/>
                </a:solidFill>
                <a:latin typeface="Tahom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e00"/>
                </a:solidFill>
                <a:latin typeface="Tahoma"/>
              </a:rPr>
              <a:t>成果形式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成果的表现形式</a:t>
            </a: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如原型机、软件系统、论文、</a:t>
            </a:r>
            <a:r>
              <a:rPr b="1" lang="zh-CN" sz="2800" spc="-1" strike="noStrike">
                <a:solidFill>
                  <a:srgbClr val="004400"/>
                </a:solidFill>
                <a:latin typeface="Tahoma"/>
              </a:rPr>
              <a:t>设计报告、研究报告</a:t>
            </a: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等</a:t>
            </a:r>
            <a:r>
              <a:rPr b="1" lang="zh-CN" sz="2800" spc="-1" strike="noStrike">
                <a:solidFill>
                  <a:srgbClr val="004e00"/>
                </a:solidFill>
                <a:latin typeface="Tahoma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2:06:54Z</dcterms:created>
  <dc:creator>Dr Lawrie Brown</dc:creator>
  <dc:description/>
  <dc:language>en-US</dc:language>
  <cp:lastModifiedBy>微软用户</cp:lastModifiedBy>
  <dcterms:modified xsi:type="dcterms:W3CDTF">2010-12-11T10:25:05Z</dcterms:modified>
  <cp:revision>1765</cp:revision>
  <dc:subject>Lecture Overheads - Ch 1</dc:subject>
  <dc:title>William Stallings, Cryptography and Network Security 3/e</dc:title>
</cp:coreProperties>
</file>