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71F1-4606-4A1F-A39A-60216CE5C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1908-81C4-4AE9-8174-26C75140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3707-DF49-45AA-B3B6-E209E80DA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FC85-B48A-4EE3-992A-3C5EEBBE3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6AE95-BC3F-4C5B-AB3B-8ED9B16B7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06044-14A2-4140-8960-65315DB6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0B0A7-DD10-4FAD-81CC-AE63FAF4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D1809C-B39E-4ADC-AD38-6AE3C2D6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F7365-9F39-4E62-AD0A-CAE6F93B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29881-6D32-465E-96D9-75E65581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27AE8-BE3D-42BF-AFEF-B2854F9D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0114-9C62-4353-8C4F-B4BE2CE6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C37B4-C0E5-4422-826C-B09AD77B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8CDE5-F185-45EC-AF2C-DE286FE8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B7C68-697F-421D-A341-ED0666F0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D299E-9C19-435E-A51E-F6877AEA0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7D473-16A3-47AC-9E08-961769BF0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D526-5FD2-4A2F-8287-C53600D3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9306-E1B9-4C2B-B1F8-866B893D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A6CC-1927-48DF-85EE-6317658E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3BA2-574E-4DCD-9D9F-665DD9AB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BEF5-C5E2-4A67-A5BE-5A401BF3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C30D-AE3A-4EE0-BB24-222F6EF5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9C19-0668-460C-A716-46413646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D1FD-37FE-4998-B71C-97474F213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9B92-71C6-4BB6-AE79-C6D62C7AFE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2151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ff66"/>
                </a:solidFill>
                <a:latin typeface="Tahoma"/>
                <a:ea typeface="楷体_GB2312"/>
              </a:rPr>
              <a:t>洛克王国衣服代码大全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7" descr="1"/>
          <p:cNvPicPr/>
          <p:nvPr/>
        </p:nvPicPr>
        <p:blipFill>
          <a:blip r:embed="rId2"/>
          <a:stretch/>
        </p:blipFill>
        <p:spPr>
          <a:xfrm>
            <a:off x="3708360" y="2637000"/>
            <a:ext cx="1041480" cy="194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9"/>
          <p:cNvPicPr/>
          <p:nvPr/>
        </p:nvPicPr>
        <p:blipFill>
          <a:blip r:embed="rId1"/>
          <a:stretch/>
        </p:blipFill>
        <p:spPr>
          <a:xfrm>
            <a:off x="324000" y="2421000"/>
            <a:ext cx="8424720" cy="252072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10"/>
          <p:cNvPicPr/>
          <p:nvPr/>
        </p:nvPicPr>
        <p:blipFill>
          <a:blip r:embed="rId1"/>
          <a:stretch/>
        </p:blipFill>
        <p:spPr>
          <a:xfrm>
            <a:off x="250920" y="471600"/>
            <a:ext cx="8642160" cy="6014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1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2"/>
          <p:cNvPicPr/>
          <p:nvPr/>
        </p:nvPicPr>
        <p:blipFill>
          <a:blip r:embed="rId1"/>
          <a:stretch/>
        </p:blipFill>
        <p:spPr>
          <a:xfrm>
            <a:off x="533520" y="776160"/>
            <a:ext cx="8076960" cy="53056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4"/>
          <p:cNvPicPr/>
          <p:nvPr/>
        </p:nvPicPr>
        <p:blipFill>
          <a:blip r:embed="rId1"/>
          <a:stretch/>
        </p:blipFill>
        <p:spPr>
          <a:xfrm>
            <a:off x="324000" y="549360"/>
            <a:ext cx="8496000" cy="57592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5"/>
          <p:cNvPicPr/>
          <p:nvPr/>
        </p:nvPicPr>
        <p:blipFill>
          <a:blip r:embed="rId1"/>
          <a:stretch/>
        </p:blipFill>
        <p:spPr>
          <a:xfrm>
            <a:off x="250920" y="1628640"/>
            <a:ext cx="8893080" cy="26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7"/>
          <p:cNvPicPr/>
          <p:nvPr/>
        </p:nvPicPr>
        <p:blipFill>
          <a:blip r:embed="rId1"/>
          <a:stretch/>
        </p:blipFill>
        <p:spPr>
          <a:xfrm>
            <a:off x="861840" y="2000160"/>
            <a:ext cx="8282160" cy="3529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8"/>
          <p:cNvPicPr/>
          <p:nvPr/>
        </p:nvPicPr>
        <p:blipFill>
          <a:blip r:embed="rId1"/>
          <a:stretch/>
        </p:blipFill>
        <p:spPr>
          <a:xfrm>
            <a:off x="755640" y="2421000"/>
            <a:ext cx="7488360" cy="2520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08:31:02Z</dcterms:created>
  <dc:creator>User</dc:creator>
  <dc:description/>
  <dc:language>en-US</dc:language>
  <cp:lastModifiedBy>user</cp:lastModifiedBy>
  <dcterms:modified xsi:type="dcterms:W3CDTF">2012-05-05T00:26:32Z</dcterms:modified>
  <cp:revision>7</cp:revision>
  <dc:subject/>
  <dc:title>洛克王国衣服代码大全</dc:title>
</cp:coreProperties>
</file>