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2FB-9EA7-406D-AC47-91F06269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DD9-BB1B-432B-8B98-163C29E3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A4A-D1FD-454E-AB28-F4130DD2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13F-6316-450C-931E-6BD76FD6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D6198-AA62-4715-9041-2826C776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3B21E-C694-485E-88A8-BBCEE977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81C00-74CB-4B44-912D-81180D7F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35102-8C3A-4CCC-9FB5-6CA78DE1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B3597-4E8E-48C3-8EDE-B648B1A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3D20-B4E8-4A8A-80B1-8B34487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C10C9-6291-4CA4-AB49-750746C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5C4-212A-409B-85D9-677C765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66BBC-9CB8-4B2A-B7E3-84C4DFEC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5774B-F348-4880-B557-A9CAECE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8ADDA-E9F8-4194-A604-1211ACF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F3F8B-4C78-4161-82CB-3377A0A6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9548B-8B9E-4886-B914-9B9092D0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929-77D6-41D3-83B6-F676514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991-3287-4931-98AB-A457BBC8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92E-6946-4470-BEA9-373B89C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F76-B8D8-415E-8045-A05035E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226-0C6A-4073-BB44-67C9388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A46-BA0F-46FF-B679-4C5F7CD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D69-BC76-4B95-9856-84EE8AE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9E0-3704-4178-8C64-5A25AA3EC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0A9A-B2FD-4B85-8C2B-842EC5278F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ff66"/>
                </a:solidFill>
                <a:latin typeface="Tahoma"/>
                <a:ea typeface="楷体_GB2312"/>
              </a:rPr>
              <a:t>洛克王国衣服代码大全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1"/>
          <p:cNvPicPr/>
          <p:nvPr/>
        </p:nvPicPr>
        <p:blipFill>
          <a:blip r:embed="rId2"/>
          <a:stretch/>
        </p:blipFill>
        <p:spPr>
          <a:xfrm>
            <a:off x="3708360" y="2637000"/>
            <a:ext cx="104148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9"/>
          <p:cNvPicPr/>
          <p:nvPr/>
        </p:nvPicPr>
        <p:blipFill>
          <a:blip r:embed="rId1"/>
          <a:stretch/>
        </p:blipFill>
        <p:spPr>
          <a:xfrm>
            <a:off x="324000" y="2421000"/>
            <a:ext cx="8424720" cy="2520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0"/>
          <p:cNvPicPr/>
          <p:nvPr/>
        </p:nvPicPr>
        <p:blipFill>
          <a:blip r:embed="rId1"/>
          <a:stretch/>
        </p:blipFill>
        <p:spPr>
          <a:xfrm>
            <a:off x="250920" y="471600"/>
            <a:ext cx="8642160" cy="6014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"/>
          <p:cNvPicPr/>
          <p:nvPr/>
        </p:nvPicPr>
        <p:blipFill>
          <a:blip r:embed="rId1"/>
          <a:stretch/>
        </p:blipFill>
        <p:spPr>
          <a:xfrm>
            <a:off x="533520" y="776160"/>
            <a:ext cx="8076960" cy="5305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4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759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5"/>
          <p:cNvPicPr/>
          <p:nvPr/>
        </p:nvPicPr>
        <p:blipFill>
          <a:blip r:embed="rId1"/>
          <a:stretch/>
        </p:blipFill>
        <p:spPr>
          <a:xfrm>
            <a:off x="250920" y="1628640"/>
            <a:ext cx="889308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7"/>
          <p:cNvPicPr/>
          <p:nvPr/>
        </p:nvPicPr>
        <p:blipFill>
          <a:blip r:embed="rId1"/>
          <a:stretch/>
        </p:blipFill>
        <p:spPr>
          <a:xfrm>
            <a:off x="861840" y="2000160"/>
            <a:ext cx="8282160" cy="352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8"/>
          <p:cNvPicPr/>
          <p:nvPr/>
        </p:nvPicPr>
        <p:blipFill>
          <a:blip r:embed="rId1"/>
          <a:stretch/>
        </p:blipFill>
        <p:spPr>
          <a:xfrm>
            <a:off x="755640" y="2421000"/>
            <a:ext cx="7488360" cy="252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1:02Z</dcterms:created>
  <dc:creator>User</dc:creator>
  <dc:description/>
  <dc:language>en-US</dc:language>
  <cp:lastModifiedBy>user</cp:lastModifiedBy>
  <dcterms:modified xsi:type="dcterms:W3CDTF">2012-05-05T00:26:32Z</dcterms:modified>
  <cp:revision>7</cp:revision>
  <dc:subject/>
  <dc:title>洛克王国衣服代码大全</dc:title>
</cp:coreProperties>
</file>