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IVEBY.WAV" ContentType="audio/x-wav"/>
  <Override PartName="/ppt/media/image3.png" ContentType="image/png"/>
  <Override PartName="/ppt/media/image17.jpeg" ContentType="image/jpeg"/>
  <Override PartName="/ppt/media/TYPE.WAV" ContentType="audio/x-wav"/>
  <Override PartName="/ppt/media/image4.png" ContentType="image/png"/>
  <Override PartName="/ppt/media/WHOOSH.WAV" ContentType="audio/x-wav"/>
  <Override PartName="/ppt/media/image14.jpeg" ContentType="image/jpeg"/>
  <Override PartName="/ppt/media/image7.png" ContentType="image/png"/>
  <Override PartName="/ppt/media/LASER.WAV" ContentType="audio/x-wav"/>
  <Override PartName="/ppt/media/image6.png" ContentType="image/png"/>
  <Override PartName="/ppt/media/CAMERA.WAV" ContentType="audio/x-wav"/>
  <Override PartName="/ppt/media/image5.jpeg" ContentType="image/jpeg"/>
  <Override PartName="/ppt/media/image8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20.jpeg" ContentType="image/jpeg"/>
  <Override PartName="/ppt/media/image12.png" ContentType="image/png"/>
  <Override PartName="/ppt/media/applause.wav" ContentType="audio/x-wav"/>
  <Override PartName="/ppt/media/image10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2BB-738D-4237-B8C4-32424C1D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22C-9F3B-46EE-B2DD-3167232E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F9E-91B9-40CC-BBB5-4F9DA800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D02-9EC2-49BC-8F2D-106D9EDB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A96A-46D9-4943-B4B8-0BA108BF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E8FA-D667-4327-9500-EA1F14E4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DE86-107F-4112-9D20-3BA72C07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E342-DA4F-4D65-93CE-DEAD8D08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5D12-CA3A-45E5-AB70-0ADEE333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E490-B037-4DFC-908F-36CC598B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BC15-74EC-45F6-BBC0-3D44D44E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AED-659C-4EB9-9741-A56780B8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0875-8FB9-460D-A521-7FCE1766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AFF3-04B1-4BF4-AB26-66C0464F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B6E2-DD4F-433D-BC0E-8629B83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250A-DD7A-41D4-8C74-E3DF1CA0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48DC-6B0C-4954-9D39-70865EDC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390-FC81-4E41-B632-609EE7E1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43D-08A1-4C4E-8F79-605D9D8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374-26D1-4D6A-90D9-234D62A3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09D-0D95-4B64-89B6-F029416B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98A-0FDB-4485-A6CA-0E492F2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14C-0C81-43D5-A63D-9E1B5254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CFF-4A8E-4328-B1B0-62380838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FEF0-F82C-448D-849D-46A85F3CF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52D3-F245-4262-8794-7968C686D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LASER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70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5329440" cy="3741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284720" y="620640"/>
            <a:ext cx="4681440" cy="30243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353960" y="573408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巍巍燕山高，潇潇易水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英雄五壮士，威震狼牙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rcRect l="22256" t="65973" r="6325" b="0"/>
          <a:stretch/>
        </p:blipFill>
        <p:spPr>
          <a:xfrm>
            <a:off x="179280" y="836640"/>
            <a:ext cx="4824360" cy="20145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301760" y="291960"/>
            <a:ext cx="29239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人教版五年级语文上册第七组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155736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5"/>
          <a:srcRect l="0" t="0" r="0" b="26053"/>
          <a:stretch/>
        </p:blipFill>
        <p:spPr>
          <a:xfrm>
            <a:off x="4284720" y="2852640"/>
            <a:ext cx="4680000" cy="3816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624720" y="580536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巍巍狼牙山，苍茫云海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棋盘陡峭险，奋勇杀敌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68360" y="8366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e2c5"/>
                </a:solidFill>
                <a:latin typeface="Times New Roman"/>
              </a:rPr>
              <a:t>为了不让敌人发现群众和连队主力，班长马宝玉斩钉截铁地说了一声‘走</a:t>
            </a:r>
            <a:r>
              <a:rPr b="1" lang="zh-CN" sz="3200" spc="-1" strike="noStrike">
                <a:solidFill>
                  <a:srgbClr val="ffe2c5"/>
                </a:solidFill>
                <a:latin typeface="Times New Roman"/>
              </a:rPr>
              <a:t>!’</a:t>
            </a:r>
            <a:r>
              <a:rPr b="1" lang="zh-CN" sz="3200" spc="-1" strike="noStrike">
                <a:solidFill>
                  <a:srgbClr val="ffe2c5"/>
                </a:solidFill>
                <a:latin typeface="Times New Roman"/>
              </a:rPr>
              <a:t>带头向棋盘陀走去。战士们热血沸腾，紧跟在班长后面。他们知道班长要把敌人引上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71640" y="29973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“热血沸腾”是一种什么样的情绪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71640" y="3429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战士们在班长做出决定之后，为什么会热血沸腾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00000" y="45086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战士们是怎么知道班长要把敌人引上绝路的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1" action="ppaction://hlinksldjump"/>
          </p:cNvPr>
          <p:cNvSpPr/>
          <p:nvPr/>
        </p:nvSpPr>
        <p:spPr>
          <a:xfrm>
            <a:off x="7238880" y="6095880"/>
            <a:ext cx="1576440" cy="609840"/>
          </a:xfrm>
          <a:custGeom>
            <a:avLst/>
            <a:gdLst>
              <a:gd name="textAreaLeft" fmla="*/ 39240 w 1576440"/>
              <a:gd name="textAreaRight" fmla="*/ 1537200 w 1576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5816" h="21600">
                <a:moveTo>
                  <a:pt x="0" y="0"/>
                </a:moveTo>
                <a:lnTo>
                  <a:pt x="55816" y="0"/>
                </a:lnTo>
                <a:lnTo>
                  <a:pt x="55816" y="21600"/>
                </a:lnTo>
                <a:lnTo>
                  <a:pt x="0" y="21600"/>
                </a:lnTo>
                <a:close/>
              </a:path>
              <a:path fill="lightenLess" w="55816" h="21600">
                <a:moveTo>
                  <a:pt x="0" y="0"/>
                </a:moveTo>
                <a:lnTo>
                  <a:pt x="55816" y="0"/>
                </a:lnTo>
                <a:lnTo>
                  <a:pt x="54416" y="1400"/>
                </a:lnTo>
                <a:lnTo>
                  <a:pt x="1400" y="1400"/>
                </a:lnTo>
                <a:close/>
              </a:path>
              <a:path fill="darken" w="55816" h="21600">
                <a:moveTo>
                  <a:pt x="55816" y="0"/>
                </a:moveTo>
                <a:lnTo>
                  <a:pt x="55816" y="21600"/>
                </a:lnTo>
                <a:lnTo>
                  <a:pt x="54416" y="20200"/>
                </a:lnTo>
                <a:lnTo>
                  <a:pt x="54416" y="1400"/>
                </a:lnTo>
                <a:close/>
              </a:path>
              <a:path fill="darkenLess" w="55816" h="21600">
                <a:moveTo>
                  <a:pt x="55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16" y="20200"/>
                </a:lnTo>
                <a:close/>
              </a:path>
              <a:path fill="lighten" w="55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16" h="21600">
                <a:moveTo>
                  <a:pt x="31407" y="10800"/>
                </a:moveTo>
                <a:lnTo>
                  <a:pt x="20901" y="17806"/>
                </a:lnTo>
                <a:lnTo>
                  <a:pt x="20901" y="3794"/>
                </a:lnTo>
                <a:close/>
              </a:path>
              <a:path fill="darken" w="55816" h="21600">
                <a:moveTo>
                  <a:pt x="33252" y="3794"/>
                </a:moveTo>
                <a:lnTo>
                  <a:pt x="33252" y="17806"/>
                </a:lnTo>
                <a:lnTo>
                  <a:pt x="34914" y="17806"/>
                </a:lnTo>
                <a:lnTo>
                  <a:pt x="34914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5280"/>
          </a:xfrm>
          <a:prstGeom prst="rect">
            <a:avLst/>
          </a:prstGeom>
          <a:ln w="0">
            <a:noFill/>
          </a:ln>
        </p:spPr>
      </p:pic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393840" y="765000"/>
            <a:ext cx="1657080" cy="57636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课文朗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2268360" y="83664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6590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50403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寇               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吼               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绷               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斩               嗖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崎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619280" y="2633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hǒ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19280" y="177336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kò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987640" y="1773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日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292720" y="177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gě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30072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姓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26337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大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55" name=""/>
          <p:cNvSpPr/>
          <p:nvPr/>
        </p:nvSpPr>
        <p:spPr>
          <a:xfrm>
            <a:off x="1619280" y="4219560"/>
            <a:ext cx="20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zh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619280" y="342756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bē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89440" y="34275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绷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7640" y="42163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斩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24000" y="5013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qí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3640" y="5013360"/>
            <a:ext cx="1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q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48360" y="421812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sō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300720" y="42181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嗖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282920" y="50133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崎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48360" y="342900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sh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19640" y="26337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lū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27640" y="2637000"/>
            <a:ext cx="21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抡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00720" y="34225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尸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6360" y="504720"/>
            <a:ext cx="9144000" cy="6309000"/>
          </a:xfrm>
          <a:prstGeom prst="rect">
            <a:avLst/>
          </a:prstGeom>
          <a:ln w="0">
            <a:noFill/>
          </a:ln>
        </p:spPr>
      </p:pic>
      <p:grpSp>
        <p:nvGrpSpPr>
          <p:cNvPr id="569" name=""/>
          <p:cNvGrpSpPr/>
          <p:nvPr/>
        </p:nvGrpSpPr>
        <p:grpSpPr>
          <a:xfrm>
            <a:off x="3168720" y="1727280"/>
            <a:ext cx="1224000" cy="1224000"/>
            <a:chOff x="3168720" y="1727280"/>
            <a:chExt cx="1224000" cy="1224000"/>
          </a:xfrm>
        </p:grpSpPr>
        <p:sp>
          <p:nvSpPr>
            <p:cNvPr id="570" name=""/>
            <p:cNvSpPr/>
            <p:nvPr/>
          </p:nvSpPr>
          <p:spPr>
            <a:xfrm>
              <a:off x="3168720" y="1727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168720" y="2339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81080" y="1757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392720" y="1727280"/>
            <a:ext cx="1224000" cy="1224000"/>
            <a:chOff x="4392720" y="1727280"/>
            <a:chExt cx="1224000" cy="1224000"/>
          </a:xfrm>
        </p:grpSpPr>
        <p:sp>
          <p:nvSpPr>
            <p:cNvPr id="574" name=""/>
            <p:cNvSpPr/>
            <p:nvPr/>
          </p:nvSpPr>
          <p:spPr>
            <a:xfrm>
              <a:off x="4392720" y="1727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4392720" y="2339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05080" y="1757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5616360" y="1727280"/>
            <a:ext cx="1224000" cy="1224000"/>
            <a:chOff x="5616360" y="1727280"/>
            <a:chExt cx="1224000" cy="1224000"/>
          </a:xfrm>
        </p:grpSpPr>
        <p:sp>
          <p:nvSpPr>
            <p:cNvPr id="578" name=""/>
            <p:cNvSpPr/>
            <p:nvPr/>
          </p:nvSpPr>
          <p:spPr>
            <a:xfrm>
              <a:off x="5616720" y="172728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616360" y="233928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28720" y="1757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942920" y="1727280"/>
            <a:ext cx="1224000" cy="1224000"/>
            <a:chOff x="1942920" y="1727280"/>
            <a:chExt cx="1224000" cy="1224000"/>
          </a:xfrm>
        </p:grpSpPr>
        <p:sp>
          <p:nvSpPr>
            <p:cNvPr id="582" name=""/>
            <p:cNvSpPr/>
            <p:nvPr/>
          </p:nvSpPr>
          <p:spPr>
            <a:xfrm>
              <a:off x="1943280" y="172728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942920" y="233928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55280" y="17575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979640" y="170172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庙务葛吼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557440" y="4726080"/>
            <a:ext cx="1224000" cy="1224000"/>
            <a:chOff x="2557440" y="4726080"/>
            <a:chExt cx="1224000" cy="1224000"/>
          </a:xfrm>
        </p:grpSpPr>
        <p:sp>
          <p:nvSpPr>
            <p:cNvPr id="587" name=""/>
            <p:cNvSpPr/>
            <p:nvPr/>
          </p:nvSpPr>
          <p:spPr>
            <a:xfrm>
              <a:off x="2557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557440" y="53380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69800" y="47563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332000" y="4726080"/>
            <a:ext cx="1224000" cy="1224000"/>
            <a:chOff x="1332000" y="4726080"/>
            <a:chExt cx="1224000" cy="1224000"/>
          </a:xfrm>
        </p:grpSpPr>
        <p:sp>
          <p:nvSpPr>
            <p:cNvPr id="591" name=""/>
            <p:cNvSpPr/>
            <p:nvPr/>
          </p:nvSpPr>
          <p:spPr>
            <a:xfrm>
              <a:off x="133200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1332000" y="53380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44360" y="47563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005440" y="4726080"/>
            <a:ext cx="1224000" cy="1224000"/>
            <a:chOff x="5005440" y="4726080"/>
            <a:chExt cx="1224000" cy="1224000"/>
          </a:xfrm>
        </p:grpSpPr>
        <p:sp>
          <p:nvSpPr>
            <p:cNvPr id="595" name=""/>
            <p:cNvSpPr/>
            <p:nvPr/>
          </p:nvSpPr>
          <p:spPr>
            <a:xfrm>
              <a:off x="5005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005440" y="53380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17800" y="47563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781440" y="4726080"/>
            <a:ext cx="1224000" cy="1224000"/>
            <a:chOff x="3781440" y="4726080"/>
            <a:chExt cx="1224000" cy="1224000"/>
          </a:xfrm>
        </p:grpSpPr>
        <p:sp>
          <p:nvSpPr>
            <p:cNvPr id="599" name=""/>
            <p:cNvSpPr/>
            <p:nvPr/>
          </p:nvSpPr>
          <p:spPr>
            <a:xfrm>
              <a:off x="3781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781440" y="53380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93800" y="47563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229440" y="4726080"/>
            <a:ext cx="1224000" cy="1224000"/>
            <a:chOff x="6229440" y="4726080"/>
            <a:chExt cx="1224000" cy="1224000"/>
          </a:xfrm>
        </p:grpSpPr>
        <p:sp>
          <p:nvSpPr>
            <p:cNvPr id="603" name=""/>
            <p:cNvSpPr/>
            <p:nvPr/>
          </p:nvSpPr>
          <p:spPr>
            <a:xfrm>
              <a:off x="6229440" y="47260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229440" y="53380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41800" y="475632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1403280" y="4761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坠雹仇恨眺</a:t>
            </a:r>
            <a:r>
              <a:rPr b="0" lang="zh-CN" sz="7200" spc="-1" strike="noStrike">
                <a:solidFill>
                  <a:srgbClr val="0066ff"/>
                </a:solidFill>
                <a:latin typeface="Arial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557440" y="3284640"/>
            <a:ext cx="1224000" cy="1224000"/>
            <a:chOff x="2557440" y="3284640"/>
            <a:chExt cx="1224000" cy="1224000"/>
          </a:xfrm>
        </p:grpSpPr>
        <p:sp>
          <p:nvSpPr>
            <p:cNvPr id="608" name=""/>
            <p:cNvSpPr/>
            <p:nvPr/>
          </p:nvSpPr>
          <p:spPr>
            <a:xfrm>
              <a:off x="2557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2557440" y="3896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69800" y="3314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332000" y="3284640"/>
            <a:ext cx="1224000" cy="1224000"/>
            <a:chOff x="1332000" y="3284640"/>
            <a:chExt cx="1224000" cy="1224000"/>
          </a:xfrm>
        </p:grpSpPr>
        <p:sp>
          <p:nvSpPr>
            <p:cNvPr id="612" name=""/>
            <p:cNvSpPr/>
            <p:nvPr/>
          </p:nvSpPr>
          <p:spPr>
            <a:xfrm>
              <a:off x="133200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332000" y="3896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44360" y="3314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005440" y="3284640"/>
            <a:ext cx="1224000" cy="1224000"/>
            <a:chOff x="5005440" y="3284640"/>
            <a:chExt cx="1224000" cy="1224000"/>
          </a:xfrm>
        </p:grpSpPr>
        <p:sp>
          <p:nvSpPr>
            <p:cNvPr id="616" name=""/>
            <p:cNvSpPr/>
            <p:nvPr/>
          </p:nvSpPr>
          <p:spPr>
            <a:xfrm>
              <a:off x="5005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005440" y="3896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17800" y="3314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781440" y="3284640"/>
            <a:ext cx="1224000" cy="1224000"/>
            <a:chOff x="3781440" y="3284640"/>
            <a:chExt cx="1224000" cy="1224000"/>
          </a:xfrm>
        </p:grpSpPr>
        <p:sp>
          <p:nvSpPr>
            <p:cNvPr id="620" name=""/>
            <p:cNvSpPr/>
            <p:nvPr/>
          </p:nvSpPr>
          <p:spPr>
            <a:xfrm>
              <a:off x="3781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781440" y="3896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93800" y="3314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229440" y="3284640"/>
            <a:ext cx="1224000" cy="1224000"/>
            <a:chOff x="6229440" y="3284640"/>
            <a:chExt cx="1224000" cy="1224000"/>
          </a:xfrm>
        </p:grpSpPr>
        <p:sp>
          <p:nvSpPr>
            <p:cNvPr id="624" name=""/>
            <p:cNvSpPr/>
            <p:nvPr/>
          </p:nvSpPr>
          <p:spPr>
            <a:xfrm>
              <a:off x="6229440" y="3284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229440" y="3896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41800" y="3314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403280" y="3284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腔崎岖尸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5640" y="549360"/>
            <a:ext cx="799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任务 大吼 满腔怒火 全神贯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崎岖 横七竖八 尸体 斩钉截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热血沸腾 居高临下 坠落山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粉身碎骨 雹子 仇恨 叽里呱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昂首挺胸 坚强不屈 惊天动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气壮山河 大举进犯 纷纷滚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33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好词共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620640"/>
            <a:ext cx="8785440" cy="588636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698400" y="1690560"/>
            <a:ext cx="268128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斩钉截铁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悬崖绝壁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30560" y="201780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说话办事坚决果断，毫不犹豫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董存瑞斩钉截铁地对指挥员说：“让我去炸掉那个碉堡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38560" y="3787920"/>
            <a:ext cx="61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高而陡峭不能攀缘的山崖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即使悬崖绝壁也阻止不了特种兵战士前进的脚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9640" y="907920"/>
            <a:ext cx="266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词语理解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>
            <a:lum bright="6000"/>
          </a:blip>
          <a:srcRect l="0" t="0" r="1658" b="-293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684360" y="836640"/>
            <a:ext cx="266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近、反义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38" name=""/>
          <p:cNvSpPr/>
          <p:nvPr/>
        </p:nvSpPr>
        <p:spPr>
          <a:xfrm>
            <a:off x="1044720" y="1628640"/>
            <a:ext cx="54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〖近义词〗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进犯——侵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沉着——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坠落——跌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42920" y="3933720"/>
            <a:ext cx="518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〖反义词〗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英勇——懦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崎岖——平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胜利——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611360" y="620640"/>
            <a:ext cx="32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文是按什么顺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82920" y="12682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（按事情的发生、经过、结果顺序写的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21760" y="1974960"/>
            <a:ext cx="451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本篇课文那个自然段是事情的发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那些自然段是事情的结果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01000" y="3141720"/>
            <a:ext cx="594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（课文第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自然段七连六班接受了掩护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众和连队转移的任务是事情的发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6—9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自然段讲五壮士英勇壮烈跳下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崖是事情的结果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02384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6120" y="549360"/>
            <a:ext cx="596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文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—5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自然段，可以分为三部分，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别写的什么？能跟老师一样给每部分标上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题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10080" y="2492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接受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62728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49640" y="249228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272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867280" y="249228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55640" y="38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708360" y="38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24520" y="350028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644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跳下悬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47160" y="24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痛击敌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598440" y="2492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引上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918440" y="342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顶峰歼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185920" y="62064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题可不可以改成“狼牙山五战士呢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101320" y="1557360"/>
            <a:ext cx="517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壮士”表示了对五位战士的敬佩之情。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们不是一般的战士，他们为了保护人民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众和连队转移，英勇杀敌、敢于献身，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以他们是豪杰，是壮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75960" y="1843200"/>
            <a:ext cx="7203960" cy="36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、学会本课的生字新词，理解课文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2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有感情地朗读课文。背诵描写五壮士跳崖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3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体会五壮士为了掩护群众和主力部队，抗击日寇的英雄气概和不畏牺牲的崇高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26920" y="105264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114300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2" action="ppaction://hlinksldjump"/>
          </p:cNvPr>
          <p:cNvSpPr/>
          <p:nvPr/>
        </p:nvSpPr>
        <p:spPr>
          <a:xfrm>
            <a:off x="3124080" y="6172200"/>
            <a:ext cx="1447920" cy="45720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3" action="ppaction://hlinksldjump"/>
          </p:cNvPr>
          <p:cNvSpPr/>
          <p:nvPr/>
        </p:nvSpPr>
        <p:spPr>
          <a:xfrm>
            <a:off x="5105520" y="6172200"/>
            <a:ext cx="1447560" cy="45720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rId4" action="ppaction://hlinksldjump"/>
          </p:cNvPr>
          <p:cNvSpPr/>
          <p:nvPr/>
        </p:nvSpPr>
        <p:spPr>
          <a:xfrm>
            <a:off x="7162920" y="6172200"/>
            <a:ext cx="1371600" cy="45720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95280" y="620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背诵：    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痛击敌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为了拖住敌人，五位壮士一边痛击敌人，一边有计划地把大批敌人引山狼牙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长马宝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班长葛振林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战士宋学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胡德林和胡福才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敌人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5280" y="393372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温馨感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一个片段，抓住了人物的（          ）和（           ）进行生动、细致地描写，甚至还用敌人来进行（            ），让我们感受到五壮士的（          ）和（            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9280" y="765000"/>
            <a:ext cx="856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自读感悟  合作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找一找，划一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读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—9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段，五位壮士的“壮烈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为还具体表现在哪些片段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想一想，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透过这些片段，我们能感受到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95280" y="692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引上绝路：</a:t>
            </a:r>
            <a:r>
              <a:rPr b="1" lang="zh-CN" sz="30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为了不让敌人发现群众和连队的主力，班长马宝玉斩钉截铁地说了一声“走！”</a:t>
            </a:r>
            <a:r>
              <a:rPr b="1" lang="zh-CN" sz="3000" spc="-1" strike="noStrike">
                <a:solidFill>
                  <a:srgbClr val="000099"/>
                </a:solidFill>
                <a:latin typeface="华文新魏"/>
                <a:ea typeface="华文新魏"/>
              </a:rPr>
              <a:t>,</a:t>
            </a:r>
            <a:r>
              <a:rPr b="1" lang="zh-CN" sz="3000" spc="-1" strike="noStrike">
                <a:solidFill>
                  <a:srgbClr val="000099"/>
                </a:solidFill>
                <a:latin typeface="华文新魏"/>
                <a:ea typeface="华文新魏"/>
              </a:rPr>
              <a:t>带头向棋盘陀走去。战士们热血沸腾，紧跟在班长后面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5280" y="2060640"/>
            <a:ext cx="799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们前面有两条路：一条通往（          ），走这条路可以（     ），意味着他们可以（        ），可是敌人尾随在身后，容易（            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另一条是通向（              ）。走上这条路就意味着（               ）。走哪一条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5280" y="62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顶峰歼敌：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位壮士一面向顶峰攀登，一面依托大树和岩石向敌人射击。山路上又留下了许多具敌人的尸体。到了狼牙山顶峰，五位壮士居高临下，继续向紧跟在身后的敌人射击。不少敌人坠落山涧，粉身碎骨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85264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班长马宝玉抢前一步，猛地举起一块磨盘大的石头，大声喊到：“同志们，用石头砸！”顿时，石头像雹子一样，带着五位壮士的决心，带着中国人民的仇恨，向敌人头上砸去。山坡上传来一阵叽里呱啦的叫声，敌人纷纷滚落深谷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8360" y="5157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思考：这两个片段，分别运用了怎样的方法，来塑造人物形象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522936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8089200" y="404640"/>
            <a:ext cx="6069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95280" y="5300640"/>
            <a:ext cx="856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五位壮士屹立在狼牙山顶峰，眺望着群众和部队主力远去的方向。他们回头望望还在向上爬的敌人，脸上露出胜利的喜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3640" y="1700280"/>
            <a:ext cx="270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想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此时此刻，他们也许在想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9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981000"/>
            <a:ext cx="8424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英勇跳崖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位壮士屹立在狼牙山顶峰，眺望着群众和部队主力远去的方向。他们回头望望还在向上爬的敌人，脸上露出胜利的喜悦。班长马宝玉激动地说：“同志们，我们的任务胜利完成了！”说罢，他把那支从敌人手里夺来的枪砸碎了，然后走到悬崖边上，像每次发起冲锋一样，第一个纵身跳下深谷。战士们也昂首挺胸，相继从悬崖往下跳。狼牙山上响起了他们壮烈豪迈的口号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打倒日本帝国主义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国共产党万岁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这是英雄的中国人民坚强不屈的声音！这声音惊天动地，气壮山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5280" y="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关故事的后续报道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位壮士在狼牙山顶峰英勇跳崖之后。其中葛振林和宋学义被山腰树枝挂住，幸免于难，其他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战士壮烈牺牲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战士与敌人激战一整天，打退敌人十几次进攻，歼灭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敌人。他们的壮举，表现了崇高的爱国主义、革命英雄主义精神和坚贞不屈的民族气节，被人民群众誉为“狼牙山五壮士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来自敌人的折服……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五位壮士英勇跳崖之后，爬上崖头的日军，面对五勇士跳崖处，随着指挥官的口令整整齐齐地排成几列，恭恭敬敬地三鞠躬。这群“皇军武士”，终于发现和他们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人激战一天的八路军，仅仅只有五人，他们震惊之余，完全被我中华勇士捐躯殉国的牺牲精神折服了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8360" y="620640"/>
            <a:ext cx="842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永远的缅怀……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五壮士曾经生活过的连队，至今保留着这样一个传统，每天早晨点名时，连长喊马宝玉、葛振林……队列里一片肃静，没有人应答，直到点到第六名战士的姓名时，才有人答“到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幸存下来的葛振林老人，因病去世，当地群众纷纷送来花圈，含泪告别这位名震中外的抗日英雄。中外无数的游人前往狼牙山，缅怀先烈的英雄事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8360" y="2997360"/>
            <a:ext cx="79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52000" cy="3745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539640" y="4446720"/>
            <a:ext cx="860436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，这狼牙山顶巨大的石块，是人民为了悼念在这里跳崖的五位抗日英雄而建的纪念碑。碑上赫然写着“狼牙壮士”四个大字。请同学们想像一下，纪念碑上可能会写着怎样的碑文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8360" y="2997360"/>
            <a:ext cx="79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9640" y="1197000"/>
            <a:ext cx="82821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巍巍狼牙山，苍茫云海间。 青峰拔地起，只手欲擎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九州烽烟起，日寇侵我边。 忽闻贼兵至，百姓将涂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路五勇士，奋勇敢争先。 巧施太公计，引敌向绝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棋盘陡峭险，英勇杀敌前。 弹尽粮绝处，有石大若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敌寇蜂拥至，勇士谈笑间。 生前功既成，死亦重泰山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英雄跳崖下，敌寇亦震撼。 千秋五壮士，万载英名传！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340000" y="33336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狼牙壮士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>
            <a:lum contrast="-4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24000" y="17733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狼牙山东西、东南各长１５公里，面积为２２５平方公里。环山共有五坨３６峰，主峰莲花瓣海拔１１０５米，西、北两面均为峭壁悬崖，山势险峻。东、南两面稍缓，各有一条羊肠小路通向主峰，“闫王鼻子”、“小鬼脸”等险要之处非贴壁不可逾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3348000" y="692280"/>
            <a:ext cx="1944720" cy="71892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狼牙山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2611080" y="285264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巍巍燕山高，潇潇易水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英雄五壮士，威震狼牙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2" action="ppaction://hlinksldjump"/>
          </p:cNvPr>
          <p:cNvSpPr/>
          <p:nvPr/>
        </p:nvSpPr>
        <p:spPr>
          <a:xfrm>
            <a:off x="179280" y="620640"/>
            <a:ext cx="1728720" cy="50472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英雄五壮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42800" y="276696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日军攻上棋盘陀以后，指挥官下令全体日军立定敬礼，向宁死不降的狼牙山五壮士致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611280" y="1268280"/>
            <a:ext cx="8137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2c5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马宝玉（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1920—1941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年）蔚县下元皂村人，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1937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年参加八路军，两年后入党。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1941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月在易县狼牙山为掩护主力部队和人民群众安全转移，他带领全班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名战士（时任班长）奋勇杀敌，同数千日军巧妙周旋一整天，将敌人引上绝路，胜利完成阻击掩护任务，宁死不屈，毅然跳崖牺牲，年仅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21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971640" y="150804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葛振林，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1917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月生于河北曲阳，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1938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年参加八路军。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1941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日，在河北省易县狼牙山阻击日军战斗中，弹药耗尽后，宁死不当俘虏，随班长马宝玉和其他三位战友奋勇跳下悬崖，葛振林因挂在悬崖树枝上而得以生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826920" y="1484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狼牙山壮士宋学义，河南沁阳市北孔村人。在狼牙山阻击战中，和另外四名英勇的红军战士一起牵制了日军主力，保证了大部队安全转移，是著名的“狼牙山五壮士”之一。宋学义和葛振林两位壮士因挂在悬崖树枝上而得以生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826920" y="2432160"/>
            <a:ext cx="77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e2c5"/>
                </a:solidFill>
                <a:latin typeface="Times New Roman"/>
              </a:rPr>
              <a:t>胡德林、胡福才，河北容县人，他们是叔侄关系，胡德林是叔叔，胡福才是侄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604692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2411280" y="112536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路军晋察冀军区授予马宝玉、胡德林、胡福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烈士“模范荣誉战士”称号，授予葛振称、宋学义“勇敢顽强”奖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684360" y="2997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在五勇士坚守的棋盘坨主峰顶建立了纪念塔，塔为五角形，共五层，高十余米，塔真正面有聂荣臻手书的“狼牙山五勇士纪念塔”九个红色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2994480" y="83664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风萧萧兮易水寒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壮士一去兮不复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187280" y="3141720"/>
            <a:ext cx="67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国人民为有这样的英雄儿女而骄傲，巍巍狼牙山，滔滔易水河，是中华民族不可战胜的见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79280" y="304920"/>
            <a:ext cx="8785440" cy="620064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2050920" y="2852640"/>
            <a:ext cx="4969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704960" y="1676520"/>
            <a:ext cx="6035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西郊山色郁苍茫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载酒曾过易水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壁耸青宵屏隐现</a:t>
            </a: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峰开紫电剑光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0" y="0"/>
          <a:ext cx="9144000" cy="698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5791320" y="2209680"/>
            <a:ext cx="990360" cy="1600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24000" y="981000"/>
            <a:ext cx="82944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日本侵略军为了扑灭中国共产党领导下的抗日武装力量，对抗日根据地进行了疯狂的扫荡。对根据地人民的屠杀非常凶残。例如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194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月，日军对晋察冀边区北县区进行了三个月的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秋季大扫荡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，仅三个月的时间，日军残杀我人民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667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人，烧房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54779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间，抢掠与焚毁粮食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293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万斤，抢走耕畜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19300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余头，毁农具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172600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余件，使北岳人民受到了严重损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1" action="ppaction://hlinksldjump"/>
          </p:cNvPr>
          <p:cNvSpPr/>
          <p:nvPr/>
        </p:nvSpPr>
        <p:spPr>
          <a:xfrm>
            <a:off x="3708360" y="333360"/>
            <a:ext cx="1727280" cy="60012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历史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885080" y="1125360"/>
            <a:ext cx="4287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64000" y="18900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37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月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日，日本侵略者悍然发动了侵华战争，他们在中国的土地上杀光、烧光、抢光，给中华民族带来了深重的灾难。然而，英勇不屈的中华民族经历了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000099"/>
                </a:solidFill>
                <a:latin typeface="华文新魏"/>
                <a:ea typeface="华文新魏"/>
              </a:rPr>
              <a:t>年的浴血奋战，终于把侵略者赶出国土，取得了抗日战争的伟大胜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期间，无数的中华儿女，用鲜血和生命捍卫了祖国的领土和尊严，涌现出许多可歌可泣的动人故事，谱写了一曲曲气壮山河的颂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68360" y="17002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、《狼牙山五壮士》这个题目告诉了我们什么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2997360"/>
            <a:ext cx="90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、为什么不叫《狼牙山五战士》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这个“壮”字是什么意思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360" y="436572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、什么样的战士才能称得上壮士呢</a:t>
            </a:r>
            <a:r>
              <a:rPr b="1" lang="zh-CN" sz="4400" spc="-1" strike="noStrike">
                <a:solidFill>
                  <a:srgbClr val="ffe2c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3708360" y="1125360"/>
            <a:ext cx="1873440" cy="648000"/>
          </a:xfrm>
          <a:prstGeom prst="beve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课文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187280" y="62064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2c5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e2c5"/>
                </a:solidFill>
                <a:latin typeface="Times New Roman"/>
              </a:rPr>
              <a:t>同一个任务，课文里为什么说两次胜利完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71600" y="1828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位战士虽然安全了，但是连队和群众的安全并没有得到完全的保证。正是基于这一点，五位战士才毅然地放弃了追赶大部队的做法，冒着生命的危险，把敌人引上绝路。五位战士对路线的重新选择，实际上是为群众和连队选择了生；为自己选择了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user</dc:creator>
  <dc:description/>
  <dc:language>en-US</dc:language>
  <cp:lastModifiedBy>User</cp:lastModifiedBy>
  <dcterms:modified xsi:type="dcterms:W3CDTF">2013-12-02T07:11:35Z</dcterms:modified>
  <cp:revision>759</cp:revision>
  <dc:subject/>
  <dc:title>人教版五年级语文上册第七组《22狼牙山五壮士》PPT课件.ppt</dc:title>
</cp:coreProperties>
</file>