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BD0-7A74-4A49-8B33-06427FBC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387F-0F5C-457D-9883-8828E9EA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676-350F-46B5-ACB7-9040184B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FB2-7E73-4D64-BE52-997E2602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E31-4765-4316-A00B-35A865FB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EC4-D407-4AC9-99EC-0CE46074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B21D-B6D6-4146-BE9F-A8B7D8BD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094-54B5-47CD-ADF5-41BC477B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4926-A5AB-408A-9EE3-D73FD990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756-2D9C-4858-AC16-A4BC4707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2F6-C44C-40B7-B634-55A09DB8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BBB-14FD-428C-ABA1-CE34AEC7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7A45-BC96-4146-B4BD-39E919630D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0"/>
            <a:ext cx="5676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4508640"/>
            <a:ext cx="345744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4508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刷拉，刷拉，霸王龙感到后背有人在舔自己的伤口，吓得大叫，可是他只发得出很小的声音：“谁，谁在我后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2060640"/>
            <a:ext cx="2592360" cy="13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4200" y="1989000"/>
            <a:ext cx="3349800" cy="1511280"/>
          </a:xfrm>
          <a:prstGeom prst="wedgeEllipseCallout">
            <a:avLst>
              <a:gd name="adj1" fmla="val -59097"/>
              <a:gd name="adj2" fmla="val -67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听到你叫救命啊，别动，帮你舔一舔伤口，就不会感染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8000" y="0"/>
            <a:ext cx="5268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765000"/>
            <a:ext cx="23749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1844640"/>
            <a:ext cx="1873440" cy="863640"/>
          </a:xfrm>
          <a:prstGeom prst="wedgeRoundRectCallout">
            <a:avLst>
              <a:gd name="adj1" fmla="val -35083"/>
              <a:gd name="adj2" fmla="val 10918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谢，谢谢你，我，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80000" y="692280"/>
            <a:ext cx="1655640" cy="1150920"/>
          </a:xfrm>
          <a:prstGeom prst="wedgeRoundRectCallout">
            <a:avLst>
              <a:gd name="adj1" fmla="val 46166"/>
              <a:gd name="adj2" fmla="val 771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哈哈，你真有意思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0"/>
            <a:ext cx="5400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76500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27280" y="907920"/>
            <a:ext cx="2016000" cy="1152720"/>
          </a:xfrm>
          <a:prstGeom prst="wedgeRoundRectCallout">
            <a:avLst>
              <a:gd name="adj1" fmla="val 74486"/>
              <a:gd name="adj2" fmla="val 552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饿了吧，请你吃海螺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1640" y="3933720"/>
            <a:ext cx="21607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1640" y="393372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咯吱咯吱，啊，太美味了呀，谢谢啊！这一次，霸王龙的谢谢自然多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20640"/>
            <a:ext cx="9144000" cy="55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637000"/>
            <a:ext cx="201636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708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别客气。你平时喜欢吃什么呢？”霸王龙刚想说爱吃肉，却一下子打住了。“我，我喜欢吃水果，喜欢吃苹果，呵呵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836640"/>
            <a:ext cx="2160720" cy="1008000"/>
          </a:xfrm>
          <a:prstGeom prst="wedgeRoundRectCallout">
            <a:avLst>
              <a:gd name="adj1" fmla="val -80273"/>
              <a:gd name="adj2" fmla="val -3614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的牙齿和爪子这么尖利，一定很厉害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3357720"/>
            <a:ext cx="1800000" cy="1223640"/>
          </a:xfrm>
          <a:prstGeom prst="wedgeRoundRectCallout">
            <a:avLst>
              <a:gd name="adj1" fmla="val -69134"/>
              <a:gd name="adj2" fmla="val -5506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啊，这，我当然很厉害，可是我从不欺负别人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88360" y="765000"/>
            <a:ext cx="165564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88360" y="692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薄片龙告诉霸王龙：“在海里，有一种很可怕的家伙，他经常欺负我们薄片龙，我的身上总是被咬伤。”霸王龙听了非常愤怒：“什么！竟然会有这种欺负弱小的坏家伙！下次我见到他，一定要教训他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9360"/>
            <a:ext cx="9144000" cy="5722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3141720"/>
            <a:ext cx="3024000" cy="1295280"/>
          </a:xfrm>
          <a:prstGeom prst="wedgeRoundRectCallout">
            <a:avLst>
              <a:gd name="adj1" fmla="val -5907"/>
              <a:gd name="adj2" fmla="val -9154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了，听说你们陆地上也有一种专门欺负弱小的家伙，名字叫霸王龙来着，你见过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2060640"/>
            <a:ext cx="1944720" cy="720720"/>
          </a:xfrm>
          <a:prstGeom prst="wedgeRoundRectCallout">
            <a:avLst>
              <a:gd name="adj1" fmla="val -69916"/>
              <a:gd name="adj2" fmla="val 6784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没，没有，我，没有听说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0"/>
            <a:ext cx="2952720" cy="25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11592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薄片龙紧紧盯着霸王龙，然后笑起来：“认识你真好，你一定有好多朋友吧！”霸王龙头都快要抬不起来了，只好硬着头皮说：“那是啊，我的朋友太多了，数都数不清！那你呢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115920"/>
            <a:ext cx="388944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1159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薄片龙轻轻摇着头：“不，在海里，我没有朋友……”霸王龙立刻说：“从今天起，我们就是朋友了。明天，明天我们在这里见面，好吗？”薄片龙高兴地笑了。回去的路上，霸王龙心里却一阵阵的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35280" y="0"/>
            <a:ext cx="5495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71640" y="692280"/>
            <a:ext cx="33130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71640" y="692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二天，霸王龙和薄片龙在浅海散步。他们开心地聊天，说着海里有趣的故事。海里那个坏家伙看到霸王龙的个子，不敢再去欺负薄片龙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0"/>
            <a:ext cx="5380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3068640"/>
            <a:ext cx="223344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三天，霸王龙请薄片龙到陆地观光，他知道薄片龙的腿没法在陆地走动，就背着他一边走一边介绍风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74880" y="0"/>
            <a:ext cx="53942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9800" y="0"/>
            <a:ext cx="5322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08720" y="2133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朋友的感觉是怎样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3284640"/>
            <a:ext cx="151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幸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互相帮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原谅对方的缺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喜欢对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5920"/>
            <a:ext cx="9144000" cy="6742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8360" y="620640"/>
            <a:ext cx="374472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620640"/>
            <a:ext cx="3627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霸王龙每天最爱做的事情，就是欺负弱小的戟龙，他是个粗暴野蛮的家伙，没有一个朋友。不过他毫不在乎，他总是傲慢地说：哼，我是霸王龙！嗷呜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03360"/>
            <a:ext cx="9144000" cy="565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51120" y="0"/>
            <a:ext cx="5441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0"/>
            <a:ext cx="5427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3213000"/>
            <a:ext cx="252108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3213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终于，就在霸王龙快要绝望的时候，薄片龙来了，他浑身是伤，只说了一句“我来了……”就开始往海底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52560" y="0"/>
            <a:ext cx="5438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0"/>
            <a:ext cx="5452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836640"/>
            <a:ext cx="201600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836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霸王龙根本不会游泳，可是他毫不犹豫就潜了下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49360"/>
            <a:ext cx="9144000" cy="5756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981000"/>
            <a:ext cx="273528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2682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霸王龙不顾一切救起了薄片龙，他伤心地说：“怎么会有那么坏的家伙，你不要怕，我来了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04640"/>
            <a:ext cx="9144000" cy="6337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3357720"/>
            <a:ext cx="2232000" cy="13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0360" y="2997360"/>
            <a:ext cx="3203640" cy="1944360"/>
          </a:xfrm>
          <a:prstGeom prst="wedgeRoundRectCallout">
            <a:avLst>
              <a:gd name="adj1" fmla="val -55004"/>
              <a:gd name="adj2" fmla="val -9832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醒醒吧，你一定会好起来的！其实，我从头到尾都是骗你的啊！我根本不是好人，我就是霸王龙啊！我自私野蛮，我欺负别人，你骂我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0"/>
            <a:ext cx="5589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1052640"/>
            <a:ext cx="352872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105264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薄片龙仿佛听到了好朋友的召唤，他用尽最后的力气微笑：“其实，我也骗了你啊，从一开始我就知道你是谁了。在我心里，你是最好最好的人，善良体贴，谢谢你了…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3933720"/>
            <a:ext cx="1800360" cy="433440"/>
          </a:xfrm>
          <a:prstGeom prst="wedgeRoundRectCallout">
            <a:avLst>
              <a:gd name="adj1" fmla="val -50703"/>
              <a:gd name="adj2" fmla="val 10274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嗷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549360"/>
            <a:ext cx="676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薄片龙虽然失去了生命，但是他得到了很珍贵的礼物：朋友。霸王龙在和薄片龙一起的日子里，懂得了如何去爱朋友，如何去改变自己让大家重新认识了自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亲爱的孩子们，看了这个故事，你是不是更爱自己的朋友了呢？用你的爱和善良，还有宽容的心，去找寻更多的朋友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9280" y="2565360"/>
            <a:ext cx="5638680" cy="42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9360"/>
            <a:ext cx="3311640" cy="134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20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天，霸王龙追赶着一群小戟龙来到悬崖边，他被戟龙害怕的样子逗得哈哈大笑，一步步朝着戟龙逼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0"/>
            <a:ext cx="5580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47242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猜猜看，发生了什么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0"/>
            <a:ext cx="5445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0"/>
            <a:ext cx="5484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981000"/>
            <a:ext cx="295272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981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救命啊，难道我就这样死了？谁来救我！没人会来的，我根本没有朋友！太伤心了，我不想死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08280" y="0"/>
            <a:ext cx="55274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11160" y="0"/>
            <a:ext cx="5521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8:56:03Z</dcterms:created>
  <dc:creator>User</dc:creator>
  <dc:description/>
  <dc:language>en-US</dc:language>
  <cp:lastModifiedBy>QQ</cp:lastModifiedBy>
  <dcterms:modified xsi:type="dcterms:W3CDTF">2011-06-19T08:52:53Z</dcterms:modified>
  <cp:revision>6</cp:revision>
  <dc:subject/>
  <dc:title>幻灯片 1</dc:title>
</cp:coreProperties>
</file>