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2D71-FAA4-4422-89B1-679EC8AD2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DC4C-0281-47CF-BEE6-FB13E15D9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DDF5-D294-4CDE-9369-87B9A410A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40D9-46E4-433B-9A96-F26C8A155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8A21-3298-4B3D-91C7-4009DFCE4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18E2-BB71-4954-B51B-7F02F3CB2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4957-DEFA-47E1-AFD5-B10BB106F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40F9-3483-4336-965D-246C3C845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79DD-1FB7-4392-B508-BD5FAAB6E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43A4-6395-4A1E-A7FD-0D0251DA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4807-35DA-4AAF-953C-F9BF97BE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2A96-AD24-4869-9BC9-593DFDE0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BF3FA-0EB0-4CD5-A4FB-FAC02DA352F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r.office.microsoft.com/r/rlidDRMMoreInfoLicenseReq?clid=2052" TargetMode="Externa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467840" cy="2210040"/>
          </a:xfrm>
          <a:prstGeom prst="rect">
            <a:avLst/>
          </a:prstGeom>
          <a:solidFill>
            <a:srgbClr val="faf8ed"/>
          </a:solidFill>
          <a:ln w="3240">
            <a:solidFill>
              <a:srgbClr val="c0c0c0"/>
            </a:solidFill>
            <a:miter/>
          </a:ln>
        </p:spPr>
        <p:txBody>
          <a:bodyPr lIns="54864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宋体"/>
              </a:rPr>
              <a:t>对此演示文稿的权限当前受到限制。只有使用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Microsoft Office 2003 </a:t>
            </a: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宋体"/>
              </a:rPr>
              <a:t>或更高版本才能打开该演示文稿。您可以向演示文稿的作者申请一份可以使用“用于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Internet Explorer </a:t>
            </a: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宋体"/>
              </a:rPr>
              <a:t>的权限管理加载项”阅读的演示文稿副本。单击“视图”菜单的“幻灯片放映”可以打开此链接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doNotEnter" descr=""/>
          <p:cNvPicPr/>
          <p:nvPr/>
        </p:nvPicPr>
        <p:blipFill>
          <a:blip r:embed="rId1"/>
          <a:stretch/>
        </p:blipFill>
        <p:spPr>
          <a:xfrm>
            <a:off x="314280" y="314280"/>
            <a:ext cx="295200" cy="295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09480" y="1752480"/>
            <a:ext cx="693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ea typeface="宋体"/>
                <a:hlinkClick r:id="rId2"/>
              </a:rPr>
              <a:t>了解关于受限权限文档的更多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1T18:12:01Z</dcterms:created>
  <dc:creator/>
  <dc:description/>
  <dc:language>en-US</dc:language>
  <cp:lastModifiedBy/>
  <dcterms:modified xsi:type="dcterms:W3CDTF">2003-04-10T10:54:53Z</dcterms:modified>
  <cp:revision>82</cp:revision>
  <dc:subject/>
  <dc:title>Permission to this presentation is  currently restricted. This presentation can  be opened by Microsoft Office 11 Beta  or a viewer. For more information,  go to http://office.microsoft.com/viewer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230526548</vt:r8>
  </property>
</Properties>
</file>