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715-78FD-470F-B6BB-687B62FE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011A-0E21-40C7-8C7D-0B2FA660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A77-48CE-4DAB-A1F9-72B43B2D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E9E-A215-4CB8-9640-B74F24C1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2C79-DB57-45D1-A9F5-A9027318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AEF1-781B-43F4-90D8-2772F29D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F5EE-C477-4C86-94B5-B3FC096E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5CF3-EA16-4940-A6A4-334C059C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A4DB-BE02-4F0D-940D-553F885D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08E-3ADF-4FFA-9DF1-CC108B2B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534F-2523-4BD0-93FF-BD6D58B8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326E-EB4A-4FF6-AADB-2380454C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66C1-C6B8-403E-A048-F36304B2F6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.office.microsoft.com/r/rlidRestrictedPermissionViewer?clid=2052" TargetMode="External"/><Relationship Id="rId3" Type="http://schemas.openxmlformats.org/officeDocument/2006/relationships/hyperlink" Target="http://r.office.microsoft.com/r/rlidRestrictedPermissionViewer?clid=2052" TargetMode="External"/><Relationship Id="rId4" Type="http://schemas.openxmlformats.org/officeDocument/2006/relationships/hyperlink" Target="http://r.office.microsoft.com/r/rlidRestrictedPermissionViewer?clid=2052" TargetMode="External"/><Relationship Id="rId5" Type="http://schemas.openxmlformats.org/officeDocument/2006/relationships/hyperlink" Target="http://r.office.microsoft.com/r/rlidRestrictedPermissionViewer?clid=2052" TargetMode="External"/><Relationship Id="rId6" Type="http://schemas.openxmlformats.org/officeDocument/2006/relationships/hyperlink" Target="http://r.office.microsoft.com/r/rlidRestrictedPermissionViewer?clid=2052" TargetMode="External"/><Relationship Id="rId7" Type="http://schemas.openxmlformats.org/officeDocument/2006/relationships/hyperlink" Target="http://r.office.microsoft.com/r/rlidRestrictedPermissionViewer?clid=2052" TargetMode="External"/><Relationship Id="rId8" Type="http://schemas.openxmlformats.org/officeDocument/2006/relationships/hyperlink" Target="http://r.office.microsoft.com/r/rlidDRMMoreInfoLicenseReq?clid=2052" TargetMode="External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2971800"/>
          </a:xfrm>
          <a:prstGeom prst="rect">
            <a:avLst/>
          </a:prstGeom>
          <a:solidFill>
            <a:srgbClr val="faf8ed"/>
          </a:solidFill>
          <a:ln w="3240">
            <a:solidFill>
              <a:srgbClr val="c0c0c0"/>
            </a:solidFill>
            <a:miter/>
          </a:ln>
        </p:spPr>
        <p:txBody>
          <a:bodyPr lIns="54864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对此演示文稿的权限当前受到限制。如果没有运行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Microsoft Office 2003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或其他支持受限权限演示文稿的应用程序，您可以下载“用于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Internet Explorer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的权限管理加载项”以阅读此演示文稿。单击“视图”菜单的“幻灯片放映”可以打开此链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oNotEnter" descr=""/>
          <p:cNvPicPr/>
          <p:nvPr/>
        </p:nvPicPr>
        <p:blipFill>
          <a:blip r:embed="rId1"/>
          <a:stretch/>
        </p:blipFill>
        <p:spPr>
          <a:xfrm>
            <a:off x="314280" y="31428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182880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2"/>
              </a:rPr>
              <a:t>下载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3"/>
              </a:rPr>
              <a:t>“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4"/>
              </a:rPr>
              <a:t>用于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5"/>
              </a:rPr>
              <a:t>Internet Explorer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6"/>
              </a:rPr>
              <a:t>的权限管理加载项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7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51460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8"/>
              </a:rPr>
              <a:t>了解关于受限权限文档的更多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8:12:01Z</dcterms:created>
  <dc:creator/>
  <dc:description/>
  <dc:language>en-US</dc:language>
  <cp:lastModifiedBy/>
  <dcterms:modified xsi:type="dcterms:W3CDTF">2003-04-10T10:55:58Z</dcterms:modified>
  <cp:revision>84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24889819</vt:r8>
  </property>
</Properties>
</file>