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D26F-DA54-48D6-B56A-0A1C4A95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C058-1C77-446A-9E62-53CB8AE0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45A9-C11B-48E9-851D-E95EC722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A282-ACA6-47F3-B6DE-BFE4E79A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E246-C08D-4893-A728-647B2D02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897A-5C28-4451-8973-2D5EDBFC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8C6A-97B5-41AC-B83D-2A089BCD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6EE4-EC07-4542-A044-6358D5C4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5C5F-BD25-41BC-ABB3-B653D7C2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634B-468E-452F-9243-D1DE09CD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2B3E-4BB6-4D22-B5F1-10AF43E6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0DD2-D9F2-4A61-B69C-C160C98D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765A-12AD-4E8F-8F62-51638969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CD69-A903-4155-B6E8-07C0AC41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FC9C-4885-48C7-91C4-502B24F8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F7FE-E086-4B07-8223-AA3A1907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7183-1640-4A1B-A662-11EE2F6C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A0FB3-AF75-47AA-9F71-360A076E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BF1B4-902A-466C-AFDD-5B3DA67A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D2217-98BE-494A-8E0E-1B5C58AF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ECDE4-2547-4A79-B040-E518E904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E4BF1-302C-4C85-86C6-F083CA94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7FBB-0754-443A-B1FD-CD2931D1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0010F-C4AC-4216-B208-C16B9462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A87AA-EAED-4EB7-8F53-B462B5B2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B5CAE-DF99-495E-A341-B94AA20C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905B1-1A90-4ACF-B07C-C9F98AC4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B9265-4F2C-4973-B03E-0BD38720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CA7B2-054A-4586-B813-E0B060A1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6B7C7-3E69-41B6-8860-35422EB7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CA02-BA82-4CA0-9F68-55E09D16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87A-982B-4272-8CAD-9480E74D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3C95-4980-461A-9217-F58C317D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A394-D2C4-4B0E-B21B-788151AE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A46C-B771-4869-8570-61B8CFD6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9EB1-5817-40E5-8E1A-92724DB2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8F1D-EEB9-4A71-A8FC-F1F2616DA3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5AE6-A823-4E0C-A3CB-40D2EE8F53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CED2-6699-4AF4-9B21-CA3087EF9D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12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13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12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6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添加下划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54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添加下划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54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向内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向内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忽明忽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5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忽明忽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5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突出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indefinite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突出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8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随机线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10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10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随机线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6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5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上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10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上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10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下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1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下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1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压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10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压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10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典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典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升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1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7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7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升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1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97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97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逆序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5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逆序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10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5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展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59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10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展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95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4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10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20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767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767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4" dur="767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6" dur="767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20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767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2" dur="767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4" dur="767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6" dur="767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弹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20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弹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20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字幕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字幕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椭圆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23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38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dur="2000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40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椭圆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23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浮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799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浮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799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239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95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97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155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09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97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玩具风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95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7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7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玩具风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7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7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标题弧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20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标题弧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20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飞旋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10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20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dur="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飞旋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10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20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dur="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放大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44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7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58" dur="500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8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5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dur="5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放大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44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5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6" dur="500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8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5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dur="5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线形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5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dur="5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线形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5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dur="5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有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有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1T04:26:34Z</dcterms:created>
  <dc:creator/>
  <dc:description/>
  <dc:language>en-US</dc:language>
  <cp:lastModifiedBy>i-hongys</cp:lastModifiedBy>
  <dcterms:modified xsi:type="dcterms:W3CDTF">2000-12-21T04:26:5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2052</vt:r8>
  </property>
  <property fmtid="{D5CDD505-2E9C-101B-9397-08002B2CF9AE}" pid="3" name="Version">
    <vt:r8>4</vt:r8>
  </property>
</Properties>
</file>