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6.gif" ContentType="image/gif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7DC-B035-489D-9C62-CF99E530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6A1-28B6-493A-A398-8C73913E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CAB73-487D-4194-9999-2B431CE0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D8115-6DD8-4BD3-8346-2043BC76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9BCDC-2FD0-4EFF-A01A-2EE40003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31796-1745-4D79-ADB0-6AE8E43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25C41-C661-4FAF-ACEA-FF3811D4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B9F08-7288-407A-9762-D568E4F6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59976-1B3D-4831-8BAD-F5BE267C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99D60-865B-4B1D-9C74-5B6A2D8B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86B91-C815-4C2E-9F08-F0F62F44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41E-B72B-40B0-8B6D-A3C648D5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9CD-B89A-4603-AF38-58782881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C113-3693-4A91-862C-F201FDC0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F75F-D79C-4EB8-B857-FE502044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AB29-E273-4BA9-862A-468C8F32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C0F9-517A-418C-B7C5-1C1F0605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F1D9-B587-4EE6-BB9D-2B7FD86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A8D3-DCFE-4851-B3DF-84A433D8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62B5-8DF1-4C1B-9CC6-1CC50926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1E6-F878-4D37-89AC-F707501D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3F7C-B36C-4E61-956D-EA72AD38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57C8-1976-4753-AE59-9F0F1CF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EF7F-D3E5-4982-A138-6A77B5FD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4058-9A23-478A-B8D1-7B781A4C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6151-C2E0-48D5-B8E7-A7E9592B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0FF2A-A5E4-4126-8F90-844A2D8C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79D56-29B5-4A8D-9420-1FCDFAE0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42B6-C0BC-413A-A06C-5D5D5F9E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A810-F1F2-46E0-8E46-A496FC4E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9E75-B878-4396-BC4D-1ABB7746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C39-C50A-4DDE-8C41-DC134E10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CA67-E7AE-498C-8FDD-7805B64B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6E61-65B3-41B0-A72E-01487B11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FCAC-985B-4ED6-8216-623A9A82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6270-23AD-4E7A-8E37-7D6307A5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313F-1B2C-4496-92B3-31580998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0F93-D96B-4C93-9487-716F847B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7C4F-58BA-4FB2-B322-1C30021E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0BB17-9A55-46AF-BB04-3AA324B4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05C6E-3C86-4D58-9A9B-6B7A98E6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656D0-B7C1-49B4-B73B-D4DB5546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4CA-22F4-4B72-94C3-057E0185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D8D4E-ED56-4856-8B89-2E9E2209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466E-6B86-4838-BF43-F9680702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19F7-3C9F-431F-9773-477B5976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4F711-9FC1-4E1A-8187-E565D69F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DA8E5-E062-49E6-9506-92A896B1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6281-6EB7-4E23-8FA3-6C33AEC3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59096-2668-478B-B08E-BAD4C4BA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C1500-BC84-46BE-BCD5-12F91746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9581-B979-4DA9-97AD-03BF91EB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9664E-E76D-4418-9B4F-625CAA19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058-25FF-43DA-A677-8E191DD8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0681-68F7-490E-B4A4-A7D840E3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9D8C3-4989-47FF-8377-8EC4DCA5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93B6F-7EB3-48DA-AC9D-BD287C8D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71B5C-D9B8-4B63-8867-F827B3E7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39043-1396-48F7-B761-9A2CC799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B65BD-6D83-44EE-A457-0B5AE9B6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16EC9-25FC-4049-82C1-3034E8D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14031-B91D-4F6E-AA05-EB67C2D8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39793-8A48-43AD-9F62-E738417F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30BDF-D7E6-427D-BD11-F4BB9DF9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64B-BC96-4625-8864-7630AE45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EDD3-BA8C-4783-BE9B-4371E71B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A55BA-9C8B-42D6-8B29-23340084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82D85-98C4-4455-9DE4-BA2FD33F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B5E15-8909-478C-A417-4B456A4D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AFCEE-EBF2-473B-BC98-1CC4860F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1B6B-EE98-4FEE-998C-74CF375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AE501-20DA-47B8-B03C-52A3CE6D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36E2B-9140-464A-8974-F95D2364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2990-D47C-4C28-99A7-EC94F0BD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D3238-E375-4D10-A42A-29241D0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0D5-B0DD-4858-93DC-8D227ED5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5A5BC-8D92-4385-B7D4-CFA005FD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D0A3E-BB37-49D8-B192-21073029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0A4C-806D-4745-8D87-E8049F96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34DF5-C0F0-4006-B977-6C32C39E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CDD3-9573-4E63-BC56-5114422B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0C453-A767-41F0-979A-415EFC6D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0CD63-9CE2-4CA3-9142-24D231AB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47C40-45F1-4B39-AEC9-50379C47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E3377-1840-4EDE-BDCC-B7127F33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86FD-8F5B-458A-B4F4-577225DD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842-4CCD-4E64-ACA7-BE939735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11B8B-4322-4F1C-B9FD-A2E68AEF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D4782-F803-4CA0-901F-28C81854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76396-E856-455C-AACD-3523BD70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667A9-0560-40E2-A43B-2D082B49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6980-E5E8-4061-A790-6B8BB33E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1AC1C-CE20-4AA0-B529-0E2319BC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BA09A-8E3B-4313-B56F-9CB18227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489A3-417E-4EB3-8B9F-D25390D6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531AB-5FE9-454A-91D3-1A5459C2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C56E9-7430-4618-AFC8-384EAEC9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365-98B9-41FA-9A32-DEA5EADC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505B7-DA7C-4030-BBD6-BAA01DE4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B37C8-E2A0-4AF0-9AD4-5EAC471C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D8ECE-85AD-40C1-85F9-47D49894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00F37-FEA3-4D08-B7FA-88304EE0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C2632-CA25-4ABB-90AF-D4E84E34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BAB7F-945B-4A85-A7F1-9D1DB1BB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8CDC8-AE44-450A-B936-226D6A6C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FEA9D-12CF-422E-8443-A0127AA4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6A9E7-2FCC-4015-89FA-F4F5BCC4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0016F-6E0C-4E19-9397-37B37F72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0426-99C3-4A3F-86B0-B1CCD263E7B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6CA4-B7B1-4BE2-99DC-133D00F3FD8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B884-CA86-4ABE-9595-575711CBAAE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5EB0-605D-4A1C-9B67-022696ABA0F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0151-0E4F-49CB-873E-5CC224DF815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0BDF-5B61-4FA0-BB04-E8FD9BB3CB5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111E-9A5F-4C9F-8143-4971904B33E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A34D-354D-4C8C-BA54-F8D45076E27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12E2-3DF4-4655-88CA-259A025C35A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905120" y="167652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00"/>
                </a:solidFill>
                <a:latin typeface="华文隶书"/>
                <a:ea typeface="华文隶书"/>
              </a:rPr>
              <a:t>平方差公式</a:t>
            </a:r>
            <a:endParaRPr b="1" lang="en-US" sz="80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beec9"/>
                </a:solidFill>
                <a:latin typeface="Times New Roman"/>
              </a:rPr>
              <a:t>[</a:t>
            </a:r>
            <a:r>
              <a:rPr b="0" lang="zh-CN" sz="800" spc="-1" strike="noStrike">
                <a:solidFill>
                  <a:srgbClr val="fbeec9"/>
                </a:solidFill>
                <a:latin typeface="Times New Roman"/>
              </a:rPr>
              <a:t>来源</a:t>
            </a:r>
            <a:r>
              <a:rPr b="0" lang="en-US" sz="800" spc="-1" strike="noStrike">
                <a:solidFill>
                  <a:srgbClr val="fbeec9"/>
                </a:solidFill>
                <a:latin typeface="Times New Roman"/>
              </a:rPr>
              <a:t>:</a:t>
            </a:r>
            <a:r>
              <a:rPr b="0" lang="zh-CN" sz="800" spc="-1" strike="noStrike">
                <a:solidFill>
                  <a:srgbClr val="fbeec9"/>
                </a:solidFill>
                <a:latin typeface="Times New Roman"/>
              </a:rPr>
              <a:t>学科网</a:t>
            </a:r>
            <a:r>
              <a:rPr b="0" lang="en-US" sz="800" spc="-1" strike="noStrike">
                <a:solidFill>
                  <a:srgbClr val="fbeec9"/>
                </a:solidFill>
                <a:latin typeface="Times New Roman"/>
              </a:rPr>
              <a:t>ZXXK]</a:t>
            </a:r>
            <a:endParaRPr b="1" lang="en-US" sz="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0" name="TextBox 2"/>
          <p:cNvSpPr/>
          <p:nvPr/>
        </p:nvSpPr>
        <p:spPr>
          <a:xfrm>
            <a:off x="1066680" y="34290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(a+b)(a-b)=?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1600200" y="26049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般地，我们有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00200" y="426708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即两个数的和与这两个数的差的积，等于这两个数的平方差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个公式叫做（乘法的）平方差公式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1447920" y="33526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)(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)=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2666880" y="9907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华文行楷"/>
                <a:ea typeface="华文行楷"/>
              </a:rPr>
              <a:t>知识要点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4"/>
          <p:cNvSpPr/>
          <p:nvPr/>
        </p:nvSpPr>
        <p:spPr>
          <a:xfrm>
            <a:off x="2365200" y="1244520"/>
            <a:ext cx="3313440" cy="3313080"/>
          </a:xfrm>
          <a:prstGeom prst="rect">
            <a:avLst/>
          </a:prstGeom>
          <a:solidFill>
            <a:srgbClr val="aefbe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5029200" y="3908520"/>
            <a:ext cx="6476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2365200" y="3908520"/>
            <a:ext cx="2665440" cy="649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2365200" y="1244520"/>
            <a:ext cx="3313440" cy="26640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5678640" y="1244520"/>
            <a:ext cx="645840" cy="26640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365200" y="457200"/>
            <a:ext cx="31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+b)·(a-b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4422600" y="51912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4118040" y="5191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1295280" y="487512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小正方形纸片放置在边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大正方形纸片上，未盖住部分的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1676520" y="5638680"/>
            <a:ext cx="31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+b)·(a-b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1 0.00532 L 0.36632 0.00532 E">
                                      <p:cBhvr>
                                        <p:cTn id="270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73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07838 L 0.25607 -0.23584 E">
                                      <p:cBhvr>
                                        <p:cTn id="276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"/>
          <p:cNvSpPr/>
          <p:nvPr/>
        </p:nvSpPr>
        <p:spPr>
          <a:xfrm>
            <a:off x="1676520" y="517680"/>
            <a:ext cx="6095880" cy="703440"/>
          </a:xfrm>
          <a:prstGeom prst="rect">
            <a:avLst/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a+b)(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ahoma"/>
              </a:rPr>
              <a:t>−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)=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−b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1600200" y="12952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公式左边两个二项式必须是相同两数的和与差相乘；且左边两括号内的第一项相等、第二项符号相反（互为相反数或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1600200" y="31240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公式右边是这两个数的平方差；即右边是左边括号内的第一项的平方减去第二项的平方．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1600200" y="4540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公式中的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是数，也可以是代数式．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7" name="WordArt 11"/>
          <p:cNvSpPr txBox="1"/>
          <p:nvPr/>
        </p:nvSpPr>
        <p:spPr>
          <a:xfrm>
            <a:off x="1066680" y="1447920"/>
            <a:ext cx="5335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｛</a:t>
            </a:r>
            <a:endParaRPr b="1" lang="en-US" sz="10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1600200" y="56070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各因式项数相同．符号相同的放在前面平方，符号相反的放在后面平方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152280" y="2878200"/>
            <a:ext cx="91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方差公式的结构特征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1447920" y="762120"/>
            <a:ext cx="61722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平方差公式计算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7+6x)(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x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)(x−3y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−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n)(−m−2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685800" y="2824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7+6x)(7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x)=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371600" y="3708360"/>
            <a:ext cx="3429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3y+x) (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y) =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1371600" y="4643280"/>
            <a:ext cx="4802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+2n)(−m−2n 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64832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6553080" y="2895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6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4724280" y="3800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6248520" y="3800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981080" y="5324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2n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1981080" y="5934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n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990720" y="1143000"/>
            <a:ext cx="8076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+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(b−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 +2b)(a−2b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990720" y="1757520"/>
            <a:ext cx="784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−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+2)(−3x−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−4a+3)(−4a−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990720" y="2290680"/>
            <a:ext cx="8076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−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+y)(3x+y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y−x)(−x−y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990720" y="2895480"/>
            <a:ext cx="3809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+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(b−2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990720" y="4043520"/>
            <a:ext cx="4190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+2)(−3x−2)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990720" y="3510000"/>
            <a:ext cx="4419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a +2b)(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b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3657600" y="2971800"/>
            <a:ext cx="4191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4038480" y="3581280"/>
            <a:ext cx="3200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4343400" y="4038480"/>
            <a:ext cx="3200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9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990720" y="5181480"/>
            <a:ext cx="426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+y)(3x+y)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990720" y="4572000"/>
            <a:ext cx="4800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+3)(−4a−3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1" name="Rectangle 17"/>
          <p:cNvSpPr/>
          <p:nvPr/>
        </p:nvSpPr>
        <p:spPr>
          <a:xfrm>
            <a:off x="990720" y="5796000"/>
            <a:ext cx="5333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y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)(−x−y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4343400" y="4572000"/>
            <a:ext cx="3733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16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4114800" y="5181480"/>
            <a:ext cx="2819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9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3809880" y="5796000"/>
            <a:ext cx="228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5" name="TextBox 23"/>
          <p:cNvSpPr/>
          <p:nvPr/>
        </p:nvSpPr>
        <p:spPr>
          <a:xfrm>
            <a:off x="2286000" y="5335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华文行楷"/>
                <a:ea typeface="华文行楷"/>
              </a:rPr>
              <a:t>练一练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838080" y="1600200"/>
            <a:ext cx="3657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2×2008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838080" y="2362320"/>
            <a:ext cx="3962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992×2008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914400" y="3048120"/>
            <a:ext cx="4648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200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−8) ×(2000+8 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990720" y="3890880"/>
            <a:ext cx="2423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200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8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1004760" y="4653000"/>
            <a:ext cx="242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4000  00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64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1" name="Rectangle 11"/>
          <p:cNvSpPr/>
          <p:nvPr/>
        </p:nvSpPr>
        <p:spPr>
          <a:xfrm>
            <a:off x="1004760" y="5491080"/>
            <a:ext cx="242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3 999 936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1111320" y="762120"/>
            <a:ext cx="5975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平方差公式计算：</a:t>
            </a:r>
            <a:r>
              <a:rPr b="0" lang="en-US" sz="800" spc="-1" strike="noStrike">
                <a:solidFill>
                  <a:srgbClr val="fbeec9"/>
                </a:solidFill>
                <a:latin typeface="Times New Roman"/>
              </a:rPr>
              <a:t>[</a:t>
            </a:r>
            <a:r>
              <a:rPr b="0" lang="zh-CN" sz="800" spc="-1" strike="noStrike">
                <a:solidFill>
                  <a:srgbClr val="fbeec9"/>
                </a:solidFill>
                <a:latin typeface="Times New Roman"/>
              </a:rPr>
              <a:t>来源</a:t>
            </a:r>
            <a:r>
              <a:rPr b="0" lang="en-US" sz="800" spc="-1" strike="noStrike">
                <a:solidFill>
                  <a:srgbClr val="fbeec9"/>
                </a:solidFill>
                <a:latin typeface="Times New Roman"/>
              </a:rPr>
              <a:t>:Zxxk.Com]</a:t>
            </a:r>
            <a:endParaRPr b="1" lang="en-US" sz="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304920" y="2290680"/>
            <a:ext cx="1000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2971800" y="1604880"/>
            <a:ext cx="457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96×1004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5" name="Rectangle 15"/>
          <p:cNvSpPr/>
          <p:nvPr/>
        </p:nvSpPr>
        <p:spPr>
          <a:xfrm>
            <a:off x="3581280" y="2438280"/>
            <a:ext cx="3962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96×1004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419720" y="3205080"/>
            <a:ext cx="4647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100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−4) ×(1000+4 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7" name="Rectangle 19"/>
          <p:cNvSpPr/>
          <p:nvPr/>
        </p:nvSpPr>
        <p:spPr>
          <a:xfrm>
            <a:off x="4800600" y="4043520"/>
            <a:ext cx="242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100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4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5334120" y="4800600"/>
            <a:ext cx="2423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1000  00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16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9" name="Rectangle 23"/>
          <p:cNvSpPr/>
          <p:nvPr/>
        </p:nvSpPr>
        <p:spPr>
          <a:xfrm>
            <a:off x="4495680" y="5567400"/>
            <a:ext cx="242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999 98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380880" y="2286000"/>
            <a:ext cx="41911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(a+2b)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−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          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(a−2b)(2b−a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(2a+b)(b+2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−3b)(a+3b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)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+3y)(3y−2x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3733920" y="2362320"/>
            <a:ext cx="1447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4724280" y="2367000"/>
            <a:ext cx="457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一个数不完全一样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3733920" y="2971800"/>
            <a:ext cx="1447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3733920" y="3581280"/>
            <a:ext cx="1447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3809880" y="4343400"/>
            <a:ext cx="1447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4572000" y="43480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(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 −9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)=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6629400" y="43480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 + 9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3809880" y="4952880"/>
            <a:ext cx="152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914400" y="130032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下列式子能否用平方差公式计算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550" name="Picture 12" descr="003388 (399)"/>
          <p:cNvPicPr/>
          <p:nvPr/>
        </p:nvPicPr>
        <p:blipFill>
          <a:blip r:embed="rId2"/>
          <a:stretch/>
        </p:blipFill>
        <p:spPr>
          <a:xfrm>
            <a:off x="1542960" y="5867280"/>
            <a:ext cx="4476960" cy="45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219320" y="2193840"/>
            <a:ext cx="693396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(x+3)(x-3)=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(-3a-1)(3a-1)=9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(4x+3y)(4x-3y)=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(2xy-3)(2xy+3)=4x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726080" y="2290680"/>
            <a:ext cx="1903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错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9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4724280" y="3205080"/>
            <a:ext cx="2590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错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-9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5410080" y="4191120"/>
            <a:ext cx="3048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错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6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9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5410080" y="5105520"/>
            <a:ext cx="2971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错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9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219320" y="1224000"/>
            <a:ext cx="3504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正错误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914400" y="1523880"/>
            <a:ext cx="1600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法一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838080" y="2158920"/>
            <a:ext cx="342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利用加法交换律，变成公式标准形式．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4267080" y="1523880"/>
            <a:ext cx="4038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)(3x−5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4572000" y="2747880"/>
            <a:ext cx="426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25−9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914400" y="3971880"/>
            <a:ext cx="1325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法二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944640" y="4729320"/>
            <a:ext cx="2971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提取两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号中的“−”号，变成公式标准形式．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3" name="Rectangle 15"/>
          <p:cNvSpPr/>
          <p:nvPr/>
        </p:nvSpPr>
        <p:spPr>
          <a:xfrm>
            <a:off x="4863960" y="4195800"/>
            <a:ext cx="2328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)(3x−5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4" name="Rectangle 16"/>
          <p:cNvSpPr/>
          <p:nvPr/>
        </p:nvSpPr>
        <p:spPr>
          <a:xfrm>
            <a:off x="4525920" y="5415120"/>
            <a:ext cx="2895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[(3x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5" name="Rectangle 26"/>
          <p:cNvSpPr/>
          <p:nvPr/>
        </p:nvSpPr>
        <p:spPr>
          <a:xfrm>
            <a:off x="4572000" y="5943600"/>
            <a:ext cx="1952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25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6" name="Rectangle 27"/>
          <p:cNvSpPr/>
          <p:nvPr/>
        </p:nvSpPr>
        <p:spPr>
          <a:xfrm>
            <a:off x="4572000" y="2062080"/>
            <a:ext cx="4038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x )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x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7" name="Rectangle 28"/>
          <p:cNvSpPr/>
          <p:nvPr/>
        </p:nvSpPr>
        <p:spPr>
          <a:xfrm>
            <a:off x="4525920" y="4809960"/>
            <a:ext cx="327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-(3x+5)  (3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8" name="Text Box 29"/>
          <p:cNvSpPr/>
          <p:nvPr/>
        </p:nvSpPr>
        <p:spPr>
          <a:xfrm>
            <a:off x="990720" y="919080"/>
            <a:ext cx="655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两种方法计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(3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143000" y="3551400"/>
            <a:ext cx="7010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添括号时，如果括号前面是正号，括到括号里的各项都不变符号；如果括号前面是负号，括到括号里的各项都改变符号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752480" y="5491080"/>
            <a:ext cx="6934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就是说，遇“加”不变，遇“减”都变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828800" y="2514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添括号法则：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2" name="TextBox 8"/>
          <p:cNvSpPr/>
          <p:nvPr/>
        </p:nvSpPr>
        <p:spPr>
          <a:xfrm>
            <a:off x="2209680" y="9907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华文行楷"/>
                <a:ea typeface="华文行楷"/>
              </a:rPr>
              <a:t>知识要点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5"/>
          <p:cNvSpPr/>
          <p:nvPr/>
        </p:nvSpPr>
        <p:spPr>
          <a:xfrm>
            <a:off x="1143000" y="3352680"/>
            <a:ext cx="708660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理解平方差公式的意义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掌握平方差公式的结构特征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正确地运用平方差公式进行计算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添括号法则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利用添括号法则灵活应用平方差公式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917720" y="2287440"/>
            <a:ext cx="265428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知识与能力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03" name="Picture 10" descr="003388 (462)"/>
          <p:cNvPicPr/>
          <p:nvPr/>
        </p:nvPicPr>
        <p:blipFill>
          <a:blip r:embed="rId2"/>
          <a:stretch/>
        </p:blipFill>
        <p:spPr>
          <a:xfrm>
            <a:off x="469800" y="220968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04" name="TextBox 10"/>
          <p:cNvSpPr/>
          <p:nvPr/>
        </p:nvSpPr>
        <p:spPr>
          <a:xfrm>
            <a:off x="1752480" y="106668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华文行楷"/>
                <a:ea typeface="华文行楷"/>
              </a:rPr>
              <a:t>学习目标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914400" y="1143000"/>
            <a:ext cx="6705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+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)(a-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066680" y="762120"/>
            <a:ext cx="358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914400" y="1676520"/>
            <a:ext cx="7010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-2b+3)(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b-3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447920" y="3052800"/>
            <a:ext cx="5715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[a+(b-c)][(a- (b-c)]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76320" y="2362320"/>
            <a:ext cx="6705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a+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(a-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447920" y="3814920"/>
            <a:ext cx="4952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447920" y="4500720"/>
            <a:ext cx="6172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a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1447920" y="5262480"/>
            <a:ext cx="5257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a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4419720" y="2367000"/>
            <a:ext cx="4419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)(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b-3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4952880" y="3052800"/>
            <a:ext cx="4343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[(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b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][(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b)-3]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4952880" y="3733920"/>
            <a:ext cx="358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(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b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4952880" y="4500720"/>
            <a:ext cx="4419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(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4952880" y="5257800"/>
            <a:ext cx="3429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5"/>
          <p:cNvSpPr/>
          <p:nvPr/>
        </p:nvSpPr>
        <p:spPr>
          <a:xfrm>
            <a:off x="1828800" y="2666880"/>
            <a:ext cx="594360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)(3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[(3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][(3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]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(3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9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a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3505320" y="9907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华文行楷"/>
                <a:ea typeface="华文行楷"/>
              </a:rPr>
              <a:t>练一练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371600" y="685800"/>
            <a:ext cx="4191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1219320" y="1300320"/>
            <a:ext cx="5105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+y)(x-y)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1211400" y="1905120"/>
            <a:ext cx="7932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x+y)(x-y)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828800" y="2971800"/>
            <a:ext cx="3733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1066680" y="3581280"/>
            <a:ext cx="6782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-y)(x+y)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1752480" y="4267080"/>
            <a:ext cx="6096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1752480" y="495792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 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1752480" y="5638680"/>
            <a:ext cx="6248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)(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1752480" y="6253200"/>
            <a:ext cx="3429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16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7"/>
          <p:cNvSpPr/>
          <p:nvPr/>
        </p:nvSpPr>
        <p:spPr>
          <a:xfrm>
            <a:off x="1752480" y="2595600"/>
            <a:ext cx="5791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+b)(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)=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−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1066680" y="3454560"/>
            <a:ext cx="6477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数和与这两数差的积，等于它们的平方差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9" name="Rectangle 15"/>
          <p:cNvSpPr/>
          <p:nvPr/>
        </p:nvSpPr>
        <p:spPr>
          <a:xfrm>
            <a:off x="1219320" y="4694400"/>
            <a:ext cx="6705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不符合平方差公式标准形式者，或提取两“−”号中的“−”号，要利用加法交换律，变成公式标准形式后，再用公式．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1752480" y="1859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平方差公式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1" name="TextBox 11"/>
          <p:cNvSpPr/>
          <p:nvPr/>
        </p:nvSpPr>
        <p:spPr>
          <a:xfrm>
            <a:off x="2590920" y="8380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华文行楷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华文行楷"/>
                <a:ea typeface="华文行楷"/>
              </a:rPr>
              <a:t>课堂小结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5"/>
          <p:cNvSpPr/>
          <p:nvPr/>
        </p:nvSpPr>
        <p:spPr>
          <a:xfrm>
            <a:off x="762120" y="2297160"/>
            <a:ext cx="419076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8×50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9²-498²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×10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9²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03×0.97 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5)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 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(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+6)(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) 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5181480" y="2266920"/>
            <a:ext cx="3505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249996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997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195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0.9991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4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3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a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4" name="TextBox 10"/>
          <p:cNvSpPr/>
          <p:nvPr/>
        </p:nvSpPr>
        <p:spPr>
          <a:xfrm>
            <a:off x="2209680" y="9907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华文行楷"/>
                <a:ea typeface="华文行楷"/>
              </a:rPr>
              <a:t>随堂练习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3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5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304920" y="990720"/>
            <a:ext cx="61722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y)(3y+2x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)(3x+4y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x+y)( 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)(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 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+y)(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(x+y) 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(2x+1)(2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3x+2)(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) 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3×20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6400800" y="990720"/>
            <a:ext cx="266688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3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5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y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30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304920" y="53341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已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-y=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-z=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+z=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z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1066680" y="603396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z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5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0" lang="en-US" sz="800" spc="-1" strike="noStrike">
                <a:solidFill>
                  <a:srgbClr val="fbeec9"/>
                </a:solidFill>
                <a:latin typeface="Times New Roman"/>
              </a:rPr>
              <a:t>[</a:t>
            </a:r>
            <a:r>
              <a:rPr b="0" lang="zh-CN" sz="800" spc="-1" strike="noStrike">
                <a:solidFill>
                  <a:srgbClr val="fbeec9"/>
                </a:solidFill>
                <a:latin typeface="Times New Roman"/>
              </a:rPr>
              <a:t>来源</a:t>
            </a:r>
            <a:r>
              <a:rPr b="0" lang="en-US" sz="800" spc="-1" strike="noStrike">
                <a:solidFill>
                  <a:srgbClr val="fbeec9"/>
                </a:solidFill>
                <a:latin typeface="Times New Roman"/>
              </a:rPr>
              <a:t>:</a:t>
            </a:r>
            <a:r>
              <a:rPr b="0" lang="zh-CN" sz="800" spc="-1" strike="noStrike">
                <a:solidFill>
                  <a:srgbClr val="fbeec9"/>
                </a:solidFill>
                <a:latin typeface="Times New Roman"/>
              </a:rPr>
              <a:t>学</a:t>
            </a:r>
            <a:r>
              <a:rPr b="0" lang="en-US" sz="800" spc="-1" strike="noStrike">
                <a:solidFill>
                  <a:srgbClr val="fbeec9"/>
                </a:solidFill>
                <a:latin typeface="Times New Roman"/>
              </a:rPr>
              <a:t>_</a:t>
            </a:r>
            <a:r>
              <a:rPr b="0" lang="zh-CN" sz="800" spc="-1" strike="noStrike">
                <a:solidFill>
                  <a:srgbClr val="fbeec9"/>
                </a:solidFill>
                <a:latin typeface="Times New Roman"/>
              </a:rPr>
              <a:t>科</a:t>
            </a:r>
            <a:r>
              <a:rPr b="0" lang="en-US" sz="800" spc="-1" strike="noStrike">
                <a:solidFill>
                  <a:srgbClr val="fbeec9"/>
                </a:solidFill>
                <a:latin typeface="Times New Roman"/>
              </a:rPr>
              <a:t>_</a:t>
            </a:r>
            <a:r>
              <a:rPr b="0" lang="zh-CN" sz="800" spc="-1" strike="noStrike">
                <a:solidFill>
                  <a:srgbClr val="fbeec9"/>
                </a:solidFill>
                <a:latin typeface="Times New Roman"/>
              </a:rPr>
              <a:t>网</a:t>
            </a:r>
            <a:r>
              <a:rPr b="0" lang="en-US" sz="800" spc="-1" strike="noStrike">
                <a:solidFill>
                  <a:srgbClr val="fbeec9"/>
                </a:solidFill>
                <a:latin typeface="Times New Roman"/>
              </a:rPr>
              <a:t>]</a:t>
            </a:r>
            <a:endParaRPr b="1" lang="en-US" sz="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2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4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2"/>
          <p:cNvSpPr/>
          <p:nvPr/>
        </p:nvSpPr>
        <p:spPr>
          <a:xfrm>
            <a:off x="1676520" y="25146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         </a:t>
            </a:r>
            <a:r>
              <a:rPr b="1" i="1" lang="en-US" sz="8000" spc="-1" strike="noStrike">
                <a:solidFill>
                  <a:srgbClr val="006600"/>
                </a:solidFill>
                <a:latin typeface="Times New Roman"/>
              </a:rPr>
              <a:t>Bye  bye</a:t>
            </a:r>
            <a:endParaRPr b="1" lang="en-US" sz="8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6"/>
          <p:cNvSpPr/>
          <p:nvPr/>
        </p:nvSpPr>
        <p:spPr>
          <a:xfrm>
            <a:off x="914400" y="2517840"/>
            <a:ext cx="73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经历探索平方差公式的过程，会推导平方差公式，并能运用公式进行简单的运算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在探索平方差公式的过程中，培养符号感和推理能力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通过添括号法则和去括号法则，培养逆向思维能力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1752480" y="1676520"/>
            <a:ext cx="26672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过程与方法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07" name="Picture 9" descr="003388 (462)"/>
          <p:cNvPicPr/>
          <p:nvPr/>
        </p:nvPicPr>
        <p:blipFill>
          <a:blip r:embed="rId2"/>
          <a:stretch/>
        </p:blipFill>
        <p:spPr>
          <a:xfrm>
            <a:off x="304920" y="160020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5"/>
          <p:cNvSpPr/>
          <p:nvPr/>
        </p:nvSpPr>
        <p:spPr>
          <a:xfrm>
            <a:off x="990720" y="2992320"/>
            <a:ext cx="701028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在计算过程中发现规律，并能用符号表示，从而体会数学的简捷美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算法多样化，培养多方位思考问题的习惯，提高合作交流意识和创新精神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905120" y="1828800"/>
            <a:ext cx="4419360" cy="703440"/>
          </a:xfrm>
          <a:prstGeom prst="rect">
            <a:avLst/>
          </a:prstGeom>
          <a:solidFill>
            <a:srgbClr val="cc99ff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情感态度与价值观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10" name="Picture 8" descr="003388 (462)"/>
          <p:cNvPicPr/>
          <p:nvPr/>
        </p:nvPicPr>
        <p:blipFill>
          <a:blip r:embed="rId2"/>
          <a:stretch/>
        </p:blipFill>
        <p:spPr>
          <a:xfrm>
            <a:off x="533520" y="17524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003388 (58)"/>
          <p:cNvPicPr/>
          <p:nvPr/>
        </p:nvPicPr>
        <p:blipFill>
          <a:blip r:embed="rId3"/>
          <a:stretch/>
        </p:blipFill>
        <p:spPr>
          <a:xfrm>
            <a:off x="2057400" y="6019920"/>
            <a:ext cx="4952880" cy="571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6"/>
          <p:cNvSpPr/>
          <p:nvPr/>
        </p:nvSpPr>
        <p:spPr>
          <a:xfrm>
            <a:off x="1143000" y="3276720"/>
            <a:ext cx="6934320" cy="18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平方差公式的推导和应用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掌握公式的结构特征及正确运用公式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理解添括号法则，进一步熟悉乘法公式的合理利用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981080" y="2362320"/>
            <a:ext cx="142236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重点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14" name="Picture 10" descr="003388 (462)"/>
          <p:cNvPicPr/>
          <p:nvPr/>
        </p:nvPicPr>
        <p:blipFill>
          <a:blip r:embed="rId2"/>
          <a:stretch/>
        </p:blipFill>
        <p:spPr>
          <a:xfrm>
            <a:off x="533520" y="228600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9"/>
          <p:cNvSpPr/>
          <p:nvPr/>
        </p:nvSpPr>
        <p:spPr>
          <a:xfrm>
            <a:off x="2895480" y="99072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华文行楷"/>
                <a:ea typeface="华文行楷"/>
              </a:rPr>
              <a:t>学习重难点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4"/>
          <p:cNvSpPr/>
          <p:nvPr/>
        </p:nvSpPr>
        <p:spPr>
          <a:xfrm>
            <a:off x="1066680" y="1973160"/>
            <a:ext cx="746784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公式的推导由一般到特殊的过程的理解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正确运用公式，理解公式中字母的广泛含义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理解平方差公式的结构特征，灵活应用平方差公式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在多项式与多项式的乘法中如何适当添括号达到应用公式的目的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1905120" y="1143000"/>
            <a:ext cx="145080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难点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18" name="Picture 6" descr="003388 (462)"/>
          <p:cNvPicPr/>
          <p:nvPr/>
        </p:nvPicPr>
        <p:blipFill>
          <a:blip r:embed="rId2"/>
          <a:stretch/>
        </p:blipFill>
        <p:spPr>
          <a:xfrm>
            <a:off x="533520" y="106668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1295280" y="533520"/>
            <a:ext cx="6705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下列多项式的积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(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0" name="AutoShape 3"/>
          <p:cNvSpPr/>
          <p:nvPr/>
        </p:nvSpPr>
        <p:spPr>
          <a:xfrm>
            <a:off x="1600200" y="4389480"/>
            <a:ext cx="6477120" cy="2057400"/>
          </a:xfrm>
          <a:prstGeom prst="cloudCallout">
            <a:avLst>
              <a:gd name="adj1" fmla="val -41569"/>
              <a:gd name="adj2" fmla="val -971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观察上述多项式，你发现什么规律？运算出结果后，你又发现什么规律？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143000" y="1020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219320" y="25146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(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=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219320" y="3886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5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143000" y="53341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grpSp>
        <p:nvGrpSpPr>
          <p:cNvPr id="425" name="Group 39"/>
          <p:cNvGrpSpPr/>
          <p:nvPr/>
        </p:nvGrpSpPr>
        <p:grpSpPr>
          <a:xfrm>
            <a:off x="3124080" y="1523520"/>
            <a:ext cx="2819520" cy="305280"/>
            <a:chOff x="3124080" y="1523520"/>
            <a:chExt cx="2819520" cy="305280"/>
          </a:xfrm>
        </p:grpSpPr>
        <p:sp>
          <p:nvSpPr>
            <p:cNvPr id="426" name="Line 6"/>
            <p:cNvSpPr/>
            <p:nvPr/>
          </p:nvSpPr>
          <p:spPr>
            <a:xfrm>
              <a:off x="3124080" y="1523880"/>
              <a:ext cx="0" cy="30492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27" name="Line 7"/>
            <p:cNvSpPr/>
            <p:nvPr/>
          </p:nvSpPr>
          <p:spPr>
            <a:xfrm>
              <a:off x="3124080" y="1828800"/>
              <a:ext cx="281952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28" name="Line 8"/>
            <p:cNvSpPr/>
            <p:nvPr/>
          </p:nvSpPr>
          <p:spPr>
            <a:xfrm flipV="1">
              <a:off x="5943600" y="1523520"/>
              <a:ext cx="0" cy="30492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29" name="Line 9"/>
            <p:cNvSpPr/>
            <p:nvPr/>
          </p:nvSpPr>
          <p:spPr>
            <a:xfrm flipV="1">
              <a:off x="4597560" y="1523520"/>
              <a:ext cx="0" cy="30492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430" name="Group 38"/>
          <p:cNvGrpSpPr/>
          <p:nvPr/>
        </p:nvGrpSpPr>
        <p:grpSpPr>
          <a:xfrm>
            <a:off x="2666880" y="837360"/>
            <a:ext cx="2743200" cy="305280"/>
            <a:chOff x="2666880" y="837360"/>
            <a:chExt cx="2743200" cy="305280"/>
          </a:xfrm>
        </p:grpSpPr>
        <p:sp>
          <p:nvSpPr>
            <p:cNvPr id="431" name="Line 22"/>
            <p:cNvSpPr/>
            <p:nvPr/>
          </p:nvSpPr>
          <p:spPr>
            <a:xfrm flipV="1">
              <a:off x="5410080" y="837720"/>
              <a:ext cx="0" cy="304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32" name="Line 23"/>
            <p:cNvSpPr/>
            <p:nvPr/>
          </p:nvSpPr>
          <p:spPr>
            <a:xfrm flipH="1">
              <a:off x="2666880" y="838080"/>
              <a:ext cx="27432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33" name="Line 24"/>
            <p:cNvSpPr/>
            <p:nvPr/>
          </p:nvSpPr>
          <p:spPr>
            <a:xfrm>
              <a:off x="2666880" y="837360"/>
              <a:ext cx="0" cy="304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34" name="Line 25"/>
            <p:cNvSpPr/>
            <p:nvPr/>
          </p:nvSpPr>
          <p:spPr>
            <a:xfrm>
              <a:off x="3976200" y="837360"/>
              <a:ext cx="0" cy="304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435" name="Group 40"/>
          <p:cNvGrpSpPr/>
          <p:nvPr/>
        </p:nvGrpSpPr>
        <p:grpSpPr>
          <a:xfrm>
            <a:off x="2666880" y="2285280"/>
            <a:ext cx="2286000" cy="305280"/>
            <a:chOff x="2666880" y="2285280"/>
            <a:chExt cx="2286000" cy="305280"/>
          </a:xfrm>
        </p:grpSpPr>
        <p:sp>
          <p:nvSpPr>
            <p:cNvPr id="436" name="Line 41"/>
            <p:cNvSpPr/>
            <p:nvPr/>
          </p:nvSpPr>
          <p:spPr>
            <a:xfrm flipV="1">
              <a:off x="4952880" y="2285640"/>
              <a:ext cx="0" cy="304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37" name="Line 42"/>
            <p:cNvSpPr/>
            <p:nvPr/>
          </p:nvSpPr>
          <p:spPr>
            <a:xfrm flipH="1">
              <a:off x="2666880" y="2286000"/>
              <a:ext cx="2286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38" name="Line 43"/>
            <p:cNvSpPr/>
            <p:nvPr/>
          </p:nvSpPr>
          <p:spPr>
            <a:xfrm>
              <a:off x="2666880" y="2285280"/>
              <a:ext cx="0" cy="304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39" name="Line 44"/>
            <p:cNvSpPr/>
            <p:nvPr/>
          </p:nvSpPr>
          <p:spPr>
            <a:xfrm>
              <a:off x="3757680" y="2285280"/>
              <a:ext cx="0" cy="304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440" name="Group 45"/>
          <p:cNvGrpSpPr/>
          <p:nvPr/>
        </p:nvGrpSpPr>
        <p:grpSpPr>
          <a:xfrm>
            <a:off x="3352680" y="3047760"/>
            <a:ext cx="2362320" cy="228960"/>
            <a:chOff x="3352680" y="3047760"/>
            <a:chExt cx="2362320" cy="228960"/>
          </a:xfrm>
        </p:grpSpPr>
        <p:sp>
          <p:nvSpPr>
            <p:cNvPr id="441" name="Line 46"/>
            <p:cNvSpPr/>
            <p:nvPr/>
          </p:nvSpPr>
          <p:spPr>
            <a:xfrm>
              <a:off x="3352680" y="3048120"/>
              <a:ext cx="0" cy="2286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42" name="Line 47"/>
            <p:cNvSpPr/>
            <p:nvPr/>
          </p:nvSpPr>
          <p:spPr>
            <a:xfrm>
              <a:off x="3352680" y="3276720"/>
              <a:ext cx="236232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43" name="Line 48"/>
            <p:cNvSpPr/>
            <p:nvPr/>
          </p:nvSpPr>
          <p:spPr>
            <a:xfrm flipV="1">
              <a:off x="5715000" y="3047760"/>
              <a:ext cx="0" cy="2286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44" name="Line 49"/>
            <p:cNvSpPr/>
            <p:nvPr/>
          </p:nvSpPr>
          <p:spPr>
            <a:xfrm flipV="1">
              <a:off x="4587480" y="3047760"/>
              <a:ext cx="0" cy="2286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445" name="Group 50"/>
          <p:cNvGrpSpPr/>
          <p:nvPr/>
        </p:nvGrpSpPr>
        <p:grpSpPr>
          <a:xfrm>
            <a:off x="2743200" y="3733200"/>
            <a:ext cx="3124080" cy="228960"/>
            <a:chOff x="2743200" y="3733200"/>
            <a:chExt cx="3124080" cy="228960"/>
          </a:xfrm>
        </p:grpSpPr>
        <p:sp>
          <p:nvSpPr>
            <p:cNvPr id="446" name="Line 51"/>
            <p:cNvSpPr/>
            <p:nvPr/>
          </p:nvSpPr>
          <p:spPr>
            <a:xfrm flipV="1">
              <a:off x="5867280" y="3733560"/>
              <a:ext cx="0" cy="228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47" name="Line 52"/>
            <p:cNvSpPr/>
            <p:nvPr/>
          </p:nvSpPr>
          <p:spPr>
            <a:xfrm flipH="1">
              <a:off x="2743200" y="3733920"/>
              <a:ext cx="31240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48" name="Line 53"/>
            <p:cNvSpPr/>
            <p:nvPr/>
          </p:nvSpPr>
          <p:spPr>
            <a:xfrm>
              <a:off x="2743200" y="3733200"/>
              <a:ext cx="0" cy="228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49" name="Line 54"/>
            <p:cNvSpPr/>
            <p:nvPr/>
          </p:nvSpPr>
          <p:spPr>
            <a:xfrm>
              <a:off x="4233960" y="3733200"/>
              <a:ext cx="0" cy="228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450" name="Group 55"/>
          <p:cNvGrpSpPr/>
          <p:nvPr/>
        </p:nvGrpSpPr>
        <p:grpSpPr>
          <a:xfrm>
            <a:off x="3352680" y="4419360"/>
            <a:ext cx="3276720" cy="228960"/>
            <a:chOff x="3352680" y="4419360"/>
            <a:chExt cx="3276720" cy="228960"/>
          </a:xfrm>
        </p:grpSpPr>
        <p:sp>
          <p:nvSpPr>
            <p:cNvPr id="451" name="Line 56"/>
            <p:cNvSpPr/>
            <p:nvPr/>
          </p:nvSpPr>
          <p:spPr>
            <a:xfrm>
              <a:off x="3352680" y="4419720"/>
              <a:ext cx="0" cy="2286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52" name="Line 57"/>
            <p:cNvSpPr/>
            <p:nvPr/>
          </p:nvSpPr>
          <p:spPr>
            <a:xfrm>
              <a:off x="3352680" y="4648320"/>
              <a:ext cx="327672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53" name="Line 58"/>
            <p:cNvSpPr/>
            <p:nvPr/>
          </p:nvSpPr>
          <p:spPr>
            <a:xfrm flipV="1">
              <a:off x="6629400" y="4419360"/>
              <a:ext cx="0" cy="2286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54" name="Line 59"/>
            <p:cNvSpPr/>
            <p:nvPr/>
          </p:nvSpPr>
          <p:spPr>
            <a:xfrm flipV="1">
              <a:off x="5065200" y="4419360"/>
              <a:ext cx="0" cy="2286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455" name="Group 60"/>
          <p:cNvGrpSpPr/>
          <p:nvPr/>
        </p:nvGrpSpPr>
        <p:grpSpPr>
          <a:xfrm>
            <a:off x="2666520" y="5180760"/>
            <a:ext cx="3124800" cy="228960"/>
            <a:chOff x="2666520" y="5180760"/>
            <a:chExt cx="3124800" cy="228960"/>
          </a:xfrm>
        </p:grpSpPr>
        <p:sp>
          <p:nvSpPr>
            <p:cNvPr id="456" name="Line 61"/>
            <p:cNvSpPr/>
            <p:nvPr/>
          </p:nvSpPr>
          <p:spPr>
            <a:xfrm flipV="1">
              <a:off x="5791320" y="5181120"/>
              <a:ext cx="0" cy="228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57" name="Line 62"/>
            <p:cNvSpPr/>
            <p:nvPr/>
          </p:nvSpPr>
          <p:spPr>
            <a:xfrm flipH="1">
              <a:off x="2666520" y="5181480"/>
              <a:ext cx="31244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58" name="Line 63"/>
            <p:cNvSpPr/>
            <p:nvPr/>
          </p:nvSpPr>
          <p:spPr>
            <a:xfrm>
              <a:off x="2666880" y="5180760"/>
              <a:ext cx="0" cy="228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59" name="Line 64"/>
            <p:cNvSpPr/>
            <p:nvPr/>
          </p:nvSpPr>
          <p:spPr>
            <a:xfrm>
              <a:off x="4158000" y="5180760"/>
              <a:ext cx="0" cy="228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460" name="Group 65"/>
          <p:cNvGrpSpPr/>
          <p:nvPr/>
        </p:nvGrpSpPr>
        <p:grpSpPr>
          <a:xfrm>
            <a:off x="3124080" y="5866920"/>
            <a:ext cx="3276720" cy="228960"/>
            <a:chOff x="3124080" y="5866920"/>
            <a:chExt cx="3276720" cy="228960"/>
          </a:xfrm>
        </p:grpSpPr>
        <p:sp>
          <p:nvSpPr>
            <p:cNvPr id="461" name="Line 66"/>
            <p:cNvSpPr/>
            <p:nvPr/>
          </p:nvSpPr>
          <p:spPr>
            <a:xfrm>
              <a:off x="3124080" y="5867280"/>
              <a:ext cx="0" cy="2286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62" name="Line 67"/>
            <p:cNvSpPr/>
            <p:nvPr/>
          </p:nvSpPr>
          <p:spPr>
            <a:xfrm>
              <a:off x="3124080" y="6095880"/>
              <a:ext cx="327672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63" name="Line 68"/>
            <p:cNvSpPr/>
            <p:nvPr/>
          </p:nvSpPr>
          <p:spPr>
            <a:xfrm flipV="1">
              <a:off x="6400800" y="5866920"/>
              <a:ext cx="0" cy="2286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64" name="Line 69"/>
            <p:cNvSpPr/>
            <p:nvPr/>
          </p:nvSpPr>
          <p:spPr>
            <a:xfrm flipV="1">
              <a:off x="4836600" y="5866920"/>
              <a:ext cx="0" cy="2286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3"/>
          <p:cNvSpPr/>
          <p:nvPr/>
        </p:nvSpPr>
        <p:spPr>
          <a:xfrm>
            <a:off x="1219320" y="976320"/>
            <a:ext cx="3352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3)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1219320" y="1814400"/>
            <a:ext cx="426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+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(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1219320" y="255744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219320" y="3319560"/>
            <a:ext cx="3962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733920" y="976320"/>
            <a:ext cx="16761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9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191120" y="1814400"/>
            <a:ext cx="22860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4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4114800" y="2590920"/>
            <a:ext cx="2514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16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4114800" y="3276720"/>
            <a:ext cx="2514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25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4800600" y="976320"/>
            <a:ext cx="16765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3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5334120" y="1828800"/>
            <a:ext cx="2514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1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(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5" name="Rectangle 13"/>
          <p:cNvSpPr/>
          <p:nvPr/>
        </p:nvSpPr>
        <p:spPr>
          <a:xfrm>
            <a:off x="5562720" y="2590920"/>
            <a:ext cx="2514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(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5715000" y="3262320"/>
            <a:ext cx="25146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ahoma"/>
              </a:rPr>
              <a:t>−(5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z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3880" y="304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1295280" y="4176720"/>
            <a:ext cx="685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这样具有特殊形式的多项式相乘，我们能否找到一个一般性的公式，并加以熟记，遇到相同形式的多项式相乘时，直接把结果写出来呢？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莲山课件http://www.5ykj.com/</dc:creator>
  <dc:description>莲山课件http://www.5ykj.com/</dc:description>
  <cp:keywords>莲山课件http:/www.5ykj.com</cp:keywords>
  <dc:language>en-US</dc:language>
  <cp:lastModifiedBy>Lenovo User</cp:lastModifiedBy>
  <dcterms:modified xsi:type="dcterms:W3CDTF">2013-11-12T01:36:03Z</dcterms:modified>
  <cp:revision>10</cp:revision>
  <dc:subject>莲山课件http://www.5ykj.com/</dc:subject>
  <dc:title>莲山课件http://www.5ykj.com/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0c0000000000010250600207f7000400038000</vt:lpwstr>
  </property>
  <property fmtid="{D5CDD505-2E9C-101B-9397-08002B2CF9AE}" pid="3" name="Version">
    <vt:r8>1</vt:r8>
  </property>
</Properties>
</file>