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4E1-5BBD-40C5-9749-6818B280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A1F-1C73-4F1A-9FA3-5BF5EF1E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25B-4982-44BE-9981-5B2966E8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C59-3D2B-4D2D-8F59-C8CDB48C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C6F-31BC-4593-91DD-3251831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5D1-9934-48E0-8423-A87EC788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F3F-E31C-4D18-B3A5-9F0AD23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1A4-1991-4337-B556-D5D3D173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FD-43C8-4D0B-BDC5-84C15E0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FC8-0164-4876-9043-AB848B8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D2C-44C0-4184-9CD6-4FCAFA8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6A8-66D8-4189-940B-37AF97AB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416C-EE23-41AD-91E0-E03CF9C54A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"/>
          <p:cNvGrpSpPr/>
          <p:nvPr/>
        </p:nvGrpSpPr>
        <p:grpSpPr>
          <a:xfrm>
            <a:off x="1080" y="1700280"/>
            <a:ext cx="2446920" cy="4537080"/>
            <a:chOff x="1080" y="1700280"/>
            <a:chExt cx="2446920" cy="4537080"/>
          </a:xfrm>
        </p:grpSpPr>
        <p:sp>
          <p:nvSpPr>
            <p:cNvPr id="42" name="Oval 5"/>
            <p:cNvSpPr/>
            <p:nvPr/>
          </p:nvSpPr>
          <p:spPr>
            <a:xfrm rot="5400000">
              <a:off x="-1297440" y="3340800"/>
              <a:ext cx="4537080" cy="1255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19"/>
            <p:cNvGrpSpPr/>
            <p:nvPr/>
          </p:nvGrpSpPr>
          <p:grpSpPr>
            <a:xfrm>
              <a:off x="1080" y="2388960"/>
              <a:ext cx="2446920" cy="3175560"/>
              <a:chOff x="1080" y="2388960"/>
              <a:chExt cx="2446920" cy="3175560"/>
            </a:xfrm>
          </p:grpSpPr>
          <p:grpSp>
            <p:nvGrpSpPr>
              <p:cNvPr id="44" name="Group 6"/>
              <p:cNvGrpSpPr/>
              <p:nvPr/>
            </p:nvGrpSpPr>
            <p:grpSpPr>
              <a:xfrm>
                <a:off x="1080" y="2388960"/>
                <a:ext cx="2439360" cy="3175560"/>
                <a:chOff x="1080" y="2388960"/>
                <a:chExt cx="2439360" cy="3175560"/>
              </a:xfrm>
            </p:grpSpPr>
            <p:sp>
              <p:nvSpPr>
                <p:cNvPr id="45" name="Oval 9"/>
                <p:cNvSpPr/>
                <p:nvPr/>
              </p:nvSpPr>
              <p:spPr>
                <a:xfrm flipV="1" rot="5400000">
                  <a:off x="-41400" y="3087360"/>
                  <a:ext cx="53352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Group 10"/>
                <p:cNvGrpSpPr/>
                <p:nvPr/>
              </p:nvGrpSpPr>
              <p:grpSpPr>
                <a:xfrm>
                  <a:off x="772560" y="2388960"/>
                  <a:ext cx="1667880" cy="3175560"/>
                  <a:chOff x="772560" y="2388960"/>
                  <a:chExt cx="1667880" cy="3175560"/>
                </a:xfrm>
              </p:grpSpPr>
              <p:sp>
                <p:nvSpPr>
                  <p:cNvPr id="47" name="Freeform 11"/>
                  <p:cNvSpPr/>
                  <p:nvPr/>
                </p:nvSpPr>
                <p:spPr>
                  <a:xfrm rot="5400000">
                    <a:off x="18360" y="3142800"/>
                    <a:ext cx="3175560" cy="1667880"/>
                  </a:xfrm>
                  <a:custGeom>
                    <a:avLst/>
                    <a:gdLst>
                      <a:gd name="textAreaLeft" fmla="*/ 0 w 3175560"/>
                      <a:gd name="textAreaRight" fmla="*/ 3175920 w 3175560"/>
                      <a:gd name="textAreaTop" fmla="*/ 0 h 1667880"/>
                      <a:gd name="textAreaBottom" fmla="*/ 1668240 h 1667880"/>
                    </a:gdLst>
                    <a:ahLst/>
                    <a:rect l="textAreaLeft" t="textAreaTop" r="textAreaRight" b="textAreaBottom"/>
                    <a:pathLst>
                      <a:path w="1862" h="1164">
                        <a:moveTo>
                          <a:pt x="1862" y="930"/>
                        </a:moveTo>
                        <a:lnTo>
                          <a:pt x="1862" y="930"/>
                        </a:lnTo>
                        <a:lnTo>
                          <a:pt x="1860" y="942"/>
                        </a:lnTo>
                        <a:lnTo>
                          <a:pt x="1856" y="954"/>
                        </a:lnTo>
                        <a:lnTo>
                          <a:pt x="1850" y="966"/>
                        </a:lnTo>
                        <a:lnTo>
                          <a:pt x="1842" y="978"/>
                        </a:lnTo>
                        <a:lnTo>
                          <a:pt x="1832" y="988"/>
                        </a:lnTo>
                        <a:lnTo>
                          <a:pt x="1820" y="1000"/>
                        </a:lnTo>
                        <a:lnTo>
                          <a:pt x="1806" y="1010"/>
                        </a:lnTo>
                        <a:lnTo>
                          <a:pt x="1788" y="1020"/>
                        </a:lnTo>
                        <a:lnTo>
                          <a:pt x="1750" y="1042"/>
                        </a:lnTo>
                        <a:lnTo>
                          <a:pt x="1702" y="1060"/>
                        </a:lnTo>
                        <a:lnTo>
                          <a:pt x="1650" y="1078"/>
                        </a:lnTo>
                        <a:lnTo>
                          <a:pt x="1588" y="1094"/>
                        </a:lnTo>
                        <a:lnTo>
                          <a:pt x="1522" y="1110"/>
                        </a:lnTo>
                        <a:lnTo>
                          <a:pt x="1452" y="1124"/>
                        </a:lnTo>
                        <a:lnTo>
                          <a:pt x="1374" y="1134"/>
                        </a:lnTo>
                        <a:lnTo>
                          <a:pt x="1294" y="1144"/>
                        </a:lnTo>
                        <a:lnTo>
                          <a:pt x="1208" y="1152"/>
                        </a:lnTo>
                        <a:lnTo>
                          <a:pt x="1118" y="1158"/>
                        </a:lnTo>
                        <a:lnTo>
                          <a:pt x="1026" y="1162"/>
                        </a:lnTo>
                        <a:lnTo>
                          <a:pt x="930" y="1164"/>
                        </a:lnTo>
                        <a:lnTo>
                          <a:pt x="836" y="1162"/>
                        </a:lnTo>
                        <a:lnTo>
                          <a:pt x="744" y="1158"/>
                        </a:lnTo>
                        <a:lnTo>
                          <a:pt x="654" y="1152"/>
                        </a:lnTo>
                        <a:lnTo>
                          <a:pt x="568" y="1144"/>
                        </a:lnTo>
                        <a:lnTo>
                          <a:pt x="488" y="1134"/>
                        </a:lnTo>
                        <a:lnTo>
                          <a:pt x="410" y="1124"/>
                        </a:lnTo>
                        <a:lnTo>
                          <a:pt x="338" y="1110"/>
                        </a:lnTo>
                        <a:lnTo>
                          <a:pt x="272" y="1094"/>
                        </a:lnTo>
                        <a:lnTo>
                          <a:pt x="212" y="1078"/>
                        </a:lnTo>
                        <a:lnTo>
                          <a:pt x="158" y="1060"/>
                        </a:lnTo>
                        <a:lnTo>
                          <a:pt x="112" y="1042"/>
                        </a:lnTo>
                        <a:lnTo>
                          <a:pt x="74" y="1020"/>
                        </a:lnTo>
                        <a:lnTo>
                          <a:pt x="56" y="1010"/>
                        </a:lnTo>
                        <a:lnTo>
                          <a:pt x="42" y="1000"/>
                        </a:lnTo>
                        <a:lnTo>
                          <a:pt x="30" y="988"/>
                        </a:lnTo>
                        <a:lnTo>
                          <a:pt x="18" y="978"/>
                        </a:lnTo>
                        <a:lnTo>
                          <a:pt x="10" y="966"/>
                        </a:lnTo>
                        <a:lnTo>
                          <a:pt x="4" y="954"/>
                        </a:lnTo>
                        <a:lnTo>
                          <a:pt x="2" y="942"/>
                        </a:lnTo>
                        <a:lnTo>
                          <a:pt x="0" y="930"/>
                        </a:lnTo>
                        <a:lnTo>
                          <a:pt x="2" y="882"/>
                        </a:lnTo>
                        <a:lnTo>
                          <a:pt x="4" y="836"/>
                        </a:lnTo>
                        <a:lnTo>
                          <a:pt x="10" y="788"/>
                        </a:lnTo>
                        <a:lnTo>
                          <a:pt x="18" y="742"/>
                        </a:lnTo>
                        <a:lnTo>
                          <a:pt x="30" y="698"/>
                        </a:lnTo>
                        <a:lnTo>
                          <a:pt x="42" y="654"/>
                        </a:lnTo>
                        <a:lnTo>
                          <a:pt x="56" y="610"/>
                        </a:lnTo>
                        <a:lnTo>
                          <a:pt x="74" y="568"/>
                        </a:lnTo>
                        <a:lnTo>
                          <a:pt x="92" y="526"/>
                        </a:lnTo>
                        <a:lnTo>
                          <a:pt x="112" y="486"/>
                        </a:lnTo>
                        <a:lnTo>
                          <a:pt x="134" y="448"/>
                        </a:lnTo>
                        <a:lnTo>
                          <a:pt x="158" y="410"/>
                        </a:lnTo>
                        <a:lnTo>
                          <a:pt x="184" y="374"/>
                        </a:lnTo>
                        <a:lnTo>
                          <a:pt x="212" y="338"/>
                        </a:lnTo>
                        <a:lnTo>
                          <a:pt x="242" y="304"/>
                        </a:lnTo>
                        <a:lnTo>
                          <a:pt x="272" y="272"/>
                        </a:lnTo>
                        <a:lnTo>
                          <a:pt x="304" y="242"/>
                        </a:lnTo>
                        <a:lnTo>
                          <a:pt x="338" y="212"/>
                        </a:lnTo>
                        <a:lnTo>
                          <a:pt x="374" y="184"/>
                        </a:lnTo>
                        <a:lnTo>
                          <a:pt x="410" y="158"/>
                        </a:lnTo>
                        <a:lnTo>
                          <a:pt x="448" y="134"/>
                        </a:lnTo>
                        <a:lnTo>
                          <a:pt x="488" y="112"/>
                        </a:lnTo>
                        <a:lnTo>
                          <a:pt x="528" y="92"/>
                        </a:lnTo>
                        <a:lnTo>
                          <a:pt x="568" y="72"/>
                        </a:lnTo>
                        <a:lnTo>
                          <a:pt x="610" y="56"/>
                        </a:lnTo>
                        <a:lnTo>
                          <a:pt x="654" y="42"/>
                        </a:lnTo>
                        <a:lnTo>
                          <a:pt x="698" y="28"/>
                        </a:lnTo>
                        <a:lnTo>
                          <a:pt x="744" y="18"/>
                        </a:lnTo>
                        <a:lnTo>
                          <a:pt x="790" y="10"/>
                        </a:lnTo>
                        <a:lnTo>
                          <a:pt x="836" y="4"/>
                        </a:lnTo>
                        <a:lnTo>
                          <a:pt x="882" y="0"/>
                        </a:lnTo>
                        <a:lnTo>
                          <a:pt x="930" y="0"/>
                        </a:lnTo>
                        <a:lnTo>
                          <a:pt x="978" y="0"/>
                        </a:lnTo>
                        <a:lnTo>
                          <a:pt x="1026" y="4"/>
                        </a:lnTo>
                        <a:lnTo>
                          <a:pt x="1072" y="10"/>
                        </a:lnTo>
                        <a:lnTo>
                          <a:pt x="1118" y="18"/>
                        </a:lnTo>
                        <a:lnTo>
                          <a:pt x="1164" y="28"/>
                        </a:lnTo>
                        <a:lnTo>
                          <a:pt x="1208" y="42"/>
                        </a:lnTo>
                        <a:lnTo>
                          <a:pt x="1250" y="56"/>
                        </a:lnTo>
                        <a:lnTo>
                          <a:pt x="1294" y="72"/>
                        </a:lnTo>
                        <a:lnTo>
                          <a:pt x="1334" y="92"/>
                        </a:lnTo>
                        <a:lnTo>
                          <a:pt x="1374" y="112"/>
                        </a:lnTo>
                        <a:lnTo>
                          <a:pt x="1414" y="134"/>
                        </a:lnTo>
                        <a:lnTo>
                          <a:pt x="1452" y="158"/>
                        </a:lnTo>
                        <a:lnTo>
                          <a:pt x="1488" y="184"/>
                        </a:lnTo>
                        <a:lnTo>
                          <a:pt x="1522" y="212"/>
                        </a:lnTo>
                        <a:lnTo>
                          <a:pt x="1556" y="242"/>
                        </a:lnTo>
                        <a:lnTo>
                          <a:pt x="1588" y="272"/>
                        </a:lnTo>
                        <a:lnTo>
                          <a:pt x="1620" y="304"/>
                        </a:lnTo>
                        <a:lnTo>
                          <a:pt x="1650" y="338"/>
                        </a:lnTo>
                        <a:lnTo>
                          <a:pt x="1676" y="374"/>
                        </a:lnTo>
                        <a:lnTo>
                          <a:pt x="1702" y="410"/>
                        </a:lnTo>
                        <a:lnTo>
                          <a:pt x="1726" y="448"/>
                        </a:lnTo>
                        <a:lnTo>
                          <a:pt x="1750" y="486"/>
                        </a:lnTo>
                        <a:lnTo>
                          <a:pt x="1770" y="526"/>
                        </a:lnTo>
                        <a:lnTo>
                          <a:pt x="1788" y="568"/>
                        </a:lnTo>
                        <a:lnTo>
                          <a:pt x="1806" y="610"/>
                        </a:lnTo>
                        <a:lnTo>
                          <a:pt x="1820" y="654"/>
                        </a:lnTo>
                        <a:lnTo>
                          <a:pt x="1832" y="698"/>
                        </a:lnTo>
                        <a:lnTo>
                          <a:pt x="1842" y="742"/>
                        </a:lnTo>
                        <a:lnTo>
                          <a:pt x="1850" y="788"/>
                        </a:lnTo>
                        <a:lnTo>
                          <a:pt x="1856" y="836"/>
                        </a:lnTo>
                        <a:lnTo>
                          <a:pt x="1860" y="882"/>
                        </a:lnTo>
                        <a:lnTo>
                          <a:pt x="1862" y="93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Oval 12"/>
                  <p:cNvSpPr/>
                  <p:nvPr/>
                </p:nvSpPr>
                <p:spPr>
                  <a:xfrm rot="5400000">
                    <a:off x="1608480" y="3088800"/>
                    <a:ext cx="533520" cy="44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" name="Freeform 33"/>
              <p:cNvSpPr/>
              <p:nvPr/>
            </p:nvSpPr>
            <p:spPr>
              <a:xfrm rot="5400000">
                <a:off x="507960" y="3529800"/>
                <a:ext cx="2975040" cy="904320"/>
              </a:xfrm>
              <a:custGeom>
                <a:avLst/>
                <a:gdLst>
                  <a:gd name="textAreaLeft" fmla="*/ 0 w 2975040"/>
                  <a:gd name="textAreaRight" fmla="*/ 2975400 w 2975040"/>
                  <a:gd name="textAreaTop" fmla="*/ 0 h 904320"/>
                  <a:gd name="textAreaBottom" fmla="*/ 904680 h 9043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AutoShape 15"/>
          <p:cNvSpPr/>
          <p:nvPr/>
        </p:nvSpPr>
        <p:spPr>
          <a:xfrm rot="3343800">
            <a:off x="2170440" y="2439000"/>
            <a:ext cx="390600" cy="322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e2f3d0"/>
              </a:gs>
              <a:gs pos="100000">
                <a:srgbClr val="a8da73"/>
              </a:gs>
            </a:gsLst>
            <a:lin ang="2058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48000" y="1268280"/>
            <a:ext cx="5508720" cy="237672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627280" y="1989000"/>
            <a:ext cx="649440" cy="567000"/>
          </a:xfrm>
          <a:prstGeom prst="hexagon">
            <a:avLst>
              <a:gd name="adj" fmla="val 28650"/>
              <a:gd name="vf" fmla="val 115470"/>
            </a:avLst>
          </a:prstGeom>
          <a:gradFill rotWithShape="0">
            <a:gsLst>
              <a:gs pos="0">
                <a:srgbClr val="a8da73"/>
              </a:gs>
              <a:gs pos="100000">
                <a:srgbClr val="6daa2d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rot="6951600">
            <a:off x="2157840" y="4953600"/>
            <a:ext cx="390600" cy="322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e2f3d0"/>
              </a:gs>
              <a:gs pos="100000">
                <a:srgbClr val="a8da73"/>
              </a:gs>
            </a:gsLst>
            <a:lin ang="20046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556000" y="5084640"/>
            <a:ext cx="649080" cy="567000"/>
          </a:xfrm>
          <a:prstGeom prst="hexagon">
            <a:avLst>
              <a:gd name="adj" fmla="val 28635"/>
              <a:gd name="vf" fmla="val 115470"/>
            </a:avLst>
          </a:prstGeom>
          <a:gradFill rotWithShape="0">
            <a:gsLst>
              <a:gs pos="0">
                <a:srgbClr val="a8da73"/>
              </a:gs>
              <a:gs pos="100000">
                <a:srgbClr val="6daa2d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3348000" y="3933720"/>
            <a:ext cx="5400720" cy="259092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新宋体"/>
                <a:ea typeface="新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交易商在会员单位完成开户手续获得交易账号并</a:t>
            </a:r>
            <a:r>
              <a:rPr b="0" lang="zh-CN" sz="2400" spc="-1" strike="noStrike">
                <a:solidFill>
                  <a:srgbClr val="0070c0"/>
                </a:solidFill>
                <a:latin typeface="新宋体"/>
                <a:ea typeface="新宋体"/>
              </a:rPr>
              <a:t>在交易客户端注册资金账号后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，再至招行网点填写《招商银行银商转账业务申请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维护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注</a:t>
            </a:r>
            <a:r>
              <a:rPr b="0" lang="en-US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（协议一式两联，由招行网点提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7"/>
          <p:cNvSpPr/>
          <p:nvPr/>
        </p:nvSpPr>
        <p:spPr>
          <a:xfrm>
            <a:off x="17928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3419640" y="22654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交易商在开户申请时所提供的招商银行账户功能应能正常使用。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Calibri"/>
              </a:rPr>
              <a:t>个人交易商开户时仅能使用招行“一卡通”银行卡，不支持存折开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-252360" y="1052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柜台签约、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2011320" y="333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50920" y="1214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交易商成功完成资金账号与银行账号签约后，可通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招行柜台、交易客户端、网上银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相应的出入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2"/>
          <a:stretch/>
        </p:blipFill>
        <p:spPr>
          <a:xfrm>
            <a:off x="1332000" y="3471840"/>
            <a:ext cx="6192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42920" y="1404360"/>
            <a:ext cx="86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柜台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交易商携带本人银行卡及身份证至招商银行，填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招商银行银商转账业务资金划转申请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填写说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资金划转类型：入金勾选银行转交易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金勾选交易所转银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2293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备注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某些招行网点没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资金划转申请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让银行向分行托管部、分行会计部、零售银行部索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700360" y="1010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银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00520" y="1513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步：登录招商银行网上银行个人专业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" descr="C:\Users\lzl\AppData\Roaming\Tencent\Users\971468572\QQ\WinTemp\RichOle\YK`RGF{VSK0@@S6}KU{ETX8.jpg"/>
          <p:cNvPicPr/>
          <p:nvPr/>
        </p:nvPicPr>
        <p:blipFill>
          <a:blip r:embed="rId2"/>
          <a:stretch/>
        </p:blipFill>
        <p:spPr>
          <a:xfrm>
            <a:off x="755640" y="2133720"/>
            <a:ext cx="7920000" cy="4032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526480" y="1124280"/>
            <a:ext cx="41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二步：选择“一卡通”→“投资理财” →“大宗商品”再→“银商转账”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464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033640" y="112464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三步：选择 “活期转保证金”（入金）或“保证金转活期”（出金）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136000" cy="439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2038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填写转账金额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取款密码（入金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交易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密码（出金）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7334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入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C:\Users\lzl\AppData\Roaming\Tencent\Users\971468572\QQ\WinTemp\RichOle\BU%9U}T9%G9Q2AI)T1@W``T.jpg"/>
          <p:cNvPicPr/>
          <p:nvPr/>
        </p:nvPicPr>
        <p:blipFill>
          <a:blip r:embed="rId2"/>
          <a:stretch/>
        </p:blipFill>
        <p:spPr>
          <a:xfrm>
            <a:off x="539640" y="2133720"/>
            <a:ext cx="7993080" cy="4319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7777440" cy="446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177200" y="111204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步：确认金额后，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7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166920" cy="1871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406520" y="3499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六步：提示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0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684072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6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击“出入金”，入金选择“银转商”，交易系统选择“现货柜台” 或“现货挂牌”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备注：此处不要选择错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“资金密码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输入划转金额，点即“划转”，系统提示点击“是”，划转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784836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771640" y="979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易客户端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1344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金选择“商转银”，交易系统选择“现货柜台” 或“现货挂牌”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备注：此处不要选择错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“资金密码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输入划转金额，点即“划转”，系统提示点击“是”，划转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06472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5"/>
          <p:cNvSpPr/>
          <p:nvPr/>
        </p:nvSpPr>
        <p:spPr>
          <a:xfrm rot="5400000">
            <a:off x="2807280" y="1521360"/>
            <a:ext cx="3961080" cy="5616720"/>
          </a:xfrm>
          <a:custGeom>
            <a:avLst/>
            <a:gdLst/>
            <a:ahLst/>
            <a:rect l="l" t="t" r="r" b="b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ile"/>
          <p:cNvSpPr/>
          <p:nvPr/>
        </p:nvSpPr>
        <p:spPr>
          <a:xfrm>
            <a:off x="2340000" y="1052640"/>
            <a:ext cx="4464000" cy="100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交易商申请柜台签约、解约业务须提供以下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0"/>
          <p:cNvSpPr/>
          <p:nvPr/>
        </p:nvSpPr>
        <p:spPr>
          <a:xfrm>
            <a:off x="2268360" y="306864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本人二代身份证原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本人招行“一卡通”银行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填写规范的《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》（由银行网点提供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注：必须由本人至银行网点办理签约业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7"/>
          <p:cNvSpPr/>
          <p:nvPr/>
        </p:nvSpPr>
        <p:spPr>
          <a:xfrm>
            <a:off x="17928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40392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签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4000" y="1582200"/>
            <a:ext cx="8064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柜台签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交易商在开户申请时所提供的招商银行账户功能应能正常使用。后台录入时企业交易商的银行账号直接录入即可，企业交易商的组织结构代码证需录入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交易商在授权服务机构完成开户手续获得交易账号后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，登入交易客户端注册资金帐号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再至招行网点填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协议一式两联，由招行网点提供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申请办理签约业务的交易商须提供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交易商：授权代办人本人有效身份证件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法人授权委托书、法人有效身份证件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商营业执照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机构代码证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在招行的公司账号、企业公章及银行预留印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填写规范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应加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公章和法定代表人或授权代表人签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12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68360" y="10594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50760" y="1773360"/>
          <a:ext cx="7724880" cy="4405320"/>
        </p:xfrm>
        <a:graphic>
          <a:graphicData uri="http://schemas.openxmlformats.org/drawingml/2006/table">
            <a:tbl>
              <a:tblPr/>
              <a:tblGrid>
                <a:gridCol w="7724880"/>
              </a:tblGrid>
              <a:tr h="44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业务类型：勾选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Calibri"/>
                        </a:rPr>
                        <a:t>协议签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名称：企业交易商填写公司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账号：企业交易商填写在招行的公司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所名称：福建省东南大宗商品交易中心有限公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代码：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宋体"/>
                          <a:ea typeface="Calibri"/>
                        </a:rPr>
                        <a:t>交易商注册的资金帐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证件号码： 企业交易商填写公司组织结构代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转交易所单笔限额、银行转交易所每日限额：勾选无限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以下由企业交易商填写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姓名：法人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姓名：办理业务人员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类型：身份证    经办人证件类型：身份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50920" y="1437120"/>
            <a:ext cx="86119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为二方协议，交易所无存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在招行开立一般结算账户的企业法人，把公章、法人章及经办人的身份证原件，法人身份证复印件携带至开户网点即可开通银商转账业务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备注：企业交易商需先在银行柜台办理网银盾并开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银商转账业务，大概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天后取得网银盾，让银行客户经理办理网银盾激活，再去银行柜台签约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（若企业交易商已有网银盾且已激活，则可直接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银行柜台签约并开通银商转账业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4076640"/>
          <a:ext cx="8028000" cy="1546200"/>
        </p:xfrm>
        <a:graphic>
          <a:graphicData uri="http://schemas.openxmlformats.org/drawingml/2006/table">
            <a:tbl>
              <a:tblPr/>
              <a:tblGrid>
                <a:gridCol w="8028000"/>
              </a:tblGrid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招行内部交易所代码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999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商户名：福建省东南大宗商品交易中心有限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4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60213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机构交易商只能在开户行网点进行签约，不支持异地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15800" y="1042560"/>
            <a:ext cx="8728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二）柜台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申请办理签约业务的交易商须提供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交易商：授权代办人本人有效身份证件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法人授权委托书、法人有效身份证件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商营业执照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机构代码证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在招行的公司账号、企业公章及银行预留印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填写规范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应加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公章和法定代表人或授权代表人签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5092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79280" y="9802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557360"/>
          <a:ext cx="8207280" cy="405288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业务类型：勾选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Calibri"/>
                        </a:rPr>
                        <a:t>协议关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名称：企业交易商填写公司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账号：企业交易商填写在招行的公司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所名称：福建省东南大宗商品交易中心有限公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代码：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宋体"/>
                          <a:ea typeface="Calibri"/>
                        </a:rPr>
                        <a:t>交易商注册的资金帐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证件号码：企业交易商填写公司组织结构代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以下由企业交易商填写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姓名：法人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姓名：办理业务人员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类型：身份证    经办人证件类型：身份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"/>
          <p:cNvSpPr/>
          <p:nvPr/>
        </p:nvSpPr>
        <p:spPr>
          <a:xfrm>
            <a:off x="0" y="573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为二方协议，交易所无存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注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机构交易商只能在开户行网点进行签约解除，不支持异地签约解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79280" y="113220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一步：使用经办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Uke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登录网银，输入用户登录密码和卡密码，点击“登录”，进入主页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24000" y="33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0" descr="C:\Users\Administrator\AppData\Roaming\Tencent\Users\810544780\QQ\WinTemp\RichOle\(%[`8E)5P`@9CY11Y9FNNRT.jpg"/>
          <p:cNvPicPr/>
          <p:nvPr/>
        </p:nvPicPr>
        <p:blipFill>
          <a:blip r:embed="rId2"/>
          <a:stretch/>
        </p:blipFill>
        <p:spPr>
          <a:xfrm>
            <a:off x="611280" y="1989000"/>
            <a:ext cx="770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288800" y="1051560"/>
            <a:ext cx="26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步：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资理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4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792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50920" y="12038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三步：“活期转保证金”（入金）， “保证金转活期”（出金），输入划转的金额，点击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77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6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76600" y="10515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四步：提示“经办请求已发送，等待审批” 点击“确定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7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557360"/>
          <a:ext cx="5651280" cy="4127400"/>
        </p:xfrm>
        <a:graphic>
          <a:graphicData uri="http://schemas.openxmlformats.org/drawingml/2006/table">
            <a:tbl>
              <a:tblPr/>
              <a:tblGrid>
                <a:gridCol w="5651280"/>
              </a:tblGrid>
              <a:tr h="412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业务类型：勾选“协议签署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商名称：个人交易商填写身份证上的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银行账号：个人交易商填写用本人身份证开设的银行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中心名称：福建省东南大宗商品交易中心有限公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商代码：</a:t>
                      </a: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Calibri"/>
                          <a:ea typeface="楷体_GB2312"/>
                        </a:rPr>
                        <a:t>交易商注册的资金帐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证件号码：个人交易商填写本人身份证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银行转交易中心单笔限额、银行转交易中心每日限额：勾选“无限额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矩形 5"/>
          <p:cNvSpPr/>
          <p:nvPr/>
        </p:nvSpPr>
        <p:spPr>
          <a:xfrm>
            <a:off x="324000" y="5877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注：个人交易商目前只能在开户行城市网点进行签约，不支持异地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0" y="1052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《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维护表》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形标注 9"/>
          <p:cNvSpPr/>
          <p:nvPr/>
        </p:nvSpPr>
        <p:spPr>
          <a:xfrm rot="213000">
            <a:off x="6213600" y="3693600"/>
            <a:ext cx="2489040" cy="1979640"/>
          </a:xfrm>
          <a:prstGeom prst="wedgeEllipseCallout">
            <a:avLst>
              <a:gd name="adj1" fmla="val -36208"/>
              <a:gd name="adj2" fmla="val 58513"/>
            </a:avLst>
          </a:prstGeom>
          <a:solidFill>
            <a:srgbClr val="ffffff"/>
          </a:solidFill>
          <a:ln w="32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 rot="2127600">
            <a:off x="6655320" y="41112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本表为二方协议，交易中心无存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7"/>
          <p:cNvSpPr/>
          <p:nvPr/>
        </p:nvSpPr>
        <p:spPr>
          <a:xfrm>
            <a:off x="17928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50920" y="112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五步：用管理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U key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登录网银，进入主页面，点击“投资理财”→“审批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10519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六步：选择交易日期后，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如下界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入金审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34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75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30360" y="1112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出金审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128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七步：点击“等待审批”一栏后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入金审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“审批意见”输入“同意” 然后点击“同意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7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351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79280" y="11322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出金审核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“审批意见”输入“同意”后还需输入“交易密码”（即交易所资金密码）并确认，然后点击“同意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224440" y="105156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八步：“是否继续执行操作”点击“是”，提示“审批成功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7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3876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0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5095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8880" y="1285560"/>
            <a:ext cx="83311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责声明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所涉及的内容以交易中心公示的制度为准，该课件更新以后会自动作废，以新课件为准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矩形 4" descr=""/>
          <p:cNvPicPr/>
          <p:nvPr/>
        </p:nvPicPr>
        <p:blipFill>
          <a:blip r:embed="rId2"/>
          <a:stretch/>
        </p:blipFill>
        <p:spPr>
          <a:xfrm>
            <a:off x="1889280" y="1847880"/>
            <a:ext cx="5711760" cy="1492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0" descr="C:\Users\tuweiliang\Desktop\新建文件夹\渐变类商务png图片 (69).png"/>
          <p:cNvPicPr/>
          <p:nvPr/>
        </p:nvPicPr>
        <p:blipFill>
          <a:blip r:embed="rId3"/>
          <a:stretch/>
        </p:blipFill>
        <p:spPr>
          <a:xfrm>
            <a:off x="3635280" y="3068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1" descr="C:\Users\tuweiliang\Desktop\新建文件夹\渐变类商务png图片 (77).png"/>
          <p:cNvPicPr/>
          <p:nvPr/>
        </p:nvPicPr>
        <p:blipFill>
          <a:blip r:embed="rId4"/>
          <a:stretch/>
        </p:blipFill>
        <p:spPr>
          <a:xfrm>
            <a:off x="728640" y="151596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C:\Users\tuweiliang\Desktop\新建文件夹\渐变类商务png图片 (78).png"/>
          <p:cNvPicPr/>
          <p:nvPr/>
        </p:nvPicPr>
        <p:blipFill>
          <a:blip r:embed="rId5"/>
          <a:stretch/>
        </p:blipFill>
        <p:spPr>
          <a:xfrm>
            <a:off x="2549520" y="47545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3" descr="C:\Users\tuweiliang\Desktop\新建文件夹\渐变类商务png图片 (114).png"/>
          <p:cNvPicPr/>
          <p:nvPr/>
        </p:nvPicPr>
        <p:blipFill>
          <a:blip r:embed="rId6"/>
          <a:stretch/>
        </p:blipFill>
        <p:spPr>
          <a:xfrm>
            <a:off x="5940360" y="620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C:\Users\tuweiliang\Desktop\新建文件夹\渐变类商务png图片 (116).png"/>
          <p:cNvPicPr/>
          <p:nvPr/>
        </p:nvPicPr>
        <p:blipFill>
          <a:blip r:embed="rId7"/>
          <a:stretch/>
        </p:blipFill>
        <p:spPr>
          <a:xfrm>
            <a:off x="7518240" y="310680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2"/>
          <p:cNvSpPr/>
          <p:nvPr/>
        </p:nvSpPr>
        <p:spPr>
          <a:xfrm>
            <a:off x="179280" y="1557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步：打开招商银行个人银行专业版登录界面，登录个人网上银行专业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3" descr="C:\Users\Administrator\Documents\Tencent Files\939506830\Image\C2C\%2HB}~H~QYDV]EQ(N(Y]FH1.png"/>
          <p:cNvPicPr/>
          <p:nvPr/>
        </p:nvPicPr>
        <p:blipFill>
          <a:blip r:embed="rId2"/>
          <a:stretch/>
        </p:blipFill>
        <p:spPr>
          <a:xfrm>
            <a:off x="1187280" y="2349360"/>
            <a:ext cx="648036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矩形 7"/>
          <p:cNvSpPr/>
          <p:nvPr/>
        </p:nvSpPr>
        <p:spPr>
          <a:xfrm>
            <a:off x="0" y="333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052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网银签约、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10951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二步：登录招商银行网上银行首页后选择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一卡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“投资理财”，弹出下拉菜单，点击“大宗商品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 →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“银商转账”，进入相应界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63272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79280" y="12398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三步：找到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福建省东南大宗商品交易中心有限公司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一栏，席位号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99926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，点击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“开通协议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，进入“招商银行银商转账业务规则”界面。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签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7417080" cy="4105080"/>
          </a:xfrm>
          <a:prstGeom prst="rect">
            <a:avLst/>
          </a:prstGeom>
          <a:ln w="0">
            <a:noFill/>
          </a:ln>
        </p:spPr>
      </p:pic>
      <p:sp>
        <p:nvSpPr>
          <p:cNvPr id="78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0920" y="12495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四步：仔细阅读《招商银行银商转账阅读业务规则》，阅读完成后，点击“我同意”及“确定”按钮，进入自助签约界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48720" cy="424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87"/>
          <p:cNvSpPr/>
          <p:nvPr/>
        </p:nvSpPr>
        <p:spPr>
          <a:xfrm>
            <a:off x="0" y="260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1238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五步：填写交易商个人信息，完成后，点击“确定”按钮，完成网上银行签约流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标注 3"/>
          <p:cNvSpPr/>
          <p:nvPr/>
        </p:nvSpPr>
        <p:spPr>
          <a:xfrm rot="880800">
            <a:off x="6176880" y="1886040"/>
            <a:ext cx="2808360" cy="1612800"/>
          </a:xfrm>
          <a:prstGeom prst="wedgeRoundRectCallout">
            <a:avLst>
              <a:gd name="adj1" fmla="val -1101"/>
              <a:gd name="adj2" fmla="val 69726"/>
              <a:gd name="adj3" fmla="val 16667"/>
            </a:avLst>
          </a:prstGeom>
          <a:solidFill>
            <a:srgbClr val="badde1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 rot="823800">
            <a:off x="6283080" y="2200320"/>
            <a:ext cx="26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完成签约，提示“银商转账开通协议成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780000" cy="2683080"/>
          </a:xfrm>
          <a:prstGeom prst="rect">
            <a:avLst/>
          </a:prstGeom>
          <a:ln w="0">
            <a:noFill/>
          </a:ln>
        </p:spPr>
      </p:pic>
      <p:sp>
        <p:nvSpPr>
          <p:cNvPr id="86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0" y="1844640"/>
            <a:ext cx="5276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79280" y="13510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六步：点击“福建省东南大宗商品交易中心有限公司”前面的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“关闭协议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解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C:\Users\Administrator\Documents\Tencent Files\939506830\Image\C2C\)S(U440%J2{@RB(R5J@SL)Q.jpg"/>
          <p:cNvPicPr/>
          <p:nvPr/>
        </p:nvPicPr>
        <p:blipFill>
          <a:blip r:embed="rId2"/>
          <a:stretch/>
        </p:blipFill>
        <p:spPr>
          <a:xfrm>
            <a:off x="755640" y="2205000"/>
            <a:ext cx="7704000" cy="4248360"/>
          </a:xfrm>
          <a:prstGeom prst="rect">
            <a:avLst/>
          </a:prstGeom>
          <a:ln w="0">
            <a:noFill/>
          </a:ln>
        </p:spPr>
      </p:pic>
      <p:sp>
        <p:nvSpPr>
          <p:cNvPr id="90" name="矩形 87"/>
          <p:cNvSpPr/>
          <p:nvPr/>
        </p:nvSpPr>
        <p:spPr>
          <a:xfrm>
            <a:off x="0" y="260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8:32:33Z</dcterms:created>
  <dc:creator>yzc</dc:creator>
  <dc:description/>
  <dc:language>en-US</dc:language>
  <cp:lastModifiedBy>User</cp:lastModifiedBy>
  <dcterms:modified xsi:type="dcterms:W3CDTF">2015-04-06T06:32:46Z</dcterms:modified>
  <cp:revision>377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