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B1-4F96-4747-BA39-3FFE1EAF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9D3-55EB-436A-8AA3-96B9636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68747-0104-4449-9575-5739C8BA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1D4E6-0CD7-4024-BDA5-505F7B7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74E3C-FA0F-4699-BAC7-E76A9B44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06D39-098A-4E7B-9487-BA4C898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57287-732D-40D4-A66C-F27730B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7CF92-1CAE-4200-90B2-0BC3685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67FCE-7A93-4AA1-BD13-53EA62B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A9FC2-7BA9-47AA-9FBC-247248C6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67A49-5B7D-4966-AA1E-6F93D62E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840C1-6DAA-419E-AB17-0D2EC38C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06D-E061-49A7-A14F-D723F3FE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195E6-5632-41F7-A8F7-9F524624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10C0B-A861-48AC-A0C5-9B2174EA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19AD-1D2E-418E-983C-BFF4608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30916-CD89-43B6-BDE0-22798D6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653D-E127-4C46-95DD-1E9D3FB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E1AC-8CB2-412F-86D8-3BE6BF5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812E9-8823-4EB1-9AFF-F9107DC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C5BC3-9C73-4F90-B5D5-AC358BF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68C82-8E6C-4E1C-B00A-BE1949A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ABC42-202E-4233-9191-32FED919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C16-C412-47FC-B64C-8C25C919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96C66-9FED-43F2-950B-8ECFD5C6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9648-B1A1-4B05-A5C8-041E96BD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7FC89-7578-4B4E-BADC-A0967231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553B-86C0-4147-A483-145476A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16BB-2D2D-43AD-B6E5-50D7B2C6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99045-895B-487D-B46F-1470582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68020-DE8F-47F4-9D73-CB185B5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4431D-EF87-4799-89C7-8BA8EAD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66BE-DE98-4748-B845-4676C1A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7B74D-164F-48C5-9F60-E29C098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1A77-3B53-4B01-BD05-CE04B8D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55EF9-30B0-451A-897A-FE17B0A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F2E9B-D1D1-49F8-A48D-698DA444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3CC0-A39F-49D5-8376-7458DFF8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C393A-1B64-4667-B21E-EEC4145B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1070-15A3-465E-9185-AEFF07A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FBFA0-2201-40E9-9ADB-0C8D402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8DCD-44DF-4085-AB46-D5EEE498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98E12-2C9B-445B-B788-E6368A6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99423-DFE0-4E1B-AFE9-8A6F9C5A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AB328-BE45-4739-8B18-5406C77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118-A0E2-48F1-AFB9-F7726B8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1753D-3BCB-41F4-BBD1-6563062E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7F04-05FE-478B-A69A-387973A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426F8-27DA-452A-BCC9-BC0331C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A7E20-3687-4B61-87C9-37B245D1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38D77-4AE3-49B5-AB01-84810CAB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7FDF4-E7A5-4D69-8792-6D46E10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F6D17-EF38-4C9B-A8AD-F6B22DF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698C1-1711-4B0E-8FC4-C3BE84F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E9726-DA9F-4601-9945-2D0AE6D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F2745-7C34-453B-8838-A56E59D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46C-869A-4E8C-9619-C662CE3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32C47-BB41-4733-B0CD-D9D18A0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041B4-27FE-4CEF-AD58-A866D9B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BC40A-66EB-4212-851E-D8A778C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4E9DD-2B89-437B-B38F-EBD9B54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5BCA1-3FBF-44B1-A22D-40D28C9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D2D7F-0CB8-48DC-985B-DC945C93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57D25-A594-42DA-90C2-1E8C05D2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01A-45C1-4860-8A62-A89C32A2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16F-BB33-4DF8-8FE4-65BB356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137-73B4-44AB-A986-0D575E9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EAA6-C9C7-4BF3-8F0D-C4BCD3A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ABB-4D8B-4898-B06B-85A902E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E8E-1ABA-41DC-9E5A-BFBAA4B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00B-D57E-4E95-AAF7-1189D87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90FE-1961-4F5E-80A2-4E69A83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F9F-16BB-4CD7-B901-6F903124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12D-C80C-4246-81DA-33A8368B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DD50-4077-43EE-B6D5-21A5890C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D4D0-EC3C-40A1-B775-45E4B79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E87B-BB6A-4B82-899A-B516FB1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D063-26A5-42D0-8250-1462DE3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EA7E-F229-40C4-951D-924BEFE4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420-609D-48BB-B43C-DAC629A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64C2-E1A1-4152-BB0D-1C26C23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2529-374F-4BC9-B55A-6097E13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6525-B219-4FC4-879C-91B0654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ADDC-16D1-4FD8-AEDF-EA2D555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0C6F-0E19-442D-A767-3A7EA03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5435-BFC1-407B-A9B1-A5C096EA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59DA-270F-46FB-9D85-F58E995F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8A9D-2B2A-4411-88CE-F87966AC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B89F-9A96-46E2-BD6F-37E2491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A1C2-3BFF-4B16-B046-C631130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6C7-64D4-4EB8-AD36-F45A1E7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E0D0-1679-44F9-8B67-F701B98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5EE4-F053-463D-B0FE-5B0566B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48FF-A8D2-40C8-82F7-CA1D751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1365-1A1B-45B3-915A-19C3891A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20A1-941A-433D-844D-CC7B15F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1EF5-B30E-442A-9C6A-8DAB56B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9F85-B468-4609-A4BE-DAB965C7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C0C7-151C-4BF0-84D9-266B31B1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7677-9D81-49F6-8717-7C44D8E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4CE0-6504-485B-B47F-031A79E4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AE9-DA0E-489F-956C-7FDC3DFA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4C15-68B9-4904-841C-EDF3C13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2A1F-84FB-4617-A41B-BA765C00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6D12-61E1-4C94-BE4C-10A2F40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C686-16A8-4E0A-A285-AA349AA8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81AC-3522-47DE-AD6E-687C67A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F4F6-EB56-433D-82C9-96C5295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CF68-27F7-41C2-85BA-905B896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33DE-121D-4028-A735-6F2E1D9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C6A6-92F4-4854-821E-66C0992D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4A8D-233B-4F12-ACCD-40D445D3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99C-7E1A-4E58-9471-52AC6FA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3FA3-8624-4040-B39A-355F1818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CD63-4F12-4615-8EF7-155662A8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F395-3F23-406A-9E78-C0CFDB2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07F3-338F-41BC-A2EC-AC52BFD5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228F-E067-4A68-BCB0-85DDB7C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5409-A79D-42FA-8597-C9E478D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26E8-AC06-4BFD-84E7-6128E95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DB2E-B06C-40DF-AEE1-14B6500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C2DF-2434-4DEA-8A5E-1FEF6E5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EB60-FF5B-4FA9-BF22-4D2B3C8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E9E-BD5C-45CE-82B8-2D14845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D517-BCFC-4EC4-92B9-21BBA72E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6D6FB-BC3E-449F-B141-2DB58DE0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211B-CD45-4152-8FFA-29A3AA98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4A2C-AE60-42C5-96A1-FCDA7B06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B9CE-8199-4C91-9E9B-96BCEFD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B69D-12FB-4AC0-8192-25B8A561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AC210-6D1D-45C5-B3A3-DB915CD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71150-E867-45A1-9770-AD40293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4FD41-596C-4036-B156-7058587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AC5D-9943-4E7B-B7F6-622BAA30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826-778D-46A2-A543-B8ECFB2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9E20-22C5-4988-8450-2DC492F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DBFE-95D2-4E9B-A14A-0DBE5CA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79E5B-30A6-46E0-895A-ACE7AE1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FC5B-4023-4F0A-B257-85675162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6DA4-6C58-4EE4-B679-14BC2A85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E916F-D963-4830-B988-D0908A91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BEF95-24D8-441F-AF0B-4AFB16C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0854-FCE9-48F3-8A92-2BC3F18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3D36-B521-4FD5-965E-2D3284DE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4625F-4FF5-42CE-B09E-719A6AB1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814-B606-4EF3-BE89-7D36392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2451-13C9-459D-9613-6A8FF63C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8ED11-A0B1-445F-9514-FC632CF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9AF52-E11F-4FB6-8EDC-EB02DC8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3EE2-F0BC-4A03-83D4-2ED571B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7422-D9EA-4343-AD8B-5D134B5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FF151-0EFA-4D16-8589-AEFDF96B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463F-8208-4773-9C46-17F705A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E121D-A75F-4EC3-AB10-FB2F222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4B3B2-A675-491B-AFD7-26B5985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C5DDA-8594-4131-BA71-EC3FBE3D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7287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2592360" indent="-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456000" indent="-172728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456000" indent="-172728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456000" indent="-172728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FEEAB21F-3571-440D-8B40-092527BFEA77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9DB-7826-46BB-8496-9F3FE8A62243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86B-B920-4875-8928-6C0E5644781D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45CE-9E71-4BEC-95E1-A910AD675C4D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0B5D-7C18-4444-9B70-752C45B03035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1EC7461B-AC8F-41C7-931D-7E8C89CA480A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2ADC-77C8-4402-A03A-264EEF8D29E5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6DBB-97CD-42B9-B239-E654171E72A1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03D-8061-4F44-8EFF-7D3226ACF2AD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146-A86B-4A0E-BDD0-B3DA45E5A3B3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22E-FBE9-46FA-9B20-912DC57B7A47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AD9-BAA1-476D-9F61-D9269EB844F7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3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1728720" indent="-1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2592360" indent="-8650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456000" indent="-172872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844B-A444-4606-B93F-9B12750D3867}" type="slidenum">
              <a:rPr b="0" lang="zh-CN" sz="23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三个强盗001"/>
          <p:cNvPicPr/>
          <p:nvPr/>
        </p:nvPicPr>
        <p:blipFill>
          <a:blip r:embed="rId1"/>
          <a:srcRect l="2756" t="2198" r="0" b="0"/>
          <a:stretch/>
        </p:blipFill>
        <p:spPr>
          <a:xfrm>
            <a:off x="4103640" y="-92160"/>
            <a:ext cx="9433080" cy="1305396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6480000" y="11626920"/>
            <a:ext cx="3096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1"/>
          <a:srcRect l="650" t="635" r="0" b="4872"/>
          <a:stretch/>
        </p:blipFill>
        <p:spPr>
          <a:xfrm>
            <a:off x="936720" y="576360"/>
            <a:ext cx="15519240" cy="113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"/>
          <p:cNvPicPr/>
          <p:nvPr/>
        </p:nvPicPr>
        <p:blipFill>
          <a:blip r:embed="rId1"/>
          <a:srcRect l="3407" t="2533" r="2425" b="6560"/>
          <a:stretch/>
        </p:blipFill>
        <p:spPr>
          <a:xfrm>
            <a:off x="1224000" y="644400"/>
            <a:ext cx="15049440" cy="11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"/>
          <p:cNvPicPr/>
          <p:nvPr/>
        </p:nvPicPr>
        <p:blipFill>
          <a:blip r:embed="rId1"/>
          <a:srcRect l="4588" t="2533" r="4170" b="5895"/>
          <a:stretch/>
        </p:blipFill>
        <p:spPr>
          <a:xfrm>
            <a:off x="1008000" y="1152360"/>
            <a:ext cx="15265440" cy="108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rcRect l="4614" t="3481" r="773" b="5460"/>
          <a:stretch/>
        </p:blipFill>
        <p:spPr>
          <a:xfrm>
            <a:off x="1224000" y="1224000"/>
            <a:ext cx="14976360" cy="107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"/>
          <p:cNvPicPr/>
          <p:nvPr/>
        </p:nvPicPr>
        <p:blipFill>
          <a:blip r:embed="rId1"/>
          <a:srcRect l="1704" t="845" r="0" b="5580"/>
          <a:stretch/>
        </p:blipFill>
        <p:spPr>
          <a:xfrm>
            <a:off x="936720" y="1152360"/>
            <a:ext cx="15163560" cy="105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"/>
          <p:cNvPicPr/>
          <p:nvPr/>
        </p:nvPicPr>
        <p:blipFill>
          <a:blip r:embed="rId1"/>
          <a:srcRect l="1673" t="845" r="0" b="4897"/>
          <a:stretch/>
        </p:blipFill>
        <p:spPr>
          <a:xfrm>
            <a:off x="1295280" y="1152360"/>
            <a:ext cx="15014520" cy="10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"/>
          <p:cNvPicPr/>
          <p:nvPr/>
        </p:nvPicPr>
        <p:blipFill>
          <a:blip r:embed="rId1"/>
          <a:srcRect l="1678" t="0" r="0" b="5580"/>
          <a:stretch/>
        </p:blipFill>
        <p:spPr>
          <a:xfrm>
            <a:off x="719280" y="936720"/>
            <a:ext cx="15914520" cy="11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"/>
          <p:cNvPicPr/>
          <p:nvPr/>
        </p:nvPicPr>
        <p:blipFill>
          <a:blip r:embed="rId1"/>
          <a:srcRect l="0" t="0" r="0" b="1138"/>
          <a:stretch/>
        </p:blipFill>
        <p:spPr>
          <a:xfrm>
            <a:off x="936720" y="1224000"/>
            <a:ext cx="15274800" cy="107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"/>
          <p:cNvPicPr/>
          <p:nvPr/>
        </p:nvPicPr>
        <p:blipFill>
          <a:blip r:embed="rId1"/>
          <a:srcRect l="1002" t="1064" r="0" b="1078"/>
          <a:stretch/>
        </p:blipFill>
        <p:spPr>
          <a:xfrm>
            <a:off x="1079640" y="1081080"/>
            <a:ext cx="15193800" cy="1080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4"/>
          <p:cNvSpPr/>
          <p:nvPr/>
        </p:nvSpPr>
        <p:spPr>
          <a:xfrm>
            <a:off x="2971800" y="8180280"/>
            <a:ext cx="1220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0" y="5122800"/>
            <a:ext cx="17281440" cy="258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0" rIns="172800" tIns="86400" bIns="86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9" descr=""/>
          <p:cNvPicPr/>
          <p:nvPr/>
        </p:nvPicPr>
        <p:blipFill>
          <a:blip r:embed="rId16"/>
          <a:stretch/>
        </p:blipFill>
        <p:spPr>
          <a:xfrm>
            <a:off x="3124080" y="658800"/>
            <a:ext cx="10547640" cy="367524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885960" y="5310360"/>
            <a:ext cx="77547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8640720" y="5310360"/>
            <a:ext cx="77551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0" descr="png-0644"/>
          <p:cNvPicPr/>
          <p:nvPr/>
        </p:nvPicPr>
        <p:blipFill>
          <a:blip r:embed="rId17"/>
          <a:stretch/>
        </p:blipFill>
        <p:spPr>
          <a:xfrm>
            <a:off x="5510160" y="5310360"/>
            <a:ext cx="744480" cy="74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png-0652"/>
          <p:cNvPicPr/>
          <p:nvPr/>
        </p:nvPicPr>
        <p:blipFill>
          <a:blip r:embed="rId18"/>
          <a:stretch/>
        </p:blipFill>
        <p:spPr>
          <a:xfrm>
            <a:off x="13671720" y="5310360"/>
            <a:ext cx="744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"/>
          <p:cNvPicPr/>
          <p:nvPr/>
        </p:nvPicPr>
        <p:blipFill>
          <a:blip r:embed="rId1"/>
          <a:srcRect l="1108" t="2705" r="0" b="5120"/>
          <a:stretch/>
        </p:blipFill>
        <p:spPr>
          <a:xfrm>
            <a:off x="0" y="184320"/>
            <a:ext cx="17281440" cy="121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rcRect l="1127" t="1811" r="0" b="5403"/>
          <a:stretch/>
        </p:blipFill>
        <p:spPr>
          <a:xfrm>
            <a:off x="0" y="743040"/>
            <a:ext cx="17281440" cy="1221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rcRect l="1685" t="1219" r="0" b="5403"/>
          <a:stretch/>
        </p:blipFill>
        <p:spPr>
          <a:xfrm>
            <a:off x="0" y="360360"/>
            <a:ext cx="17281440" cy="123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"/>
          <p:cNvPicPr/>
          <p:nvPr/>
        </p:nvPicPr>
        <p:blipFill>
          <a:blip r:embed="rId1"/>
          <a:srcRect l="1529" t="1505" r="2029" b="5120"/>
          <a:stretch/>
        </p:blipFill>
        <p:spPr>
          <a:xfrm>
            <a:off x="0" y="360360"/>
            <a:ext cx="17281440" cy="124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rcRect l="0" t="0" r="0" b="5217"/>
          <a:stretch/>
        </p:blipFill>
        <p:spPr>
          <a:xfrm>
            <a:off x="0" y="360360"/>
            <a:ext cx="17281440" cy="123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rcRect l="1542" t="1811" r="1157" b="5403"/>
          <a:stretch/>
        </p:blipFill>
        <p:spPr>
          <a:xfrm>
            <a:off x="863640" y="647640"/>
            <a:ext cx="15625800" cy="112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1"/>
          <a:srcRect l="2050" t="3927" r="2932" b="5606"/>
          <a:stretch/>
        </p:blipFill>
        <p:spPr>
          <a:xfrm>
            <a:off x="360360" y="504720"/>
            <a:ext cx="16417800" cy="11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5"/>
          <p:cNvSpPr/>
          <p:nvPr/>
        </p:nvSpPr>
        <p:spPr>
          <a:xfrm>
            <a:off x="4608360" y="554508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6"/>
          <a:srcRect l="2224" t="1811" r="1388" b="5992"/>
          <a:stretch/>
        </p:blipFill>
        <p:spPr>
          <a:xfrm>
            <a:off x="792000" y="863640"/>
            <a:ext cx="1555308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9:16:33Z</dcterms:created>
  <dc:creator>新教育</dc:creator>
  <dc:description/>
  <dc:language>en-US</dc:language>
  <cp:lastModifiedBy>wuhan</cp:lastModifiedBy>
  <dcterms:modified xsi:type="dcterms:W3CDTF">2016-05-26T03:19:4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