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C1922-CEE8-4D17-B5EA-97F63DED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FC663-4E34-47A7-AE1B-E1417783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E1404-6B1A-4D9F-ADD1-3EC08AA1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F36FD-5944-4BD1-9868-40D7E25B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3DB41-BFFA-4F6F-9671-575A91DE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54105-3117-4F0B-997C-22317A23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28A75-7AE0-4ED8-9D68-708DBE17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4237E-9A6A-433F-9F2B-188FDB3D4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F75C0-3C67-49B1-BC8F-BCD1CCB83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B07E0-91EB-44B3-9B2B-63F0C653E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DBAD7-F875-4AE4-8A86-B4BC41D1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AAEBC-EF5C-460C-B465-FD89F674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56220-E3DE-4635-932E-60C07B8F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62F71-4DD6-4FD0-8EE1-9B84ED60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85D6A-DB1A-422A-A793-E402B449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6A3A4-1F48-4ADE-94AA-F5D58906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CA984-68E4-4369-ADE8-96F99CE8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39B94-B3DF-444A-ADE0-C841C75C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3BF35-459B-4635-A467-BBA4FF0E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AE32B-5F05-4BFC-82B3-7FFB0CCFA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32316-B852-48C0-B392-B02979157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3DC0B-255A-4CC4-8545-359473AD5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2D2EE-0085-4232-81A0-FD42AB7B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4D4C8-D676-4585-A6F8-9631D175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DB9F5-4184-488E-8B61-B20E35DA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7B7F7-5C94-4095-86CD-B8EC4B23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11612-5FAF-44E2-8B7D-3500C34B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9C6D5-6375-4D0F-A067-681ADAA1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FBCEB-D105-42D9-97D4-E7271841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BA49D-2985-4F53-A5C3-A5159785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F57D7-D3A5-4148-BFCB-4EFB5B40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75508-3C1A-48C0-8608-9D5AA75C8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AA352-8748-4903-B506-9EB83AC61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FBE0-06CD-4F85-8F04-6E80B7A8D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2337-DB93-46D0-B2F0-32532E81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D3AD-A2B6-49F7-A86D-8E43215B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2BE7-E290-4DB4-9D28-20A0A611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C713-E832-4BC4-A2B6-89352263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32D3-E12C-4616-8632-68C78634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5A9F-036C-41E4-9E60-F1BF5D60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4FA2-3F5B-4240-BDBC-18B34F17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376F-C524-47C4-A97F-C7855332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AAC4-B05D-45EB-A3E6-4B0B05E1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1143-BC63-473C-89AE-2BE2D0937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6BE5-6631-48D6-9148-052E7D9BC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185D-AAB2-449B-A2F4-7CAAADAA7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29BD-B148-41A8-86E0-CA98E318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29FBD-B473-4DAD-9287-E0969AA0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7FBA3-425F-4C50-839D-1DD6BDEE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ECD3-C8F2-47D3-BF7B-41822154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D527-9DAE-4909-9DB6-5B89944A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6B3E-CE8C-4660-A621-D52D4F10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C6CF-7441-4964-91AF-56526FA2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60483-849D-4995-B2D5-2FAD0C76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D01D-FB28-4F6E-86F6-6903883B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DA74-B861-4966-A76C-4C053D94E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A756-FE2F-4CB1-B686-57F9D2148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DEAAA-1341-414C-9112-90F2AE1BC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43923-7431-4E2F-8C3A-A8D9957F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B0A56-5DA0-4805-87D2-9882E548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64246-0053-4015-BD4F-231107C8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4F493-1E42-4D1E-A0D9-4B380DFE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3D69F-050E-4C9F-ABA9-30CA65F9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AC5F7-7CA1-4B78-AA0C-25D48324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734B9-F1F4-4D7C-8882-6B8F01D2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9299B-5C47-49BC-B915-9B4DCFD5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E5AAB-21EB-4008-8628-A4DAC477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A8F6E-CEE3-4D53-8BD6-CA8408C4B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70779-FC51-4212-8D74-CF05E1BA6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B0D79-A2E7-4E50-8227-8E337ABAA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1DA96-11EC-4B08-858F-AF636C84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5F095-67D6-4C4D-AE62-87F79921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E9E11-3114-4FD3-95A6-E06D35A4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119CF-54ED-4C89-80CA-CE3E5294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144D4-787F-4B76-BE8F-8F1AD325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1383C-9286-40D4-883E-201CB14A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74698-A18E-44C9-9313-2C21DE0B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92B03-D9A4-4DA9-B24A-C1CBC6B4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1EEE5-7DEA-4E73-9EBC-EA28DA3C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F0366-160D-4F10-A23B-173F674A0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ED862-E3C5-49ED-BF0F-DB11ABC4A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4F69D-0456-4AD1-A993-F8487EEE7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4CDC4-1FF9-4861-918D-4E83CE58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A0015-BF7D-4BAD-94BD-C940DADD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9BD0B-5343-4B56-BE5C-E5DD939F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29BF7-75D8-4EC5-94E2-FA3D895B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9F988-F4AB-426A-B8F9-E4D913D9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6CB6A-9E3A-48EC-95DF-D9FC9899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6F8A1-000E-4E1B-9EE8-440463B2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3364A-0F49-46FB-9EA6-928504CA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E6589-CAE1-456A-A8AB-4C6EB3E3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2C516-FA53-4DE7-B4E1-DFAA1F44C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D95FD-DBEE-479F-B8A6-79AC00815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FA048-C347-474E-9D38-4B1F1149D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28268-22ED-476B-AFCD-8A2635A1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97349-179A-4921-B282-7B91E38A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8E7E-A9F5-4B4B-802B-4A476EDF75C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1B73-5A81-42A4-9E72-873ED602E4F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78" name="矩形 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46DF-1582-4DED-96F8-E127198A93D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57FC-6B3F-4FB3-AE42-CA1AB9C58C1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C0FE-4B26-44D0-BB97-1CAFC3E8237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6AC3-8F9D-452A-805D-4289AF2B0CB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4E1E-F913-4233-BB82-8FEBD2F796F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EAA3-9068-4106-ACF0-4A1EE98321E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16" descr=""/>
          <p:cNvPicPr/>
          <p:nvPr/>
        </p:nvPicPr>
        <p:blipFill>
          <a:blip r:embed="rId1"/>
          <a:stretch/>
        </p:blipFill>
        <p:spPr>
          <a:xfrm>
            <a:off x="2455920" y="449280"/>
            <a:ext cx="4230720" cy="42418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5" descr=""/>
          <p:cNvPicPr/>
          <p:nvPr/>
        </p:nvPicPr>
        <p:blipFill>
          <a:blip r:embed="rId2"/>
          <a:stretch/>
        </p:blipFill>
        <p:spPr>
          <a:xfrm>
            <a:off x="3354480" y="1353960"/>
            <a:ext cx="2433600" cy="243396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3" descr=""/>
          <p:cNvPicPr/>
          <p:nvPr/>
        </p:nvPicPr>
        <p:blipFill>
          <a:blip r:embed="rId3"/>
          <a:stretch/>
        </p:blipFill>
        <p:spPr>
          <a:xfrm>
            <a:off x="4014720" y="2013120"/>
            <a:ext cx="1114560" cy="11142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39" name="矩形 8"/>
          <p:cNvSpPr/>
          <p:nvPr/>
        </p:nvSpPr>
        <p:spPr>
          <a:xfrm>
            <a:off x="-22879080" y="-12868200"/>
            <a:ext cx="54903600" cy="30881520"/>
          </a:xfrm>
          <a:custGeom>
            <a:avLst/>
            <a:gdLst>
              <a:gd name="textAreaLeft" fmla="*/ 0 w 54903600"/>
              <a:gd name="textAreaRight" fmla="*/ 54903960 w 54903600"/>
              <a:gd name="textAreaTop" fmla="*/ 0 h 30881520"/>
              <a:gd name="textAreaBottom" fmla="*/ 30881880 h 30881520"/>
            </a:gdLst>
            <a:ahLst/>
            <a:rect l="textAreaLeft" t="textAreaTop" r="textAreaRight" b="textAreaBottom"/>
            <a:pathLst>
              <a:path w="54904640" h="30883860">
                <a:moveTo>
                  <a:pt x="25714960" y="14464665"/>
                </a:moveTo>
                <a:lnTo>
                  <a:pt x="25714960" y="16419195"/>
                </a:lnTo>
                <a:lnTo>
                  <a:pt x="29189680" y="16419195"/>
                </a:lnTo>
                <a:lnTo>
                  <a:pt x="29189680" y="14464665"/>
                </a:lnTo>
                <a:lnTo>
                  <a:pt x="25714960" y="14464665"/>
                </a:lnTo>
                <a:close/>
                <a:moveTo>
                  <a:pt x="0" y="0"/>
                </a:moveTo>
                <a:lnTo>
                  <a:pt x="54904640" y="0"/>
                </a:lnTo>
                <a:lnTo>
                  <a:pt x="54904640" y="30883860"/>
                </a:lnTo>
                <a:lnTo>
                  <a:pt x="0" y="3088386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0200.wav" descr=""/>
          <p:cNvPicPr/>
          <p:nvPr/>
        </p:nvPicPr>
        <p:blipFill>
          <a:blip r:embed="rId5"/>
          <a:stretch/>
        </p:blipFill>
        <p:spPr>
          <a:xfrm>
            <a:off x="11018880" y="-111409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441" name="矩形 2"/>
          <p:cNvSpPr/>
          <p:nvPr/>
        </p:nvSpPr>
        <p:spPr>
          <a:xfrm>
            <a:off x="-3600" y="0"/>
            <a:ext cx="75816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3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300" spc="-1" strike="noStrike">
                <a:solidFill>
                  <a:srgbClr val="ffffff"/>
                </a:solidFill>
                <a:latin typeface="Calibri"/>
              </a:rPr>
              <a:t>www.1ppt.com/moban/ 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145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8" repeatCount="3000">
                                  <p:stCondLst>
                                    <p:cond delay="250"/>
                                  </p:stCondLst>
                                  <p:childTnLst>
                                    <p:animRot by="-21599939">
                                      <p:cBhvr>
                                        <p:cTn id="20" dur="185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8" repeatCount="2000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7" dur="265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3" presetSubtype="3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3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33" dur="2700" fill="hold"/>
                                        <p:tgtEl>
                                          <p:spTgt spid="439"/>
                                        </p:tgtEl>
                                      </p:cBhvr>
                                      <p:to x="3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6">
                                  <p:stCondLst>
                                    <p:cond delay="5000"/>
                                  </p:stCondLst>
                                  <p:childTnLst>
                                    <p:animScale>
                                      <p:cBhvr>
                                        <p:cTn id="40" dur="1000" fill="hold"/>
                                        <p:tgtEl>
                                          <p:spTgt spid="439"/>
                                        </p:tgtEl>
                                      </p:cBhvr>
                                      <p:to x="1000000" y="10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Group 2"/>
          <p:cNvGrpSpPr/>
          <p:nvPr/>
        </p:nvGrpSpPr>
        <p:grpSpPr>
          <a:xfrm>
            <a:off x="4625640" y="2878200"/>
            <a:ext cx="2371680" cy="860400"/>
            <a:chOff x="4625640" y="2878200"/>
            <a:chExt cx="2371680" cy="860400"/>
          </a:xfrm>
        </p:grpSpPr>
        <p:sp>
          <p:nvSpPr>
            <p:cNvPr id="443" name="TextBox 12"/>
            <p:cNvSpPr/>
            <p:nvPr/>
          </p:nvSpPr>
          <p:spPr>
            <a:xfrm>
              <a:off x="5380200" y="3262320"/>
              <a:ext cx="184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TextBox 13"/>
            <p:cNvSpPr/>
            <p:nvPr/>
          </p:nvSpPr>
          <p:spPr>
            <a:xfrm>
              <a:off x="6299280" y="3522960"/>
              <a:ext cx="698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本</a:t>
              </a: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，适用于妇女节祝褔、贺卡等相关类别的演示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TextBox 1"/>
            <p:cNvSpPr/>
            <p:nvPr/>
          </p:nvSpPr>
          <p:spPr>
            <a:xfrm>
              <a:off x="4625640" y="2878200"/>
              <a:ext cx="1857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方正大标宋简体"/>
                  <a:ea typeface="方正大标宋简体"/>
                </a:rPr>
                <a:t>          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6" name="Picture 2" descr="E:\工作夹\PPT模版\s1040妇女节\原图片\4.png"/>
          <p:cNvPicPr/>
          <p:nvPr/>
        </p:nvPicPr>
        <p:blipFill>
          <a:blip r:embed="rId1"/>
          <a:stretch/>
        </p:blipFill>
        <p:spPr>
          <a:xfrm>
            <a:off x="6032520" y="3247920"/>
            <a:ext cx="3114720" cy="189576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3" descr="E:\工作夹\PPT模版\s1040妇女节\原图片\5.png"/>
          <p:cNvPicPr/>
          <p:nvPr/>
        </p:nvPicPr>
        <p:blipFill>
          <a:blip r:embed="rId2"/>
          <a:stretch/>
        </p:blipFill>
        <p:spPr>
          <a:xfrm>
            <a:off x="4062240" y="573120"/>
            <a:ext cx="4486320" cy="1895400"/>
          </a:xfrm>
          <a:prstGeom prst="rect">
            <a:avLst/>
          </a:prstGeom>
          <a:ln w="0">
            <a:noFill/>
          </a:ln>
        </p:spPr>
      </p:pic>
      <p:sp>
        <p:nvSpPr>
          <p:cNvPr id="448" name="直接连接符 11"/>
          <p:cNvSpPr/>
          <p:nvPr/>
        </p:nvSpPr>
        <p:spPr>
          <a:xfrm>
            <a:off x="4140360" y="2678040"/>
            <a:ext cx="4330440" cy="0"/>
          </a:xfrm>
          <a:prstGeom prst="line">
            <a:avLst/>
          </a:prstGeom>
          <a:ln w="3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9" name="Picture 3" descr="E:\工作夹\PPT模版\s1040妇女节\原图片\5.png"/>
          <p:cNvPicPr/>
          <p:nvPr/>
        </p:nvPicPr>
        <p:blipFill>
          <a:blip r:embed="rId3"/>
          <a:stretch/>
        </p:blipFill>
        <p:spPr>
          <a:xfrm>
            <a:off x="4062240" y="573120"/>
            <a:ext cx="4486320" cy="189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55" dur="500" fill="hold"/>
                                        <p:tgtEl>
                                          <p:spTgt spid="4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6" presetSubtype="37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6" presetSubtype="37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2"/>
          <p:cNvGrpSpPr/>
          <p:nvPr/>
        </p:nvGrpSpPr>
        <p:grpSpPr>
          <a:xfrm>
            <a:off x="2189880" y="406440"/>
            <a:ext cx="6045120" cy="3763800"/>
            <a:chOff x="2189880" y="406440"/>
            <a:chExt cx="6045120" cy="3763800"/>
          </a:xfrm>
        </p:grpSpPr>
        <p:sp>
          <p:nvSpPr>
            <p:cNvPr id="451" name="任意多边形 16"/>
            <p:cNvSpPr/>
            <p:nvPr/>
          </p:nvSpPr>
          <p:spPr>
            <a:xfrm flipH="1" rot="214200">
              <a:off x="2526840" y="645480"/>
              <a:ext cx="5608800" cy="3353040"/>
            </a:xfrm>
            <a:custGeom>
              <a:avLst/>
              <a:gdLst>
                <a:gd name="textAreaLeft" fmla="*/ 360 w 5608800"/>
                <a:gd name="textAreaRight" fmla="*/ 5609520 w 560880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5130112" h="3067205">
                  <a:moveTo>
                    <a:pt x="5130112" y="2190186"/>
                  </a:moveTo>
                  <a:lnTo>
                    <a:pt x="4572696" y="2312432"/>
                  </a:lnTo>
                  <a:cubicBezTo>
                    <a:pt x="4437230" y="2476120"/>
                    <a:pt x="3623949" y="2967880"/>
                    <a:pt x="2946816" y="3013338"/>
                  </a:cubicBezTo>
                  <a:cubicBezTo>
                    <a:pt x="2269683" y="3058796"/>
                    <a:pt x="1197654" y="3227008"/>
                    <a:pt x="509897" y="2585178"/>
                  </a:cubicBezTo>
                  <a:cubicBezTo>
                    <a:pt x="-177860" y="1943348"/>
                    <a:pt x="-112545" y="1167025"/>
                    <a:pt x="365365" y="564626"/>
                  </a:cubicBezTo>
                  <a:cubicBezTo>
                    <a:pt x="843275" y="-37773"/>
                    <a:pt x="1659280" y="-12377"/>
                    <a:pt x="2202650" y="7666"/>
                  </a:cubicBezTo>
                  <a:cubicBezTo>
                    <a:pt x="2746020" y="27709"/>
                    <a:pt x="3481079" y="237760"/>
                    <a:pt x="4015866" y="709211"/>
                  </a:cubicBezTo>
                  <a:cubicBezTo>
                    <a:pt x="4550653" y="1180662"/>
                    <a:pt x="4616102" y="1781114"/>
                    <a:pt x="4653732" y="2070862"/>
                  </a:cubicBezTo>
                  <a:lnTo>
                    <a:pt x="5130112" y="2190186"/>
                  </a:lnTo>
                  <a:close/>
                </a:path>
              </a:pathLst>
            </a:custGeom>
            <a:solidFill>
              <a:srgbClr val="d9d9d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任意多边形 15"/>
            <p:cNvSpPr/>
            <p:nvPr/>
          </p:nvSpPr>
          <p:spPr>
            <a:xfrm flipH="1" rot="214200">
              <a:off x="2288160" y="582480"/>
              <a:ext cx="5764320" cy="3354480"/>
            </a:xfrm>
            <a:custGeom>
              <a:avLst/>
              <a:gdLst>
                <a:gd name="textAreaLeft" fmla="*/ 360 w 5764320"/>
                <a:gd name="textAreaRight" fmla="*/ 5765040 w 5764320"/>
                <a:gd name="textAreaTop" fmla="*/ 0 h 3354480"/>
                <a:gd name="textAreaBottom" fmla="*/ 3354840 h 3354480"/>
              </a:gdLst>
              <a:ahLst/>
              <a:rect l="textAreaLeft" t="textAreaTop" r="textAreaRight" b="textAreaBottom"/>
              <a:pathLst>
                <a:path w="5272396" h="3069961">
                  <a:moveTo>
                    <a:pt x="5272396" y="2177286"/>
                  </a:moveTo>
                  <a:lnTo>
                    <a:pt x="4487995" y="2274503"/>
                  </a:lnTo>
                  <a:cubicBezTo>
                    <a:pt x="4352529" y="2438191"/>
                    <a:pt x="3609832" y="2961559"/>
                    <a:pt x="2946816" y="3013338"/>
                  </a:cubicBezTo>
                  <a:cubicBezTo>
                    <a:pt x="2283800" y="3065117"/>
                    <a:pt x="1197654" y="3227008"/>
                    <a:pt x="509897" y="2585178"/>
                  </a:cubicBezTo>
                  <a:cubicBezTo>
                    <a:pt x="-177860" y="1943348"/>
                    <a:pt x="-112545" y="1167025"/>
                    <a:pt x="365365" y="564626"/>
                  </a:cubicBezTo>
                  <a:cubicBezTo>
                    <a:pt x="843275" y="-37773"/>
                    <a:pt x="1659280" y="-12377"/>
                    <a:pt x="2202650" y="7666"/>
                  </a:cubicBezTo>
                  <a:cubicBezTo>
                    <a:pt x="2746020" y="27709"/>
                    <a:pt x="3481079" y="237760"/>
                    <a:pt x="4015866" y="709211"/>
                  </a:cubicBezTo>
                  <a:cubicBezTo>
                    <a:pt x="4550653" y="1180662"/>
                    <a:pt x="4616102" y="1781114"/>
                    <a:pt x="4653732" y="2070862"/>
                  </a:cubicBezTo>
                  <a:lnTo>
                    <a:pt x="5272396" y="217728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324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3" name="矩形 2"/>
          <p:cNvSpPr/>
          <p:nvPr/>
        </p:nvSpPr>
        <p:spPr>
          <a:xfrm>
            <a:off x="3276720" y="1563840"/>
            <a:ext cx="45748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世界因为有了女人，而显得分外美丽！问候只是短短的几行，却是一个浓浓的真意！祝三八节快乐，永远年轻漂亮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E:\工作夹\PPT模版\s1040妇女节\原图片\3.png"/>
          <p:cNvPicPr/>
          <p:nvPr/>
        </p:nvPicPr>
        <p:blipFill>
          <a:blip r:embed="rId1"/>
          <a:stretch/>
        </p:blipFill>
        <p:spPr>
          <a:xfrm>
            <a:off x="4032360" y="1185840"/>
            <a:ext cx="4973400" cy="14684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3" descr="E:\工作夹\PPT模版\s1040妇女节\原图片\2.png"/>
          <p:cNvPicPr/>
          <p:nvPr/>
        </p:nvPicPr>
        <p:blipFill>
          <a:blip r:embed="rId2"/>
          <a:stretch/>
        </p:blipFill>
        <p:spPr>
          <a:xfrm>
            <a:off x="5388120" y="2822400"/>
            <a:ext cx="2071440" cy="37152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2" descr="E:\工作夹\PPT模版\s1040妇女节\原图片\4.png"/>
          <p:cNvPicPr/>
          <p:nvPr/>
        </p:nvPicPr>
        <p:blipFill>
          <a:blip r:embed="rId3"/>
          <a:stretch/>
        </p:blipFill>
        <p:spPr>
          <a:xfrm>
            <a:off x="6032520" y="3247920"/>
            <a:ext cx="3114720" cy="18957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" descr="E:\工作夹\PPT模版\s1040妇女节\原图片\3.png"/>
          <p:cNvPicPr/>
          <p:nvPr/>
        </p:nvPicPr>
        <p:blipFill>
          <a:blip r:embed="rId4"/>
          <a:stretch/>
        </p:blipFill>
        <p:spPr>
          <a:xfrm>
            <a:off x="4032360" y="1185840"/>
            <a:ext cx="4973400" cy="146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79" dur="500" fill="hold"/>
                                        <p:tgtEl>
                                          <p:spTgt spid="4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6" presetSubtype="37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矩形 4"/>
          <p:cNvSpPr/>
          <p:nvPr/>
        </p:nvSpPr>
        <p:spPr>
          <a:xfrm>
            <a:off x="1220760" y="3003480"/>
            <a:ext cx="795960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Rectangle 17"/>
          <p:cNvSpPr/>
          <p:nvPr/>
        </p:nvSpPr>
        <p:spPr>
          <a:xfrm>
            <a:off x="0" y="1714680"/>
            <a:ext cx="914400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3"/>
          <p:cNvSpPr/>
          <p:nvPr/>
        </p:nvSpPr>
        <p:spPr>
          <a:xfrm>
            <a:off x="468360" y="1789200"/>
            <a:ext cx="410364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Rectangle 4"/>
          <p:cNvSpPr/>
          <p:nvPr/>
        </p:nvSpPr>
        <p:spPr>
          <a:xfrm>
            <a:off x="4572000" y="1789200"/>
            <a:ext cx="410364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04:18:33Z</dcterms:created>
  <dc:creator>锐普PPT</dc:creator>
  <dc:description/>
  <cp:keywords/>
  <dc:language>en-US</dc:language>
  <cp:lastModifiedBy>Administrator</cp:lastModifiedBy>
  <cp:lastPrinted>1899-12-30T00:00:00Z</cp:lastPrinted>
  <dcterms:modified xsi:type="dcterms:W3CDTF">2015-03-02T08:34:01Z</dcterms:modified>
  <cp:revision>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