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47C-E15A-4E83-8324-7B2C53D1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180-1F0B-4442-9746-0CBB98E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F71-6F68-4EE1-BDBB-1ADD606C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AAD-DB17-4F1A-8152-085809CD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E84-2B74-4A38-B81A-AF8E29D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4D1-CC74-4A97-BD45-7D04A02A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E04-6828-40E6-8AF7-663A209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231-DC23-4A48-821C-B15A6E3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40F-888E-4438-BA20-3AD9536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477-6937-452D-990F-38EF686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E4B-357A-4E9F-8B66-1A7B03D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175-F8D8-40B0-B9DA-67FAAD5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192E-B1C9-4B05-A07D-61730B6E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24000" y="462276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12720" y="50022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99"/>
              </a:solidFill>
              <a:latin typeface="汉仪行楷繁"/>
              <a:ea typeface="汉仪行楷繁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粗活意简体"/>
              <a:ea typeface="方正粗活意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7:54:16Z</dcterms:created>
  <dc:creator>chinaz</dc:creator>
  <dc:description/>
  <dc:language>en-US</dc:language>
  <cp:lastModifiedBy>Administrator</cp:lastModifiedBy>
  <dcterms:modified xsi:type="dcterms:W3CDTF">2015-03-04T02:27:54Z</dcterms:modified>
  <cp:revision>5</cp:revision>
  <dc:subject/>
  <dc:title>站长素材设计sc.chinaz.com</dc:title>
</cp:coreProperties>
</file>