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幻灯荷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1258920" y="981000"/>
            <a:ext cx="48006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标题或者观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3348000" y="2205000"/>
            <a:ext cx="395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键入所需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396000" y="380880"/>
            <a:ext cx="6685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基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1" descr="ddd"/>
          <p:cNvPicPr/>
          <p:nvPr/>
        </p:nvPicPr>
        <p:blipFill>
          <a:blip r:embed="rId3"/>
          <a:stretch/>
        </p:blipFill>
        <p:spPr>
          <a:xfrm>
            <a:off x="8001000" y="5715000"/>
            <a:ext cx="808200" cy="80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幻灯no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14400" y="990720"/>
            <a:ext cx="5486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键入所需内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48280" y="457200"/>
            <a:ext cx="6685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基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124080" y="19810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Fude &amp; Fudetate"/>
          <p:cNvPicPr/>
          <p:nvPr/>
        </p:nvPicPr>
        <p:blipFill>
          <a:blip r:embed="rId3"/>
          <a:stretch/>
        </p:blipFill>
        <p:spPr>
          <a:xfrm>
            <a:off x="7740720" y="5661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幻灯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778680" y="476280"/>
            <a:ext cx="6685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基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195640" y="24210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63640" y="1268280"/>
            <a:ext cx="48006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键入所需内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999"/>
          <p:cNvPicPr/>
          <p:nvPr/>
        </p:nvPicPr>
        <p:blipFill>
          <a:blip r:embed="rId3"/>
          <a:stretch/>
        </p:blipFill>
        <p:spPr>
          <a:xfrm>
            <a:off x="7596360" y="5661000"/>
            <a:ext cx="83808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幻灯梅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ddd"/>
          <p:cNvPicPr/>
          <p:nvPr/>
        </p:nvPicPr>
        <p:blipFill>
          <a:blip r:embed="rId3"/>
          <a:stretch/>
        </p:blipFill>
        <p:spPr>
          <a:xfrm>
            <a:off x="7696080" y="5791320"/>
            <a:ext cx="777960" cy="77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幻灯封面no3"/>
          <p:cNvPicPr/>
          <p:nvPr/>
        </p:nvPicPr>
        <p:blipFill>
          <a:blip r:embed="rId2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1116000" y="765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穿插页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幻灯封面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202" name="Text Box 3"/>
          <p:cNvSpPr/>
          <p:nvPr/>
        </p:nvSpPr>
        <p:spPr>
          <a:xfrm>
            <a:off x="6410160" y="8683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708960" y="1624680"/>
            <a:ext cx="850680" cy="390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可以做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7548120" y="-469440"/>
            <a:ext cx="911520" cy="59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作封面或者穿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799240" y="3830040"/>
            <a:ext cx="546120" cy="193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它文字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6626160" y="10843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0" y="333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5:01:50Z</dcterms:created>
  <dc:creator>微软用户</dc:creator>
  <dc:description/>
  <dc:language>en-US</dc:language>
  <cp:lastModifiedBy>wuhan</cp:lastModifiedBy>
  <dcterms:modified xsi:type="dcterms:W3CDTF">2016-05-28T02:49:4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5</vt:lpwstr>
  </property>
</Properties>
</file>