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80E-3278-43A3-8D7A-CB6BAD88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63E-2526-430B-A23C-179D3351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09F-6943-4E26-83A8-E0F105D5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B85-56C6-44FB-BA02-6D941732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81EE-1E73-482C-A56A-503B97A1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0339-A77B-4CE3-B0FD-FA34C5AD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D6C1-4F44-41CF-8630-A8B23FC7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3DD4-7ED3-413A-83D7-B25BF944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03DB-583C-4E4E-9FB2-446409ED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88AF-63AE-47F9-BE38-51B3981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499A-B4E5-4998-B7A4-4B5CC1AC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F80-D15F-4CAE-96CA-82E5556E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30DA-EDB2-40C8-8328-55B8B1B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D2D3-6593-4D90-B9CD-3EF07BF1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AD9C-9B8C-4220-A69F-6BF630F6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7438-B9ED-4321-B398-2C630913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DFA2-1D67-492C-A4BC-EEB59100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14D-A7F9-46C0-BE9A-1D5B53B8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B95-E4D3-4CEA-9B0D-C8D603CC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950-ABAA-4F46-AC37-A780DEA1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E14-D2E0-4830-9094-184F10FE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831-EC6D-4560-991B-48CF296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471-B3CC-4E62-85ED-68C5E9D2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366-065F-49BD-A34A-B90F47A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F083-AFCE-4495-9F37-A52CDD3FE37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105F-947D-4FE2-B9ED-58566554CD9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18900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小鼴鼠問山羊：「是不是你嗯嗯在我的頭上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1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不是我！我的嗯嗯是這樣子的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18900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小鼴鼠問正在吃草的乳牛：「是不是你嗯嗯在我的頭上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1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不是我！我的嗯嗯是這樣子的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18900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小鼴鼠又跑去問豬先生：「是不是你嗯嗯在我的頭上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不是我！我的嗯嗯是這樣子的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0"/>
            <a:ext cx="579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DFKai-SB"/>
                <a:ea typeface="DFKai-SB"/>
              </a:rPr>
              <a:t>遠遠的，小鼴鼠又看見了兩隻小動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DFKai-SB"/>
                <a:ea typeface="DFKai-SB"/>
              </a:rPr>
              <a:t>「是不是你……」他一面說，一面走近他們，原來是兩隻又肥又大的蒼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DFKai-SB"/>
                <a:ea typeface="DFKai-SB"/>
              </a:rPr>
              <a:t>小鼴鼠高興的想：「啊哈</a:t>
            </a:r>
            <a:r>
              <a:rPr b="1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DFKai-SB"/>
                <a:ea typeface="DFKai-SB"/>
              </a:rPr>
              <a:t>我知道誰可以幫助我了。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DFKai-SB"/>
                <a:ea typeface="DFKai-SB"/>
              </a:rPr>
              <a:t>他走過去問蒼蠅：「我頭上的嗯嗯到底是誰的？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蒼蠅對小鼴鼠說：「那有什麼問題，你乖乖坐好，我們來試試看就知道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836640"/>
            <a:ext cx="3132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蒼蠅只是戳了一下他頭上的嗯嗯，立刻說「哈！太簡單了，這是一陀</a:t>
            </a: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DFKai-SB"/>
              </a:rPr>
              <a:t>狗大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16360" y="206064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小鼴鼠立刻跑去找大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FKai-SB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00720" y="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DFKai-SB"/>
              </a:rPr>
              <a:t>大狗正在打瞌睡，小鼴鼠問他：「為什麼你嗯嗯在我的頭上？」大狗閉著眼睛，懶懶的說：「我不小心嘛！你想怎麼樣？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97440" y="2016000"/>
            <a:ext cx="1265040" cy="1838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189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華康標楷體"/>
              </a:rPr>
              <a:t>有一天，小鼴鼠從地下伸出頭來，他高興的面向著太陽：「哇！天氣真好。」這時候事情發生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435640" y="333360"/>
            <a:ext cx="622440" cy="380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小鼴鼠氣的跑到狗屋上面，哇哇大叫：「喂！你應該說對不起！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42920" y="4762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DFKai-SB"/>
              </a:rPr>
              <a:t>小鼴鼠立刻說：「哎呀！對不起！」然後，不好意思的鑽到地下去了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2720" y="1197000"/>
            <a:ext cx="8058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这是一本非常幽默的知识类图画书，用一个简单的故事串联，让小朋友认识各种动物的粪便是什么样子。故事的主角是一只住在地下的小鼹鼠，在他追查是谁”嗯嗯“在他头上的过程中，了解了不同大小、吃不同食物的动物排泄出的粪便都不相同，最后是苍蝇帮助他找到了”元凶“，于是他”以牙还牙“，把大便嗯嗯在狗的头上，这才钻回图例。故事的首尾相连，作者点出了大多数的动物都是随时随地嗯嗯，这是动物和人不一样的地方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配合幽默的故事内容，绘者的插画也非常有趣，从封面看到顶着一坨大便的眼熟，怒气冲冲想找人算账的模样，就引人发笑。绘者把每一样动物的造型和神情描绘得极为生动，除了表情最多的鼹鼠外，和善的马、笑眯眯的山羊、懒洋洋的狗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.....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也都神态可掬。虽然故事中的动物都拟人化了，甚至有时还戴着眼镜，但是绘者对每种动物的体型、特征掌握得非常准确。此外，绘者也细心拿捏动物的伸长比列，体型大的动物如马、奶牛和猪，就只出现局部的头或是腿，让读者可以了解他们和鼹鼠之间的大小比例关系，也可以明白他们的粪便和体型相等的关系。由于所有的画面都没有加外加框，因此令人感觉到动物的身体好像一直延伸到画的外面，增加了读者想象的空间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619280" y="117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教育意义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2676600" y="407880"/>
            <a:ext cx="6467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90000" tIns="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51880" y="181080"/>
            <a:ext cx="4572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83280" y="0"/>
            <a:ext cx="24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小鼴鼠氣的哇哇大叫：「搞什麼嘛！是誰嗯嗯在我的頭上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3213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這時候，一隻鴿子飛過來了，小鼴鼠立刻問他：「喂！是不是你嗯嗯在我的頭上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27640" y="549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「不是我！我的嗯嗯是這樣的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56000" y="62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小鼴鼠只好跑去問馬先生：「是不是你嗯嗯在我的頭上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76720" y="40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不是我！我的嗯嗯是這樣子的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69228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小鼴鼠很生氣的問一隻野兔：「是不是你嗯嗯在我的頭上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04000" y="189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FKai-SB"/>
              </a:rPr>
              <a:t>不是我！我的嗯嗯是這樣子的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6:34:59Z</dcterms:created>
  <dc:creator>小梅</dc:creator>
  <dc:description/>
  <dc:language>en-US</dc:language>
  <cp:lastModifiedBy>JHCLIB</cp:lastModifiedBy>
  <cp:lastPrinted>1899-12-30T00:00:00Z</cp:lastPrinted>
  <dcterms:modified xsi:type="dcterms:W3CDTF">2012-04-18T01:22:49Z</dcterms:modified>
  <cp:revision>17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