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C36C6-21C0-4E88-A746-ADC04FC1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23A51-78B9-40F6-BCD6-A5794EB2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04B0A-9FA5-4234-96F7-00297BEC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EAB18-B641-4EEA-B440-73445CC1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F002B-9FBB-44AC-9CD2-951396F5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56F16-1CEB-4B0C-94DD-E7321453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5B920-977F-4CB4-BF5F-16B067B4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610B5-6BFB-420B-9F25-CBCE4885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82227-5C77-44F4-9644-C2411B90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E88BF-FCF7-41B3-A772-FA0AD584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0FDE3-2EA4-421F-A284-97CDD238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3F821-B501-4621-9A15-2DCD8354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B80F8-B39F-415D-A5E9-115EBB8E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9C721-C5BA-4E3A-B44A-59C042D8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268D1-6905-4967-9624-9928DBAB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7D0D1-E091-4985-922D-894A4094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70663-5AB0-479F-B340-5E3714AA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615AB-DAC0-436D-885D-9806F239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9A8ED-B61A-4B92-9232-0B82444A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CDE09-1C40-45F3-A803-2DC19FA3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995A9-D4A7-450E-B854-53A4E3EF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1E9DA-D000-4F61-9141-B46611DB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CBDCF-52C9-45F7-993A-94257D60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48E3F-4A45-4FBB-BBAE-5EF5F6CA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72DCA-38CC-4A55-970A-2378BDDB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59FBF-AD52-45DF-821F-271AD803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F3AF8-F778-49C8-A02C-9458D243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C29FE-F29B-417A-9BC1-B18300AB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16121-17A2-4378-B5E9-AF6CBDEA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6C350-85F0-4D4B-A31A-A295AE20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71B-2FE4-4285-B7F5-1CE5CE6F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BFF74-19E0-4127-A838-DB6F40E7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3319A-DB4C-48E3-96FA-15FCBB83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E143A-A3C2-4EAB-98FF-6372EB42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9577C-31F6-4495-A766-6E840D92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02D85-1B3E-41D1-B45B-F65B535D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4C804-0500-472A-9FD8-D17FA3F7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36F3A-01E7-4CFB-9DB2-C21D6C1B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FFDBF-2A3E-4AFF-8782-ED958B00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33A0C-8C13-4C1A-A115-B7AD61DD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F51BE-0338-47DF-9495-D1D5066E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B70-3ABD-4792-9BC3-9CDB87FE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872DB-CA78-4065-80C5-23CFAB76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EEF69-09CB-4A45-8C93-69AF6465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94774-6B11-494A-A5A8-28D3F38B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F7203-FF01-4B45-A765-9CA9D0C2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43C66-81E5-4FBF-82EA-41A849D3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CAC07-096D-4CFB-BF8A-6C877E6E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80FA2-5377-437A-8E86-CF399FD6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FF4AE-A5A1-46A7-824A-B404669D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1C966-1343-45F1-8CB3-85508DE6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20EBD-9DA8-4D92-ADCE-B5007AF7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E1A-E1AC-40C7-9122-66B19E53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F8F6A-85D2-47EF-947A-A4157895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D8799-AE3B-4C4C-B7B0-70386388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5A461-FB8E-41F5-AF1E-00F7A8D5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7D40D-6A6D-4A8C-AAFA-4982CA0F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D1E5F-632B-42E0-AAE9-5632F576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B8CED-3C77-4ED2-BE7B-C8A2DDCE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5B7D9-9982-44BD-AA59-C773F0D7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58BD5-9F5D-46C7-84EC-F59A953D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670794-EDF3-4E79-A00C-F27C8A41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42EE2-768E-4DE1-9367-21A267E8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AF6A-F232-4A95-A56B-6B7D92C5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C1A20-9834-4CB6-B545-C99EDCAF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69D00-2BF1-486B-A21E-A3F3B457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055A3-5BD1-45DE-9402-49D7FB2B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DD052E-830D-4DAC-8E07-31AEA534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CD7A0-571A-496B-AA37-D69B33DD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D66F5-E75E-469C-AB64-9C4EBBA2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C4C23-5F58-449E-92F0-50E5ACE0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90C0BB-9EE1-46A4-A014-4B6728A8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6F8E3-FCFE-49BE-B319-945CB777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3B41A-AFAE-46AD-AF72-159103BC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746-C63C-42BE-9E31-A91ACBDC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5FB306-8460-4003-8E9E-872502E2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81506-76F9-4458-A383-5B725421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B09495-B376-4BD0-A61C-BFAC40EC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E5643-453D-4CF1-A077-86E6A46F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0C633-707B-43EE-8650-C6EDF978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E2352-141C-43AD-99E1-4B5EF181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D33995-2594-4F43-9839-F33DCA12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531E5C-11A7-46D6-A171-9EE209DD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1FA66-F6C9-4158-995E-7E65218B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904CC-F191-443B-AA39-000F9E21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89A-1A5C-4B1B-AFCA-27A0493B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19F9D-6344-4799-97CF-3BCD1DE3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896651-0AD4-497C-A25F-8D412297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29ECE-4017-45A9-B10A-E8E3F8EB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0A7EB9-D29C-41BE-8FD3-60D60A91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32F25-C520-4C68-8126-3F495C95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1C2BB-3174-4850-8B33-1596A1B8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7B811F-D3D1-411A-A2A0-4E557C57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EB1E0-9E62-4B50-91D3-12216D88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6D8CAE-60B3-4BDD-9962-A4FA1067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33E000-C9E9-41BF-BCAE-DF4F47CF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4E34-AC55-4C87-ABB2-199BEDFC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E66CAD-6257-4EA7-AC80-F1539BED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617BF6-AAAE-4ADA-9DC4-A37E1936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B3AE6-8656-4A67-BF5A-0E1B4083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0E2C8-1D4F-49B7-9DDB-9D821020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103414-FEEA-4DDB-B10C-F9D6E340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B51FA-0705-4707-83D2-9F3B7CF9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E285DB-28B0-4A09-855B-78E44E95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00BB50-DFD1-47B4-89BF-AF9D37C9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1A875-65B6-473A-B6EE-7D9201B4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4AF61-D0ED-4D4E-AC32-77C5A27B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DC13-EE88-46B6-99D5-58817CD0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988D78-3E79-4EAD-9B01-56D12A12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E0D9A5-9431-44C8-A777-BEC63A0E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D0B1D5-D82E-4C2D-B856-157C2D6C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245FA-3328-450E-BC73-13EECD50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3810B2-5934-470B-BCDB-8CB8BFF7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0694A3-4A1E-4AA8-B8D6-3D70E6A1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FD6017-EFD8-4936-8EA7-5C3DD930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8676F6-145E-494D-9C1C-E635A611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79E8C8-6024-4D7C-BC4A-84CDDF7D5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C5E946-BE0F-45B2-A9F5-C6514538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C54-31FC-4539-8AC0-4B0C3512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52231E-D222-4DB4-B91E-BA2EB749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96F7E0-CCC2-46D3-8AEF-704149D5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B76F1F-4E6B-4EF5-9F16-883FC8EB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5A29AD-0481-4D7A-BD3D-ED511B66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508E18-0DB8-4631-8A9F-B1648C83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BE96E6-FF4A-464A-B631-ABDD972D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D1F774-CD50-4497-B4F1-51486708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45497F-A113-457D-BBB0-F6279F82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DEC649-B176-4884-9DB0-7AA1D3E9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BDF627-61FB-4384-BFD6-52DADF92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72D-C04D-4B35-8F86-978A9B77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F4BBDA-18FA-457D-A920-8B40C1C7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EE2D91-76A6-4300-AC90-E65E8843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EDE0D8-DC19-4E4E-9D1A-343DBD2F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23085F-0045-49F2-9253-E18283DC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111E5B-ACB8-4CDF-806E-A955EF82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3665FE-6AE5-4E75-B730-13C011F2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F7D4CD-2196-484B-AFEF-FA160914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3AA49-A019-4496-AFBE-BEB2FB52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CF7A44-A68A-4734-A9E1-E4BA1130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4B33EC-7E76-4401-9248-3DC40C9C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318-2677-484F-ACBB-16DAA043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E17843-F6B7-4DDA-875B-0A95E866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97F8C1-3FFB-40A0-8959-3D71BF1D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E5D6F-0AAF-4CD2-87FE-DEAEF351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12C07D-C822-4D9C-9766-28D72573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719505-AA59-4EB2-9076-3228AAB4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E5CE01-8E52-4D3F-B146-65947ED5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956510-C929-4EE4-8745-7029E15D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46474D-BBF3-42E2-BAA2-885E959D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9A5A70-A260-4564-9D78-C96B26D5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D3B8AF-9B0F-4773-88E8-8E890273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F0B-988D-4452-889E-98F60E6F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75F3A4-F175-44E8-9D8B-4361BCBE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DEF7AC-FF19-431D-90C7-A389DC9EC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55A8BF-2778-4065-89A2-B47E5367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24402A-22EF-4084-B8D4-B9B77579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9466A2-44F7-43D4-BAB3-6BE0A7A0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95C801-C3D6-4D80-B96E-338F6A93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5D262A-4EAE-48DE-8D1C-34A3437A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A89480-F34F-413C-B047-AFBE7C21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6A4E87-8811-4FF6-BB72-2569CC3E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4CFA26-3812-4937-B18B-7046A62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B7EA-5BA0-495B-9475-BCC2242D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9BB439-9CE2-480F-870C-F012AF25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13BD93-0849-492A-9F3D-4490C8B9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C3C1B5-5D27-436F-A82C-03DC4391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CF9697-C910-4D73-B6FD-F0D2263C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2E73BD-7521-4C57-99F1-798CC3E3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070E1A-1982-4E88-9656-6953B430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97DC48-FD1C-4F96-A13F-231F2197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7474D9-AF0D-463A-B64C-4550CA16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41CDC2-8F1C-4FF2-8990-344550B8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14CF17-06AC-457C-857D-C964DDBF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1900-5B57-4E71-9D8E-481E9E85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5FCA4-3A51-4A16-819B-24963B35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5503F0-FF41-4EAB-BCC0-34B25FC3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895921-4253-47E2-B7FF-0F169471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7E990A-A359-4E08-B5DB-A9CB0C67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4B9E5E-6774-44C0-AF42-B6AFA9F9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2F05-031F-41FE-8FCC-7EC98479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BBFB-F8FA-4AE1-80A1-F5337C89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E996-D244-46E7-A026-BE606F81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DF0C-C3A3-4A0F-BA95-1C0AB46A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8DDE-148A-45D2-B26C-9E3B176F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267A-2DBA-4539-AE5A-17A299A4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DAAB-2CB1-4166-B6FA-048BDB60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8227-F865-41CF-B97B-F80076F2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D049-1258-443A-A92A-233DFE9B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7A20-7172-44E9-8B51-085D77A8A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09732-C5FF-49AC-BE59-625FB2BE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03801-1F3F-46BD-AD44-4613A78A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5350D-874F-4F09-827B-636009E0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422B-3C9B-4B90-A572-26449AEC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B97FA-C993-4ECB-8FF4-8798B715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017DD-3D2C-4D6E-AD99-242DADBB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C6DC-C4FA-44F4-A499-E1579081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F0A7-5327-4C1F-935B-8A17E42F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6AD5E-FD31-4A47-A81C-4340A395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24BCA-33D3-46A8-B477-5D92DAB2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05F69-ABD0-4EA7-B5B9-4B60A81A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15FC8-713F-41CE-B5E9-D21DD035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FD231-4006-4DC2-923C-4E43B96B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1B0BB-54C8-418D-9182-39974DBC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11289-9D17-474A-805E-A0BB1281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D15A6-8A94-4D04-9B9C-4706FDDD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79885-19BB-4491-B214-74D3AA1D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7D5E7-062D-41AE-9C49-AD8816EC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B8DF7-6AC6-4EF9-939C-FCC118DB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E8FF0-ECCF-41CD-AB70-A7E23EE3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7564C-0F9D-4C5C-B7F8-460B0CDD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70E71-8EDD-4C5E-A24E-2F472034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643A9-1A4E-4BA7-BAB7-B86C73EE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2895F-D6B3-4CAD-9141-5B1BAE90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EA697-DE3D-46D7-8144-0E98FF82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55CF3-3039-4932-8226-1F9F8926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21BCC-73B6-4D07-9E3B-67FA37B4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6474A-1B01-4B40-9D58-1C874A52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55C52-76B9-42C3-83C6-D60C1575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6E04C-2DDA-4F77-955A-1D1E7669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811F7-A354-4054-8B46-891EB315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1A237-9DA5-476F-9799-C57A7B7F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70FC8-EA09-4107-A0B3-A9C78B3B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FE38F-D3B0-4290-9A84-16B24025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C3C24-5BC1-4859-BAD1-5C1D0A90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60554-20C8-4928-B478-55D14DE3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B2D47-151F-48D5-B239-59A3BA96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8EC0E-A7F2-49F5-955F-F82C1D3C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CB67F-796D-41B4-B8C2-ED1A71CB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59D05-1224-4468-B806-49C23D1D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067DC-8BA3-472A-9588-02962B0D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BB81A-1805-476D-BA30-41B8A733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D763F-3669-4592-9824-1DFEF2E9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76504-671C-4A77-97ED-73262657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01635-7787-4553-8F8B-CECF8805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3CE8C-6DC3-4FA7-852C-3DE44020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26F13-6474-4A8C-9BFD-55E31B9F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DB89C-A80A-45D6-BB25-EE7D74DC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3E373-1945-4B9C-8CAA-E851E6E5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0EA79-FDB4-4B96-9BD6-14BA5DFB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E873D-87A3-4E88-AB62-CDB758B7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C7F50-6FE1-4294-A4D1-16DD7A37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B12B2-579C-4A56-BBF5-C6F4BB08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B961C-9392-4FCC-8A24-0AEA2792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7F33B-CADA-4D2D-B1F3-91891E8B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E3ADE-E769-42D8-8F51-D44A4B6A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A1D09-0A7A-455D-986E-761C332D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E7503-BA05-481A-B5A6-C2E0EC56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4452F-3951-426C-8930-987A9CC2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C9C3B-9105-4868-BABE-B56628FA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B5E59-9EF8-4976-88FB-0322EC00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67C57-3F9D-41E0-8219-E686AA58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A03F2-626E-478C-86D6-A4F80F5A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8EF0-0335-4F91-AFB7-B1B54695EC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0675-0155-4C09-9E7C-DCA29F0B40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CD72-71D5-4E59-9B5A-B4C3EC82A14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0054-DEB3-412C-A261-8026BD84F9B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CE1F-892D-4159-8E2B-EC75946A81B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E345-B3D0-4BD8-9938-4FF0E787EA3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0FFC-8887-49DF-A7AE-6C367711D8E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DD2F-85AA-4CC3-A12A-E15AEFA338E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02FF-EDD7-4A27-815C-D3FE8F1464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8F65-C237-4DFA-91F6-75FE36D656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EA3D-FE29-4A59-8C3D-98A001E699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88E8-262E-4DAC-91E7-BFA42D69D0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28C3-5C5F-461E-9B74-3E0E3F0337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1A86-9D91-4F61-88C0-25344D2D32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5269-3574-45BF-8A8A-B56EDABB9C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B8CB-3E18-4800-99A1-A24A9E1DE1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95DC-6232-4474-A7B2-9331AAAB5D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1647-6107-4B25-9D41-592A2B6646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EA87-3A8B-4512-9525-DB9A57E6F7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231F-D4A2-40FC-9145-0AB561521F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B134-D1A2-4977-9722-24BF01BB95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7.jpeg"/><Relationship Id="rId17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5" descr=""/>
          <p:cNvPicPr/>
          <p:nvPr/>
        </p:nvPicPr>
        <p:blipFill>
          <a:blip r:embed="rId1"/>
          <a:stretch/>
        </p:blipFill>
        <p:spPr>
          <a:xfrm>
            <a:off x="1879560" y="0"/>
            <a:ext cx="5384880" cy="6858000"/>
          </a:xfrm>
          <a:prstGeom prst="rect">
            <a:avLst/>
          </a:prstGeom>
          <a:ln w="0">
            <a:noFill/>
          </a:ln>
        </p:spPr>
      </p:pic>
      <p:sp>
        <p:nvSpPr>
          <p:cNvPr id="880" name="矩形 5"/>
          <p:cNvSpPr/>
          <p:nvPr/>
        </p:nvSpPr>
        <p:spPr>
          <a:xfrm>
            <a:off x="2676600" y="632448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Pictur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ictur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Picture 3" descr=""/>
          <p:cNvPicPr/>
          <p:nvPr/>
        </p:nvPicPr>
        <p:blipFill>
          <a:blip r:embed="rId1"/>
          <a:stretch/>
        </p:blipFill>
        <p:spPr>
          <a:xfrm>
            <a:off x="1879560" y="0"/>
            <a:ext cx="538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powerpoint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word/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excel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图片 9" descr=""/>
          <p:cNvPicPr/>
          <p:nvPr/>
        </p:nvPicPr>
        <p:blipFill>
          <a:blip r:embed="rId8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903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10" descr="png-0644"/>
          <p:cNvPicPr/>
          <p:nvPr/>
        </p:nvPicPr>
        <p:blipFill>
          <a:blip r:embed="rId9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11" descr="png-0652"/>
          <p:cNvPicPr/>
          <p:nvPr/>
        </p:nvPicPr>
        <p:blipFill>
          <a:blip r:embed="rId10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Pictur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矩形 5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3" descr=""/>
          <p:cNvPicPr/>
          <p:nvPr/>
        </p:nvPicPr>
        <p:blipFill>
          <a:blip r:embed="rId16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0" y="520560"/>
            <a:ext cx="9144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7-20T03:21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