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8C579-C6BA-40F2-A783-8C297D34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A634F-64D8-4819-8541-19CF0E68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A46D1-F1AC-4A9A-B646-E1FB8B29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A6B23-1BA6-496A-9E2C-7BEFF59B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92784-5583-40D7-9006-48A7460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F5A0-FF5E-4866-92B6-3B0F736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1E92-43A5-4418-8FB8-1B7B85F5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A7FF-527D-4049-95BB-6D963B84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79A1-9BBB-4474-989C-D085DFD5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3DF40-F80B-49AF-8C9F-176DF493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3922-A564-4989-A755-E2EF2C58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766D4-CC2D-4842-9ECC-655ECEE4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C0B5A-026D-4827-83CD-4997638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1CA1A-AC17-4102-99F9-8B0B9FEA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D279C-472A-45C0-B1BF-08D5B7DE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95057-057D-4A44-B82B-14338708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FE348-760E-43BE-994B-7980140A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6EED9-6418-4EE6-9666-A859F1B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D8D4C-5416-4551-9264-B58AD8DB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F26A0-C868-4709-9D9C-89700053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6AAE1-DDF4-4A53-9987-3B0D12E3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53D-A853-475C-B537-333AA366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8DC-9A5C-439B-9BA0-E479A690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D7D-637F-43A8-90C0-67330F79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759-6DF4-444D-B011-7A26D78F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9C9-548D-4E6A-9CBC-8BC8C387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5E8-EB08-4392-8321-D99B8DF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EFA-CF44-45D5-B70C-577CEB2A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F3C-ADF5-4E54-9D44-177EBE7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731-2C62-468A-8AA3-07661CA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B8B-B622-478D-88C5-F13AA660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F4A7-A523-4C3C-A51B-4ECFDC46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714-9CC3-4596-8715-ACE7D0F7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152-7B9E-41F7-8B2F-0AF4AC3C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6449-11AD-41AD-A2D4-75599EED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D672-907B-44CB-AEF0-8B76525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3CF2-F255-470D-B752-1A12AB3A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D47D-D356-4739-899C-4CDAE9C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6131-E94C-40EB-A29B-24207DDF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0D3-8CF6-414D-AC78-9D8695A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60E7-DD18-48DD-97D2-40C3AA8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00D-5729-4C08-8756-917802AF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77D7-FB2F-4CC8-BCC8-868A482B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CA1-26EA-47D8-ACBD-9914A005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5171-E302-4991-AA2B-C8D0E000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56FE-E8C3-4069-B506-F7435DA2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76B0-AFA7-48FB-B3AB-4E969522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458B-9AE1-4650-8AC4-6DBC6E4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EC2D-E6A7-4931-9A15-C322129D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425A-5EAC-4173-996C-BD8AD14F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B157-009C-450C-82EF-24B815AC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80F9-7541-4B29-BE28-680C2E0E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6ECE-4684-4D9D-BDA9-AB5F352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0B3B-7BA3-48C9-8FC1-FDDA957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E977-FA9B-4010-8583-636A06D0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CB80-1F57-4F8D-AE12-1231F2CB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8294-29E8-449C-A545-E92C0EC1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5CD52-B960-4A65-BC59-7869CEA6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D9F4-158F-45B3-915D-55746E51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3BF1-AE13-4EE8-8D8B-2DE18FAB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7F28-1FEF-4053-8257-111A185D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6996-0FC5-4269-85CA-C9F2E18A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AD5A-92D1-47C0-98E4-4AC5E410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FFEF-C6F2-441C-AD58-34DE4B1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E8482-44BF-4C90-9891-BAC8CD4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EE73-87E9-43CA-8EF2-AF404E5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A146D-7D2E-4D24-9EB3-D87B8EFD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3598-3F2B-49AC-B2F7-0C3C56F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9E80F-2102-427B-AAC9-8225E7BD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3A5A4-8D4A-4BEA-9FAA-2342DA65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485C-794B-4052-B1E5-7C0F1CAD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902B-5115-4448-8503-17DC0E7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AD89A-B1E9-4252-9A19-D6F4D163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F7C3-A658-4B25-BA75-4FCF4203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D13E-F05F-45EC-B84F-2B831D8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FEDE-0768-4D6A-B524-0F672B7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2571-8AB6-4F48-8AA2-B396CCE1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B780-0498-4358-A9C2-7E0065E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B0EE-3594-4782-9B09-1B9A6DC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55B8-594F-4802-B19A-7C6F9B76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BFDE-9A13-4B9D-9733-7D6F8C5B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2179-1BB6-4A0D-A668-26ADDDE9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F3D7-B434-442F-8AAC-7CA16BC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C82F9-D969-4EA4-993B-36A4325F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6BD1F-87D6-4C33-BBCA-FCACD157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31CD9-54DF-4F27-9058-893BBB9C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E8878-8AA4-405A-BB55-F7D35330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95C55-76F6-4087-A874-15A55F0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BC905-CF16-48CD-A580-33B619FE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07A1-7F58-417B-A312-5460908B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44874-7072-4B74-9C65-BCDEA1C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CEE3-89A5-4A5B-AAF6-0EE8A04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2C4D-62EA-45D3-A2B6-A1167D3B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F529-303B-461C-9D69-A41F1D76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F9809-9076-4298-B66A-B611DC3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A3BEA-FD10-4218-B770-8978F9D2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ED92-53E9-427B-A35F-152F538B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598D-90F3-42C1-8798-E4F8A54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CE466-A8BA-461F-B9AE-159966B0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2D41-4E06-44C0-9BA9-6D7E75F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22FEC-2B9A-4F1C-BBC3-1126482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13F0F-64AF-46F9-B545-8482EB3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0BD0-DD77-4DBC-A3E9-520115F6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CCF6A-E944-4654-BBF4-DF838D72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EE21C-8179-45FF-B47A-267DE48C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32BD2-4F81-46D4-9A4A-7E80D1AA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D1CD-090F-404E-80DC-0C705E3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D84A1-3E22-4659-940C-F536BE4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A70-53D9-406E-BD37-6CCD5CDD5EF1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5DE-90DE-4D8C-8051-95910CF28F9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5574-23E4-45F2-8E2E-6DD18580107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CC05-47C2-462D-B5A6-D0B940BD47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67C-2950-4559-8DF8-5843492812C8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C5B1-61CF-4EDE-9435-9110E2624F1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759D-F767-4F30-92E0-E54ED56741CB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BD2-154C-464B-96E0-B7EB8D8C1C7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DED-36CF-4790-AB9F-ED671E6CEBA6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D399-4C1E-4461-A60F-B69AF4AD272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719D-35BE-4FAC-9EF1-17306BA09299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515D-BA7D-4248-95B9-3D7413E9DD4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5DA7-B4D3-4D2B-B569-0AA60B0179F6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1EAE-C515-43C8-8E59-044D8EBD26F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03AF-8C65-4B03-9146-F1681413B3FE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4C1B-CFB3-44E7-ABF4-C4D154000C9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6D7-AE8E-4DC1-9496-AA21A90A21B0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457-76C9-4AC3-B71E-96B3075D22F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图片 3" descr=""/>
          <p:cNvPicPr/>
          <p:nvPr/>
        </p:nvPicPr>
        <p:blipFill>
          <a:blip r:embed="rId1"/>
          <a:stretch/>
        </p:blipFill>
        <p:spPr>
          <a:xfrm>
            <a:off x="622440" y="0"/>
            <a:ext cx="789912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矩形 4"/>
          <p:cNvSpPr/>
          <p:nvPr/>
        </p:nvSpPr>
        <p:spPr>
          <a:xfrm>
            <a:off x="2771640" y="5950080"/>
            <a:ext cx="3096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1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图片 1" descr=""/>
          <p:cNvPicPr/>
          <p:nvPr/>
        </p:nvPicPr>
        <p:blipFill>
          <a:blip r:embed="rId1"/>
          <a:stretch/>
        </p:blipFill>
        <p:spPr>
          <a:xfrm>
            <a:off x="557280" y="0"/>
            <a:ext cx="80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1" descr=""/>
          <p:cNvPicPr/>
          <p:nvPr/>
        </p:nvPicPr>
        <p:blipFill>
          <a:blip r:embed="rId1"/>
          <a:stretch/>
        </p:blipFill>
        <p:spPr>
          <a:xfrm>
            <a:off x="657360" y="0"/>
            <a:ext cx="78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图片 2" descr=""/>
          <p:cNvPicPr/>
          <p:nvPr/>
        </p:nvPicPr>
        <p:blipFill>
          <a:blip r:embed="rId1"/>
          <a:stretch/>
        </p:blipFill>
        <p:spPr>
          <a:xfrm>
            <a:off x="0" y="1454040"/>
            <a:ext cx="914400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1" descr=""/>
          <p:cNvPicPr/>
          <p:nvPr/>
        </p:nvPicPr>
        <p:blipFill>
          <a:blip r:embed="rId1"/>
          <a:stretch/>
        </p:blipFill>
        <p:spPr>
          <a:xfrm>
            <a:off x="566640" y="0"/>
            <a:ext cx="80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图片 1" descr=""/>
          <p:cNvPicPr/>
          <p:nvPr/>
        </p:nvPicPr>
        <p:blipFill>
          <a:blip r:embed="rId1"/>
          <a:stretch/>
        </p:blipFill>
        <p:spPr>
          <a:xfrm>
            <a:off x="608040" y="0"/>
            <a:ext cx="79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图片 1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图片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2" descr=""/>
          <p:cNvPicPr/>
          <p:nvPr/>
        </p:nvPicPr>
        <p:blipFill>
          <a:blip r:embed="rId1"/>
          <a:stretch/>
        </p:blipFill>
        <p:spPr>
          <a:xfrm>
            <a:off x="644400" y="0"/>
            <a:ext cx="78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图片 1" descr="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图片 1" descr=""/>
          <p:cNvPicPr/>
          <p:nvPr/>
        </p:nvPicPr>
        <p:blipFill>
          <a:blip r:embed="rId1"/>
          <a:stretch/>
        </p:blipFill>
        <p:spPr>
          <a:xfrm>
            <a:off x="598320" y="0"/>
            <a:ext cx="794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图片 1" descr=""/>
          <p:cNvPicPr/>
          <p:nvPr/>
        </p:nvPicPr>
        <p:blipFill>
          <a:blip r:embed="rId1"/>
          <a:stretch/>
        </p:blipFill>
        <p:spPr>
          <a:xfrm>
            <a:off x="649440" y="0"/>
            <a:ext cx="78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1" descr=""/>
          <p:cNvPicPr/>
          <p:nvPr/>
        </p:nvPicPr>
        <p:blipFill>
          <a:blip r:embed="rId1"/>
          <a:stretch/>
        </p:blipFill>
        <p:spPr>
          <a:xfrm>
            <a:off x="644400" y="0"/>
            <a:ext cx="78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图片 1" descr=""/>
          <p:cNvPicPr/>
          <p:nvPr/>
        </p:nvPicPr>
        <p:blipFill>
          <a:blip r:embed="rId1"/>
          <a:stretch/>
        </p:blipFill>
        <p:spPr>
          <a:xfrm>
            <a:off x="0" y="1467000"/>
            <a:ext cx="91440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1" descr=""/>
          <p:cNvPicPr/>
          <p:nvPr/>
        </p:nvPicPr>
        <p:blipFill>
          <a:blip r:embed="rId1"/>
          <a:stretch/>
        </p:blipFill>
        <p:spPr>
          <a:xfrm>
            <a:off x="598320" y="0"/>
            <a:ext cx="794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图片 1" descr=""/>
          <p:cNvPicPr/>
          <p:nvPr/>
        </p:nvPicPr>
        <p:blipFill>
          <a:blip r:embed="rId1"/>
          <a:stretch/>
        </p:blipFill>
        <p:spPr>
          <a:xfrm>
            <a:off x="644400" y="0"/>
            <a:ext cx="785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1" descr=""/>
          <p:cNvPicPr/>
          <p:nvPr/>
        </p:nvPicPr>
        <p:blipFill>
          <a:blip r:embed="rId1"/>
          <a:stretch/>
        </p:blipFill>
        <p:spPr>
          <a:xfrm>
            <a:off x="0" y="147168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图片 1" descr=""/>
          <p:cNvPicPr/>
          <p:nvPr/>
        </p:nvPicPr>
        <p:blipFill>
          <a:blip r:embed="rId1"/>
          <a:stretch/>
        </p:blipFill>
        <p:spPr>
          <a:xfrm>
            <a:off x="598320" y="0"/>
            <a:ext cx="794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1" descr=""/>
          <p:cNvPicPr/>
          <p:nvPr/>
        </p:nvPicPr>
        <p:blipFill>
          <a:blip r:embed="rId1"/>
          <a:stretch/>
        </p:blipFill>
        <p:spPr>
          <a:xfrm>
            <a:off x="671400" y="0"/>
            <a:ext cx="78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1" descr="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1" descr=""/>
          <p:cNvPicPr/>
          <p:nvPr/>
        </p:nvPicPr>
        <p:blipFill>
          <a:blip r:embed="rId1"/>
          <a:stretch/>
        </p:blipFill>
        <p:spPr>
          <a:xfrm>
            <a:off x="662040" y="0"/>
            <a:ext cx="78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2"/>
          <p:cNvSpPr/>
          <p:nvPr/>
        </p:nvSpPr>
        <p:spPr>
          <a:xfrm>
            <a:off x="3924360" y="4221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图片 1" descr=""/>
          <p:cNvPicPr/>
          <p:nvPr/>
        </p:nvPicPr>
        <p:blipFill>
          <a:blip r:embed="rId16"/>
          <a:stretch/>
        </p:blipFill>
        <p:spPr>
          <a:xfrm>
            <a:off x="766800" y="0"/>
            <a:ext cx="761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图片 2" descr=""/>
          <p:cNvPicPr/>
          <p:nvPr/>
        </p:nvPicPr>
        <p:blipFill>
          <a:blip r:embed="rId1"/>
          <a:stretch/>
        </p:blipFill>
        <p:spPr>
          <a:xfrm>
            <a:off x="635040" y="0"/>
            <a:ext cx="78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图片 1" descr=""/>
          <p:cNvPicPr/>
          <p:nvPr/>
        </p:nvPicPr>
        <p:blipFill>
          <a:blip r:embed="rId1"/>
          <a:stretch/>
        </p:blipFill>
        <p:spPr>
          <a:xfrm>
            <a:off x="662040" y="0"/>
            <a:ext cx="78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" descr=""/>
          <p:cNvPicPr/>
          <p:nvPr/>
        </p:nvPicPr>
        <p:blipFill>
          <a:blip r:embed="rId1"/>
          <a:stretch/>
        </p:blipFill>
        <p:spPr>
          <a:xfrm>
            <a:off x="0" y="146376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1" descr=""/>
          <p:cNvPicPr/>
          <p:nvPr/>
        </p:nvPicPr>
        <p:blipFill>
          <a:blip r:embed="rId1"/>
          <a:stretch/>
        </p:blipFill>
        <p:spPr>
          <a:xfrm>
            <a:off x="547560" y="0"/>
            <a:ext cx="804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"/>
          <p:cNvPicPr/>
          <p:nvPr/>
        </p:nvPicPr>
        <p:blipFill>
          <a:blip r:embed="rId1"/>
          <a:stretch/>
        </p:blipFill>
        <p:spPr>
          <a:xfrm>
            <a:off x="608040" y="0"/>
            <a:ext cx="79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2:14:58Z</dcterms:created>
  <dc:creator/>
  <dc:description/>
  <dc:language>en-US</dc:language>
  <cp:lastModifiedBy>wuhan</cp:lastModifiedBy>
  <dcterms:modified xsi:type="dcterms:W3CDTF">2016-05-24T02:15:3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