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853-5CCB-4879-905C-940766D8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189-633C-4AAF-9717-E168C0F4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0C0-F8D9-4309-8D3D-A49C1743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E01-6395-4EE0-9768-9AB4BB24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CDF9-91DF-4663-9DE9-BBFA76B8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DBB7-A85E-4904-8416-A9DF2B13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EBB0-A826-4FFE-9D3F-2C3997DD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376A-87C2-44F4-86C3-CC339C76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A393-08FF-4971-93DA-589315FC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DD2E-528E-43A5-928B-7F32E461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A5F2-28D0-4274-A8C5-4304AD7C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244-706B-42F0-AECE-F128A3DC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F7E2-8EEE-4EF5-9611-2F1108A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4A36-9E14-4184-81C1-2242A49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C6CA-A529-4A2F-9763-CC529435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02E2-923B-424D-909A-646DACFB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5447-51A6-4AB8-89F3-7A370B8C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FA07-64AD-4FFA-B680-E72404CE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21D0-8B49-4783-8F99-953AE520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EE45-FF4E-4F45-ADB1-0EFC9BB0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20BF-9221-4219-BD65-B33147F2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8B0F-E258-4E88-B5F4-8A8FF3C1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D1D-1F46-4C10-9219-364C2C84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560E-19CB-4E46-B69C-038B2425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8B68-6802-40C2-A086-43BAE303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AEBB7-F2BF-4844-9BF5-03E2A2B6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38B4-D136-4548-A79C-FDACCA46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A9D6-2FF2-446F-9957-6A17B95E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C780-3B46-4BC8-BAE2-7B6EA584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181C6-A5C6-424A-B6BF-EE666EC4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F413-698B-446C-9FB5-270EC99D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4C5F6-4A37-4D69-8C71-2C49ED71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D1CA1-6433-4828-AEAA-D2556B47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E1F-08EC-4CC5-B1C1-7BA14548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A896-8B1B-4697-B46C-1C553D53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4466-CE2A-4819-929F-5489A863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6B5D-D7A9-44D4-8B8F-26395D93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3BC7-7F49-4B92-A0FD-CCCFBF9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3AAB-824A-4994-9ED9-E956990F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32A88-7543-422A-980E-45AF798B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CB869-31E0-4742-8D86-AE88AE64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CA967-1580-46A6-A033-C0D65DC2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40AFB-A06C-4C68-A84A-75F98649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9C3-9A8F-475F-9179-96838F7F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59D-4469-4909-B8CA-7C43007A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927-2BC7-4383-9940-3D76D44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259-2CF1-4B33-BFF0-778A9708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521-1234-4D5B-9A3B-72CD64A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内页"/>
          <p:cNvPicPr/>
          <p:nvPr/>
        </p:nvPicPr>
        <p:blipFill>
          <a:blip r:embed="rId2"/>
          <a:srcRect l="0" t="0" r="333" b="364"/>
          <a:stretch/>
        </p:blipFill>
        <p:spPr>
          <a:xfrm>
            <a:off x="3240" y="-25560"/>
            <a:ext cx="9250200" cy="6910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9981-9545-47A7-B38A-62C639E485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9D54-F2B6-4DE7-8194-A165EE0EC6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049" descr="未标题-3"/>
          <p:cNvPicPr/>
          <p:nvPr/>
        </p:nvPicPr>
        <p:blipFill>
          <a:blip r:embed="rId2"/>
          <a:srcRect l="412" t="0" r="432" b="543"/>
          <a:stretch/>
        </p:blipFill>
        <p:spPr>
          <a:xfrm>
            <a:off x="-4680" y="3240"/>
            <a:ext cx="9182160" cy="6853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04C1-0A50-493D-8FC1-8CDE69019B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A8DA-0FC4-4679-BC4B-F24798DDF6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7170"/>
          <p:cNvSpPr/>
          <p:nvPr/>
        </p:nvSpPr>
        <p:spPr>
          <a:xfrm>
            <a:off x="5219640" y="4076640"/>
            <a:ext cx="370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8193"/>
          <p:cNvSpPr/>
          <p:nvPr/>
        </p:nvSpPr>
        <p:spPr>
          <a:xfrm>
            <a:off x="1727280" y="746280"/>
            <a:ext cx="1493640" cy="369000"/>
          </a:xfrm>
          <a:prstGeom prst="rect">
            <a:avLst/>
          </a:prstGeom>
          <a:noFill/>
          <a:ln cap="rnd" w="936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简约派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8194"/>
          <p:cNvGrpSpPr/>
          <p:nvPr/>
        </p:nvGrpSpPr>
        <p:grpSpPr>
          <a:xfrm>
            <a:off x="1908000" y="1343160"/>
            <a:ext cx="5321160" cy="1312920"/>
            <a:chOff x="1908000" y="1343160"/>
            <a:chExt cx="5321160" cy="1312920"/>
          </a:xfrm>
        </p:grpSpPr>
        <p:sp>
          <p:nvSpPr>
            <p:cNvPr id="169" name="文本框 8195"/>
            <p:cNvSpPr/>
            <p:nvPr/>
          </p:nvSpPr>
          <p:spPr>
            <a:xfrm>
              <a:off x="1908000" y="1343160"/>
              <a:ext cx="93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b3db98"/>
                  </a:solidFill>
                  <a:latin typeface="微软雅黑"/>
                  <a:ea typeface="微软雅黑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8196"/>
            <p:cNvSpPr/>
            <p:nvPr/>
          </p:nvSpPr>
          <p:spPr>
            <a:xfrm>
              <a:off x="2403720" y="1595880"/>
              <a:ext cx="4825440" cy="777600"/>
            </a:xfrm>
            <a:prstGeom prst="rect">
              <a:avLst/>
            </a:prstGeom>
            <a:solidFill>
              <a:srgbClr val="b3d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8197"/>
          <p:cNvGrpSpPr/>
          <p:nvPr/>
        </p:nvGrpSpPr>
        <p:grpSpPr>
          <a:xfrm>
            <a:off x="1920960" y="2295360"/>
            <a:ext cx="5314680" cy="1312920"/>
            <a:chOff x="1920960" y="2295360"/>
            <a:chExt cx="5314680" cy="1312920"/>
          </a:xfrm>
        </p:grpSpPr>
        <p:sp>
          <p:nvSpPr>
            <p:cNvPr id="172" name="文本框 8198"/>
            <p:cNvSpPr/>
            <p:nvPr/>
          </p:nvSpPr>
          <p:spPr>
            <a:xfrm>
              <a:off x="1920960" y="2295360"/>
              <a:ext cx="826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cccc"/>
                  </a:solidFill>
                  <a:latin typeface="微软雅黑"/>
                  <a:ea typeface="微软雅黑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8199"/>
            <p:cNvSpPr/>
            <p:nvPr/>
          </p:nvSpPr>
          <p:spPr>
            <a:xfrm>
              <a:off x="2412000" y="2555640"/>
              <a:ext cx="4823640" cy="777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角三角形 8200"/>
            <p:cNvSpPr/>
            <p:nvPr/>
          </p:nvSpPr>
          <p:spPr>
            <a:xfrm flipH="1">
              <a:off x="2223000" y="2987280"/>
              <a:ext cx="216360" cy="216720"/>
            </a:xfrm>
            <a:prstGeom prst="rtTriangl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8201"/>
          <p:cNvGrpSpPr/>
          <p:nvPr/>
        </p:nvGrpSpPr>
        <p:grpSpPr>
          <a:xfrm>
            <a:off x="1893960" y="3270240"/>
            <a:ext cx="5335200" cy="1312920"/>
            <a:chOff x="1893960" y="3270240"/>
            <a:chExt cx="5335200" cy="1312920"/>
          </a:xfrm>
        </p:grpSpPr>
        <p:sp>
          <p:nvSpPr>
            <p:cNvPr id="176" name="文本框 8202"/>
            <p:cNvSpPr/>
            <p:nvPr/>
          </p:nvSpPr>
          <p:spPr>
            <a:xfrm>
              <a:off x="1893960" y="3270240"/>
              <a:ext cx="77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9999"/>
                  </a:solidFill>
                  <a:latin typeface="微软雅黑"/>
                  <a:ea typeface="微软雅黑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8203"/>
            <p:cNvSpPr/>
            <p:nvPr/>
          </p:nvSpPr>
          <p:spPr>
            <a:xfrm>
              <a:off x="2404800" y="3521160"/>
              <a:ext cx="4824360" cy="791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流程图: 过程 8204"/>
            <p:cNvSpPr/>
            <p:nvPr/>
          </p:nvSpPr>
          <p:spPr>
            <a:xfrm>
              <a:off x="2319120" y="385128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流程图: 过程 8205"/>
            <p:cNvSpPr/>
            <p:nvPr/>
          </p:nvSpPr>
          <p:spPr>
            <a:xfrm>
              <a:off x="2273040" y="423648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流程图: 过程 8206"/>
            <p:cNvSpPr/>
            <p:nvPr/>
          </p:nvSpPr>
          <p:spPr>
            <a:xfrm>
              <a:off x="2320560" y="352656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8207"/>
          <p:cNvGrpSpPr/>
          <p:nvPr/>
        </p:nvGrpSpPr>
        <p:grpSpPr>
          <a:xfrm>
            <a:off x="1939320" y="4232160"/>
            <a:ext cx="5296680" cy="1312920"/>
            <a:chOff x="1939320" y="4232160"/>
            <a:chExt cx="5296680" cy="1312920"/>
          </a:xfrm>
        </p:grpSpPr>
        <p:sp>
          <p:nvSpPr>
            <p:cNvPr id="182" name="文本框 8208"/>
            <p:cNvSpPr/>
            <p:nvPr/>
          </p:nvSpPr>
          <p:spPr>
            <a:xfrm>
              <a:off x="1939320" y="4232160"/>
              <a:ext cx="762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cc669d"/>
                  </a:solidFill>
                  <a:latin typeface="微软雅黑"/>
                  <a:ea typeface="微软雅黑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8209"/>
            <p:cNvSpPr/>
            <p:nvPr/>
          </p:nvSpPr>
          <p:spPr>
            <a:xfrm>
              <a:off x="2411280" y="4499640"/>
              <a:ext cx="4824720" cy="769680"/>
            </a:xfrm>
            <a:prstGeom prst="rect">
              <a:avLst/>
            </a:prstGeom>
            <a:solidFill>
              <a:srgbClr val="cc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文本框 8210"/>
          <p:cNvSpPr/>
          <p:nvPr/>
        </p:nvSpPr>
        <p:spPr>
          <a:xfrm>
            <a:off x="2577960" y="1805040"/>
            <a:ext cx="42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8211"/>
          <p:cNvSpPr/>
          <p:nvPr/>
        </p:nvSpPr>
        <p:spPr>
          <a:xfrm>
            <a:off x="2590920" y="269388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212"/>
          <p:cNvSpPr/>
          <p:nvPr/>
        </p:nvSpPr>
        <p:spPr>
          <a:xfrm>
            <a:off x="2606760" y="365616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8213"/>
          <p:cNvSpPr/>
          <p:nvPr/>
        </p:nvSpPr>
        <p:spPr>
          <a:xfrm>
            <a:off x="2614680" y="460836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一起过儿童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儿童是国家的未来，是民族的希望，给所有儿童创造良好的家庭、社会和学习环境，让他们健康、快乐、幸福地成长，一直是世界各国努力的目标，一年一度的“六一国际儿童节”就是专门为儿童们设立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本是世界上庆祝儿童节次数最多的国家，他们一年要庆祝三次儿童节，而且庆祝方式十分有意思，充满了浓浓的日本风情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女孩节　这个节日是专门为小女孩设立的，每到这一天，各国“儿童节”天，家中有女儿的父母会在家里设置一个陈列台，台上放上穿着日本和服的漂亮女娃娃玩偶，作为给自己女儿的节日礼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韩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韩国的儿童节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，从“男孩节”演变过来的。也是韩国的公众假日，每年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。这一天，孩子们可以尽情享受欢乐，父母要给孩子准备他们　最想要的礼物。很多孩子也会在这天穿上韩服，体验传统的韩国文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哥伦比亚将每年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定为儿童节。在这个节日里，全国的学校都要举行各种生动活泼的庆祝活动，儿童们还常常戴上各式各样的假面具，扮成小丑的样子在街头玩耍，十分开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10241"/>
          <p:cNvSpPr/>
          <p:nvPr/>
        </p:nvSpPr>
        <p:spPr>
          <a:xfrm>
            <a:off x="5470560" y="3886200"/>
            <a:ext cx="33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0242"/>
          <p:cNvSpPr/>
          <p:nvPr/>
        </p:nvSpPr>
        <p:spPr>
          <a:xfrm>
            <a:off x="6948360" y="64501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2.0"/>
                <a:ea typeface="张海山锐线体2.0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wuhan</cp:lastModifiedBy>
  <dcterms:modified xsi:type="dcterms:W3CDTF">2016-05-28T01:56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5</vt:lpwstr>
  </property>
</Properties>
</file>