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455-884B-4778-A38D-102F6F0C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A86-38AA-4EE7-8F39-9D8C6D60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0D2-29B9-4107-90EE-BB75320E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40D-D609-494A-A5FA-9725F29C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A05-6F16-4F0A-89EB-1E73D45F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257-AC5B-480E-AA9C-9900CDA8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AB8-EECE-43AE-9936-256BCA5D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C35-5BB7-4D76-B905-185D17BD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D7F-643A-4D52-8437-98F1EA17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8D7-1B1D-4039-90FD-7B45B2D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537-EA3F-49CD-85E2-58B77EC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F18-82C4-437B-9234-FF1B9909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6841-4D65-4DAE-B27E-116F16BE97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2.wmf"/><Relationship Id="rId34" Type="http://schemas.openxmlformats.org/officeDocument/2006/relationships/image" Target="../media/image2.wmf"/><Relationship Id="rId35" Type="http://schemas.openxmlformats.org/officeDocument/2006/relationships/image" Target="../media/image2.wmf"/><Relationship Id="rId36" Type="http://schemas.openxmlformats.org/officeDocument/2006/relationships/image" Target="../media/image3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2.wmf"/><Relationship Id="rId51" Type="http://schemas.openxmlformats.org/officeDocument/2006/relationships/image" Target="../media/image2.wmf"/><Relationship Id="rId52" Type="http://schemas.openxmlformats.org/officeDocument/2006/relationships/image" Target="../media/image2.wmf"/><Relationship Id="rId53" Type="http://schemas.openxmlformats.org/officeDocument/2006/relationships/image" Target="../media/image3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2.wmf"/><Relationship Id="rId59" Type="http://schemas.openxmlformats.org/officeDocument/2006/relationships/image" Target="../media/image3.wmf"/><Relationship Id="rId60" Type="http://schemas.openxmlformats.org/officeDocument/2006/relationships/image" Target="../media/image3.wmf"/><Relationship Id="rId61" Type="http://schemas.openxmlformats.org/officeDocument/2006/relationships/image" Target="../media/image3.wmf"/><Relationship Id="rId6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  <a:effectLst>
            <a:outerShdw dist="153753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1773360"/>
            <a:ext cx="5763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440" y="1341360"/>
            <a:ext cx="109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1000Base-S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6840" y="1844640"/>
            <a:ext cx="4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1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12700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中国矿业大学南湖校区整体校园网拓扑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87280" y="6567480"/>
            <a:ext cx="107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2126/2150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92040" y="6567480"/>
            <a:ext cx="107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2126/2150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384280" y="6553080"/>
            <a:ext cx="107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2126/2150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6400" y="6568920"/>
            <a:ext cx="107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2126/2150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08960" y="6568920"/>
            <a:ext cx="107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2126/2150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0720" y="6556320"/>
            <a:ext cx="107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2126/2150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17040" y="6556320"/>
            <a:ext cx="107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2126/2150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918480" y="1684440"/>
            <a:ext cx="34272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73920" y="1452600"/>
            <a:ext cx="0" cy="40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72160" y="1393920"/>
            <a:ext cx="28908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944680" y="1673280"/>
            <a:ext cx="34308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02280" y="1441440"/>
            <a:ext cx="0" cy="40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00880" y="1384200"/>
            <a:ext cx="287280" cy="46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891560" y="1684440"/>
            <a:ext cx="34272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48440" y="1452600"/>
            <a:ext cx="0" cy="40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47040" y="1393920"/>
            <a:ext cx="28728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flipH="1">
            <a:off x="7221600" y="1539720"/>
            <a:ext cx="326880" cy="14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flipH="1">
            <a:off x="6819480" y="1365120"/>
            <a:ext cx="327240" cy="14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flipH="1">
            <a:off x="6345360" y="1222200"/>
            <a:ext cx="326880" cy="14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flipH="1">
            <a:off x="6400800" y="1163520"/>
            <a:ext cx="326880" cy="14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 flipH="1">
            <a:off x="6249960" y="1528200"/>
            <a:ext cx="325440" cy="144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 flipH="1">
            <a:off x="5848200" y="1353960"/>
            <a:ext cx="325440" cy="146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 flipH="1">
            <a:off x="5370480" y="1210680"/>
            <a:ext cx="325440" cy="144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 flipH="1">
            <a:off x="5425920" y="1152360"/>
            <a:ext cx="325440" cy="144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 flipH="1">
            <a:off x="8196120" y="1539720"/>
            <a:ext cx="325440" cy="14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 flipH="1">
            <a:off x="7794720" y="1365120"/>
            <a:ext cx="325440" cy="14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 flipH="1">
            <a:off x="7316640" y="1222200"/>
            <a:ext cx="325440" cy="14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 flipH="1">
            <a:off x="7372440" y="1163520"/>
            <a:ext cx="325440" cy="14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V="1" rot="10800000">
            <a:off x="4711680" y="951840"/>
            <a:ext cx="107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2126/2150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00000">
            <a:off x="5664240" y="951840"/>
            <a:ext cx="107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2126/2150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 rot="10800000">
            <a:off x="6696000" y="951840"/>
            <a:ext cx="107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2126/2150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3"/>
          <a:stretch/>
        </p:blipFill>
        <p:spPr>
          <a:xfrm flipH="1">
            <a:off x="5767560" y="1673280"/>
            <a:ext cx="465120" cy="52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 flipH="1">
            <a:off x="6738480" y="1684440"/>
            <a:ext cx="466920" cy="520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5"/>
          <a:stretch/>
        </p:blipFill>
        <p:spPr>
          <a:xfrm flipH="1">
            <a:off x="7713720" y="1684440"/>
            <a:ext cx="465120" cy="520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 flipV="1" rot="10800000">
            <a:off x="6202800" y="1860480"/>
            <a:ext cx="65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68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 rot="10800000">
            <a:off x="5237640" y="1843920"/>
            <a:ext cx="65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68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 rot="10800000">
            <a:off x="7138440" y="1860480"/>
            <a:ext cx="65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68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00760" y="1674720"/>
            <a:ext cx="34272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57640" y="1442880"/>
            <a:ext cx="0" cy="40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6240" y="1386000"/>
            <a:ext cx="28728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 flipH="1">
            <a:off x="5305320" y="1529640"/>
            <a:ext cx="325440" cy="14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7"/>
          <a:stretch/>
        </p:blipFill>
        <p:spPr>
          <a:xfrm flipH="1">
            <a:off x="4903920" y="1355760"/>
            <a:ext cx="325440" cy="146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8"/>
          <a:stretch/>
        </p:blipFill>
        <p:spPr>
          <a:xfrm flipH="1">
            <a:off x="4425840" y="1210680"/>
            <a:ext cx="325440" cy="14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9"/>
          <a:stretch/>
        </p:blipFill>
        <p:spPr>
          <a:xfrm flipH="1">
            <a:off x="4481640" y="1152360"/>
            <a:ext cx="325440" cy="144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0"/>
          <a:stretch/>
        </p:blipFill>
        <p:spPr>
          <a:xfrm flipH="1">
            <a:off x="4822920" y="1674000"/>
            <a:ext cx="465120" cy="520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 flipV="1" rot="10800000">
            <a:off x="8117280" y="1843920"/>
            <a:ext cx="65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68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0800000">
            <a:off x="7672320" y="951840"/>
            <a:ext cx="107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2126/2150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194920" y="1611360"/>
            <a:ext cx="143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图书馆（三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4280" y="2205000"/>
            <a:ext cx="576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000" y="2276640"/>
            <a:ext cx="109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1000Base-L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2200" y="2722680"/>
            <a:ext cx="57636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760" y="2781360"/>
            <a:ext cx="109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1000Base-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4280" y="3219480"/>
            <a:ext cx="576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9040" y="3290760"/>
            <a:ext cx="100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100Base-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620720" y="5819400"/>
            <a:ext cx="363600" cy="2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24200" y="5880240"/>
            <a:ext cx="0" cy="42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044800" y="5880240"/>
            <a:ext cx="30456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649600" y="5829120"/>
            <a:ext cx="363600" cy="24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52720" y="5890680"/>
            <a:ext cx="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072960" y="5890680"/>
            <a:ext cx="304920" cy="48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92200" y="5819400"/>
            <a:ext cx="361800" cy="2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895320" y="5880240"/>
            <a:ext cx="0" cy="42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014480" y="5880240"/>
            <a:ext cx="30456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4149720"/>
            <a:ext cx="1073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计算机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一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1"/>
          <a:stretch/>
        </p:blipFill>
        <p:spPr>
          <a:xfrm flipH="1">
            <a:off x="1317240" y="6062760"/>
            <a:ext cx="344520" cy="153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2"/>
          <a:stretch/>
        </p:blipFill>
        <p:spPr>
          <a:xfrm flipH="1">
            <a:off x="1742760" y="6246720"/>
            <a:ext cx="344520" cy="15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3"/>
          <a:stretch/>
        </p:blipFill>
        <p:spPr>
          <a:xfrm flipH="1">
            <a:off x="2187360" y="6459480"/>
            <a:ext cx="344520" cy="154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4"/>
          <a:stretch/>
        </p:blipFill>
        <p:spPr>
          <a:xfrm flipH="1">
            <a:off x="2246040" y="6397560"/>
            <a:ext cx="344520" cy="15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5"/>
          <a:stretch/>
        </p:blipFill>
        <p:spPr>
          <a:xfrm flipH="1">
            <a:off x="2346480" y="6073920"/>
            <a:ext cx="344160" cy="15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6"/>
          <a:stretch/>
        </p:blipFill>
        <p:spPr>
          <a:xfrm flipH="1">
            <a:off x="2771280" y="6257880"/>
            <a:ext cx="344520" cy="154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7"/>
          <a:stretch/>
        </p:blipFill>
        <p:spPr>
          <a:xfrm flipH="1">
            <a:off x="3215880" y="6470640"/>
            <a:ext cx="344520" cy="154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8"/>
          <a:stretch/>
        </p:blipFill>
        <p:spPr>
          <a:xfrm flipH="1">
            <a:off x="3274560" y="6408720"/>
            <a:ext cx="344520" cy="15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9"/>
          <a:stretch/>
        </p:blipFill>
        <p:spPr>
          <a:xfrm flipH="1">
            <a:off x="289080" y="6062760"/>
            <a:ext cx="344160" cy="153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0"/>
          <a:stretch/>
        </p:blipFill>
        <p:spPr>
          <a:xfrm flipH="1">
            <a:off x="712440" y="6246720"/>
            <a:ext cx="344520" cy="154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1"/>
          <a:stretch/>
        </p:blipFill>
        <p:spPr>
          <a:xfrm flipH="1">
            <a:off x="1157040" y="6459480"/>
            <a:ext cx="344520" cy="154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2"/>
          <a:stretch/>
        </p:blipFill>
        <p:spPr>
          <a:xfrm flipH="1">
            <a:off x="1215720" y="6397560"/>
            <a:ext cx="344520" cy="154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3338280" y="5805360"/>
            <a:ext cx="838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S2024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3"/>
          <a:stretch/>
        </p:blipFill>
        <p:spPr>
          <a:xfrm flipH="1">
            <a:off x="2707920" y="5524560"/>
            <a:ext cx="493560" cy="54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4"/>
          <a:stretch/>
        </p:blipFill>
        <p:spPr>
          <a:xfrm flipH="1">
            <a:off x="1679400" y="5513400"/>
            <a:ext cx="493920" cy="54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5"/>
          <a:stretch/>
        </p:blipFill>
        <p:spPr>
          <a:xfrm flipH="1">
            <a:off x="650520" y="5513400"/>
            <a:ext cx="492120" cy="549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954000" y="4840200"/>
            <a:ext cx="0" cy="673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54000" y="4840200"/>
            <a:ext cx="2727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681360" y="4593960"/>
            <a:ext cx="0" cy="244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1960" y="4656240"/>
            <a:ext cx="0" cy="3063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044440" y="4962600"/>
            <a:ext cx="17571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4800" y="4962600"/>
            <a:ext cx="0" cy="550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014640" y="5084280"/>
            <a:ext cx="0" cy="4287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14640" y="5084640"/>
            <a:ext cx="9079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922560" y="4656240"/>
            <a:ext cx="0" cy="428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43520" y="4718160"/>
            <a:ext cx="0" cy="488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6"/>
          <a:stretch/>
        </p:blipFill>
        <p:spPr>
          <a:xfrm>
            <a:off x="3621240" y="3860640"/>
            <a:ext cx="544320" cy="85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00" y="5267160"/>
            <a:ext cx="1236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文法学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5280120"/>
            <a:ext cx="165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计算机学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551340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68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5291280"/>
            <a:ext cx="1328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理学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680" y="5513400"/>
            <a:ext cx="858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68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5513400"/>
            <a:ext cx="793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68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5280120"/>
            <a:ext cx="858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食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681360" y="5207040"/>
            <a:ext cx="36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81360" y="5207040"/>
            <a:ext cx="0" cy="550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7"/>
          <a:stretch/>
        </p:blipFill>
        <p:spPr>
          <a:xfrm flipH="1">
            <a:off x="3517920" y="5635800"/>
            <a:ext cx="466560" cy="20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 flipV="1">
            <a:off x="7062840" y="5810400"/>
            <a:ext cx="342720" cy="24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118280" y="5872320"/>
            <a:ext cx="0" cy="43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16880" y="5872320"/>
            <a:ext cx="288720" cy="49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089760" y="5820840"/>
            <a:ext cx="34272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146640" y="5882760"/>
            <a:ext cx="0" cy="43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745240" y="5882760"/>
            <a:ext cx="287280" cy="49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8035560" y="5810400"/>
            <a:ext cx="343080" cy="24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093160" y="5872320"/>
            <a:ext cx="0" cy="43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691400" y="5872320"/>
            <a:ext cx="287280" cy="49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8"/>
          <a:stretch/>
        </p:blipFill>
        <p:spPr>
          <a:xfrm>
            <a:off x="7365960" y="6059520"/>
            <a:ext cx="327240" cy="155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9"/>
          <a:stretch/>
        </p:blipFill>
        <p:spPr>
          <a:xfrm>
            <a:off x="6964200" y="6245280"/>
            <a:ext cx="327240" cy="1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0"/>
          <a:stretch/>
        </p:blipFill>
        <p:spPr>
          <a:xfrm>
            <a:off x="6543720" y="6462720"/>
            <a:ext cx="326880" cy="155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1"/>
          <a:stretch/>
        </p:blipFill>
        <p:spPr>
          <a:xfrm>
            <a:off x="6488280" y="6399360"/>
            <a:ext cx="326880" cy="155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2"/>
          <a:stretch/>
        </p:blipFill>
        <p:spPr>
          <a:xfrm>
            <a:off x="6394320" y="6070680"/>
            <a:ext cx="325440" cy="155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3"/>
          <a:stretch/>
        </p:blipFill>
        <p:spPr>
          <a:xfrm>
            <a:off x="5992920" y="6256440"/>
            <a:ext cx="325440" cy="156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4"/>
          <a:stretch/>
        </p:blipFill>
        <p:spPr>
          <a:xfrm>
            <a:off x="5572080" y="6473880"/>
            <a:ext cx="325440" cy="155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5"/>
          <a:stretch/>
        </p:blipFill>
        <p:spPr>
          <a:xfrm>
            <a:off x="5516640" y="6410160"/>
            <a:ext cx="325440" cy="155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6"/>
          <a:stretch/>
        </p:blipFill>
        <p:spPr>
          <a:xfrm>
            <a:off x="8340840" y="6059520"/>
            <a:ext cx="325440" cy="155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7"/>
          <a:stretch/>
        </p:blipFill>
        <p:spPr>
          <a:xfrm>
            <a:off x="7939080" y="6245280"/>
            <a:ext cx="325440" cy="156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8"/>
          <a:stretch/>
        </p:blipFill>
        <p:spPr>
          <a:xfrm>
            <a:off x="7518240" y="6462720"/>
            <a:ext cx="325440" cy="155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9"/>
          <a:stretch/>
        </p:blipFill>
        <p:spPr>
          <a:xfrm>
            <a:off x="7462800" y="6399360"/>
            <a:ext cx="325440" cy="155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0"/>
          <a:stretch/>
        </p:blipFill>
        <p:spPr>
          <a:xfrm>
            <a:off x="5911920" y="5510160"/>
            <a:ext cx="465120" cy="560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1"/>
          <a:stretch/>
        </p:blipFill>
        <p:spPr>
          <a:xfrm>
            <a:off x="6883560" y="5499000"/>
            <a:ext cx="466560" cy="560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2"/>
          <a:stretch/>
        </p:blipFill>
        <p:spPr>
          <a:xfrm>
            <a:off x="7858080" y="5499000"/>
            <a:ext cx="465120" cy="560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V="1">
            <a:off x="8035920" y="4815000"/>
            <a:ext cx="0" cy="684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457600" y="4815000"/>
            <a:ext cx="25779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457960" y="4565520"/>
            <a:ext cx="0" cy="2476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43480" y="4629240"/>
            <a:ext cx="0" cy="3110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43480" y="4940280"/>
            <a:ext cx="16621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05600" y="4940280"/>
            <a:ext cx="0" cy="5587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087960" y="5064120"/>
            <a:ext cx="0" cy="434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229000" y="5064120"/>
            <a:ext cx="8586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229360" y="4629240"/>
            <a:ext cx="0" cy="434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4684680"/>
            <a:ext cx="0" cy="863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3"/>
          <a:stretch/>
        </p:blipFill>
        <p:spPr>
          <a:xfrm flipH="1">
            <a:off x="4998960" y="3819600"/>
            <a:ext cx="581040" cy="871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H="1">
            <a:off x="4715640" y="5259240"/>
            <a:ext cx="97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行政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581080" y="5259240"/>
            <a:ext cx="1439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化工学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226920" y="5500800"/>
            <a:ext cx="78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6810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588000" y="5273640"/>
            <a:ext cx="1152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机电学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219640" y="5519880"/>
            <a:ext cx="828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6810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211160" y="5500800"/>
            <a:ext cx="65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68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706520" y="5116680"/>
            <a:ext cx="82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5145120" y="5819760"/>
            <a:ext cx="342720" cy="24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02360" y="5881320"/>
            <a:ext cx="0" cy="43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5881320"/>
            <a:ext cx="287280" cy="49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4"/>
          <a:stretch/>
        </p:blipFill>
        <p:spPr>
          <a:xfrm>
            <a:off x="5450040" y="6068880"/>
            <a:ext cx="325440" cy="155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5"/>
          <a:stretch/>
        </p:blipFill>
        <p:spPr>
          <a:xfrm>
            <a:off x="5048280" y="6254640"/>
            <a:ext cx="325440" cy="157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6"/>
          <a:stretch/>
        </p:blipFill>
        <p:spPr>
          <a:xfrm>
            <a:off x="4627440" y="6472080"/>
            <a:ext cx="325440" cy="155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7"/>
          <a:stretch/>
        </p:blipFill>
        <p:spPr>
          <a:xfrm>
            <a:off x="4572000" y="6408720"/>
            <a:ext cx="325440" cy="155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8"/>
          <a:stretch/>
        </p:blipFill>
        <p:spPr>
          <a:xfrm>
            <a:off x="4967280" y="5508720"/>
            <a:ext cx="465120" cy="560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>
            <a:off x="8190720" y="5519880"/>
            <a:ext cx="65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锐捷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68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35920" y="2031840"/>
            <a:ext cx="0" cy="6350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57240" y="2666880"/>
            <a:ext cx="25779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668680"/>
            <a:ext cx="0" cy="2300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43480" y="2550600"/>
            <a:ext cx="0" cy="289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343120" y="2550960"/>
            <a:ext cx="16621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005600" y="2031840"/>
            <a:ext cx="0" cy="5191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7960" y="2031840"/>
            <a:ext cx="0" cy="403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28640" y="2435400"/>
            <a:ext cx="8586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29360" y="2435400"/>
            <a:ext cx="0" cy="404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148360" y="1986120"/>
            <a:ext cx="0" cy="8013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9"/>
          <a:stretch/>
        </p:blipFill>
        <p:spPr>
          <a:xfrm>
            <a:off x="4998960" y="2782080"/>
            <a:ext cx="581040" cy="809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 flipV="1" rot="10800000">
            <a:off x="4751280" y="2133000"/>
            <a:ext cx="111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教学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 rot="10800000">
            <a:off x="5650560" y="2133000"/>
            <a:ext cx="1152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教学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 rot="10800000">
            <a:off x="6588000" y="2133000"/>
            <a:ext cx="1152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教学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楷体"/>
                <a:ea typeface="楷体"/>
              </a:rPr>
              <a:t>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 rot="10800000">
            <a:off x="7706160" y="2378520"/>
            <a:ext cx="82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666920" y="2013120"/>
            <a:ext cx="82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0"/>
          <a:stretch/>
        </p:blipFill>
        <p:spPr>
          <a:xfrm>
            <a:off x="1835280" y="1988280"/>
            <a:ext cx="581040" cy="809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1"/>
          <a:stretch/>
        </p:blipFill>
        <p:spPr>
          <a:xfrm>
            <a:off x="3132000" y="1988280"/>
            <a:ext cx="581040" cy="809640"/>
          </a:xfrm>
          <a:prstGeom prst="rect">
            <a:avLst/>
          </a:prstGeom>
          <a:ln w="0">
            <a:noFill/>
          </a:ln>
        </p:spPr>
      </p:pic>
      <p:cxnSp>
        <p:nvCxnSpPr>
          <p:cNvPr id="217" name=""/>
          <p:cNvCxnSpPr>
            <a:stCxn id="215" idx="3"/>
            <a:endCxn id="137" idx="0"/>
          </p:cNvCxnSpPr>
          <p:nvPr/>
        </p:nvCxnSpPr>
        <p:spPr>
          <a:xfrm>
            <a:off x="2416320" y="2392920"/>
            <a:ext cx="1477440" cy="1468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3"/>
            <a:endCxn id="182" idx="0"/>
          </p:cNvCxnSpPr>
          <p:nvPr/>
        </p:nvCxnSpPr>
        <p:spPr>
          <a:xfrm>
            <a:off x="3713040" y="2392920"/>
            <a:ext cx="1576800" cy="142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6" idx="3"/>
            <a:endCxn id="137" idx="0"/>
          </p:cNvCxnSpPr>
          <p:nvPr/>
        </p:nvCxnSpPr>
        <p:spPr>
          <a:xfrm>
            <a:off x="3713040" y="2392920"/>
            <a:ext cx="180720" cy="1468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15" idx="3"/>
            <a:endCxn id="182" idx="0"/>
          </p:cNvCxnSpPr>
          <p:nvPr/>
        </p:nvCxnSpPr>
        <p:spPr>
          <a:xfrm>
            <a:off x="2416320" y="2392920"/>
            <a:ext cx="2873520" cy="142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5" idx="3"/>
            <a:endCxn id="209" idx="3"/>
          </p:cNvCxnSpPr>
          <p:nvPr/>
        </p:nvCxnSpPr>
        <p:spPr>
          <a:xfrm>
            <a:off x="2416320" y="2392920"/>
            <a:ext cx="31640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6" idx="3"/>
            <a:endCxn id="209" idx="3"/>
          </p:cNvCxnSpPr>
          <p:nvPr/>
        </p:nvCxnSpPr>
        <p:spPr>
          <a:xfrm>
            <a:off x="3713040" y="2392920"/>
            <a:ext cx="18673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 flipH="1">
            <a:off x="5582520" y="4076640"/>
            <a:ext cx="973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信电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（二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582520" y="3052800"/>
            <a:ext cx="973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教学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（二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22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40000" y="234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0000" y="2492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4000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00360" y="2205000"/>
            <a:ext cx="71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3429000"/>
            <a:ext cx="1440000" cy="287280"/>
          </a:xfrm>
          <a:prstGeom prst="wedgeRoundRectCallout">
            <a:avLst>
              <a:gd name="adj1" fmla="val 120120"/>
              <a:gd name="adj2" fmla="val -2190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万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千兆捆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07:28:29Z</dcterms:created>
  <dc:creator>cxliu</dc:creator>
  <dc:description/>
  <dc:language>en-US</dc:language>
  <cp:lastModifiedBy>阿南</cp:lastModifiedBy>
  <dcterms:modified xsi:type="dcterms:W3CDTF">2005-05-26T07:49:54Z</dcterms:modified>
  <cp:revision>5</cp:revision>
  <dc:subject/>
  <dc:title>幻灯片 1</dc:title>
</cp:coreProperties>
</file>