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C92-1DC9-42F9-A8E4-28DFBE9A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44D-DCF5-49AD-813C-30C88141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666-963C-441F-A653-0BB877BC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40B-8BBC-41B8-ABB6-78BE6BF5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750-5FBC-432B-9533-3C86C523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456-9ED8-4865-9838-ED951BBC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97E-8DC2-4FA4-8A57-AF2E4531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439-3084-4447-8E53-445D694C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09B-E480-4FFB-9E2F-32142BC5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800-67F2-4C80-B694-BC799E70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E49-C10B-44DF-84BD-9422514F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352-9ECF-4E21-BFA6-EF875B4B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6631-63FA-4C95-976D-D17AE6F87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3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90920" y="60948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438280" y="1981080"/>
            <a:ext cx="6151680" cy="419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666880" y="3124080"/>
            <a:ext cx="939960" cy="120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562720" y="2590920"/>
            <a:ext cx="45720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255840" y="495288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703760" y="548640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227640" y="548640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7675560" y="4876920"/>
            <a:ext cx="723960" cy="30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913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637080" y="4191120"/>
            <a:ext cx="19256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84640" y="4191120"/>
            <a:ext cx="554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943600" y="4191120"/>
            <a:ext cx="6652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095880" y="4191120"/>
            <a:ext cx="1656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682360" y="2113920"/>
            <a:ext cx="2695680" cy="1819080"/>
            <a:chOff x="2682360" y="2113920"/>
            <a:chExt cx="2695680" cy="1819080"/>
          </a:xfrm>
        </p:grpSpPr>
        <p:sp>
          <p:nvSpPr>
            <p:cNvPr id="56" name=""/>
            <p:cNvSpPr/>
            <p:nvPr/>
          </p:nvSpPr>
          <p:spPr>
            <a:xfrm flipH="1">
              <a:off x="3956760" y="2854440"/>
              <a:ext cx="21960" cy="244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82360" y="2113920"/>
              <a:ext cx="102960" cy="78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68480" y="2255040"/>
              <a:ext cx="103320" cy="78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4960" y="2396160"/>
              <a:ext cx="103320" cy="78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1080" y="2537280"/>
              <a:ext cx="103320" cy="78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7560" y="2678760"/>
              <a:ext cx="103320" cy="78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14040" y="2820240"/>
              <a:ext cx="103320" cy="78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0160" y="2961360"/>
              <a:ext cx="103320" cy="78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0080" y="2865960"/>
              <a:ext cx="103680" cy="78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56560" y="3007080"/>
              <a:ext cx="103680" cy="78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42680" y="3148200"/>
              <a:ext cx="103680" cy="78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3289680"/>
              <a:ext cx="103680" cy="78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15640" y="3431160"/>
              <a:ext cx="103680" cy="78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02120" y="3572280"/>
              <a:ext cx="103320" cy="78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88600" y="3713400"/>
              <a:ext cx="103320" cy="78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74720" y="3854520"/>
              <a:ext cx="103320" cy="78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162920" y="5562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6934320" y="5943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8305920" y="5943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7620120" y="59436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5328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3452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5410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6095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LAS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43434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图书馆大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12193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建筑群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190512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800440" y="1286640"/>
            <a:ext cx="2679120" cy="804960"/>
            <a:chOff x="2800440" y="1286640"/>
            <a:chExt cx="2679120" cy="804960"/>
          </a:xfrm>
        </p:grpSpPr>
        <p:sp>
          <p:nvSpPr>
            <p:cNvPr id="89" name=""/>
            <p:cNvSpPr/>
            <p:nvPr/>
          </p:nvSpPr>
          <p:spPr>
            <a:xfrm flipV="1">
              <a:off x="4054320" y="1609560"/>
              <a:ext cx="44640" cy="204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800440" y="2053800"/>
              <a:ext cx="104400" cy="37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989080" y="1985760"/>
              <a:ext cx="104760" cy="37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178440" y="1917360"/>
              <a:ext cx="104760" cy="37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367800" y="1848960"/>
              <a:ext cx="104760" cy="37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57160" y="1780560"/>
              <a:ext cx="104400" cy="37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746520" y="1712160"/>
              <a:ext cx="104400" cy="37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935160" y="1644120"/>
              <a:ext cx="104760" cy="37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050000" y="1764720"/>
              <a:ext cx="105120" cy="38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239360" y="1696320"/>
              <a:ext cx="105120" cy="38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428720" y="1628280"/>
              <a:ext cx="104760" cy="37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618080" y="1559880"/>
              <a:ext cx="104760" cy="37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807080" y="1491480"/>
              <a:ext cx="104760" cy="38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996080" y="1423440"/>
              <a:ext cx="105120" cy="37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185440" y="1355040"/>
              <a:ext cx="105120" cy="37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374800" y="1286640"/>
              <a:ext cx="104760" cy="37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934320" y="6477120"/>
            <a:ext cx="19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192.168.1.0/24   ILAS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客户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5486400" y="762120"/>
            <a:ext cx="2209680" cy="99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8520" y="1143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2860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书馆网络拓扑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6668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该服务器上安装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块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硬盘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并做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RAID 1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容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4"/>
          <a:stretch/>
        </p:blipFill>
        <p:spPr>
          <a:xfrm>
            <a:off x="380880" y="45720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5"/>
          <a:stretch/>
        </p:blipFill>
        <p:spPr>
          <a:xfrm>
            <a:off x="1066680" y="48006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4800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6"/>
          <a:stretch/>
        </p:blipFill>
        <p:spPr>
          <a:xfrm>
            <a:off x="1066680" y="54100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337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514600" y="55627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13372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6095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电子阅览室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可以考虑在今后实现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8"/>
          <a:stretch/>
        </p:blipFill>
        <p:spPr>
          <a:xfrm>
            <a:off x="380880" y="4800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9"/>
          <a:stretch/>
        </p:blipFill>
        <p:spPr>
          <a:xfrm>
            <a:off x="380880" y="54100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27432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本方案中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网络无容错结构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, ILAS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服务器采用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RAID 1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磁盘镜像技术）容错级别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保证了数据的高可用性和安全性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,ILAS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服务器上数据同时采用磁带机备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3809880"/>
            <a:ext cx="1752480" cy="421560"/>
            <a:chOff x="457200" y="3809880"/>
            <a:chExt cx="1752480" cy="421560"/>
          </a:xfrm>
        </p:grpSpPr>
        <p:sp>
          <p:nvSpPr>
            <p:cNvPr id="124" name=""/>
            <p:cNvSpPr/>
            <p:nvPr/>
          </p:nvSpPr>
          <p:spPr>
            <a:xfrm>
              <a:off x="542880" y="3924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90720" y="3809880"/>
              <a:ext cx="1218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100M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纤链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4000320"/>
              <a:ext cx="152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图书馆网络同校园网以光纤相连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324480" y="38862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交换机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0"/>
          <a:stretch/>
        </p:blipFill>
        <p:spPr>
          <a:xfrm>
            <a:off x="5334120" y="3809880"/>
            <a:ext cx="9144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00:34:52Z</dcterms:created>
  <dc:creator/>
  <dc:description/>
  <dc:language>en-US</dc:language>
  <cp:lastModifiedBy>陆承兆</cp:lastModifiedBy>
  <dcterms:modified xsi:type="dcterms:W3CDTF">2000-08-18T01:57:11Z</dcterms:modified>
  <cp:revision>16</cp:revision>
  <dc:subject/>
  <dc:title>没有幻灯片标题</dc:title>
</cp:coreProperties>
</file>