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656-9490-420C-8E57-ED9923A4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2AC-F5F1-48DD-A8BB-9B72CE91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2CA-46AE-4C1A-979B-5767BF88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908-DAA1-49EF-8001-B31A61D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C03-5E84-4781-9E64-E35BAD28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66A-5AA7-4B08-B82B-46EFD877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BA7-1AF8-4E8E-A121-07649998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CE3-F0BE-410F-ABA6-EEE93D3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A83-0B4B-4F64-A5AE-E5D4B179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C61-AEB3-401B-BF87-69614E3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4E6-349F-40ED-81DC-3928BFDC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676-0FD4-4054-AB70-82F7C18B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F2D2-0DED-4356-9B40-750004BBCB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3200" y="99864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教务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3200" y="161604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书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3200" y="223344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财务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00" y="285120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后勤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3200" y="346860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校长查询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5720"/>
            <a:ext cx="1457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管理信息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I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4840" y="998640"/>
            <a:ext cx="1166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公文收发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74840" y="1616040"/>
            <a:ext cx="1166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通知公告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74840" y="2233440"/>
            <a:ext cx="1166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办公审批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4840" y="2851200"/>
            <a:ext cx="1166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网络会议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74840" y="3468600"/>
            <a:ext cx="1166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校长办公系统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4320" y="4095720"/>
            <a:ext cx="1457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办公自动化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78280" y="380880"/>
            <a:ext cx="1311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视频教学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8280" y="998640"/>
            <a:ext cx="14558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多媒体课件制作平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8280" y="1616040"/>
            <a:ext cx="1311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电子备课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78280" y="2233440"/>
            <a:ext cx="1311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课件点播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78280" y="2851200"/>
            <a:ext cx="1311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试题库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8280" y="3468600"/>
            <a:ext cx="1311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素材库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7760" y="4086360"/>
            <a:ext cx="1601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计算机辅助教学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3760" y="398520"/>
            <a:ext cx="1435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课件制作平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03760" y="1015920"/>
            <a:ext cx="1435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课件管理与浏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03760" y="1633680"/>
            <a:ext cx="1435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作业考证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03760" y="2251080"/>
            <a:ext cx="1435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答疑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03760" y="2868480"/>
            <a:ext cx="1435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教学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03760" y="3486240"/>
            <a:ext cx="1457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远程教学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560" y="4086360"/>
            <a:ext cx="1603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网络、远程教学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75680" y="38088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发布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75680" y="99864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信息查询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75680" y="161604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电子邮件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75680" y="223344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BB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公告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75680" y="2851200"/>
            <a:ext cx="116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件传输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3360" y="4086360"/>
            <a:ext cx="1603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校园网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63720" y="4964040"/>
            <a:ext cx="1893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办公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14960" y="4857840"/>
            <a:ext cx="1895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教学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24440" y="5937120"/>
            <a:ext cx="2039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网络中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92840" y="5937120"/>
            <a:ext cx="1893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、素材库、教育资源库、文件等其它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7040" y="53496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7040" y="534960"/>
            <a:ext cx="0" cy="355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27040" y="115236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27040" y="177012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7040" y="238752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27040" y="300528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27040" y="362268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128680" y="53496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28680" y="534960"/>
            <a:ext cx="0" cy="355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8680" y="115236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8680" y="177012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28680" y="238752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28680" y="300528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28680" y="362268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732120" y="53496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2120" y="534960"/>
            <a:ext cx="0" cy="355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2120" y="115236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2120" y="177012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2120" y="238752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2120" y="300528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2120" y="362268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59040" y="552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59400" y="552600"/>
            <a:ext cx="0" cy="35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9400" y="1171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59400" y="1787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59400" y="2406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59400" y="3022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59400" y="3641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229520" y="53496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29520" y="534960"/>
            <a:ext cx="0" cy="355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29520" y="115236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29520" y="177012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9520" y="238752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29520" y="300528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5680" y="4656240"/>
            <a:ext cx="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67160" y="4656240"/>
            <a:ext cx="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06920" y="4549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18040" y="4549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0" y="532116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64200" y="624672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38160" y="532116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8160" y="562932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-108000" bIns="-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58160" y="45496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0880"/>
            <a:ext cx="1143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学藉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74840" y="380880"/>
            <a:ext cx="1166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档管理系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08:19:40Z</dcterms:created>
  <dc:creator>mike</dc:creator>
  <dc:description/>
  <dc:language>en-US</dc:language>
  <cp:lastModifiedBy>Billgates</cp:lastModifiedBy>
  <dcterms:modified xsi:type="dcterms:W3CDTF">2002-12-18T15:58:04Z</dcterms:modified>
  <cp:revision>4</cp:revision>
  <dc:subject/>
  <dc:title>PowerPoint 演示文稿</dc:title>
</cp:coreProperties>
</file>