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F47-76D7-45E8-9247-79B5EFF9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3DC-B6C9-4BCC-94FC-96D5CA77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840-5BBC-405D-BBBA-DFF39CD0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0F7-5912-4871-A1DB-1EF60B62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5DE-5C71-42C8-ABA1-F7ED5290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E28-FBC6-4526-87DD-F924BB9F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E96-899E-4A56-B302-FE53063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1E2-1217-4018-ABBA-8A6E9B90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BFD-808E-4DE0-8594-3C578DD4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44E-E0B8-49F5-93BF-C661FAA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6CB-E440-4DE1-950C-2A723D8A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85D-BE08-49A7-83A5-C0AC439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FF2-44B8-4885-9D61-899A80D9A7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网络编程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 So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务器 – 多用户 并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ClientThread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rea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Socket socket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ClientThread( Socket socket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socket = sock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putStream is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putStreamReader isr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ufferedReader br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= socket.getInputStream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r =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InputStreamReader( i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 =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BufferedReader( isr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ng line = br.readLin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== line 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println( line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{is.close();}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{isr.close();}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{br.close();}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{socket.close();}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务器 – 多用户 并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rverSocket serverSocket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putStream is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putStreamReader isr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ufferedReader br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cket socket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rverSocket =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erverSocket( 6789 );/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监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ocket = serverSocket.accept();//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待接收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entThread clientThread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ClientThread( socke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entThread.start();//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启动一个客户线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Exception e ) {e.printStackTra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is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isr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br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socket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serverSocket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客户端 – 多用户 并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是模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并发客户端的程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i = 0 ; i &lt; 10 ; i ++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cket socket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putStream os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intStream ps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cket =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ocket( "127.0.0.1", 6789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s = socket.getOutputStream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 =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PrintStream( o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.println( 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犯人给我押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Exception e ) {e.printStackTra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ps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os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socket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循环实现多客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多线程实现并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经可以，多用户，并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如果要求对同一个客户，都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多用户并发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循环实现多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多线程实现并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779480"/>
            <a:ext cx="8229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网络通讯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器开始监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端申请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器接受连接（此时连接已经建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器与客户端开始通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讯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主机名或域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定位要连接的服务器所在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7.0.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本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ocalho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本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监听的服务端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到要连接的服务器主机，但是服务器上运行着多个程序都监听着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每个程序都监听着不同的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何程序都必须通过端口来与网络通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时，必须通过端口来定位服务器上要连接的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讯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24040"/>
            <a:ext cx="82296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务器 – 单用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rverSocket serverSocket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putStream is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putStreamReader isr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ufferedReader br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ocket socket =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rverSocket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ServerSocket( 6789 );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始监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ocket = serverSocket.accept();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等待接收数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s = socket.getInputStream();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通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低端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sr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InputStreamReader( is );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端流绑定低端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 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BufferedReader( isr );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缓冲流绑定高端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) {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循环读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ng line = br.readLine();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== line ) {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客户端已经断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println( line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( Exception e ) {e.printStackTra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is.close();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isr.close();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br.close();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socket.close();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serverSocket.close();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客户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cket socket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putStream os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intStream ps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cket =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ocket( “127.0.0.1”, 6789 );/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申请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s = socket.getOutputStream();/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获得通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低端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 =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PrintStream( os );/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端流绑定低端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.println(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犯人给我押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” );/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送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Exception e ) {e.printStackTra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ps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os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{socket.close();}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Exception e ) {e.printStackTrace(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务器 – 多用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rverSocket =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ServerSocket( 6789 );//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始监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) {//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接收用户请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cket = serverSocket.accept();//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待接收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 = socket.getInputStrea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r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InputStreamReader( i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r 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BufferedReader( is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ring line = br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== line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println( l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cket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务器 – 多用户 并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e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一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都启动一个线程，把这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给这个线程进行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象征着一个客户端，因为我们认为，我们将每个客户交给一个线程来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线程称为“客户线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6-21T14:34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