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E83-41A8-4277-9059-3A9C0C0D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85A-9FBC-4366-8A52-0FD595C9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439880" y="3563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B4A-D709-418C-BE71-526BA3F0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085200" y="12949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12840" y="12949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085200" y="3563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712840" y="3563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5B3-248F-41AF-8E9A-07B1F116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6082-32CF-4AE9-810D-82742A54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D126-CCD0-4C75-9761-243598C9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9AEE-7467-4656-BBB8-F171DFC4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F928-D9B7-43C4-8ADB-D5710DA5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A6DD-3CFC-4D37-8ACD-C87B2EB7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816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A9F4-6FE1-4A78-BF7E-BBD8FB02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18B7-6E45-412C-AB24-07321646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B34-B654-4EF5-B1FC-5FD34E38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39880" y="3563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58F2-FA97-4F88-AB11-F50AC1CB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B24A-06D3-40B3-A93F-156BBF73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672B-CF60-4160-BCAC-922CED7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39880" y="3563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E4EE-C1BA-4079-8014-AF52252A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85200" y="12949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712840" y="12949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85200" y="3563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712840" y="35636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4BA0-ADB3-4040-B6D9-2298D896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EFB-0004-4E28-BE39-22D87B53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06F-F8B6-45E6-A825-308EE8B2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722-6FD4-410C-B252-8660CA29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3816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636-45BB-40B8-8ECC-6884BFED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0DD-A3B6-4C5A-A217-2E632F9A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439880" y="35636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6E0-FD4D-4BB4-870D-63F2C1BE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39880" y="12949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6D5-E123-4917-8868-AD8CA718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160" y="727200"/>
            <a:ext cx="9144000" cy="5190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793800"/>
            <a:ext cx="4695840" cy="374760"/>
          </a:xfrm>
          <a:custGeom>
            <a:avLst/>
            <a:gdLst/>
            <a:ahLst/>
            <a:rect l="l" t="t" r="r" b="b"/>
            <a:pathLst>
              <a:path w="466" h="37">
                <a:moveTo>
                  <a:pt x="447" y="0"/>
                </a:moveTo>
                <a:lnTo>
                  <a:pt x="0" y="0"/>
                </a:lnTo>
                <a:lnTo>
                  <a:pt x="0" y="37"/>
                </a:lnTo>
                <a:lnTo>
                  <a:pt x="447" y="37"/>
                </a:lnTo>
                <a:cubicBezTo>
                  <a:pt x="458" y="37"/>
                  <a:pt x="466" y="29"/>
                  <a:pt x="466" y="18"/>
                </a:cubicBezTo>
                <a:cubicBezTo>
                  <a:pt x="466" y="8"/>
                  <a:pt x="458" y="0"/>
                  <a:pt x="44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11160" y="504720"/>
            <a:ext cx="9139320" cy="4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741240"/>
            <a:ext cx="4707000" cy="374760"/>
          </a:xfrm>
          <a:custGeom>
            <a:avLst/>
            <a:gdLst/>
            <a:ahLst/>
            <a:rect l="l" t="t" r="r" b="b"/>
            <a:pathLst>
              <a:path w="466" h="37">
                <a:moveTo>
                  <a:pt x="447" y="0"/>
                </a:moveTo>
                <a:lnTo>
                  <a:pt x="0" y="0"/>
                </a:lnTo>
                <a:lnTo>
                  <a:pt x="0" y="37"/>
                </a:lnTo>
                <a:lnTo>
                  <a:pt x="447" y="37"/>
                </a:lnTo>
                <a:cubicBezTo>
                  <a:pt x="458" y="37"/>
                  <a:pt x="466" y="29"/>
                  <a:pt x="466" y="18"/>
                </a:cubicBezTo>
                <a:cubicBezTo>
                  <a:pt x="466" y="8"/>
                  <a:pt x="458" y="0"/>
                  <a:pt x="447" y="0"/>
                </a:cubicBezTo>
                <a:close/>
              </a:path>
            </a:pathLst>
          </a:custGeom>
          <a:solidFill>
            <a:srgbClr val="12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5854680"/>
            <a:ext cx="9155160" cy="1003320"/>
          </a:xfrm>
          <a:prstGeom prst="rect">
            <a:avLst/>
          </a:prstGeom>
          <a:solidFill>
            <a:srgbClr val="12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870120"/>
          </a:xfrm>
          <a:prstGeom prst="rect">
            <a:avLst/>
          </a:prstGeom>
          <a:solidFill>
            <a:srgbClr val="12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765000"/>
            <a:ext cx="9148680" cy="47880"/>
            <a:chOff x="-3240" y="765000"/>
            <a:chExt cx="9148680" cy="47880"/>
          </a:xfrm>
        </p:grpSpPr>
        <p:sp>
          <p:nvSpPr>
            <p:cNvPr id="7" name=""/>
            <p:cNvSpPr/>
            <p:nvPr/>
          </p:nvSpPr>
          <p:spPr>
            <a:xfrm>
              <a:off x="-3240" y="81288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-3240" y="76500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093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631280" y="231840"/>
            <a:ext cx="1017360" cy="1066320"/>
            <a:chOff x="7631280" y="231840"/>
            <a:chExt cx="1017360" cy="1066320"/>
          </a:xfrm>
        </p:grpSpPr>
        <p:sp>
          <p:nvSpPr>
            <p:cNvPr id="11" name=""/>
            <p:cNvSpPr/>
            <p:nvPr/>
          </p:nvSpPr>
          <p:spPr>
            <a:xfrm>
              <a:off x="8136000" y="596880"/>
              <a:ext cx="395280" cy="4345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6" y="26"/>
                  </a:moveTo>
                  <a:cubicBezTo>
                    <a:pt x="16" y="26"/>
                    <a:pt x="18" y="17"/>
                    <a:pt x="25" y="15"/>
                  </a:cubicBezTo>
                  <a:lnTo>
                    <a:pt x="38" y="10"/>
                  </a:lnTo>
                  <a:cubicBezTo>
                    <a:pt x="38" y="10"/>
                    <a:pt x="39" y="10"/>
                    <a:pt x="40" y="10"/>
                  </a:cubicBezTo>
                  <a:lnTo>
                    <a:pt x="40" y="10"/>
                  </a:lnTo>
                  <a:lnTo>
                    <a:pt x="33" y="6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4"/>
                  </a:lnTo>
                  <a:cubicBezTo>
                    <a:pt x="0" y="29"/>
                    <a:pt x="1" y="29"/>
                    <a:pt x="1" y="31"/>
                  </a:cubicBezTo>
                  <a:cubicBezTo>
                    <a:pt x="1" y="31"/>
                    <a:pt x="8" y="37"/>
                    <a:pt x="8" y="37"/>
                  </a:cubicBezTo>
                  <a:lnTo>
                    <a:pt x="10" y="39"/>
                  </a:lnTo>
                  <a:lnTo>
                    <a:pt x="15" y="44"/>
                  </a:lnTo>
                  <a:lnTo>
                    <a:pt x="15" y="44"/>
                  </a:lnTo>
                  <a:cubicBezTo>
                    <a:pt x="15" y="44"/>
                    <a:pt x="15" y="44"/>
                    <a:pt x="15" y="43"/>
                  </a:cubicBezTo>
                  <a:lnTo>
                    <a:pt x="16" y="26"/>
                  </a:lnTo>
                  <a:close/>
                </a:path>
              </a:pathLst>
            </a:custGeom>
            <a:solidFill>
              <a:srgbClr val="cf9200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85040" y="696600"/>
              <a:ext cx="274680" cy="3632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5" y="0"/>
                  </a:moveTo>
                  <a:cubicBezTo>
                    <a:pt x="24" y="0"/>
                    <a:pt x="23" y="0"/>
                    <a:pt x="23" y="0"/>
                  </a:cubicBezTo>
                  <a:lnTo>
                    <a:pt x="10" y="5"/>
                  </a:lnTo>
                  <a:cubicBezTo>
                    <a:pt x="3" y="7"/>
                    <a:pt x="1" y="16"/>
                    <a:pt x="1" y="16"/>
                  </a:cubicBezTo>
                  <a:lnTo>
                    <a:pt x="0" y="33"/>
                  </a:lnTo>
                  <a:cubicBezTo>
                    <a:pt x="0" y="34"/>
                    <a:pt x="0" y="34"/>
                    <a:pt x="0" y="34"/>
                  </a:cubicBezTo>
                  <a:cubicBezTo>
                    <a:pt x="1" y="37"/>
                    <a:pt x="7" y="35"/>
                    <a:pt x="7" y="35"/>
                  </a:cubicBezTo>
                  <a:lnTo>
                    <a:pt x="18" y="28"/>
                  </a:lnTo>
                  <a:cubicBezTo>
                    <a:pt x="23" y="26"/>
                    <a:pt x="25" y="18"/>
                    <a:pt x="25" y="18"/>
                  </a:cubicBezTo>
                  <a:lnTo>
                    <a:pt x="27" y="7"/>
                  </a:lnTo>
                  <a:cubicBezTo>
                    <a:pt x="28" y="2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12759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20200" y="765000"/>
              <a:ext cx="495000" cy="4726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1" y="31"/>
                  </a:moveTo>
                  <a:cubicBezTo>
                    <a:pt x="11" y="31"/>
                    <a:pt x="11" y="19"/>
                    <a:pt x="21" y="15"/>
                  </a:cubicBezTo>
                  <a:lnTo>
                    <a:pt x="44" y="7"/>
                  </a:lnTo>
                  <a:cubicBezTo>
                    <a:pt x="44" y="7"/>
                    <a:pt x="47" y="6"/>
                    <a:pt x="50" y="7"/>
                  </a:cubicBezTo>
                  <a:lnTo>
                    <a:pt x="42" y="0"/>
                  </a:lnTo>
                  <a:lnTo>
                    <a:pt x="34" y="0"/>
                  </a:lnTo>
                  <a:lnTo>
                    <a:pt x="9" y="0"/>
                  </a:lnTo>
                  <a:lnTo>
                    <a:pt x="6" y="1"/>
                  </a:lnTo>
                  <a:cubicBezTo>
                    <a:pt x="6" y="1"/>
                    <a:pt x="0" y="3"/>
                    <a:pt x="2" y="14"/>
                  </a:cubicBezTo>
                  <a:cubicBezTo>
                    <a:pt x="4" y="25"/>
                    <a:pt x="4" y="26"/>
                    <a:pt x="4" y="26"/>
                  </a:cubicBezTo>
                  <a:lnTo>
                    <a:pt x="13" y="48"/>
                  </a:lnTo>
                  <a:cubicBezTo>
                    <a:pt x="13" y="48"/>
                    <a:pt x="13" y="48"/>
                    <a:pt x="13" y="48"/>
                  </a:cubicBezTo>
                  <a:lnTo>
                    <a:pt x="11" y="31"/>
                  </a:lnTo>
                  <a:close/>
                </a:path>
              </a:pathLst>
            </a:custGeom>
            <a:solidFill>
              <a:srgbClr val="0c4c68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829640" y="825480"/>
              <a:ext cx="415800" cy="4726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39" y="1"/>
                  </a:moveTo>
                  <a:cubicBezTo>
                    <a:pt x="36" y="0"/>
                    <a:pt x="33" y="1"/>
                    <a:pt x="33" y="1"/>
                  </a:cubicBezTo>
                  <a:lnTo>
                    <a:pt x="10" y="9"/>
                  </a:lnTo>
                  <a:cubicBezTo>
                    <a:pt x="0" y="13"/>
                    <a:pt x="0" y="25"/>
                    <a:pt x="0" y="25"/>
                  </a:cubicBezTo>
                  <a:lnTo>
                    <a:pt x="2" y="42"/>
                  </a:lnTo>
                  <a:cubicBezTo>
                    <a:pt x="2" y="42"/>
                    <a:pt x="2" y="42"/>
                    <a:pt x="2" y="42"/>
                  </a:cubicBezTo>
                  <a:cubicBezTo>
                    <a:pt x="4" y="48"/>
                    <a:pt x="13" y="44"/>
                    <a:pt x="13" y="44"/>
                  </a:cubicBezTo>
                  <a:lnTo>
                    <a:pt x="33" y="33"/>
                  </a:lnTo>
                  <a:cubicBezTo>
                    <a:pt x="40" y="29"/>
                    <a:pt x="41" y="21"/>
                    <a:pt x="41" y="21"/>
                  </a:cubicBezTo>
                  <a:lnTo>
                    <a:pt x="42" y="7"/>
                  </a:lnTo>
                  <a:cubicBezTo>
                    <a:pt x="42" y="4"/>
                    <a:pt x="41" y="2"/>
                    <a:pt x="39" y="1"/>
                  </a:cubicBezTo>
                  <a:close/>
                </a:path>
              </a:pathLst>
            </a:custGeom>
            <a:solidFill>
              <a:srgbClr val="12759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164440" y="231840"/>
              <a:ext cx="416160" cy="4442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15" y="38"/>
                  </a:moveTo>
                  <a:lnTo>
                    <a:pt x="17" y="17"/>
                  </a:lnTo>
                  <a:cubicBezTo>
                    <a:pt x="17" y="17"/>
                    <a:pt x="18" y="3"/>
                    <a:pt x="28" y="2"/>
                  </a:cubicBezTo>
                  <a:lnTo>
                    <a:pt x="42" y="2"/>
                  </a:lnTo>
                  <a:lnTo>
                    <a:pt x="20" y="0"/>
                  </a:lnTo>
                  <a:lnTo>
                    <a:pt x="7" y="0"/>
                  </a:lnTo>
                  <a:cubicBezTo>
                    <a:pt x="7" y="0"/>
                    <a:pt x="2" y="0"/>
                    <a:pt x="0" y="4"/>
                  </a:cubicBezTo>
                  <a:lnTo>
                    <a:pt x="0" y="33"/>
                  </a:lnTo>
                  <a:lnTo>
                    <a:pt x="9" y="39"/>
                  </a:lnTo>
                  <a:lnTo>
                    <a:pt x="17" y="45"/>
                  </a:lnTo>
                  <a:lnTo>
                    <a:pt x="17" y="45"/>
                  </a:lnTo>
                  <a:cubicBezTo>
                    <a:pt x="16" y="44"/>
                    <a:pt x="15" y="42"/>
                    <a:pt x="15" y="38"/>
                  </a:cubicBezTo>
                  <a:close/>
                </a:path>
              </a:pathLst>
            </a:custGeom>
            <a:solidFill>
              <a:srgbClr val="0c4c68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13840" y="241200"/>
              <a:ext cx="334800" cy="45504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7" y="1"/>
                  </a:moveTo>
                  <a:lnTo>
                    <a:pt x="13" y="1"/>
                  </a:lnTo>
                  <a:cubicBezTo>
                    <a:pt x="3" y="2"/>
                    <a:pt x="2" y="16"/>
                    <a:pt x="2" y="16"/>
                  </a:cubicBezTo>
                  <a:lnTo>
                    <a:pt x="0" y="37"/>
                  </a:lnTo>
                  <a:cubicBezTo>
                    <a:pt x="0" y="41"/>
                    <a:pt x="1" y="43"/>
                    <a:pt x="2" y="44"/>
                  </a:cubicBezTo>
                  <a:cubicBezTo>
                    <a:pt x="4" y="46"/>
                    <a:pt x="8" y="45"/>
                    <a:pt x="8" y="45"/>
                  </a:cubicBezTo>
                  <a:lnTo>
                    <a:pt x="21" y="40"/>
                  </a:lnTo>
                  <a:cubicBezTo>
                    <a:pt x="27" y="38"/>
                    <a:pt x="28" y="29"/>
                    <a:pt x="28" y="29"/>
                  </a:cubicBezTo>
                  <a:lnTo>
                    <a:pt x="32" y="12"/>
                  </a:lnTo>
                  <a:cubicBezTo>
                    <a:pt x="34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66c4ee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31280" y="241200"/>
              <a:ext cx="514080" cy="5518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10" y="25"/>
                  </a:moveTo>
                  <a:cubicBezTo>
                    <a:pt x="10" y="25"/>
                    <a:pt x="9" y="6"/>
                    <a:pt x="28" y="5"/>
                  </a:cubicBezTo>
                  <a:lnTo>
                    <a:pt x="50" y="3"/>
                  </a:lnTo>
                  <a:cubicBezTo>
                    <a:pt x="50" y="3"/>
                    <a:pt x="51" y="3"/>
                    <a:pt x="52" y="3"/>
                  </a:cubicBezTo>
                  <a:lnTo>
                    <a:pt x="35" y="0"/>
                  </a:lnTo>
                  <a:lnTo>
                    <a:pt x="14" y="0"/>
                  </a:lnTo>
                  <a:cubicBezTo>
                    <a:pt x="14" y="0"/>
                    <a:pt x="0" y="3"/>
                    <a:pt x="2" y="17"/>
                  </a:cubicBezTo>
                  <a:cubicBezTo>
                    <a:pt x="4" y="31"/>
                    <a:pt x="5" y="37"/>
                    <a:pt x="5" y="37"/>
                  </a:cubicBezTo>
                  <a:lnTo>
                    <a:pt x="16" y="56"/>
                  </a:lnTo>
                  <a:lnTo>
                    <a:pt x="16" y="56"/>
                  </a:lnTo>
                  <a:cubicBezTo>
                    <a:pt x="15" y="55"/>
                    <a:pt x="15" y="53"/>
                    <a:pt x="14" y="51"/>
                  </a:cubicBezTo>
                  <a:lnTo>
                    <a:pt x="10" y="25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20200" y="271440"/>
              <a:ext cx="554040" cy="59148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43" y="0"/>
                  </a:moveTo>
                  <a:cubicBezTo>
                    <a:pt x="42" y="0"/>
                    <a:pt x="41" y="0"/>
                    <a:pt x="41" y="0"/>
                  </a:cubicBezTo>
                  <a:lnTo>
                    <a:pt x="19" y="2"/>
                  </a:lnTo>
                  <a:cubicBezTo>
                    <a:pt x="0" y="3"/>
                    <a:pt x="1" y="22"/>
                    <a:pt x="1" y="22"/>
                  </a:cubicBezTo>
                  <a:lnTo>
                    <a:pt x="5" y="48"/>
                  </a:lnTo>
                  <a:cubicBezTo>
                    <a:pt x="6" y="50"/>
                    <a:pt x="6" y="52"/>
                    <a:pt x="7" y="53"/>
                  </a:cubicBezTo>
                  <a:cubicBezTo>
                    <a:pt x="12" y="60"/>
                    <a:pt x="22" y="57"/>
                    <a:pt x="22" y="57"/>
                  </a:cubicBezTo>
                  <a:lnTo>
                    <a:pt x="43" y="50"/>
                  </a:lnTo>
                  <a:cubicBezTo>
                    <a:pt x="54" y="46"/>
                    <a:pt x="54" y="35"/>
                    <a:pt x="54" y="35"/>
                  </a:cubicBezTo>
                  <a:lnTo>
                    <a:pt x="55" y="14"/>
                  </a:lnTo>
                  <a:cubicBezTo>
                    <a:pt x="56" y="3"/>
                    <a:pt x="48" y="1"/>
                    <a:pt x="43" y="0"/>
                  </a:cubicBezTo>
                  <a:close/>
                </a:path>
              </a:pathLst>
            </a:custGeom>
            <a:solidFill>
              <a:srgbClr val="12759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8ff"/>
                </a:solidFill>
                <a:latin typeface="-소망B"/>
              </a:rPr>
              <a:t>Click to edit the title text format</a:t>
            </a:r>
            <a:endParaRPr b="0" lang="en-US" sz="38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33d93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Click to edit the outline text format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lvl="1" marL="743040" indent="-285840">
              <a:spcBef>
                <a:spcPts val="751"/>
              </a:spcBef>
              <a:buClr>
                <a:srgbClr val="433d93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Second Outline Level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lvl="2" marL="1143000" indent="-228600">
              <a:spcBef>
                <a:spcPts val="751"/>
              </a:spcBef>
              <a:buClr>
                <a:srgbClr val="433d93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Third Outline Level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lvl="3" marL="1600200" indent="-228600">
              <a:spcBef>
                <a:spcPts val="751"/>
              </a:spcBef>
              <a:buClr>
                <a:srgbClr val="433d93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Fourth Outline Level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lvl="4" marL="2057400" indent="-228600">
              <a:spcBef>
                <a:spcPts val="751"/>
              </a:spcBef>
              <a:buClr>
                <a:srgbClr val="433d93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Fifth Outline Level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Sixth Outline Level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Seventh Outline Level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D6A4-B094-4278-8D6F-061273F3389B}" type="slidenum"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" name=""/>
          <p:cNvGrpSpPr/>
          <p:nvPr/>
        </p:nvGrpSpPr>
        <p:grpSpPr>
          <a:xfrm>
            <a:off x="0" y="5905440"/>
            <a:ext cx="9148680" cy="47520"/>
            <a:chOff x="0" y="5905440"/>
            <a:chExt cx="9148680" cy="47520"/>
          </a:xfrm>
        </p:grpSpPr>
        <p:sp>
          <p:nvSpPr>
            <p:cNvPr id="25" name=""/>
            <p:cNvSpPr/>
            <p:nvPr/>
          </p:nvSpPr>
          <p:spPr>
            <a:xfrm>
              <a:off x="0" y="595296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90544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5336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065560"/>
            <a:ext cx="4714920" cy="411480"/>
          </a:xfrm>
          <a:custGeom>
            <a:avLst/>
            <a:gdLst/>
            <a:ahLst/>
            <a:rect l="l" t="t" r="r" b="b"/>
            <a:pathLst>
              <a:path w="466" h="37">
                <a:moveTo>
                  <a:pt x="447" y="0"/>
                </a:moveTo>
                <a:lnTo>
                  <a:pt x="0" y="0"/>
                </a:lnTo>
                <a:lnTo>
                  <a:pt x="0" y="37"/>
                </a:lnTo>
                <a:lnTo>
                  <a:pt x="447" y="37"/>
                </a:lnTo>
                <a:cubicBezTo>
                  <a:pt x="458" y="37"/>
                  <a:pt x="466" y="29"/>
                  <a:pt x="466" y="19"/>
                </a:cubicBezTo>
                <a:cubicBezTo>
                  <a:pt x="466" y="9"/>
                  <a:pt x="458" y="0"/>
                  <a:pt x="44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240" y="5334120"/>
            <a:ext cx="9167760" cy="1541520"/>
          </a:xfrm>
          <a:prstGeom prst="rect">
            <a:avLst/>
          </a:prstGeom>
          <a:solidFill>
            <a:srgbClr val="12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53360" cy="1523880"/>
          </a:xfrm>
          <a:prstGeom prst="rect">
            <a:avLst/>
          </a:prstGeom>
          <a:solidFill>
            <a:srgbClr val="12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914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13440"/>
            <a:ext cx="4695840" cy="372960"/>
          </a:xfrm>
          <a:custGeom>
            <a:avLst/>
            <a:gdLst/>
            <a:ahLst/>
            <a:rect l="l" t="t" r="r" b="b"/>
            <a:pathLst>
              <a:path w="466" h="37">
                <a:moveTo>
                  <a:pt x="447" y="0"/>
                </a:moveTo>
                <a:lnTo>
                  <a:pt x="0" y="0"/>
                </a:lnTo>
                <a:lnTo>
                  <a:pt x="0" y="37"/>
                </a:lnTo>
                <a:lnTo>
                  <a:pt x="447" y="37"/>
                </a:lnTo>
                <a:cubicBezTo>
                  <a:pt x="458" y="37"/>
                  <a:pt x="466" y="29"/>
                  <a:pt x="466" y="19"/>
                </a:cubicBezTo>
                <a:cubicBezTo>
                  <a:pt x="466" y="9"/>
                  <a:pt x="458" y="0"/>
                  <a:pt x="447" y="0"/>
                </a:cubicBezTo>
                <a:close/>
              </a:path>
            </a:pathLst>
          </a:custGeom>
          <a:solidFill>
            <a:srgbClr val="127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5381640"/>
            <a:ext cx="9148680" cy="47520"/>
            <a:chOff x="0" y="5381640"/>
            <a:chExt cx="9148680" cy="47520"/>
          </a:xfrm>
        </p:grpSpPr>
        <p:sp>
          <p:nvSpPr>
            <p:cNvPr id="70" name=""/>
            <p:cNvSpPr/>
            <p:nvPr/>
          </p:nvSpPr>
          <p:spPr>
            <a:xfrm>
              <a:off x="0" y="542916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538164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691160" y="5324400"/>
            <a:ext cx="4506840" cy="0"/>
          </a:xfrm>
          <a:prstGeom prst="line">
            <a:avLst/>
          </a:prstGeom>
          <a:ln w="38160">
            <a:solidFill>
              <a:srgbClr val="093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1306440"/>
            <a:ext cx="9148680" cy="47520"/>
            <a:chOff x="0" y="1306440"/>
            <a:chExt cx="9148680" cy="47520"/>
          </a:xfrm>
        </p:grpSpPr>
        <p:sp>
          <p:nvSpPr>
            <p:cNvPr id="74" name=""/>
            <p:cNvSpPr/>
            <p:nvPr/>
          </p:nvSpPr>
          <p:spPr>
            <a:xfrm>
              <a:off x="0" y="135396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30644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8077320" y="4876920"/>
            <a:ext cx="1017360" cy="1066320"/>
            <a:chOff x="8077320" y="4876920"/>
            <a:chExt cx="1017360" cy="1066320"/>
          </a:xfrm>
        </p:grpSpPr>
        <p:sp>
          <p:nvSpPr>
            <p:cNvPr id="77" name=""/>
            <p:cNvSpPr/>
            <p:nvPr/>
          </p:nvSpPr>
          <p:spPr>
            <a:xfrm>
              <a:off x="8582040" y="5241960"/>
              <a:ext cx="395280" cy="4345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6" y="26"/>
                  </a:moveTo>
                  <a:cubicBezTo>
                    <a:pt x="16" y="26"/>
                    <a:pt x="18" y="17"/>
                    <a:pt x="25" y="15"/>
                  </a:cubicBezTo>
                  <a:lnTo>
                    <a:pt x="38" y="10"/>
                  </a:lnTo>
                  <a:cubicBezTo>
                    <a:pt x="38" y="10"/>
                    <a:pt x="39" y="10"/>
                    <a:pt x="40" y="10"/>
                  </a:cubicBezTo>
                  <a:lnTo>
                    <a:pt x="40" y="10"/>
                  </a:lnTo>
                  <a:lnTo>
                    <a:pt x="33" y="6"/>
                  </a:lnTo>
                  <a:lnTo>
                    <a:pt x="24" y="0"/>
                  </a:lnTo>
                  <a:lnTo>
                    <a:pt x="6" y="3"/>
                  </a:lnTo>
                  <a:lnTo>
                    <a:pt x="0" y="14"/>
                  </a:lnTo>
                  <a:cubicBezTo>
                    <a:pt x="0" y="29"/>
                    <a:pt x="1" y="29"/>
                    <a:pt x="1" y="31"/>
                  </a:cubicBezTo>
                  <a:cubicBezTo>
                    <a:pt x="1" y="31"/>
                    <a:pt x="8" y="37"/>
                    <a:pt x="8" y="37"/>
                  </a:cubicBezTo>
                  <a:lnTo>
                    <a:pt x="10" y="39"/>
                  </a:lnTo>
                  <a:lnTo>
                    <a:pt x="15" y="44"/>
                  </a:lnTo>
                  <a:lnTo>
                    <a:pt x="15" y="44"/>
                  </a:lnTo>
                  <a:cubicBezTo>
                    <a:pt x="15" y="44"/>
                    <a:pt x="15" y="44"/>
                    <a:pt x="15" y="43"/>
                  </a:cubicBezTo>
                  <a:lnTo>
                    <a:pt x="16" y="26"/>
                  </a:lnTo>
                  <a:close/>
                </a:path>
              </a:pathLst>
            </a:custGeom>
            <a:solidFill>
              <a:srgbClr val="cf9200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31080" y="5341680"/>
              <a:ext cx="274680" cy="3632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5" y="0"/>
                  </a:moveTo>
                  <a:cubicBezTo>
                    <a:pt x="24" y="0"/>
                    <a:pt x="23" y="0"/>
                    <a:pt x="23" y="0"/>
                  </a:cubicBezTo>
                  <a:lnTo>
                    <a:pt x="10" y="5"/>
                  </a:lnTo>
                  <a:cubicBezTo>
                    <a:pt x="3" y="7"/>
                    <a:pt x="1" y="16"/>
                    <a:pt x="1" y="16"/>
                  </a:cubicBezTo>
                  <a:lnTo>
                    <a:pt x="0" y="33"/>
                  </a:lnTo>
                  <a:cubicBezTo>
                    <a:pt x="0" y="34"/>
                    <a:pt x="0" y="34"/>
                    <a:pt x="0" y="34"/>
                  </a:cubicBezTo>
                  <a:cubicBezTo>
                    <a:pt x="1" y="37"/>
                    <a:pt x="7" y="35"/>
                    <a:pt x="7" y="35"/>
                  </a:cubicBezTo>
                  <a:lnTo>
                    <a:pt x="18" y="28"/>
                  </a:lnTo>
                  <a:cubicBezTo>
                    <a:pt x="23" y="26"/>
                    <a:pt x="25" y="18"/>
                    <a:pt x="25" y="18"/>
                  </a:cubicBezTo>
                  <a:lnTo>
                    <a:pt x="27" y="7"/>
                  </a:lnTo>
                  <a:cubicBezTo>
                    <a:pt x="28" y="2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12759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66240" y="5410080"/>
              <a:ext cx="495000" cy="4726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11" y="31"/>
                  </a:moveTo>
                  <a:cubicBezTo>
                    <a:pt x="11" y="31"/>
                    <a:pt x="11" y="19"/>
                    <a:pt x="21" y="15"/>
                  </a:cubicBezTo>
                  <a:lnTo>
                    <a:pt x="44" y="7"/>
                  </a:lnTo>
                  <a:cubicBezTo>
                    <a:pt x="44" y="7"/>
                    <a:pt x="47" y="6"/>
                    <a:pt x="50" y="7"/>
                  </a:cubicBezTo>
                  <a:lnTo>
                    <a:pt x="42" y="0"/>
                  </a:lnTo>
                  <a:lnTo>
                    <a:pt x="34" y="0"/>
                  </a:lnTo>
                  <a:lnTo>
                    <a:pt x="9" y="0"/>
                  </a:lnTo>
                  <a:lnTo>
                    <a:pt x="6" y="1"/>
                  </a:lnTo>
                  <a:cubicBezTo>
                    <a:pt x="6" y="1"/>
                    <a:pt x="0" y="3"/>
                    <a:pt x="2" y="14"/>
                  </a:cubicBezTo>
                  <a:cubicBezTo>
                    <a:pt x="4" y="25"/>
                    <a:pt x="4" y="26"/>
                    <a:pt x="4" y="26"/>
                  </a:cubicBezTo>
                  <a:lnTo>
                    <a:pt x="13" y="48"/>
                  </a:lnTo>
                  <a:cubicBezTo>
                    <a:pt x="13" y="48"/>
                    <a:pt x="13" y="48"/>
                    <a:pt x="13" y="48"/>
                  </a:cubicBezTo>
                  <a:lnTo>
                    <a:pt x="11" y="31"/>
                  </a:lnTo>
                  <a:close/>
                </a:path>
              </a:pathLst>
            </a:custGeom>
            <a:solidFill>
              <a:srgbClr val="0c4c68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75680" y="5470560"/>
              <a:ext cx="415800" cy="4726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39" y="1"/>
                  </a:moveTo>
                  <a:cubicBezTo>
                    <a:pt x="36" y="0"/>
                    <a:pt x="33" y="1"/>
                    <a:pt x="33" y="1"/>
                  </a:cubicBezTo>
                  <a:lnTo>
                    <a:pt x="10" y="9"/>
                  </a:lnTo>
                  <a:cubicBezTo>
                    <a:pt x="0" y="13"/>
                    <a:pt x="0" y="25"/>
                    <a:pt x="0" y="25"/>
                  </a:cubicBezTo>
                  <a:lnTo>
                    <a:pt x="2" y="42"/>
                  </a:lnTo>
                  <a:cubicBezTo>
                    <a:pt x="2" y="42"/>
                    <a:pt x="2" y="42"/>
                    <a:pt x="2" y="42"/>
                  </a:cubicBezTo>
                  <a:cubicBezTo>
                    <a:pt x="4" y="48"/>
                    <a:pt x="13" y="44"/>
                    <a:pt x="13" y="44"/>
                  </a:cubicBezTo>
                  <a:lnTo>
                    <a:pt x="33" y="33"/>
                  </a:lnTo>
                  <a:cubicBezTo>
                    <a:pt x="40" y="29"/>
                    <a:pt x="41" y="21"/>
                    <a:pt x="41" y="21"/>
                  </a:cubicBezTo>
                  <a:lnTo>
                    <a:pt x="42" y="7"/>
                  </a:lnTo>
                  <a:cubicBezTo>
                    <a:pt x="42" y="4"/>
                    <a:pt x="41" y="2"/>
                    <a:pt x="39" y="1"/>
                  </a:cubicBezTo>
                  <a:close/>
                </a:path>
              </a:pathLst>
            </a:custGeom>
            <a:solidFill>
              <a:srgbClr val="12759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10480" y="4876920"/>
              <a:ext cx="416160" cy="4442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15" y="38"/>
                  </a:moveTo>
                  <a:lnTo>
                    <a:pt x="17" y="17"/>
                  </a:lnTo>
                  <a:cubicBezTo>
                    <a:pt x="17" y="17"/>
                    <a:pt x="18" y="3"/>
                    <a:pt x="28" y="2"/>
                  </a:cubicBezTo>
                  <a:lnTo>
                    <a:pt x="42" y="2"/>
                  </a:lnTo>
                  <a:lnTo>
                    <a:pt x="20" y="0"/>
                  </a:lnTo>
                  <a:lnTo>
                    <a:pt x="7" y="0"/>
                  </a:lnTo>
                  <a:cubicBezTo>
                    <a:pt x="7" y="0"/>
                    <a:pt x="2" y="0"/>
                    <a:pt x="0" y="4"/>
                  </a:cubicBezTo>
                  <a:lnTo>
                    <a:pt x="0" y="33"/>
                  </a:lnTo>
                  <a:lnTo>
                    <a:pt x="9" y="39"/>
                  </a:lnTo>
                  <a:lnTo>
                    <a:pt x="17" y="45"/>
                  </a:lnTo>
                  <a:lnTo>
                    <a:pt x="17" y="45"/>
                  </a:lnTo>
                  <a:cubicBezTo>
                    <a:pt x="16" y="44"/>
                    <a:pt x="15" y="42"/>
                    <a:pt x="15" y="38"/>
                  </a:cubicBezTo>
                  <a:close/>
                </a:path>
              </a:pathLst>
            </a:custGeom>
            <a:solidFill>
              <a:srgbClr val="0c4c68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59880" y="4886280"/>
              <a:ext cx="334800" cy="45504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7" y="1"/>
                  </a:moveTo>
                  <a:lnTo>
                    <a:pt x="13" y="1"/>
                  </a:lnTo>
                  <a:cubicBezTo>
                    <a:pt x="3" y="2"/>
                    <a:pt x="2" y="16"/>
                    <a:pt x="2" y="16"/>
                  </a:cubicBezTo>
                  <a:lnTo>
                    <a:pt x="0" y="37"/>
                  </a:lnTo>
                  <a:cubicBezTo>
                    <a:pt x="0" y="41"/>
                    <a:pt x="1" y="43"/>
                    <a:pt x="2" y="44"/>
                  </a:cubicBezTo>
                  <a:cubicBezTo>
                    <a:pt x="4" y="46"/>
                    <a:pt x="8" y="45"/>
                    <a:pt x="8" y="45"/>
                  </a:cubicBezTo>
                  <a:lnTo>
                    <a:pt x="21" y="40"/>
                  </a:lnTo>
                  <a:cubicBezTo>
                    <a:pt x="27" y="38"/>
                    <a:pt x="28" y="29"/>
                    <a:pt x="28" y="29"/>
                  </a:cubicBezTo>
                  <a:lnTo>
                    <a:pt x="32" y="12"/>
                  </a:lnTo>
                  <a:cubicBezTo>
                    <a:pt x="34" y="0"/>
                    <a:pt x="27" y="1"/>
                    <a:pt x="27" y="1"/>
                  </a:cubicBezTo>
                  <a:close/>
                </a:path>
              </a:pathLst>
            </a:custGeom>
            <a:solidFill>
              <a:srgbClr val="66c4ee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77320" y="4886280"/>
              <a:ext cx="514080" cy="5518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10" y="25"/>
                  </a:moveTo>
                  <a:cubicBezTo>
                    <a:pt x="10" y="25"/>
                    <a:pt x="9" y="6"/>
                    <a:pt x="28" y="5"/>
                  </a:cubicBezTo>
                  <a:lnTo>
                    <a:pt x="50" y="3"/>
                  </a:lnTo>
                  <a:cubicBezTo>
                    <a:pt x="50" y="3"/>
                    <a:pt x="51" y="3"/>
                    <a:pt x="52" y="3"/>
                  </a:cubicBezTo>
                  <a:lnTo>
                    <a:pt x="35" y="0"/>
                  </a:lnTo>
                  <a:lnTo>
                    <a:pt x="14" y="0"/>
                  </a:lnTo>
                  <a:cubicBezTo>
                    <a:pt x="14" y="0"/>
                    <a:pt x="0" y="3"/>
                    <a:pt x="2" y="17"/>
                  </a:cubicBezTo>
                  <a:cubicBezTo>
                    <a:pt x="4" y="31"/>
                    <a:pt x="5" y="37"/>
                    <a:pt x="5" y="37"/>
                  </a:cubicBezTo>
                  <a:lnTo>
                    <a:pt x="16" y="56"/>
                  </a:lnTo>
                  <a:lnTo>
                    <a:pt x="16" y="56"/>
                  </a:lnTo>
                  <a:cubicBezTo>
                    <a:pt x="15" y="55"/>
                    <a:pt x="15" y="53"/>
                    <a:pt x="14" y="51"/>
                  </a:cubicBezTo>
                  <a:lnTo>
                    <a:pt x="10" y="25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66240" y="4916520"/>
              <a:ext cx="554040" cy="59148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43" y="0"/>
                  </a:moveTo>
                  <a:cubicBezTo>
                    <a:pt x="42" y="0"/>
                    <a:pt x="41" y="0"/>
                    <a:pt x="41" y="0"/>
                  </a:cubicBezTo>
                  <a:lnTo>
                    <a:pt x="19" y="2"/>
                  </a:lnTo>
                  <a:cubicBezTo>
                    <a:pt x="0" y="3"/>
                    <a:pt x="1" y="22"/>
                    <a:pt x="1" y="22"/>
                  </a:cubicBezTo>
                  <a:lnTo>
                    <a:pt x="5" y="48"/>
                  </a:lnTo>
                  <a:cubicBezTo>
                    <a:pt x="6" y="50"/>
                    <a:pt x="6" y="52"/>
                    <a:pt x="7" y="53"/>
                  </a:cubicBezTo>
                  <a:cubicBezTo>
                    <a:pt x="12" y="60"/>
                    <a:pt x="22" y="57"/>
                    <a:pt x="22" y="57"/>
                  </a:cubicBezTo>
                  <a:lnTo>
                    <a:pt x="43" y="50"/>
                  </a:lnTo>
                  <a:cubicBezTo>
                    <a:pt x="54" y="46"/>
                    <a:pt x="54" y="35"/>
                    <a:pt x="54" y="35"/>
                  </a:cubicBezTo>
                  <a:lnTo>
                    <a:pt x="55" y="14"/>
                  </a:lnTo>
                  <a:cubicBezTo>
                    <a:pt x="56" y="3"/>
                    <a:pt x="48" y="1"/>
                    <a:pt x="43" y="0"/>
                  </a:cubicBezTo>
                  <a:close/>
                </a:path>
              </a:pathLst>
            </a:custGeom>
            <a:solidFill>
              <a:srgbClr val="12759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-소망B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-소망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68580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30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ABE5-7851-4493-A0C1-D46C8E348E51}" type="slidenum"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1409760"/>
            <a:ext cx="9148680" cy="47520"/>
            <a:chOff x="0" y="1409760"/>
            <a:chExt cx="9148680" cy="47520"/>
          </a:xfrm>
        </p:grpSpPr>
        <p:sp>
          <p:nvSpPr>
            <p:cNvPr id="90" name=""/>
            <p:cNvSpPr/>
            <p:nvPr/>
          </p:nvSpPr>
          <p:spPr>
            <a:xfrm>
              <a:off x="0" y="145728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409760"/>
              <a:ext cx="91486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Click to edit the outline text format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d93"/>
                </a:solidFill>
                <a:latin typeface="-소망M"/>
              </a:rPr>
              <a:t>Second Outline Level</a:t>
            </a:r>
            <a:endParaRPr b="0" lang="en-US" sz="2800" spc="-1" strike="noStrike">
              <a:solidFill>
                <a:srgbClr val="433d93"/>
              </a:solidFill>
              <a:latin typeface="-소망M"/>
            </a:endParaRPr>
          </a:p>
          <a:p>
            <a:pPr lvl="2" marL="914400" algn="ctr">
              <a:spcBef>
                <a:spcPts val="601"/>
              </a:spcBef>
              <a:buClr>
                <a:srgbClr val="433d93"/>
              </a:buClr>
              <a:buFont typeface="-소망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d93"/>
                </a:solidFill>
                <a:latin typeface="-소망M"/>
              </a:rPr>
              <a:t>Third Outline Level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lvl="3" marL="1371600" algn="ctr">
              <a:spcBef>
                <a:spcPts val="499"/>
              </a:spcBef>
              <a:buClr>
                <a:srgbClr val="433d93"/>
              </a:buClr>
              <a:buFont typeface="-소망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d93"/>
                </a:solidFill>
                <a:latin typeface="-소망M"/>
              </a:rPr>
              <a:t>Fourth Outline Level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lvl="4" marL="1828800" algn="ctr">
              <a:spcBef>
                <a:spcPts val="451"/>
              </a:spcBef>
              <a:buClr>
                <a:srgbClr val="433d93"/>
              </a:buClr>
              <a:buFont typeface="-소망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3d93"/>
                </a:solidFill>
                <a:latin typeface="-소망M"/>
              </a:rPr>
              <a:t>Fifth Outline Level</a:t>
            </a: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3d93"/>
                </a:solidFill>
                <a:latin typeface="-소망M"/>
              </a:rPr>
              <a:t>Sixth Outline Level</a:t>
            </a: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3d93"/>
                </a:solidFill>
                <a:latin typeface="-소망M"/>
              </a:rPr>
              <a:t>Seventh Outline Level</a:t>
            </a: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-소망B"/>
                <a:ea typeface="宋体"/>
              </a:rPr>
              <a:t>WinMyDNS</a:t>
            </a:r>
            <a:r>
              <a:rPr b="0" lang="zh-CN" sz="3800" spc="-1" strike="noStrike">
                <a:solidFill>
                  <a:srgbClr val="000066"/>
                </a:solidFill>
                <a:latin typeface="-소망B"/>
                <a:ea typeface="宋体"/>
              </a:rPr>
              <a:t>智能解析系统</a:t>
            </a:r>
            <a:endParaRPr b="0" lang="en-US" sz="3800" spc="-1" strike="noStrike">
              <a:solidFill>
                <a:srgbClr val="000066"/>
              </a:solidFill>
              <a:latin typeface="-소망B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-소망M"/>
                <a:ea typeface="宋体"/>
              </a:rPr>
              <a:t>培训文档</a:t>
            </a:r>
            <a:endParaRPr b="0" lang="en-US" sz="3200" spc="-1" strike="noStrike">
              <a:solidFill>
                <a:srgbClr val="433d93"/>
              </a:solidFill>
              <a:latin typeface="-소망M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5661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1" lang="zh-CN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数据备份及还原</a:t>
            </a:r>
            <a:r>
              <a:rPr b="0" lang="zh-CN" sz="3000" spc="-1" strike="noStrike">
                <a:solidFill>
                  <a:srgbClr val="433d93"/>
                </a:solidFill>
                <a:latin typeface="-소망M"/>
              </a:rPr>
              <a:t> 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宋体"/>
              </a:rPr>
              <a:t>     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1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每天会自动备份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本身的数据库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并放在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backu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目录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2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定期异地备份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数据库备份文件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3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重装或迁移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时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只要把原来的  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备份文件恢复即可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主辅</a:t>
            </a:r>
            <a:r>
              <a:rPr b="0" lang="en-US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同步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模式一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主辅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使用同一个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MSSQL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数据库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则主辅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自然同步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不需要特殊设置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模式二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主辅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使用不同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MSSQL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数据库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需要应用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MSSQL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自带的复制功能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让辅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与主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的同步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MSSQL</a:t>
            </a:r>
            <a:r>
              <a:rPr b="0" lang="zh-CN" sz="26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同步设置</a:t>
            </a:r>
            <a:endParaRPr b="0" lang="en-US" sz="26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在主</a:t>
            </a:r>
            <a:r>
              <a:rPr b="0" lang="en-US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的</a:t>
            </a:r>
            <a:r>
              <a:rPr b="0" lang="en-US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MSSQL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服务器上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A) 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创建发布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打开企业管理器→工具→复制→创建和管理发布→创建发布→下步选要发布的数据库→选否，定义选项和属性→（根据情况选发布类型）事务发布→下步选择你要发布的数据表→编辑名称（随便）→否，根据指定方式创建发布→完成 </a:t>
            </a: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B) 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创建完成了发布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再创建订阅远程的数据库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企业管理器→工具→复制→创建和管理发布→展开你所创建发布的数据库选择发布的表→强制新订阅→下一步→选择远程服务器（如果没有就先到企业管理器上连接）→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*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编要订阅的远程数据库名→是，初始化（这项是没做过复制的数据库可选，如果以前做过的选择此项就会导至以前订阅的数据丢失。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*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做过复制的数据库可选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"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否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"</a:t>
            </a:r>
            <a:r>
              <a:rPr b="0" lang="zh-CN" sz="1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）→完成 </a:t>
            </a:r>
            <a:endParaRPr b="0" lang="en-US" sz="18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二次开发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   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d93"/>
                </a:solidFill>
                <a:latin typeface="-소망M"/>
              </a:rPr>
              <a:t>    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二次开发只要直接对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MSSQL/ACCES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数据表进行添加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/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删除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/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修改操作即可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添加域名只要在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SOA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表中添加一条记录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添加解析记录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只要在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RR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表添加一条记录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更详细的开发说明见二次开发文档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3d93"/>
                </a:solidFill>
                <a:latin typeface="-소망M"/>
                <a:ea typeface="仿宋_GB2312"/>
              </a:rPr>
              <a:t>DNS</a:t>
            </a:r>
            <a:r>
              <a:rPr b="0" lang="zh-CN" sz="2600" spc="-1" strike="noStrike">
                <a:solidFill>
                  <a:srgbClr val="433d93"/>
                </a:solidFill>
                <a:latin typeface="-소망M"/>
                <a:ea typeface="仿宋_GB2312"/>
              </a:rPr>
              <a:t>检测</a:t>
            </a:r>
            <a:r>
              <a:rPr b="0" lang="zh-CN" sz="2600" spc="-1" strike="noStrike">
                <a:solidFill>
                  <a:srgbClr val="433d93"/>
                </a:solidFill>
                <a:latin typeface="-소망M"/>
                <a:ea typeface="仿宋_GB2312"/>
              </a:rPr>
              <a:t>(</a:t>
            </a:r>
            <a:r>
              <a:rPr b="0" lang="en-US" sz="2600" spc="-1" strike="noStrike">
                <a:solidFill>
                  <a:srgbClr val="433d93"/>
                </a:solidFill>
                <a:latin typeface="-소망M"/>
                <a:ea typeface="仿宋_GB2312"/>
              </a:rPr>
              <a:t>nslookup)</a:t>
            </a:r>
            <a:endParaRPr b="0" lang="en-US" sz="26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3d93"/>
                </a:solidFill>
                <a:latin typeface="-소망M"/>
              </a:rPr>
              <a:t>   </a:t>
            </a:r>
            <a:endParaRPr b="0" lang="en-US" sz="26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d93"/>
                </a:solidFill>
                <a:latin typeface="-소망M"/>
              </a:rPr>
              <a:t>    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在命令行里输入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nslookup,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并用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server,set type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等命令转换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服务器及查询各类记录如下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nslookup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&gt;server 192.168.1.1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转换到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工用的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&gt;set type=A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查询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A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类型记录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&gt;www.winmydns.com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&gt;set type=MX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查询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MX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记录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&gt;winmydns.com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&gt;set type=any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查询所有记录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&gt;winmydns.com</a:t>
            </a: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DNS</a:t>
            </a: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检测</a:t>
            </a: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(</a:t>
            </a:r>
            <a:r>
              <a:rPr b="0" lang="en-US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WinMyDNSAdmin.exe)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   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d93"/>
                </a:solidFill>
                <a:latin typeface="-소망M"/>
              </a:rPr>
              <a:t>    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宋体"/>
              </a:rPr>
              <a:t>也可以用</a:t>
            </a:r>
            <a:r>
              <a:rPr b="0" lang="en-US" sz="2400" spc="-1" strike="noStrike">
                <a:solidFill>
                  <a:srgbClr val="433d93"/>
                </a:solidFill>
                <a:latin typeface="-소망M"/>
                <a:ea typeface="宋体"/>
              </a:rPr>
              <a:t>WinMyDNSAdmin.exe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宋体"/>
              </a:rPr>
              <a:t>自带的</a:t>
            </a:r>
            <a:r>
              <a:rPr b="0" lang="en-US" sz="2400" spc="-1" strike="noStrike">
                <a:solidFill>
                  <a:srgbClr val="433d93"/>
                </a:solidFill>
                <a:latin typeface="-소망M"/>
                <a:ea typeface="宋体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宋体"/>
              </a:rPr>
              <a:t>检测功能进行</a:t>
            </a:r>
            <a:r>
              <a:rPr b="0" lang="en-US" sz="2400" spc="-1" strike="noStrike">
                <a:solidFill>
                  <a:srgbClr val="433d93"/>
                </a:solidFill>
                <a:latin typeface="-소망M"/>
                <a:ea typeface="宋体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宋体"/>
              </a:rPr>
              <a:t>检测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只要选择查询类型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填写要检测的域名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并填写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工作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地址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点查询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即可进行检测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 </a:t>
            </a: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域名解析不正常常见的问题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   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域名未注册成功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或已过期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域名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服务器指向的不是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-소망M"/>
              </a:rPr>
              <a:t>	</a:t>
            </a:r>
            <a:r>
              <a:rPr b="0" lang="en-US" sz="2400" spc="-1" strike="noStrike">
                <a:solidFill>
                  <a:srgbClr val="433d93"/>
                </a:solidFill>
                <a:latin typeface="-소망M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宋体"/>
              </a:rPr>
              <a:t>没有正常解析记录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宋体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主辅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有一台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工作不正常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WinMyDNS</a:t>
            </a: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不正常常见的问题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   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服务未启动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防火墙上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UDP 53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端口没有开放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使用的数据库与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eb/conn.as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链接的数据库不一致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-소망M"/>
              </a:rPr>
              <a:t>	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域名没有正常添加及解析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主辅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数据库没有同步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如何注册及修改ＤＮＳ域名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-소망M"/>
              </a:rPr>
              <a:t>   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一般域名注册的域名控制面板里“注册本域名下的ＤＮＳ”或“管理本域名下的ＤＮＳ”，可以用来注册及修改ＤＮＳ域名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如果没有该功能请与域名注册商联系．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注意：被注册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域名，如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ns1.winiis.com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必须在域名注册商的控制面板里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及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的管理界面里，同时做一条Ａ记录指向到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之后，被注册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域名才会生效．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宋体"/>
              </a:rPr>
              <a:t>部分成功案例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中国网通</a:t>
            </a: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(</a:t>
            </a: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集团</a:t>
            </a: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)</a:t>
            </a: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有限公司莱芜分公司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中国网通</a:t>
            </a: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(</a:t>
            </a: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集团</a:t>
            </a: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)</a:t>
            </a: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有限公司新疆分公司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湖北随州电信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湖北黄冈职业技术学院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望都县政府网管中心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西藏自治区拉萨教育局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山东浪潮集团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-소망M"/>
                <a:ea typeface="宋体"/>
              </a:rPr>
              <a:t>香港周大福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Arial"/>
                <a:ea typeface="宋体"/>
              </a:rPr>
              <a:t>中国大地财产保险股份有限公司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宋体"/>
              </a:rPr>
              <a:t>北京傲盾软件技术有限责任公司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宋体"/>
              </a:rPr>
              <a:t>北京首科电讯有限公司</a:t>
            </a: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_x000b__x000c_"/>
              </a:rPr>
              <a:t> </a:t>
            </a: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_x000b__x000c_"/>
              </a:rPr>
              <a:t>(</a:t>
            </a: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宋体"/>
              </a:rPr>
              <a:t>双线路机房</a:t>
            </a: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_x000b__x000c_"/>
              </a:rPr>
              <a:t>)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宋体"/>
                <a:ea typeface="宋体"/>
              </a:rPr>
              <a:t>汕头市天盈信息技术有限公司</a:t>
            </a: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_x000b__x000c_"/>
              </a:rPr>
              <a:t>(</a:t>
            </a:r>
            <a:r>
              <a:rPr b="0" lang="zh-CN" sz="1200" spc="-1" strike="noStrike">
                <a:solidFill>
                  <a:srgbClr val="3333cc"/>
                </a:solidFill>
                <a:latin typeface="宋体"/>
                <a:ea typeface="宋体"/>
              </a:rPr>
              <a:t>机房</a:t>
            </a: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_x000b__x000c_"/>
              </a:rPr>
              <a:t>)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宋体"/>
              </a:rPr>
              <a:t>群英网络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宋体"/>
              </a:rPr>
              <a:t>山东烟台市教育局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_x000b__x000c_"/>
                <a:ea typeface="宋体"/>
              </a:rPr>
              <a:t>星际（杭州）网络技术有限公司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宋体"/>
                <a:ea typeface="宋体"/>
              </a:rPr>
              <a:t>河北华藏佛教网络科技有限公司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宋体"/>
                <a:ea typeface="宋体"/>
              </a:rPr>
              <a:t>起米天下文化传媒（北京）有限公司</a:t>
            </a:r>
            <a:r>
              <a:rPr b="0" lang="zh-CN" sz="12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cc"/>
                </a:solidFill>
                <a:latin typeface="Arial"/>
                <a:ea typeface="宋体"/>
              </a:rPr>
              <a:t>南京创网等全国四百多家虚拟主机域名提供商</a:t>
            </a:r>
            <a:endParaRPr b="0" lang="en-US" sz="12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系 统 简 介</a:t>
            </a:r>
            <a:endParaRPr b="0" lang="en-US" sz="28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2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-소망M"/>
                <a:ea typeface="仿宋_GB2312"/>
              </a:rPr>
              <a:t>    </a:t>
            </a:r>
            <a:r>
              <a:rPr b="0" lang="en-US" sz="24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是一款新型</a:t>
            </a:r>
            <a:r>
              <a:rPr b="0" lang="en-US" sz="2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智能解析软件，完全支持中文解析。该软件除了具备一般的</a:t>
            </a:r>
            <a:r>
              <a:rPr b="0" lang="en-US" sz="2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解析功能外，还可以自动识别浏览者的来源，并把相同的域名智能解析到双线路机器的网通或电信</a:t>
            </a:r>
            <a:r>
              <a:rPr b="0" lang="en-US" sz="2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IP</a:t>
            </a:r>
            <a:r>
              <a:rPr b="0" lang="en-US" sz="2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， </a:t>
            </a:r>
            <a:r>
              <a:rPr b="0" lang="zh-CN" sz="2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以便客户就近访问你的网站。同时系统还可以对被解析的服务器自动进行宕机检测，以保证浏览者总是能访问到正常的服务器。</a:t>
            </a:r>
            <a:br>
              <a:rPr sz="2200"/>
            </a:b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d93"/>
              </a:solidFill>
              <a:latin typeface="-소망M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98968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-소망M"/>
                <a:ea typeface="仿宋_GB2312"/>
              </a:rPr>
              <a:t>主要功能特点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1,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普通的</a:t>
            </a:r>
            <a:r>
              <a:rPr b="0" lang="en-US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DNS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解析包括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(</a:t>
            </a:r>
            <a:r>
              <a:rPr b="0" lang="en-US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A,MX,CNAME,PTR,TXT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等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)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2,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双线智能解析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3,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中文域名解析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不需要编码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4,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仿宋_GB2312"/>
              </a:rPr>
              <a:t>自动宕机检测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-소망M"/>
              </a:rPr>
              <a:t>5,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宋体"/>
              </a:rPr>
              <a:t>数据保存在</a:t>
            </a:r>
            <a:r>
              <a:rPr b="0" lang="en-US" sz="2400" spc="-1" strike="noStrike">
                <a:solidFill>
                  <a:srgbClr val="433d93"/>
                </a:solidFill>
                <a:latin typeface="-소망M"/>
                <a:ea typeface="宋体"/>
              </a:rPr>
              <a:t>MSSQL/ACCESS</a:t>
            </a:r>
            <a:r>
              <a:rPr b="0" lang="zh-CN" sz="2400" spc="-1" strike="noStrike">
                <a:solidFill>
                  <a:srgbClr val="433d93"/>
                </a:solidFill>
                <a:latin typeface="-소망M"/>
                <a:ea typeface="宋体"/>
              </a:rPr>
              <a:t>数据库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双线智能解析介绍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3d93"/>
                </a:solidFill>
                <a:latin typeface="-소망M"/>
                <a:ea typeface="宋体"/>
              </a:rPr>
              <a:t>   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双线智能解析是指同一个域名可以根据浏览者的不同解析到不同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比如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电信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ww.winiis.com A 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192.168.1.1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网通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ww.winiis.com A 192.168.1.2 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-소망M"/>
                <a:ea typeface="仿宋_GB2312"/>
              </a:rPr>
              <a:t>中文域名解析介绍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3d93"/>
                </a:solidFill>
                <a:latin typeface="-소망M"/>
                <a:ea typeface="宋体"/>
              </a:rPr>
              <a:t>   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可能直接解析中文域名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不需要编码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如要解析“您好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国”的域名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只需在域名管理里直接添加“您好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国”的域名即可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电信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ww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您好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国  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A 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192.168.1.1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网通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ww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您好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国 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A 192.168.1.2</a:t>
            </a:r>
            <a:r>
              <a:rPr b="0" lang="en-US" sz="2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文</a:t>
            </a:r>
            <a:r>
              <a:rPr b="0" lang="zh-CN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en-US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cn</a:t>
            </a:r>
            <a:r>
              <a:rPr b="0" lang="zh-CN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域名解析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  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cnnic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规定注册“虚拟主机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国”的域名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会自动赠送以下三个域名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虚拟主机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cn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虛拟主機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国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虛拟主機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国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   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只要做好“虚拟主机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国”的解析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系统会自动做好其它三个域名的解析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433d93"/>
                </a:solidFill>
                <a:latin typeface="-소망M"/>
                <a:ea typeface="仿宋_GB2312"/>
              </a:rPr>
              <a:t>宕机检测与负载均衡</a:t>
            </a:r>
            <a:endParaRPr b="0" lang="en-US" sz="26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   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只要在负载均衡表里把需要做均衡或需要检测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添加进列表即可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系统就会自动对这里面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进行检测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检测不通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会被标识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域名将不会被解析到该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.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在所有正常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里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系统会根据权重的比例大小分配解析的比重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433d93"/>
                </a:solidFill>
                <a:latin typeface="-소망M"/>
                <a:ea typeface="仿宋_GB2312"/>
              </a:rPr>
              <a:t>网络组管理</a:t>
            </a:r>
            <a:endParaRPr b="0" lang="en-US" sz="26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   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在“网络组管理”菜单里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除了网通及电信外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还可以添加其它的网络组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对于每一个网络组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可能自已添加或删除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表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	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里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表是由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地址及子网掩码组成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如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:192.168.1.1/16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表示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192.168.0.0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至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192.168.255.255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之间的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IP.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e8ff"/>
                </a:solidFill>
                <a:latin typeface="-소망B"/>
                <a:ea typeface="宋体"/>
              </a:rPr>
              <a:t>WinMyDNS</a:t>
            </a:r>
            <a:r>
              <a:rPr b="0" lang="zh-CN" sz="2400" spc="-1" strike="noStrike">
                <a:solidFill>
                  <a:srgbClr val="d1e8ff"/>
                </a:solidFill>
                <a:latin typeface="-소망B"/>
                <a:ea typeface="宋体"/>
              </a:rPr>
              <a:t>智能解析系统</a:t>
            </a:r>
            <a:endParaRPr b="0" lang="en-US" sz="2400" spc="-1" strike="noStrike">
              <a:solidFill>
                <a:srgbClr val="d1e8ff"/>
              </a:solidFill>
              <a:latin typeface="-소망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30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安装</a:t>
            </a: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1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运行“安装服务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.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bat”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安装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服务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2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创建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数据库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并把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DB/WinIIS.BAK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文件还原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并设置好数据库的访问用户及密码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3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建立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EB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站点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指向到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/WEB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目录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修改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conn.asp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中的数据库链接参数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4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运行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Admin.exe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程序配置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的数据库链接参数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并启动</a:t>
            </a:r>
            <a:r>
              <a:rPr b="0" lang="en-US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WinMyDNS</a:t>
            </a:r>
            <a:r>
              <a:rPr b="0" lang="zh-CN" sz="2400" spc="-1" strike="noStrike">
                <a:solidFill>
                  <a:srgbClr val="433d93"/>
                </a:solidFill>
                <a:latin typeface="仿宋_GB2312"/>
                <a:ea typeface="仿宋_GB2312"/>
              </a:rPr>
              <a:t>服务   </a:t>
            </a: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d93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知行经理人之家</dc:creator>
  <dc:description/>
  <dc:language>en-US</dc:language>
  <cp:lastModifiedBy>WinIIS</cp:lastModifiedBy>
  <dcterms:modified xsi:type="dcterms:W3CDTF">2008-11-07T08:13:20Z</dcterms:modified>
  <cp:revision>232</cp:revision>
  <dc:subject/>
  <dc:title>www.manager365.com</dc:title>
</cp:coreProperties>
</file>